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B0A118-D9DF-4FB3-8A1E-F143B6EDF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Literacy in Action: Design, Development, and Measur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ndy Br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er for Delivery, Organization, and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15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tion of Health Liter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gree to which individuals have the capacity to obtain, process, and understand basic health information and services needed to make appropriate health decision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y People 2010, Institute of Medicine (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Literacy Equ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33520" y="4952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kills/Abilities   x   Demand/Complexity     =    Health Liter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ontent Placeholder 4" descr="manreadingBG.gif"/>
          <p:cNvPicPr/>
          <p:nvPr/>
        </p:nvPicPr>
        <p:blipFill>
          <a:blip r:embed="rId1"/>
          <a:stretch/>
        </p:blipFill>
        <p:spPr>
          <a:xfrm>
            <a:off x="6629400" y="1828800"/>
            <a:ext cx="2235240" cy="25909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9"/>
          <p:cNvGrpSpPr/>
          <p:nvPr/>
        </p:nvGrpSpPr>
        <p:grpSpPr>
          <a:xfrm>
            <a:off x="457200" y="1981080"/>
            <a:ext cx="5181480" cy="2590920"/>
            <a:chOff x="457200" y="1981080"/>
            <a:chExt cx="5181480" cy="2590920"/>
          </a:xfrm>
        </p:grpSpPr>
        <p:pic>
          <p:nvPicPr>
            <p:cNvPr id="98" name="Picture 23" descr="Doctor talking to a male patient: Prostate cancer screening for men 'should be introduced to UK' "/>
            <p:cNvPicPr/>
            <p:nvPr/>
          </p:nvPicPr>
          <p:blipFill>
            <a:blip r:embed="rId2"/>
            <a:srcRect l="45693" t="0" r="0" b="0"/>
            <a:stretch/>
          </p:blipFill>
          <p:spPr>
            <a:xfrm>
              <a:off x="3505320" y="1981080"/>
              <a:ext cx="21333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7" descr="Doctor with a female patient"/>
            <p:cNvPicPr/>
            <p:nvPr/>
          </p:nvPicPr>
          <p:blipFill>
            <a:blip r:embed="rId3"/>
            <a:srcRect l="-3297" t="25558" r="30020" b="10007"/>
            <a:stretch/>
          </p:blipFill>
          <p:spPr>
            <a:xfrm>
              <a:off x="457200" y="1981080"/>
              <a:ext cx="190800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28"/>
          <p:cNvSpPr/>
          <p:nvPr/>
        </p:nvSpPr>
        <p:spPr>
          <a:xfrm>
            <a:off x="2590920" y="2971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6019920" y="28954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911960" y="30481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o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verly A. Weidmer, 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AH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® Health Literacy Item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rren DeW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D, M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HRQ Health Literacy Universal Precaution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hael Wolf, PhD, M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Uniform Medication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13-04-26T17:12:30Z</dcterms:modified>
  <cp:revision>106</cp:revision>
  <dc:subject/>
  <dc:title>AHRQ Slide Template 2004</dc:title>
</cp:coreProperties>
</file>