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reating Health Information That Americans Can Understand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50560" y="4266720"/>
            <a:ext cx="643572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indy Br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nter for Delivery, Organization, and Mar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ptember 14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alth Information 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s use health information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8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health plans, hospitals, do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8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reatment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8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medicine saf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8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risk factors and manage health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alth Literacy Challe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12 percent of U.S. adults have proficient health literac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a third—77 million people—have difficulty with common health tas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plexity of most health materials exceeds the capability of most consum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79930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ristin Carman, PhD – Print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itza Matheus, MBA – Audience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ndy Hilfilker, MA – Web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Graham</cp:lastModifiedBy>
  <cp:lastPrinted>2003-01-21T20:19:23Z</cp:lastPrinted>
  <dcterms:modified xsi:type="dcterms:W3CDTF">2009-10-21T15:45:03Z</dcterms:modified>
  <cp:revision>104</cp:revision>
  <dc:subject/>
  <dc:title>AHRQ Slide Template 2004</dc:title>
</cp:coreProperties>
</file>