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563868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cilitating Chronic Disease Improvement in Primary Car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ndy Bra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er for Delivery, Organization, and Marke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ptember 14, 2009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 Practice Coach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improvement is elu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sign is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management expert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aches’ Multiple Ro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da Setter and Task M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 Bui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Bro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ol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Coaches D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st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on and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rete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I methods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echnica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aching Models V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tion and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cations of c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vs. internal c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of prescrip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 (in-person, telephone, We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8580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 Old Idea with New Appea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en around at least 25 years (e.g., Fullard et al. BMJ. 1984; 289:158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improving chronic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to implement health care re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ren DeWalt, MD, MPH – IP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Stewart, PhD – Trans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nyi Wu, PhD – AHRQ CCM Toolkit and Co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Graham</cp:lastModifiedBy>
  <cp:lastPrinted>2003-01-21T20:19:23Z</cp:lastPrinted>
  <dcterms:modified xsi:type="dcterms:W3CDTF">2009-10-19T18:27:24Z</dcterms:modified>
  <cp:revision>111</cp:revision>
  <dc:subject/>
  <dc:title>AHRQ Slide Template 2004</dc:title>
</cp:coreProperties>
</file>