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8340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8340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E9C-16CB-4953-87C7-75BFBC15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C9DC-A33F-4180-9D7C-C93EF9A462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E2A5-072F-42F3-A20F-01250C8EE2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9600" cy="3336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77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3C17-6FD6-456C-B0D5-397D3C677B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51C-4CB0-4127-B1F7-243C518FE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46E-08A3-4F3C-AF7A-F34A1D5FD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D026-7887-4E57-8380-5968301BA7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BFD-BAAA-4E3C-8159-854E5AAB3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9265-DBF4-4815-8BD3-1487A711F5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BC3C-3B5B-4CBC-B621-E8A03BE1F3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A78-7F5E-4F0D-A70D-A5215EC6C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54C-39F5-4CDB-8197-E345421AB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348-AA4E-4E70-BA5B-D0456B9EC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28C-FB40-4BD4-80CC-9340BD09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69F-7912-4226-84FC-A22BF5F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28E-8FBA-47CE-92D0-50110838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ECD-E11C-4712-946E-720C5A16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868-7AC1-454B-A6E8-CBE0643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0CC-1C7D-4E6F-8C41-1A6D1302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1CA-8068-4659-ADDD-0989501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A0E-C598-4B22-BE88-CCEAE28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713-AE5D-41D6-917A-881B6623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920-7C46-4428-9B40-3D9D2CD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937-5D9D-4E0D-B3D6-65D4D4C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C51-C2C8-43E9-9130-9912C54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AB0-ADBF-443A-8A94-1BC98E352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uidedcare.org/" TargetMode="External"/><Relationship Id="rId2" Type="http://schemas.openxmlformats.org/officeDocument/2006/relationships/hyperlink" Target="http://www.guidedcare.org/" TargetMode="External"/><Relationship Id="rId3" Type="http://schemas.openxmlformats.org/officeDocument/2006/relationships/hyperlink" Target="http://www.guidedcare.or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nking Clinical Practice and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munity Resources:</a:t>
            </a:r>
            <a:br>
              <a:rPr sz="3600"/>
            </a:br>
            <a:br>
              <a:rPr sz="16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uided Care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d Boult, MD, MPH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of Public Health, Medicine and Nu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s Hopkins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2009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inking with Community Resourc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base of local communit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ccess to appropriat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r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on Wheels, senior centers, AAA, transportation programs, adult day care, CDSMP, social workers, pharmac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CN support group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unity suppor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1968480" y="3638520"/>
          <a:ext cx="54640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3638520"/>
                    <a:ext cx="54640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Oval 3"/>
          <p:cNvSpPr/>
          <p:nvPr/>
        </p:nvSpPr>
        <p:spPr>
          <a:xfrm>
            <a:off x="5416560" y="4102200"/>
            <a:ext cx="2349360" cy="120636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295280" y="4114800"/>
            <a:ext cx="2197080" cy="126684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93360" y="4267080"/>
            <a:ext cx="32950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at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hronic Disease Self-Managemen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aregiver Suppor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Action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412080" y="4267080"/>
            <a:ext cx="2075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Pro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354480" y="424980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354480" y="521964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715000" y="4191120"/>
            <a:ext cx="1828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par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o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actice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Monit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oac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772720" y="6095880"/>
            <a:ext cx="3587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mproved 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0" y="533520"/>
            <a:ext cx="9061560" cy="327636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981080" y="971640"/>
            <a:ext cx="6927840" cy="2431800"/>
          </a:xfrm>
          <a:prstGeom prst="ellipse">
            <a:avLst/>
          </a:prstGeom>
          <a:gradFill rotWithShape="0">
            <a:gsLst>
              <a:gs pos="0">
                <a:srgbClr val="20aa9a"/>
              </a:gs>
              <a:gs pos="100000">
                <a:srgbClr val="2ef4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352680" y="2133720"/>
            <a:ext cx="1828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liv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Guided Care Nu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029200" y="2133720"/>
            <a:ext cx="16765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Lexi-com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Evidence-based guide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6400800" y="1295280"/>
            <a:ext cx="25146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lin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Electronic Health Record, Care Guid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Transitional Care, Coord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600200" y="2057400"/>
            <a:ext cx="194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elf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eme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hronic Disease Self-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188520" y="6094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Health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33520" y="1371600"/>
            <a:ext cx="17524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sourc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Acces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2648160" y="106668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Health Care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 is Eligib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1523880"/>
            <a:ext cx="1752480" cy="4353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ge 65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514600" y="3505320"/>
            <a:ext cx="41148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629400" y="1523880"/>
            <a:ext cx="1371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High-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629400" y="2666880"/>
            <a:ext cx="1371600" cy="3124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7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Low-Ris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743200" y="2743200"/>
            <a:ext cx="2895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rebuchet MS"/>
                <a:ea typeface="ＭＳ Ｐゴシック"/>
              </a:rPr>
              <a:t>Review previous year’s claims data with HCC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638680" y="1447920"/>
            <a:ext cx="990720" cy="20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ed Tr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risk older patients (n=904) of 49 community-based primary care physicians practicing in 14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/patient teams randomly assigned to receive Guided Care or “usual”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measured at 8, 20 and 32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seline Characteris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371600"/>
          <a:ext cx="8229600" cy="535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e (% wh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 (% femal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ion (12+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al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C s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difficul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gnition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P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Physician Satisfa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371600"/>
          <a:ext cx="7924680" cy="5394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2057400"/>
                <a:gridCol w="129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2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caregiv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6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giv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0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0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Know all p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m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762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2590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04920" y="3581280"/>
            <a:ext cx="883908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atisfaction I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= Familiarity with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= Stability of patient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. w/ patients; Availability of clinical info; continuity of care for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 of office visits; access to evidence based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ing patients; communicating w/ caregivers; efficiency of primary care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= Coordinating care; referring to community resources; educating careg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= Motivating patients for self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00200" y="0"/>
          <a:ext cx="6654960" cy="36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Bar graph with GCN's Satisfaction with Clinical Activiti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66549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6"/>
          <p:cNvSpPr/>
          <p:nvPr/>
        </p:nvSpPr>
        <p:spPr>
          <a:xfrm>
            <a:off x="380880" y="1143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14479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what 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0" y="18288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what 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04920" y="22096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Quality of Ca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447920"/>
          <a:ext cx="8305560" cy="4525920"/>
        </p:xfrm>
        <a:graphic>
          <a:graphicData uri="http://schemas.openxmlformats.org/drawingml/2006/table">
            <a:tbl>
              <a:tblPr/>
              <a:tblGrid>
                <a:gridCol w="2895480"/>
                <a:gridCol w="914400"/>
                <a:gridCol w="914400"/>
                <a:gridCol w="990720"/>
                <a:gridCol w="1295280"/>
                <a:gridCol w="1295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PACIC scal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G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aOR</a:t>
                      </a: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95% 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 s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-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-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sup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-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-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activ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-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Aggreg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17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1.2-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61"/>
          <p:cNvSpPr/>
          <p:nvPr/>
        </p:nvSpPr>
        <p:spPr>
          <a:xfrm>
            <a:off x="533520" y="61722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Adjusted for baseline socio-demographics, health, function, PACIC scores, 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hart reflecting effects on caregiver strain"/>
          <p:cNvPicPr/>
          <p:nvPr/>
        </p:nvPicPr>
        <p:blipFill>
          <a:blip r:embed="rId1"/>
          <a:stretch/>
        </p:blipFill>
        <p:spPr>
          <a:xfrm>
            <a:off x="1295280" y="1828800"/>
            <a:ext cx="6151680" cy="461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Caregiver Str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ual Costs of Guided Ca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219320"/>
          <a:ext cx="8229600" cy="5359320"/>
        </p:xfrm>
        <a:graphic>
          <a:graphicData uri="http://schemas.openxmlformats.org/drawingml/2006/table">
            <a:tbl>
              <a:tblPr/>
              <a:tblGrid>
                <a:gridCol w="5889600"/>
                <a:gridCol w="23400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 Nu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71,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(@ 30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4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vel (to pts’ homes, hospital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, cell ph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ment (amortized over 3 ye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l ph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5,9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s. Marian Ch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1022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9 year old wi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d teacher, lives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: SS, pension and Medi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ghter, lives 10 miles away with three tee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phys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0" y="4267080"/>
            <a:ext cx="457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lder asian woman Ms. Marian Chen"/>
          <p:cNvPicPr/>
          <p:nvPr/>
        </p:nvPicPr>
        <p:blipFill>
          <a:blip r:embed="rId1">
            <a:grayscl/>
          </a:blip>
          <a:stretch/>
        </p:blipFill>
        <p:spPr>
          <a:xfrm>
            <a:off x="5334120" y="1752480"/>
            <a:ext cx="2519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Costs of Care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er caseload, 55 patients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1828800"/>
          <a:ext cx="8153280" cy="4719600"/>
        </p:xfrm>
        <a:graphic>
          <a:graphicData uri="http://schemas.openxmlformats.org/drawingml/2006/table">
            <a:tbl>
              <a:tblPr/>
              <a:tblGrid>
                <a:gridCol w="2478240"/>
                <a:gridCol w="1758960"/>
                <a:gridCol w="2317680"/>
                <a:gridCol w="159840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 – UC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pendi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,519/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15.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F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99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05/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0.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me heal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iso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331/epis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 vis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1/vis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 savin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0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G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NET SAVIN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f3f"/>
                          </a:solidFill>
                          <a:latin typeface="Arial"/>
                        </a:rPr>
                        <a:t>-7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improves the quality of chronic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reduces net expenditures for health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is easy to implement and popular with physicians, nurses, patients and careg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pilot test involving Guided Care medical 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course and certificate for n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course for phy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ance in selecting 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collaborative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ant Sup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Institute on 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A. Hartford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and Valeria Langeloth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d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erontolog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v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via M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s Man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b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d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n Intern 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b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lt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ront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f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ront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ne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f B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 J Managed 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ugust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d Care: a New Nurse-Physician Partnership for Chronic Care.” Springer Publishing Co.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ww.springerpub.com/guidedca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guidedcare.org</a:t>
            </a: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2009, Mrs. Chen has ha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5" name="Diagram 3"/>
          <p:cNvGrpSpPr/>
          <p:nvPr/>
        </p:nvGrpSpPr>
        <p:grpSpPr>
          <a:xfrm>
            <a:off x="-304920" y="1676520"/>
            <a:ext cx="9143640" cy="4841280"/>
            <a:chOff x="-304920" y="1676520"/>
            <a:chExt cx="9143640" cy="4841280"/>
          </a:xfrm>
        </p:grpSpPr>
        <p:sp>
          <p:nvSpPr>
            <p:cNvPr id="56" name="_s40965"/>
            <p:cNvSpPr/>
            <p:nvPr/>
          </p:nvSpPr>
          <p:spPr>
            <a:xfrm flipH="1" flipV="1">
              <a:off x="2859480" y="3166200"/>
              <a:ext cx="763560" cy="561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0966"/>
            <p:cNvSpPr/>
            <p:nvPr/>
          </p:nvSpPr>
          <p:spPr>
            <a:xfrm>
              <a:off x="1518480" y="2265840"/>
              <a:ext cx="1638000" cy="101916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community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referrals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40967"/>
            <p:cNvSpPr/>
            <p:nvPr/>
          </p:nvSpPr>
          <p:spPr>
            <a:xfrm flipH="1" flipV="1">
              <a:off x="2178000" y="3902760"/>
              <a:ext cx="1166040" cy="124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0968"/>
            <p:cNvSpPr/>
            <p:nvPr/>
          </p:nvSpPr>
          <p:spPr>
            <a:xfrm>
              <a:off x="554760" y="3304080"/>
              <a:ext cx="1638720" cy="101916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home car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genc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0969"/>
            <p:cNvSpPr/>
            <p:nvPr/>
          </p:nvSpPr>
          <p:spPr>
            <a:xfrm flipH="1">
              <a:off x="2417400" y="4368240"/>
              <a:ext cx="1023840" cy="371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_s40970"/>
            <p:cNvSpPr/>
            <p:nvPr/>
          </p:nvSpPr>
          <p:spPr>
            <a:xfrm>
              <a:off x="891360" y="44830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mont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mec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40971"/>
            <p:cNvSpPr/>
            <p:nvPr/>
          </p:nvSpPr>
          <p:spPr>
            <a:xfrm flipH="1">
              <a:off x="3465360" y="4590720"/>
              <a:ext cx="402840" cy="693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40972"/>
            <p:cNvSpPr/>
            <p:nvPr/>
          </p:nvSpPr>
          <p:spPr>
            <a:xfrm>
              <a:off x="2365920" y="5253840"/>
              <a:ext cx="1638720" cy="101916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nurs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0973"/>
            <p:cNvSpPr/>
            <p:nvPr/>
          </p:nvSpPr>
          <p:spPr>
            <a:xfrm>
              <a:off x="4422960" y="4590720"/>
              <a:ext cx="408600" cy="69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0974"/>
            <p:cNvSpPr/>
            <p:nvPr/>
          </p:nvSpPr>
          <p:spPr>
            <a:xfrm>
              <a:off x="4292640" y="5252040"/>
              <a:ext cx="1638720" cy="101880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rebuchet MS"/>
                </a:rPr>
                <a:t>weeks sub-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Trebuchet MS"/>
                </a:rPr>
                <a:t> acute car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40975"/>
            <p:cNvSpPr/>
            <p:nvPr/>
          </p:nvSpPr>
          <p:spPr>
            <a:xfrm>
              <a:off x="4849560" y="4368240"/>
              <a:ext cx="1026720" cy="36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0976"/>
            <p:cNvSpPr/>
            <p:nvPr/>
          </p:nvSpPr>
          <p:spPr>
            <a:xfrm>
              <a:off x="5764320" y="44812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spital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dmissions</a:t>
              </a:r>
              <a:br>
                <a:rPr sz="1400"/>
              </a:b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0977"/>
            <p:cNvSpPr/>
            <p:nvPr/>
          </p:nvSpPr>
          <p:spPr>
            <a:xfrm flipV="1">
              <a:off x="4947120" y="3899160"/>
              <a:ext cx="1165320" cy="128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40978"/>
            <p:cNvSpPr/>
            <p:nvPr/>
          </p:nvSpPr>
          <p:spPr>
            <a:xfrm>
              <a:off x="6097320" y="3302280"/>
              <a:ext cx="1638720" cy="101880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19</a:t>
              </a:r>
              <a:r>
                <a:rPr b="0" lang="en-US" sz="33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outpati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vis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40979"/>
            <p:cNvSpPr/>
            <p:nvPr/>
          </p:nvSpPr>
          <p:spPr>
            <a:xfrm flipV="1">
              <a:off x="4668120" y="3164760"/>
              <a:ext cx="759960" cy="563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40980"/>
            <p:cNvSpPr/>
            <p:nvPr/>
          </p:nvSpPr>
          <p:spPr>
            <a:xfrm>
              <a:off x="5134680" y="2265840"/>
              <a:ext cx="1638720" cy="101916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8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me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40981"/>
            <p:cNvSpPr/>
            <p:nvPr/>
          </p:nvSpPr>
          <p:spPr>
            <a:xfrm flipV="1">
              <a:off x="4143960" y="2874240"/>
              <a:ext cx="0" cy="734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40982"/>
            <p:cNvSpPr/>
            <p:nvPr/>
          </p:nvSpPr>
          <p:spPr>
            <a:xfrm>
              <a:off x="3326040" y="18568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2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scrip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40983"/>
            <p:cNvSpPr/>
            <p:nvPr/>
          </p:nvSpPr>
          <p:spPr>
            <a:xfrm>
              <a:off x="3326040" y="3609000"/>
              <a:ext cx="1638720" cy="10191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r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h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WordArt 24"/>
            <p:cNvSpPr txBox="1"/>
            <p:nvPr/>
          </p:nvSpPr>
          <p:spPr>
            <a:xfrm>
              <a:off x="-304920" y="1676520"/>
              <a:ext cx="9143640" cy="484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2437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Unicode MS"/>
                </a:rPr>
                <a:t>8 Physicians, 6 Social Workers, 5 Physical Therapists, 4 Occupational Therapists, 37 Nurses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Unicode MS"/>
                <a:ea typeface="Arial Unicode MS"/>
              </a:endParaRPr>
            </a:p>
          </p:txBody>
        </p:sp>
      </p:grpSp>
      <p:pic>
        <p:nvPicPr>
          <p:cNvPr id="76" name="Picture 25" descr="1_0037"/>
          <p:cNvPicPr/>
          <p:nvPr/>
        </p:nvPicPr>
        <p:blipFill>
          <a:blip r:embed="rId1">
            <a:grayscl/>
          </a:blip>
          <a:stretch/>
        </p:blipFill>
        <p:spPr>
          <a:xfrm>
            <a:off x="3581280" y="3276720"/>
            <a:ext cx="1289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600200" y="3049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s. C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ed by care, m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qualit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out-of-pocke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Ms. Chen's daughter"/>
          <p:cNvPicPr/>
          <p:nvPr/>
        </p:nvPicPr>
        <p:blipFill>
          <a:blip r:embed="rId1"/>
          <a:srcRect l="23401" t="0" r="0" b="0"/>
          <a:stretch/>
        </p:blipFill>
        <p:spPr>
          <a:xfrm>
            <a:off x="760320" y="2438280"/>
            <a:ext cx="3202200" cy="2687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5720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edicare paid $42,400 to providers for her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not including medic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Mrs. Chen"/>
          <p:cNvPicPr/>
          <p:nvPr/>
        </p:nvPicPr>
        <p:blipFill>
          <a:blip r:embed="rId2">
            <a:grayscl/>
          </a:blip>
          <a:stretch/>
        </p:blipFill>
        <p:spPr>
          <a:xfrm>
            <a:off x="6019920" y="152280"/>
            <a:ext cx="2412720" cy="3124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267080" y="335268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work to half-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ing nursing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onic care i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gmen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ontinu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 to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effic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1676520" y="2133720"/>
          <a:ext cx="591156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Pie chart of chronic conditions account for 80% of Medicare spendin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91156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228600" y="640080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</a:rPr>
              <a:t>Source: Medicare 5% Sample, 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¼ of Beneficiaries Who Have 4+ Chronic Conditions Account for 80% of Medicare Spending</a:t>
            </a:r>
            <a:br>
              <a:rPr sz="36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model that improves quality of care and reduces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model diffusable throughout the 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uided Care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ly trained RNs based in primary physicians’ off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CNs collaborate with physicians in caring for 50-60 high-risk older patients with chronic conditions and complex health care nee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340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rse/physician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and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n evidence-based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and a patient-friendly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on pl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n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atient proa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chronic disea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f-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ot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car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nic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providers in EDs, hospitals, specialty clinics, rehab facilities, home care agencies, hospice programs, and social service agencies in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es and suppor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g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Facilitates access to </a:t>
            </a: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communit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nurse and physician"/>
          <p:cNvPicPr/>
          <p:nvPr/>
        </p:nvPicPr>
        <p:blipFill>
          <a:blip r:embed="rId1"/>
          <a:stretch/>
        </p:blipFill>
        <p:spPr>
          <a:xfrm>
            <a:off x="6478560" y="1981080"/>
            <a:ext cx="2665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7:50:20Z</dcterms:created>
  <dc:creator>Boult</dc:creator>
  <dc:description/>
  <dc:language>en-US</dc:language>
  <cp:lastModifiedBy>Rasa</cp:lastModifiedBy>
  <dcterms:modified xsi:type="dcterms:W3CDTF">2009-10-26T15:08:34Z</dcterms:modified>
  <cp:revision>48</cp:revision>
  <dc:subject/>
  <dc:title>Guided Care:  a Path to the Medical Home</dc:title>
</cp:coreProperties>
</file>