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8931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48340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48340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1357-9FF1-44E5-B3CA-D8340B735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9FA0-2162-471D-81AA-419AFD20F6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A648-B21E-4B57-95C9-953FFC4AF1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04920" y="676440"/>
            <a:ext cx="4449600" cy="3336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241520"/>
            <a:ext cx="50277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08B8-8EBC-4143-88E7-49E361604C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AD94-F924-4F2E-85F9-6DD8335DC5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D984-8F48-469D-B820-E1788F6944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7F01-DAB3-482A-80CB-847BA8A8A7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97000" y="669960"/>
            <a:ext cx="4467240" cy="3349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241520"/>
            <a:ext cx="50292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C61F-041E-4EDF-BFD6-B50B4A919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4609-4B0E-40A4-A582-7A27575471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97000" y="669960"/>
            <a:ext cx="4467240" cy="3349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241520"/>
            <a:ext cx="50292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802A-0B3E-433D-B41E-EE2234A222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97000" y="669960"/>
            <a:ext cx="4467240" cy="3349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241520"/>
            <a:ext cx="50292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B6A0-F82F-45D7-AE37-DD1924EC52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9F3B-67CA-4046-833E-3C34485125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95560" y="669960"/>
            <a:ext cx="4466880" cy="3349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241520"/>
            <a:ext cx="54864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48376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D1A1-C597-480C-B4BC-E95D9C3014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1A9-CB0C-4911-AB54-F670E290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609-59B8-493A-808D-837909C3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FD8-6E98-49CF-9FE1-1366B71E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351-3AB1-41EA-991E-1ABC04F4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B91-C266-4A11-998F-23A290F9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125-C5FD-41AC-8CA8-2347EE4B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16FF-8CA6-438A-AA2A-2194176B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C1D-0AAB-4B01-90AF-A6E81DF8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A58-6FC0-4425-ABB3-124D9D9B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A81-7CD7-40D7-9E3A-F1B783DE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26B-C0D2-42E4-9070-BB133D35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EC5-E640-4AE1-ABD9-4B6CB76A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3CA5-1E1C-4973-BA17-24329DB9D3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uidedcare.org/" TargetMode="External"/><Relationship Id="rId2" Type="http://schemas.openxmlformats.org/officeDocument/2006/relationships/hyperlink" Target="http://www.guidedcare.org/" TargetMode="External"/><Relationship Id="rId3" Type="http://schemas.openxmlformats.org/officeDocument/2006/relationships/hyperlink" Target="http://www.guidedcare.org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20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inking Clinical Practice and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Community Resources:</a:t>
            </a:r>
            <a:br>
              <a:rPr sz="3600"/>
            </a:br>
            <a:br>
              <a:rPr sz="16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Guided Care Mode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d Boult, MD, MPH, 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or of Public Health, Medicine and Nur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s Hopkins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2009 Annual Con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14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inking with Community Resourc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base of local community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 access to appropriat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ern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ls on Wheels, senior centers, AAA, transportation programs, adult day care, CDSMP, social workers, pharmac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CN support group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mmunity suppor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8" dur="1" fill="hold"/>
                                  <p:tgtEl>
                                    <p:spTgt spid="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1968480" y="3638520"/>
          <a:ext cx="54640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8480" y="3638520"/>
                    <a:ext cx="54640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Oval 3"/>
          <p:cNvSpPr/>
          <p:nvPr/>
        </p:nvSpPr>
        <p:spPr>
          <a:xfrm>
            <a:off x="5416560" y="4102200"/>
            <a:ext cx="2349360" cy="1206360"/>
          </a:xfrm>
          <a:prstGeom prst="ellipse">
            <a:avLst/>
          </a:prstGeom>
          <a:solidFill>
            <a:srgbClr val="2ef4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1295280" y="4114800"/>
            <a:ext cx="2197080" cy="1266840"/>
          </a:xfrm>
          <a:prstGeom prst="ellipse">
            <a:avLst/>
          </a:prstGeom>
          <a:solidFill>
            <a:srgbClr val="2ef4d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93360" y="4267080"/>
            <a:ext cx="32950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nform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at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Chronic Disease Self-Managemen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Caregiver Suppor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Action P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412080" y="4267080"/>
            <a:ext cx="2075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Produ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Inte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3354480" y="4249800"/>
            <a:ext cx="22971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354480" y="5219640"/>
            <a:ext cx="22971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5715000" y="4191120"/>
            <a:ext cx="18288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repar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roa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ractice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Monito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Coac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772720" y="6095880"/>
            <a:ext cx="35877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Improved Outco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0" y="533520"/>
            <a:ext cx="9061560" cy="3276360"/>
          </a:xfrm>
          <a:prstGeom prst="ellipse">
            <a:avLst/>
          </a:prstGeom>
          <a:solidFill>
            <a:srgbClr val="2ef4d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981080" y="971640"/>
            <a:ext cx="6927840" cy="2431800"/>
          </a:xfrm>
          <a:prstGeom prst="ellipse">
            <a:avLst/>
          </a:prstGeom>
          <a:gradFill rotWithShape="0">
            <a:gsLst>
              <a:gs pos="0">
                <a:srgbClr val="20aa9a"/>
              </a:gs>
              <a:gs pos="100000">
                <a:srgbClr val="2ef4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352680" y="2133720"/>
            <a:ext cx="18288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eliver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Guided Care Nu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5029200" y="2133720"/>
            <a:ext cx="167652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ec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uppo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Lexi-comp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Evidence-based guidel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6400800" y="1295280"/>
            <a:ext cx="2514600" cy="17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lin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nform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Electronic Health Record, Care Guid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Transitional Care, Coordin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1600200" y="2057400"/>
            <a:ext cx="19479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elf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anagemen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Chronic Disease Self-Manag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3188520" y="609480"/>
            <a:ext cx="2401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Health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533520" y="1371600"/>
            <a:ext cx="175248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source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oli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Garamond"/>
                <a:ea typeface="ＭＳ Ｐゴシック"/>
              </a:rPr>
              <a:t>Access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2648160" y="1066680"/>
            <a:ext cx="347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Health Care Organ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o is Eligibl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62120" y="1523880"/>
            <a:ext cx="1752480" cy="4353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Age 65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2514600" y="3505320"/>
            <a:ext cx="41148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629400" y="1523880"/>
            <a:ext cx="1371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  <a:ea typeface="ＭＳ Ｐゴシック"/>
              </a:rPr>
              <a:t>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  <a:ea typeface="ＭＳ Ｐゴシック"/>
              </a:rPr>
              <a:t>High-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629400" y="2666880"/>
            <a:ext cx="1371600" cy="31244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7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Low-Ris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743200" y="2743200"/>
            <a:ext cx="2895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rebuchet MS"/>
                <a:ea typeface="ＭＳ Ｐゴシック"/>
              </a:rPr>
              <a:t>Review previous year’s claims data with HCC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5638680" y="1447920"/>
            <a:ext cx="990720" cy="2057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ndomized Tri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risk older patients (n=904) of 49 community-based primary care physicians practicing in 14 t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ian/patient teams randomly assigned to receive Guided Care or “usual”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s measured at 8, 20 and 32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seline Characteristic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371600"/>
          <a:ext cx="8229600" cy="5359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ided C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 C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e (% whit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x (% femal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ucation (12+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ing al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i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CC s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 difficul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gnition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PM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ffects on Physician Satisfa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1371600"/>
          <a:ext cx="7924680" cy="5394240"/>
        </p:xfrm>
        <a:graphic>
          <a:graphicData uri="http://schemas.openxmlformats.org/drawingml/2006/table">
            <a:tbl>
              <a:tblPr/>
              <a:tblGrid>
                <a:gridCol w="2514600"/>
                <a:gridCol w="2057400"/>
                <a:gridCol w="2057400"/>
                <a:gridCol w="1295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ided C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=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 Ca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=2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pati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0.04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caregiv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0.06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uc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giv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0.008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v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0.00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Know all pt’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me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0.03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8600" y="7621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y Satisfi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28600" y="25909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y Dissatisfi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04920" y="3581280"/>
            <a:ext cx="883908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atisfaction I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= Familiarity with pat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= Stability of patient relationshi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. w/ patients; Availability of clinical info; continuity of care for pat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cy of office visits; access to evidence based guide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ing patients; communicating w/ caregivers; efficiency of primary care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= Coordinating care; referring to community resources; educating caregi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= Motivating patients for self manag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00200" y="0"/>
          <a:ext cx="6654960" cy="368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Bar graph with GCN's Satisfaction with Clinical Activitie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0"/>
                    <a:ext cx="665496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6"/>
          <p:cNvSpPr/>
          <p:nvPr/>
        </p:nvSpPr>
        <p:spPr>
          <a:xfrm>
            <a:off x="380880" y="11430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isfi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0" y="14479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what Satisfi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0" y="18288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what Dissatisfi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04920" y="22096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atisfi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ffects on Quality of Ca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1447920"/>
          <a:ext cx="8305560" cy="4525920"/>
        </p:xfrm>
        <a:graphic>
          <a:graphicData uri="http://schemas.openxmlformats.org/drawingml/2006/table">
            <a:tbl>
              <a:tblPr/>
              <a:tblGrid>
                <a:gridCol w="2895480"/>
                <a:gridCol w="914400"/>
                <a:gridCol w="914400"/>
                <a:gridCol w="990720"/>
                <a:gridCol w="1295280"/>
                <a:gridCol w="129528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PACIC scale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G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U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aOR</a:t>
                      </a:r>
                      <a:r>
                        <a:rPr b="0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95% C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 set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-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-4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sion suppo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-2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 so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-1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activ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-1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Aggreg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17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8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1.2-3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0.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61"/>
          <p:cNvSpPr/>
          <p:nvPr/>
        </p:nvSpPr>
        <p:spPr>
          <a:xfrm>
            <a:off x="533520" y="617220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Adjusted for baseline socio-demographics, health, function, PACIC scores, s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hart reflecting effects on caregiver strain"/>
          <p:cNvPicPr/>
          <p:nvPr/>
        </p:nvPicPr>
        <p:blipFill>
          <a:blip r:embed="rId1"/>
          <a:stretch/>
        </p:blipFill>
        <p:spPr>
          <a:xfrm>
            <a:off x="1295280" y="1828800"/>
            <a:ext cx="6151680" cy="46134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ffects on Caregiver Strai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nual Costs of Guided Ca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219320"/>
          <a:ext cx="8229600" cy="5359320"/>
        </p:xfrm>
        <a:graphic>
          <a:graphicData uri="http://schemas.openxmlformats.org/drawingml/2006/table">
            <a:tbl>
              <a:tblPr/>
              <a:tblGrid>
                <a:gridCol w="5889600"/>
                <a:gridCol w="234000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ided Care Nur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71,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 (@ 30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4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vel (to pts’ homes, hospital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 servi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net, cell ph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ipment (amortized over 3 year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l ph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95,9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s. Marian Che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41022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9 year old wi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ired teacher, lives al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e: SS, pension and Medi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ughter, lives 10 miles away with three teena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chronic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physic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ght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572000" y="4267080"/>
            <a:ext cx="4572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older asian woman Ms. Marian Chen"/>
          <p:cNvPicPr/>
          <p:nvPr/>
        </p:nvPicPr>
        <p:blipFill>
          <a:blip r:embed="rId1">
            <a:grayscl/>
          </a:blip>
          <a:stretch/>
        </p:blipFill>
        <p:spPr>
          <a:xfrm>
            <a:off x="5334120" y="1752480"/>
            <a:ext cx="2519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ffects on Costs of Care</a:t>
            </a:r>
            <a:br>
              <a:rPr sz="44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(per caseload, 55 patients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1828800"/>
          <a:ext cx="8153280" cy="4719600"/>
        </p:xfrm>
        <a:graphic>
          <a:graphicData uri="http://schemas.openxmlformats.org/drawingml/2006/table">
            <a:tbl>
              <a:tblPr/>
              <a:tblGrid>
                <a:gridCol w="2478240"/>
                <a:gridCol w="1758960"/>
                <a:gridCol w="2317680"/>
                <a:gridCol w="159840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C – UC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xpendi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 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76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,519/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15.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F 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99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05/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0.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me heal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iso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331/episo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6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ian vis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1/vis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ss saving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70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GC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125"/>
                          </a:solidFill>
                          <a:latin typeface="Arial"/>
                        </a:rPr>
                        <a:t>NET SAVING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--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f3f"/>
                          </a:solidFill>
                          <a:latin typeface="Arial"/>
                        </a:rPr>
                        <a:t>-75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arly Resul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d Care improves the quality of chronic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d Care reduces net expenditures for health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d Care is easy to implement and popular with physicians, nurses, patients and caregi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pilot test involving Guided Care medical h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course and certificate for nur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course for physic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ance in selecting H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collaborative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rant Sup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Institute on 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A. Hartford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 and Valeria Langeloth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ublic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d C et al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erontolog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v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lvia M et al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is Mana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b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d C et al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 Gen Intern M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b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ult C et al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 Geront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r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lff et al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 Geront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une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f B et al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m J Managed C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ugust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ed Care: a New Nurse-Physician Partnership for Chronic Care.” Springer Publishing Co.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www.springerpub.com/guidedcar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6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guidedcare.org</a:t>
            </a:r>
            <a:r>
              <a:rPr b="0" lang="en-US" sz="36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 2009, Mrs. Chen has had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5" name="Diagram 3"/>
          <p:cNvGrpSpPr/>
          <p:nvPr/>
        </p:nvGrpSpPr>
        <p:grpSpPr>
          <a:xfrm>
            <a:off x="-304920" y="1676520"/>
            <a:ext cx="9143640" cy="4841280"/>
            <a:chOff x="-304920" y="1676520"/>
            <a:chExt cx="9143640" cy="4841280"/>
          </a:xfrm>
        </p:grpSpPr>
        <p:sp>
          <p:nvSpPr>
            <p:cNvPr id="56" name="_s40965"/>
            <p:cNvSpPr/>
            <p:nvPr/>
          </p:nvSpPr>
          <p:spPr>
            <a:xfrm flipH="1" flipV="1">
              <a:off x="2859480" y="3166200"/>
              <a:ext cx="763560" cy="5612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_s40966"/>
            <p:cNvSpPr/>
            <p:nvPr/>
          </p:nvSpPr>
          <p:spPr>
            <a:xfrm>
              <a:off x="1518480" y="2265840"/>
              <a:ext cx="1638000" cy="1019160"/>
            </a:xfrm>
            <a:prstGeom prst="ellipse">
              <a:avLst/>
            </a:prstGeom>
            <a:solidFill>
              <a:srgbClr val="ffe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community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referrals</a:t>
              </a: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_s40967"/>
            <p:cNvSpPr/>
            <p:nvPr/>
          </p:nvSpPr>
          <p:spPr>
            <a:xfrm flipH="1" flipV="1">
              <a:off x="2178000" y="3902760"/>
              <a:ext cx="1166040" cy="124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_s40968"/>
            <p:cNvSpPr/>
            <p:nvPr/>
          </p:nvSpPr>
          <p:spPr>
            <a:xfrm>
              <a:off x="554760" y="3304080"/>
              <a:ext cx="1638720" cy="101916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home car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agenc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_s40969"/>
            <p:cNvSpPr/>
            <p:nvPr/>
          </p:nvSpPr>
          <p:spPr>
            <a:xfrm flipH="1">
              <a:off x="2417400" y="4368240"/>
              <a:ext cx="1023840" cy="371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_s40970"/>
            <p:cNvSpPr/>
            <p:nvPr/>
          </p:nvSpPr>
          <p:spPr>
            <a:xfrm>
              <a:off x="891360" y="4483080"/>
              <a:ext cx="1638720" cy="101916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5</a:t>
              </a: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mont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homec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_s40971"/>
            <p:cNvSpPr/>
            <p:nvPr/>
          </p:nvSpPr>
          <p:spPr>
            <a:xfrm flipH="1">
              <a:off x="3465360" y="4590720"/>
              <a:ext cx="402840" cy="693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_s40972"/>
            <p:cNvSpPr/>
            <p:nvPr/>
          </p:nvSpPr>
          <p:spPr>
            <a:xfrm>
              <a:off x="2365920" y="5253840"/>
              <a:ext cx="1638720" cy="1019160"/>
            </a:xfrm>
            <a:prstGeom prst="ellipse">
              <a:avLst/>
            </a:prstGeom>
            <a:solidFill>
              <a:srgbClr val="ffe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2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nursin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ho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_s40973"/>
            <p:cNvSpPr/>
            <p:nvPr/>
          </p:nvSpPr>
          <p:spPr>
            <a:xfrm>
              <a:off x="4422960" y="4590720"/>
              <a:ext cx="408600" cy="69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_s40974"/>
            <p:cNvSpPr/>
            <p:nvPr/>
          </p:nvSpPr>
          <p:spPr>
            <a:xfrm>
              <a:off x="4292640" y="5252040"/>
              <a:ext cx="1638720" cy="101880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6</a:t>
              </a: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rebuchet MS"/>
                </a:rPr>
                <a:t>weeks sub-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Trebuchet MS"/>
                </a:rPr>
                <a:t> acute car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_s40975"/>
            <p:cNvSpPr/>
            <p:nvPr/>
          </p:nvSpPr>
          <p:spPr>
            <a:xfrm>
              <a:off x="4849560" y="4368240"/>
              <a:ext cx="1026720" cy="367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_s40976"/>
            <p:cNvSpPr/>
            <p:nvPr/>
          </p:nvSpPr>
          <p:spPr>
            <a:xfrm>
              <a:off x="5764320" y="4481280"/>
              <a:ext cx="1638720" cy="101916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rebuchet MS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hospital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admissions</a:t>
              </a:r>
              <a:br>
                <a:rPr sz="1400"/>
              </a:b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_s40977"/>
            <p:cNvSpPr/>
            <p:nvPr/>
          </p:nvSpPr>
          <p:spPr>
            <a:xfrm flipV="1">
              <a:off x="4947120" y="3899160"/>
              <a:ext cx="1165320" cy="128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_s40978"/>
            <p:cNvSpPr/>
            <p:nvPr/>
          </p:nvSpPr>
          <p:spPr>
            <a:xfrm>
              <a:off x="6097320" y="3302280"/>
              <a:ext cx="1638720" cy="1018800"/>
            </a:xfrm>
            <a:prstGeom prst="ellipse">
              <a:avLst/>
            </a:prstGeom>
            <a:solidFill>
              <a:srgbClr val="ffe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rebuchet MS"/>
                </a:rPr>
                <a:t>19</a:t>
              </a:r>
              <a:r>
                <a:rPr b="0" lang="en-US" sz="33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outpatie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vis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_s40979"/>
            <p:cNvSpPr/>
            <p:nvPr/>
          </p:nvSpPr>
          <p:spPr>
            <a:xfrm flipV="1">
              <a:off x="4668120" y="3164760"/>
              <a:ext cx="759960" cy="563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_s40980"/>
            <p:cNvSpPr/>
            <p:nvPr/>
          </p:nvSpPr>
          <p:spPr>
            <a:xfrm>
              <a:off x="5134680" y="2265840"/>
              <a:ext cx="1638720" cy="1019160"/>
            </a:xfrm>
            <a:prstGeom prst="ellips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rebuchet MS"/>
                </a:rPr>
                <a:t>8</a:t>
              </a: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me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_s40981"/>
            <p:cNvSpPr/>
            <p:nvPr/>
          </p:nvSpPr>
          <p:spPr>
            <a:xfrm flipV="1">
              <a:off x="4143960" y="2874240"/>
              <a:ext cx="0" cy="734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_s40982"/>
            <p:cNvSpPr/>
            <p:nvPr/>
          </p:nvSpPr>
          <p:spPr>
            <a:xfrm>
              <a:off x="3326040" y="1856880"/>
              <a:ext cx="1638720" cy="101916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rebuchet MS"/>
                </a:rPr>
                <a:t>22</a:t>
              </a: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scrip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_s40983"/>
            <p:cNvSpPr/>
            <p:nvPr/>
          </p:nvSpPr>
          <p:spPr>
            <a:xfrm>
              <a:off x="3326040" y="3609000"/>
              <a:ext cx="1638720" cy="101916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Mrs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</a:rPr>
                <a:t>Ch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WordArt 24"/>
            <p:cNvSpPr txBox="1"/>
            <p:nvPr/>
          </p:nvSpPr>
          <p:spPr>
            <a:xfrm>
              <a:off x="-304920" y="1676520"/>
              <a:ext cx="9143640" cy="4841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624377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 Unicode MS"/>
                </a:rPr>
                <a:t>8 Physicians, 6 Social Workers, 5 Physical Therapists, 4 Occupational Therapists, 37 Nurses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Unicode MS"/>
                <a:ea typeface="Arial Unicode MS"/>
              </a:endParaRPr>
            </a:p>
          </p:txBody>
        </p:sp>
      </p:grpSp>
      <p:pic>
        <p:nvPicPr>
          <p:cNvPr id="76" name="Picture 25" descr="1_0037"/>
          <p:cNvPicPr/>
          <p:nvPr/>
        </p:nvPicPr>
        <p:blipFill>
          <a:blip r:embed="rId1">
            <a:grayscl/>
          </a:blip>
          <a:stretch/>
        </p:blipFill>
        <p:spPr>
          <a:xfrm>
            <a:off x="3581280" y="3276720"/>
            <a:ext cx="1289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600200" y="3049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rs. C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35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used by care, m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35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qualit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35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out-of-pocket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Ms. Chen's daughter"/>
          <p:cNvPicPr/>
          <p:nvPr/>
        </p:nvPicPr>
        <p:blipFill>
          <a:blip r:embed="rId1"/>
          <a:srcRect l="23401" t="0" r="0" b="0"/>
          <a:stretch/>
        </p:blipFill>
        <p:spPr>
          <a:xfrm>
            <a:off x="760320" y="2438280"/>
            <a:ext cx="3202200" cy="26877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57200" y="5638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edicare paid $42,400 to providers for her c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(not including medic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5" descr="Mrs. Chen"/>
          <p:cNvPicPr/>
          <p:nvPr/>
        </p:nvPicPr>
        <p:blipFill>
          <a:blip r:embed="rId2">
            <a:grayscl/>
          </a:blip>
          <a:stretch/>
        </p:blipFill>
        <p:spPr>
          <a:xfrm>
            <a:off x="6019920" y="152280"/>
            <a:ext cx="2412720" cy="31244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4267080" y="3352680"/>
            <a:ext cx="487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ssed o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work to half-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ing nursing h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ronic care is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gmen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continuo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ficult to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effici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sa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1676520" y="2133720"/>
          <a:ext cx="5911560" cy="44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Pie chart of chronic conditions account for 80% of Medicare spending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591156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"/>
          <p:cNvSpPr/>
          <p:nvPr/>
        </p:nvSpPr>
        <p:spPr>
          <a:xfrm>
            <a:off x="228600" y="640080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rebuchet MS"/>
              </a:rPr>
              <a:t>Source: Medicare 5% Sample, 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¼ of Beneficiaries Who Have 4+ Chronic Conditions Account for 80% of Medicare Spending</a:t>
            </a:r>
            <a:br>
              <a:rPr sz="36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6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model that improves quality of care and reduces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model diffusable throughout the United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Guided Care Mode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ally trained RNs based in primary physicians’ off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CNs collaborate with physicians in caring for 50-60 high-risk older patients with chronic conditions and complex health care nee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340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rse/physician te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es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s and p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an evidence-based 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e gui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and a patient-friendly 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on pl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oni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patient proactiv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chronic diseas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lf-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ooth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nsi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tween car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munica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providers in EDs, hospitals, specialty clinics, rehab facilities, home care agencies, hospice programs, and social service agencies in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es and suppor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eg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Facilitates access to </a:t>
            </a:r>
            <a:r>
              <a:rPr b="0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community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nurse and physician"/>
          <p:cNvPicPr/>
          <p:nvPr/>
        </p:nvPicPr>
        <p:blipFill>
          <a:blip r:embed="rId1"/>
          <a:stretch/>
        </p:blipFill>
        <p:spPr>
          <a:xfrm>
            <a:off x="6478560" y="1981080"/>
            <a:ext cx="2665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9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7:50:20Z</dcterms:created>
  <dc:creator>Boult</dc:creator>
  <dc:description/>
  <dc:language>en-US</dc:language>
  <cp:lastModifiedBy>Rasa</cp:lastModifiedBy>
  <dcterms:modified xsi:type="dcterms:W3CDTF">2009-10-26T15:08:34Z</dcterms:modified>
  <cp:revision>48</cp:revision>
  <dc:subject/>
  <dc:title>Guided Care:  a Path to the Medical Home</dc:title>
</cp:coreProperties>
</file>