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64360" y="888408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A6324C-6742-4795-95CC-D1527364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072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alth, Income, and the Affordability of Health Insura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4419720"/>
            <a:ext cx="619776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em Bernard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ica Banthin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Encinosa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ol Variab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insurance is not worth the money it co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more likely to take risks than the average pers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m healthy enough that I really don’t need health insura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risks: (1) poor physical or mental health, (2) chronic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sex, race, education, occupation, married, family size,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mployer Coverage Market &amp;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dividual Mark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9% of nonelderly families had access to employer-sponsored cove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67 m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1% of nonelderly families were potentially in the individual mark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0 m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s between the  employer coverage market &amp; the individual mark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.1% of families with ESI offers vs. 10.6% of families without ESI offers have privat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2% in the employer coverage market vs. 62.2% in the individual market are poor or low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ian wealth holdings among nonelderly familie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523880"/>
          <a:ext cx="7086600" cy="474372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  <a:gridCol w="1218960"/>
                <a:gridCol w="121932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,22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8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5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76,94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80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5,0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90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6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7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3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97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48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49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,5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3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,08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3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,44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,58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93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13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4,75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,91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43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9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,88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,98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,44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2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7,65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dian wealth holdings among nonelderly familie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7993080" cy="4678200"/>
        </p:xfrm>
        <a:graphic>
          <a:graphicData uri="http://schemas.openxmlformats.org/drawingml/2006/table">
            <a:tbl>
              <a:tblPr/>
              <a:tblGrid>
                <a:gridCol w="1719360"/>
                <a:gridCol w="1460520"/>
                <a:gridCol w="1374480"/>
                <a:gridCol w="1376640"/>
                <a:gridCol w="2062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,84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,05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105,81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1,11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3,05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2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7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23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0,17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2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,76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29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,12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0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1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,31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,47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,61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78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8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70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,46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80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5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5,68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9,89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96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,92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ferences in asset holdings by income and insurance statu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net worth of privately insured families was 23.2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families w/ access to employer coverage, median net worth of privately insured families was 15.4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families in the individual market, median net worth of privately insured families was 34.6 times that of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542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1523880"/>
          <a:ext cx="7391520" cy="474660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447560"/>
                <a:gridCol w="144792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9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centage of nonelderly families that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wn assets / have positive net worth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mployer coverage market</a:t>
            </a: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42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523880"/>
          <a:ext cx="7391520" cy="4746600"/>
        </p:xfrm>
        <a:graphic>
          <a:graphicData uri="http://schemas.openxmlformats.org/drawingml/2006/table">
            <a:tbl>
              <a:tblPr/>
              <a:tblGrid>
                <a:gridCol w="1676520"/>
                <a:gridCol w="1447560"/>
                <a:gridCol w="1371600"/>
                <a:gridCol w="144792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cial Asset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t Worth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e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vately 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nsured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Families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1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rtile 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.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rtile 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9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8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.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rcentage of nonelderly families that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wn assets / have positive net worth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mployer coverage market</a:t>
            </a:r>
            <a:br>
              <a:rPr sz="24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ferences in asset ownership by income and insurance statu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LL NONELDERLY POPULATION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families with private insurance, 83.0 % owned financial assets vs. 48.0 %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ng families with private insurance, 89.8 % had positive net worth vs. 68.4 %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d effects of wealth on private insurance enrollment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600200"/>
          <a:ext cx="6400800" cy="5189400"/>
        </p:xfrm>
        <a:graphic>
          <a:graphicData uri="http://schemas.openxmlformats.org/drawingml/2006/table">
            <a:tbl>
              <a:tblPr/>
              <a:tblGrid>
                <a:gridCol w="1920960"/>
                <a:gridCol w="2257560"/>
                <a:gridCol w="2222280"/>
              </a:tblGrid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58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7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0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5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08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30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8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2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4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3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33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justed R2</a:t>
                      </a:r>
                      <a:endParaRPr b="1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83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04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Affordability Puzz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adults 21-64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affor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---the poor who appear to be unable to afford insurance--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 indeed purchas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6 % of those below the poverty line  had private insurance in 2006 (3.8 m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y “afforders” ar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7 % of those above the poverty line were uninsured  in 2006 (32.5 m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d effects of wealth on private insurance enrollment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95280" y="1447920"/>
          <a:ext cx="6400800" cy="5213160"/>
        </p:xfrm>
        <a:graphic>
          <a:graphicData uri="http://schemas.openxmlformats.org/drawingml/2006/table">
            <a:tbl>
              <a:tblPr/>
              <a:tblGrid>
                <a:gridCol w="1920960"/>
                <a:gridCol w="2257560"/>
                <a:gridCol w="2222280"/>
              </a:tblGrid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04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2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6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5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3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78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8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2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6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3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0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0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qrtl 4</a:t>
                      </a:r>
                      <a:endParaRPr b="1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8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0.01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justed R2</a:t>
                      </a:r>
                      <a:endParaRPr b="1" lang="en-US" sz="1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88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.59%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ual and predicted private insurance enrollment rat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mployer coverage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76520"/>
          <a:ext cx="8145360" cy="480060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143000"/>
                <a:gridCol w="1143000"/>
                <a:gridCol w="1592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-wealth quartile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ual Rat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int Improvemen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1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6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ual and predicted private insurance enrollment rat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dividual mark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76520"/>
          <a:ext cx="8145360" cy="4800600"/>
        </p:xfrm>
        <a:graphic>
          <a:graphicData uri="http://schemas.openxmlformats.org/drawingml/2006/table">
            <a:tbl>
              <a:tblPr/>
              <a:tblGrid>
                <a:gridCol w="3200400"/>
                <a:gridCol w="1066680"/>
                <a:gridCol w="1143000"/>
                <a:gridCol w="1143000"/>
                <a:gridCol w="159228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come-wealth quartiles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tual Rate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 Income 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lth 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del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int Improvement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low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.4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9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5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7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income, high wealth</a:t>
                      </a:r>
                      <a:endParaRPr b="1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.0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4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0.6)</a:t>
                      </a:r>
                      <a:endParaRPr b="1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role of wealth in private insurance enrollment: simulation resul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income model performs relatively well for the employer coverage 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ndividual market, the wealth model performs significantly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model overestimates enrollment for those with low wealth and underestimates enrollment for those with high weal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model estimates are misleading for two subpopulations: low income and high wealth, high income and low weal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ifference in wealth b/w the insured and the uninsured is not fully revealed by income comparis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income of the privately insured was 2.9 times the median income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net wealth of the privately insured was 23.2 times the median net wealth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iscrepancy is even larger among families in the individual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income of the privately insured was 2.3 times the median income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net wealth of the privately insured was 34.6 times the median net wealth of 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search Ques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in wealth between insured and uninsured famil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better can we predict demand for insurance using asset and wealth da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Expenditure Panel Survey (MEP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ly-representative sample of house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-year files for 2002 &amp;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information on health insurance status, employment, health insurance offers, private and public coverage, health risk, and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ected during 5 rounds of interviews over 2½ years (asset data in Round 5), covering a two year reference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udy Sample and Key Variab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ample: Nonelderly families w/o public insu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(age 21-64) (N=23,951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pendent variable: Indicator equal to 1 if there is at least one person with  private insurance in the family (insurance is point-in-time estimate measured as of the end of ye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amily: health insurance eligibilit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Key variables: family-level income &amp; family-level net worth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gression Sam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loyer coverage market: N=16,1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one in family has an ESI o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market: N= 7,7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 one in family has an ESI o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et and Debt Data in MEP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, value and amount owed for 10 types of assets and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resid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real est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siness/f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reational vehic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s, stocks, bonds, mutual fu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As, Keogh plans, 401K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cking, savings &amp; money mark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other savings or assets (jewelry, annuity, trust or estates, collections for investment purpo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t (credit card balances, medical debt, loans from relative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asures of Financial Assets &amp; Net Wort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al assets= CDs + stocks +  bonds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ual funds + IRAs + Keogh plan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1K accounts + checking accounts 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s accounts + money market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 worth= financial assets + home + second residence + other real estate + business/farm + vehicles + other savings or assets - deb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wo Empirical Models of Enrollment in Private Insura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ndard Income Model (OL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=a + by +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ealth Model (OL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=a + b1y + b2 wealth +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y=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9-12-04T17:34:29Z</dcterms:modified>
  <cp:revision>1074</cp:revision>
  <dc:subject/>
  <dc:title>AHRQ Slide Template 2004</dc:title>
</cp:coreProperties>
</file>