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6202E9-58A8-4773-B189-36217BAA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CCFF50-40CF-4C7E-83E3-37F1CB22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CD7-7529-4ECE-8E8B-64FB48C2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EF3-E72B-42B8-9F05-8ACFED0B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15B-EAED-4A41-8FF8-A2EB86E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94D-6152-4854-985D-22C87EA2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00E-5AD7-4FA2-8B39-90A8A42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892-543E-4E91-B778-DAFC4B64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836-1EF3-4C53-90DF-7E69BFF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4D6-8AE1-4B58-BE8F-B9B8CD4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B69-38E8-417A-A4A1-53F41DC7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2DB-0549-4F96-9878-5807E2D4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FFA-BE0C-41F2-9C42-4FE2468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E0B-4798-4ECF-9DDA-23E99882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hyperlink" Target="mailto:berkman@rti.org" TargetMode="External"/><Relationship Id="rId4" Type="http://schemas.openxmlformats.org/officeDocument/2006/relationships/hyperlink" Target="mailto:berkman@rti.org" TargetMode="External"/><Relationship Id="rId5" Type="http://schemas.openxmlformats.org/officeDocument/2006/relationships/hyperlink" Target="mailto:viswanathan@rti.or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TI_50logo_gold_1255_RGB_1in"/>
          <p:cNvPicPr/>
          <p:nvPr/>
        </p:nvPicPr>
        <p:blipFill>
          <a:blip r:embed="rId3"/>
          <a:stretch/>
        </p:blipFill>
        <p:spPr>
          <a:xfrm>
            <a:off x="7680240" y="6351480"/>
            <a:ext cx="1235160" cy="354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472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472a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2857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231480" y="63691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3a72"/>
                </a:solidFill>
                <a:latin typeface="Arial"/>
                <a:ea typeface="Arial"/>
              </a:rPr>
              <a:t>www.rti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D864-C63B-49CA-B6AF-9FA4C67181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rt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364-2BB8-41A2-A2E0-5C3A1AD3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5838480" y="6294600"/>
            <a:ext cx="3085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472a3"/>
                </a:solidFill>
                <a:latin typeface="Arial Narrow"/>
              </a:rPr>
              <a:t>RTI International is a trade name of Research Triangle Instit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472a3"/>
                </a:solidFill>
                <a:latin typeface="Arial Narrow"/>
              </a:rPr>
              <a:t>www.rt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08160" y="6172200"/>
            <a:ext cx="358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Nancy Berkman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, PhD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ra Viswanathan, P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3"/>
              </a:rPr>
              <a:t>berkman@r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4"/>
              </a:rPr>
              <a:t>ti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mail: 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5"/>
              </a:rPr>
              <a:t>viswanathan@rt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2857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TI_50logo_slogan_goldRGB"/>
          <p:cNvPicPr/>
          <p:nvPr/>
        </p:nvPicPr>
        <p:blipFill>
          <a:blip r:embed="rId6"/>
          <a:stretch/>
        </p:blipFill>
        <p:spPr>
          <a:xfrm>
            <a:off x="533520" y="533520"/>
            <a:ext cx="4876560" cy="42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472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472a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Development of a Tool to Evaluate </a:t>
            </a:r>
            <a:br>
              <a:rPr sz="2800"/>
            </a:b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the Quality of Non-randomized Studies of </a:t>
            </a:r>
            <a:br>
              <a:rPr sz="2800"/>
            </a:b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Interventions or Exposures</a:t>
            </a:r>
            <a:endParaRPr b="0" lang="en-US" sz="28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Nancy D </a:t>
            </a:r>
            <a:r>
              <a:rPr b="0" i="1" lang="en-US" sz="2400" spc="-1" strike="noStrike">
                <a:solidFill>
                  <a:srgbClr val="163a72"/>
                </a:solidFill>
                <a:latin typeface="Arial Narrow"/>
              </a:rPr>
              <a:t>Berkman</a:t>
            </a: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, PhD &amp; Meera Viswanathan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ed 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HRQ 2009 Annu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Bethesda, Maryland</a:t>
            </a:r>
            <a:br>
              <a:rPr sz="2400"/>
            </a:b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September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Domains for quality evaluation approache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descrip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/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definition and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/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eatm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: comparability of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: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and precision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Tool Result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: bank of 3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able: includes relevant items appropriate for all non-randomized stud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: instructions for PIs and abstractors to assist in appropriate interpretation of questio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evel of detail in describing the intervention or exposure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I: specify which details need to be stated, e.g., intensity, duration, frequency, route, setting, and timing of intervention/exposure. For case-control studies, consider if the condition, timing, frequency, and setting of symptoms is provided in the case 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Next Step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inter-rater reliabilit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findings and disseminate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Phase I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pecific validation including inter-rater reliability testing by stu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number of questions needed to address specific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web-based platform for generating design and topic-specific instruments from the item ba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Acknowledgement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funding provid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472a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t from RTI Independent Research and Development (IR&amp;D)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472a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 from Agency for Healthcare Research and Quality (AHRQ), U.S. Department of Health and Human Services, through the Evidence-based Practice Centers program (E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ontext for the Projec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mand to include non-randomized studies in systematic literature reviews and comparative effectiveness reviews to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terventions or exposures on a more broadly defined population than can be observed through R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s where RCTs would be logistically or ethically in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term outcomes and harms (side effec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-off for wider applicability of findings among observational studies, compared with RCTs, is a potentially wider range of sources of bias, including in selection, performance, detection of effects, and attr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Background: </a:t>
            </a:r>
            <a:br>
              <a:rPr sz="3200"/>
            </a:b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Rating the Quality of Non-randomized Studie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ality (internal validity) of each study included in a review needs to be evalu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established criteria and instruments exist for evaluating the quality of RCTs, but not non-randomized (observational)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 conducting systematic reviews generally lack access to validated and adaptable instruments for evaluating the quality of observational stu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ew review often develops its own quality rating tool, “reinvents the wheel”, leading to inconsistent standards within and across revie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Project Goal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practical and validated tool for evaluating the quality of non-randomized studies of interventions or exposures tha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s a comprehensive theoretical frame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ptures all relevant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 applic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used "off the shelf" by different P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adapted to different topic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used by reviewers with varying levels of expertise or exper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rs can be confident of their evaluation of study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s the methodology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eminated wid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1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the literature on the evaluation of the quality of observ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ed quality review items used in early tools to evaluate non-RCTs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AHRQ-sponsored EPC 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zed all potential items into the 12 quality domains identifi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ng non-randomized intervention stud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eks et al.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1 (continued)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Bank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the best items for measuring each of the included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selected items where necessary to ensure that critical domains were included and to improve 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 pre-specified set of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explanatory text to be used by PIs and abstractors to individualize as well as standardize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2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Expert Pane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 framework to ensure that we included all relevan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interviews with potenti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/face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rater reli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onceptual Underpinnings of the Instrumen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quality can rely on either a description of methods or an assessment of validity and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descrip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the reporting structure of many manu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less on judgment than on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and precis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really car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llenging to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reliance on ju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20:31Z</dcterms:created>
  <dc:creator>RTI Staff</dc:creator>
  <dc:description/>
  <dc:language>en-US</dc:language>
  <cp:lastModifiedBy>Graham</cp:lastModifiedBy>
  <dcterms:modified xsi:type="dcterms:W3CDTF">2009-10-27T23:25:17Z</dcterms:modified>
  <cp:revision>52</cp:revision>
  <dc:subject/>
  <dc:title>PowerPoint Presentation</dc:title>
</cp:coreProperties>
</file>