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96C4372-D66E-4227-BCCD-EB30F6180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AEAF084-E72A-43C7-837E-541A5F3E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217-BB0C-41D9-9DA0-D4DA58DD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1FD-FA11-4487-AB48-093BEB3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BEF-DC6C-42BF-A28D-E82829F6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876-A42C-4CF4-A3BE-B1A3B0B3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C8E-9133-49D7-9D28-22DA4253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B91-F4DA-4FCF-BFE9-66407F0A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1AA-C0E7-40F1-BB1E-4AE7AA8C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019-E249-408A-BE16-CB2E38AA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EE9-1EDF-4D4F-93B7-781EA8E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001-D817-4429-A0EB-CE46AAA9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8DA-7FC8-4437-967A-69C4A951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8DA-C652-4617-8068-0CA030B0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9049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049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049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hyperlink" Target="mailto:berkman@rti.org" TargetMode="External"/><Relationship Id="rId4" Type="http://schemas.openxmlformats.org/officeDocument/2006/relationships/hyperlink" Target="mailto:berkman@rti.org" TargetMode="External"/><Relationship Id="rId5" Type="http://schemas.openxmlformats.org/officeDocument/2006/relationships/hyperlink" Target="mailto:viswanathan@rti.or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RTI_50logo_gold_1255_RGB_1in"/>
          <p:cNvPicPr/>
          <p:nvPr/>
        </p:nvPicPr>
        <p:blipFill>
          <a:blip r:embed="rId3"/>
          <a:stretch/>
        </p:blipFill>
        <p:spPr>
          <a:xfrm>
            <a:off x="7680240" y="6351480"/>
            <a:ext cx="1235160" cy="354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472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472a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2857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231480" y="636912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3a72"/>
                </a:solidFill>
                <a:latin typeface="Arial"/>
                <a:ea typeface="Arial"/>
              </a:rPr>
              <a:t>www.rti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FC8-C530-4AD8-9D89-557B676987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rti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5C94-7A10-4BA6-9A08-930BFAEF3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"/>
          <p:cNvSpPr/>
          <p:nvPr/>
        </p:nvSpPr>
        <p:spPr>
          <a:xfrm>
            <a:off x="5838480" y="6294600"/>
            <a:ext cx="3085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472a3"/>
                </a:solidFill>
                <a:latin typeface="Arial Narrow"/>
              </a:rPr>
              <a:t>RTI International is a trade name of Research Triangle Institu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472a3"/>
                </a:solidFill>
                <a:latin typeface="Arial Narrow"/>
              </a:rPr>
              <a:t>www.rt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08160" y="6172200"/>
            <a:ext cx="358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63a72"/>
                </a:solidFill>
                <a:latin typeface="Arial"/>
                <a:ea typeface="Arial"/>
              </a:rPr>
              <a:t>Nancy Berkman</a:t>
            </a:r>
            <a:r>
              <a:rPr b="0" lang="en-US" sz="1000" spc="-1" strike="noStrike">
                <a:solidFill>
                  <a:srgbClr val="163a72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163a72"/>
                </a:solidFill>
                <a:latin typeface="Arial"/>
                <a:ea typeface="Arial"/>
              </a:rPr>
              <a:t>, PhD</a:t>
            </a:r>
            <a:r>
              <a:rPr b="0" lang="en-US" sz="1000" spc="-1" strike="noStrike">
                <a:solidFill>
                  <a:srgbClr val="163a72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era Viswanathan, P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1000" spc="-1" strike="noStrike" u="sng">
                <a:solidFill>
                  <a:srgbClr val="b01914"/>
                </a:solidFill>
                <a:uFillTx/>
                <a:latin typeface="Arial"/>
                <a:hlinkClick r:id="rId3"/>
              </a:rPr>
              <a:t>berkman@r</a:t>
            </a:r>
            <a:r>
              <a:rPr b="0" lang="en-US" sz="1000" spc="-1" strike="noStrike" u="sng">
                <a:solidFill>
                  <a:srgbClr val="b01914"/>
                </a:solidFill>
                <a:uFillTx/>
                <a:latin typeface="Arial"/>
                <a:hlinkClick r:id="rId4"/>
              </a:rPr>
              <a:t>ti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mail: </a:t>
            </a:r>
            <a:r>
              <a:rPr b="0" lang="en-US" sz="1000" spc="-1" strike="noStrike" u="sng">
                <a:solidFill>
                  <a:srgbClr val="b01914"/>
                </a:solidFill>
                <a:uFillTx/>
                <a:latin typeface="Arial"/>
                <a:hlinkClick r:id="rId5"/>
              </a:rPr>
              <a:t>viswanathan@rti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9080">
            <a:solidFill>
              <a:srgbClr val="2857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RTI_50logo_slogan_goldRGB"/>
          <p:cNvPicPr/>
          <p:nvPr/>
        </p:nvPicPr>
        <p:blipFill>
          <a:blip r:embed="rId6"/>
          <a:stretch/>
        </p:blipFill>
        <p:spPr>
          <a:xfrm>
            <a:off x="533520" y="533520"/>
            <a:ext cx="4876560" cy="42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472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472a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3a72"/>
                </a:solidFill>
                <a:latin typeface="Arial Narrow"/>
              </a:rPr>
              <a:t>Development of a Tool to Evaluate </a:t>
            </a:r>
            <a:br>
              <a:rPr sz="2800"/>
            </a:br>
            <a:r>
              <a:rPr b="1" lang="en-US" sz="2800" spc="-1" strike="noStrike">
                <a:solidFill>
                  <a:srgbClr val="163a72"/>
                </a:solidFill>
                <a:latin typeface="Arial Narrow"/>
              </a:rPr>
              <a:t>the Quality of Non-randomized Studies of </a:t>
            </a:r>
            <a:br>
              <a:rPr sz="2800"/>
            </a:br>
            <a:r>
              <a:rPr b="1" lang="en-US" sz="2800" spc="-1" strike="noStrike">
                <a:solidFill>
                  <a:srgbClr val="163a72"/>
                </a:solidFill>
                <a:latin typeface="Arial Narrow"/>
              </a:rPr>
              <a:t>Interventions or Exposures</a:t>
            </a:r>
            <a:endParaRPr b="0" lang="en-US" sz="28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357e"/>
                </a:solidFill>
                <a:latin typeface="Arial Narrow"/>
              </a:rPr>
              <a:t>Nancy D </a:t>
            </a:r>
            <a:r>
              <a:rPr b="0" i="1" lang="en-US" sz="2400" spc="-1" strike="noStrike">
                <a:solidFill>
                  <a:srgbClr val="163a72"/>
                </a:solidFill>
                <a:latin typeface="Arial Narrow"/>
              </a:rPr>
              <a:t>Berkman</a:t>
            </a:r>
            <a:r>
              <a:rPr b="0" i="1" lang="en-US" sz="2400" spc="-1" strike="noStrike">
                <a:solidFill>
                  <a:srgbClr val="0a357e"/>
                </a:solidFill>
                <a:latin typeface="Arial Narrow"/>
              </a:rPr>
              <a:t>, PhD &amp; Meera Viswanathan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ed a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HRQ 2009 Annual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a357e"/>
                </a:solidFill>
                <a:latin typeface="Arial Narrow"/>
              </a:rPr>
              <a:t>Bethesda, Maryland</a:t>
            </a:r>
            <a:br>
              <a:rPr sz="2400"/>
            </a:br>
            <a:r>
              <a:rPr b="0" i="1" lang="en-US" sz="2400" spc="-1" strike="noStrike">
                <a:solidFill>
                  <a:srgbClr val="0a357e"/>
                </a:solidFill>
                <a:latin typeface="Arial Narrow"/>
              </a:rPr>
              <a:t>September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Domains for quality evaluation approache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descripti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/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definition and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ion/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treatmen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: comparability of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: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and precision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tio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ing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Tool Result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: bank of 39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able: includes relevant items appropriate for all non-randomized study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: instructions for PIs and abstractors to assist in appropriate interpretation of questions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evel of detail in describing the intervention or exposure?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PI: specify which details need to be stated, e.g., intensity, duration, frequency, route, setting, and timing of intervention/exposure. For case-control studies, consider if the condition, timing, frequency, and setting of symptoms is provided in the case 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Next Step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inter-rater reliabilit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findings and disseminate th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Phase II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pecific validation including inter-rater reliability testing by stu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number of questions needed to address specific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web-based platform for generating design and topic-specific instruments from the item ba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Acknowledgement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funding provid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472a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nt from RTI Independent Research and Development (IR&amp;D)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as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472a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act from Agency for Healthcare Research and Quality (AHRQ), U.S. Department of Health and Human Services, through the Evidence-based Practice Centers program (E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ontext for the Project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demand to include non-randomized studies in systematic literature reviews and comparative effectiveness reviews to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s of interventions or exposures on a more broadly defined population than can be observed through R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s where RCTs would be logistically or ethically in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term outcomes and harms (side effec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de-off for wider applicability of findings among observational studies, compared with RCTs, is a potentially wider range of sources of bias, including in selection, performance, detection of effects, and attr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Background: </a:t>
            </a:r>
            <a:br>
              <a:rPr sz="3200"/>
            </a:b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Rating the Quality of Non-randomized Studie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ality (internal validity) of each study included in a review needs to be evalu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established criteria and instruments exist for evaluating the quality of RCTs, but not non-randomized (observational)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 conducting systematic reviews generally lack access to validated and adaptable instruments for evaluating the quality of observational stu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ew review often develops its own quality rating tool, “reinvents the wheel”, leading to inconsistent standards within and across revie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Project Goals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practical and validated tool for evaluating the quality of non-randomized studies of interventions or exposures tha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s a comprehensive theoretical frame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ptures all relevant dom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 applic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be used "off the shelf" by different P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be adapted to different topic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to use and under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be used by reviewers with varying levels of expertise or exper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sers can be confident of their evaluation of study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s the methodology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seminated wid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Methods: Phase 1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the literature on the evaluation of the quality of observ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ed quality review items used in early tools to evaluate non-RCTs 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d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AHRQ-sponsored EPC revie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zed all potential items into the 12 quality domains identifi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aluating non-randomized intervention stud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eeks et al.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Methods: Phase 1 (continued)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Bank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the best items for measuring each of the included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selected items where necessary to ensure that critical domains were included and to improve rea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a pre-specified set of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explanatory text to be used by PIs and abstractors to individualize as well as standardize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Methods: Phase 2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Expert Pane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 framework to ensure that we included all relevan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 val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interviews with potentia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/face val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rater reli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a72"/>
                </a:solidFill>
                <a:latin typeface="Arial Narrow"/>
              </a:rPr>
              <a:t>Conceptual Underpinnings of the Instrument</a:t>
            </a:r>
            <a:endParaRPr b="0" lang="en-US" sz="3200" spc="-1" strike="noStrike">
              <a:solidFill>
                <a:srgbClr val="163a72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quality can rely on either a description of methods or an assessment of validity and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descrip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s the reporting structure of many manu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s less on judgment than on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72a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ity and precis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 really care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allenging to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472a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reliance on jud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8:20:31Z</dcterms:created>
  <dc:creator>RTI Staff</dc:creator>
  <dc:description/>
  <dc:language>en-US</dc:language>
  <cp:lastModifiedBy>Graham</cp:lastModifiedBy>
  <dcterms:modified xsi:type="dcterms:W3CDTF">2009-10-27T23:25:17Z</dcterms:modified>
  <cp:revision>52</cp:revision>
  <dc:subject/>
  <dc:title>PowerPoint Presentation</dc:title>
</cp:coreProperties>
</file>