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l care utilization for work-related injury health conditions in the United State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2-200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4114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ceira A. Berdahl, Ph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ail: terceira.berdahl@ahrq.hhs.gov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 Zodet, M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ail: marc.zodet@ahrq.hhs.gov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dependent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ace-ethnicity/sex subgroup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Race, ethnicity, and sex were used to create eight analysis subpopulations: White non-Hispanic men; black non-Hispanic men; other non-Hispanic men; Hispanic men; white women; black women; other race women; Hispanic wo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ge categories:  18-24 years, 25-44 years, 45-64 years, and 65+ year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ducat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hree categories: less than high school, high school, or more than high sch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ccupation &amp; Industry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tion consists of US Census 9-category occupation codes and 14-category industry co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urance Statu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dividuals are coded as having private insurance,  public insurance, or no health insuranc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erform descriptive and multivariate statistical analysis using STATA 10.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ve statistics on healthcare use, types of use, total expenditures for work injuri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sets of logistic regression models predi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26964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the odds of work inju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26964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the odds of seeking treatment at selected points of servic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6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estimates are weighted using the appropriate year sample weight and all estimates include standard errors adjusted for complex survey desig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criptive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related injuries comprised approximately 17% of all injury related medical conditi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workers aged 18 and over, 6% reported being bothered by a work-related health probl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with work injury-related conditions spend $1,843 on average per year for those medical expen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criptive findings…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years 2002-2006, a total of $85.9 billion were spent on office-based, outpatient, emergency department, and inpatient services for workplace injuri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ng people with work injuries, nearly 40% of their total healthcare expenses were for work-related condi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at kinds of healthcare do individuals use when they suffer from work-related health problems?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1905120"/>
            <a:ext cx="6324480" cy="2655720"/>
            <a:chOff x="1143000" y="1905120"/>
            <a:chExt cx="6324480" cy="2655720"/>
          </a:xfrm>
        </p:grpSpPr>
        <p:sp>
          <p:nvSpPr>
            <p:cNvPr id="114" name=""/>
            <p:cNvSpPr/>
            <p:nvPr/>
          </p:nvSpPr>
          <p:spPr>
            <a:xfrm>
              <a:off x="1143000" y="1905120"/>
              <a:ext cx="4011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 fontScale="95000"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ype of care receiv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4480" y="1905120"/>
              <a:ext cx="23130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 algn="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% of injured worker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2846520"/>
              <a:ext cx="4011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ffice based vis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54480" y="2846520"/>
              <a:ext cx="2313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 algn="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7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3274920"/>
              <a:ext cx="4011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ergency room vis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54480" y="3274920"/>
              <a:ext cx="2313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 algn="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3703680"/>
              <a:ext cx="4011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ut-patient vis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54480" y="3703680"/>
              <a:ext cx="2313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 algn="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4132440"/>
              <a:ext cx="4011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-patient vis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54480" y="4132440"/>
              <a:ext cx="2313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rmAutofit/>
            </a:bodyPr>
            <a:p>
              <a:pPr algn="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1881360"/>
                  <a:tab algn="l" pos="3762360"/>
                  <a:tab algn="l" pos="5643720"/>
                  <a:tab algn="l" pos="7524720"/>
                  <a:tab algn="l" pos="94060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3000" y="2846520"/>
              <a:ext cx="632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1905120"/>
              <a:ext cx="632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000" y="4560840"/>
              <a:ext cx="632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ultivariate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 regression models predic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dds of reporting a work in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dds of seeking treatment  among those with work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533520" y="1473120"/>
          <a:ext cx="808488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Image: Bar Chart: Figure 1: Predicted probability of injury in adjusted models (models control for age, education, occupation, and industry)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08488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racial-ethnic/gender disparities exist for reporting a work injury related health problem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Variables associated with work injury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:  higher educated workers had lower ri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: middle age categories are significantly more likely to be injured compared to young adults (age 18-24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pation: decreased risk for manager, services, sales and professional, increased risk for constru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: increased risk for natural resources, construction, decreased risk for finance, professional and servic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533520" y="1473120"/>
          <a:ext cx="808488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Image: Bar Chart: Figure 2: Predicted probability of seeking treatment adjusted models (models controlling for age, education, occupation, and industry)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08488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racial-ethnic/gender disparities exist for treatment seeking among individuals who report being bothered by a work-related injury?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riables associated with healthcare us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: the odds of seeking treatment oldest workers (age +65) were 46% lower  compared to young adult  workers (age 18-24) to seek treat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: had no significant association with treatment see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pation: had no significant association with treatment see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: had no significant association with treatment see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Insurance: The odds of seeking treatment for uninsured workers were 33% lower compared to privately insured workers. We found no statistically significant difference between publicly and privately insured worker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cus of our tal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place injuries and medical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descriptive estimates of medical care for work inju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e racial-ethnic/gender disparities in work inju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ing racial-ethnic/gender disparities in health care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find some evidence of racial-ethnic/gender disparities in reporting work-related health condi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men have greatest risk of inju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 and Hispanic men had significantly lower r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 had significantly lower r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use for workplace inju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vidence of racial-ethnic ga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women more likely to see a doctor compared to white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er workers with work injuries less likely to seek trea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sured workers do not seek treatment at comparable rates—this may be an indicator of health care access barriers for workers without health insu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juries are costly to the health car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2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workers with work-related injuries seek some form of healthcare treat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2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utilization findings are exploratory first step. They suggest that access disparities may influence how people seek treatment for work-injury health proble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2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persistent disparities in employment outcomes and healthcare access, it is important to examine how racial-ethnic/gender differences shape work injury risk and healthcare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percent of workers experience work injuries at some point in their mid-career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juries are common and account for 30% of medically treated injuries in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millions of workers who are injured on the job each year, many seek healthc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or research on occupational health disparities finds inconsistent patterns of racial-ethnic and gender differenc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ority workers earn lower wages, disproportionately employed in low skilled jobs, overrepresented in the most dangerous occupation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l Care for Work Inju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arge body of prior research documents racial-ethnic/gender disparities in healthcare access and utiliza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ttle research on  healthcare access/use disparity patterns for injured work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xamine  work injuries and  healthcare uti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ly representative survey data from the Medical Expenditure Panel Survey (2002-2006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includes broad age ranges, occupations, and industri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earch Questions: Current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kinds of healthcare do individuals use when they suffer from work-related health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racial-ethnic/gender disparities exist for reporting a work-injury related health problem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racial-ethnic/gender disparities exist for treatment seeking among individuals who report being bothered by a work-related injur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and S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l Expenditure Panel Survey (MEP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probability sample survey that is representative of the U.S. civilian noninstitutionalized populatio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ers aged 18 and old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nhance the statistical power of the study we pooled cross-sectional MEPS data from years 2002-06. Thus, our findings represent the average annual odds of reporting a workplace injury and seeking treatment.  We also present estimates of the total dollars spent on healthcare associated with these work-related injuries across all 5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come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scrip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edical Expendi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otal expenditures and types of trea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kplace Injury.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chotomous measure of having any workplace accident/injury related condition in the past ye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lthcare Utilization.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chotomous measure that is coded “1” if the person had any office-based, outpatient, emergency department, or inpatient services for a work injury and coded “0” if otherw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RQ</dc:creator>
  <dc:description>6/24/04</dc:description>
  <dc:language>en-US</dc:language>
  <cp:lastModifiedBy>Tanya</cp:lastModifiedBy>
  <cp:lastPrinted>2003-01-21T20:19:23Z</cp:lastPrinted>
  <dcterms:modified xsi:type="dcterms:W3CDTF">2009-10-28T23:29:51Z</dcterms:modified>
  <cp:revision>155</cp:revision>
  <dc:subject/>
  <dc:title>AHRQ Slide Template 2004</dc:title>
</cp:coreProperties>
</file>