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D65A-228D-41E1-B8F9-294464ED5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C11F-323A-4CC5-8F93-665F0AE9B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6524-EBF1-4179-AB33-519506105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265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265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358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265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358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358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265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265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265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265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265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265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358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265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8610480" y="6626160"/>
            <a:ext cx="5335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BDA8-4525-4C6A-955E-643A60833A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38160" cy="9190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8" descr=":2_29:0002048.jpg"/>
          <p:cNvPicPr/>
          <p:nvPr/>
        </p:nvPicPr>
        <p:blipFill>
          <a:blip r:embed="rId3"/>
          <a:srcRect l="30091" t="0" r="33549" b="0"/>
          <a:stretch/>
        </p:blipFill>
        <p:spPr>
          <a:xfrm>
            <a:off x="7238880" y="0"/>
            <a:ext cx="1905120" cy="39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8610480" y="6626160"/>
            <a:ext cx="5335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5FFE-0763-4B4F-BF8E-425A773B63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Implementing GRADE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9051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ence of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fts Center for Kidney Diseas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ideline Development and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fts Medical Center, Boston 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ideline methodology since 2000 (18 G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ing GRADE since 2007 (6 G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than Balk, MD M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ssociate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3"/>
          <p:cNvSpPr/>
          <p:nvPr/>
        </p:nvSpPr>
        <p:spPr>
          <a:xfrm>
            <a:off x="8610480" y="6626160"/>
            <a:ext cx="5335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333C-5D41-436F-B0C4-C37241E15F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 Review Team for KDOQI &amp; KDI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dney guide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-time guideline &amp; systematic review methodolog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~6 F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Ds, “guideline fellows”, research associates (MPH-leve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Group of ~15-20 international domain expe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 month process; 3 meet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ufts Center for Kidney Disease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uideline Development and Implementation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3"/>
          <p:cNvSpPr/>
          <p:nvPr/>
        </p:nvSpPr>
        <p:spPr>
          <a:xfrm>
            <a:off x="8610480" y="6626160"/>
            <a:ext cx="5335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1F19-91F2-45E5-B91C-206C4BF21A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antages compared to previous system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l approach, standardized steps &amp; 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s Work Group to consider may aspects of evidence as they pertain to guide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all evidence quality, consistency, applic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k outcomes (clinically important outcom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lance benefits and ha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r descriptions of recommendation levels (1, 2) and evidence quality (A, B, C, 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arbitrary, more consistent connection between level of recommendations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of evi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iminates reinventing the whe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3"/>
          <p:cNvSpPr/>
          <p:nvPr/>
        </p:nvSpPr>
        <p:spPr>
          <a:xfrm>
            <a:off x="8610480" y="6626160"/>
            <a:ext cx="5335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F672-60BE-4D9E-8A36-87571B585D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advantages compared to previou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d organizational workl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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# summary tables for specific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idence Profile creation resource int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Work Group in GRADE methods, Evidence Profiles complic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# of arbitrar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orm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cisions to maintain consist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y quality: (A/B/C)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thodological quality (0, -1, -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A + 4B + 1C = -1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B + 2C = -1? -2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lating consistency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0, -1, -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lating directnes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0, -1, -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8610480" y="6626160"/>
            <a:ext cx="5335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D7F1-B804-4F18-8FE2-49AF35B68E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sponses to use of GRA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Group likes becau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ets a standard structure and seems less arbit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ifies decisionmaking about strength and content of recommend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es on clinically important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large # of steps =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sources,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 for domain expe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frustration about highly detailed work of filling every cell of Evidence 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ed work load may diminish particip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4" descr="\therefore \!\,"/>
          <p:cNvPicPr/>
          <p:nvPr/>
        </p:nvPicPr>
        <p:blipFill>
          <a:blip r:embed="rId1"/>
          <a:stretch/>
        </p:blipFill>
        <p:spPr>
          <a:xfrm>
            <a:off x="0" y="0"/>
            <a:ext cx="12708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3"/>
          <p:cNvSpPr/>
          <p:nvPr/>
        </p:nvSpPr>
        <p:spPr>
          <a:xfrm>
            <a:off x="8610480" y="6626160"/>
            <a:ext cx="5335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FD77-0712-480C-8488-476EDA534C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22:06:44Z</dcterms:created>
  <dc:creator>Ethan Balk</dc:creator>
  <dc:description/>
  <dc:language>en-US</dc:language>
  <cp:lastModifiedBy>Graham</cp:lastModifiedBy>
  <dcterms:modified xsi:type="dcterms:W3CDTF">2009-10-26T21:19:42Z</dcterms:modified>
  <cp:revision>87</cp:revision>
  <dc:subject/>
  <dc:title>Glomerulonephritis Guidelines</dc:title>
</cp:coreProperties>
</file>