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75D9FF-B008-401F-A01D-1D4597EA4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7A7B3C-DE75-4E31-B70E-2C09AC997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E417EE-37B9-4F2F-BADD-C212D0039F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650120" cy="3487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F29C5F-AD29-4D19-A14F-B1015C69DD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A0A4AC-F0DF-4B4D-B235-27D75AA70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2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6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Object 2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89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2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0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3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73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75" name="Object 3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216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8" name="Object 3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 Efficiency Measurement: Potentially Avoidable Hospitalization Trends &amp; Cos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xanne M. Andrews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Delivery, Organization, and Mar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705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variations in Overall PQI Composite rat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736640" y="59850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965240" y="590868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care Cost and Utilization Project, Nationwide Inpatient Sam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486080" y="1835280"/>
            <a:ext cx="5829120" cy="3655800"/>
            <a:chOff x="1486080" y="1835280"/>
            <a:chExt cx="5829120" cy="3655800"/>
          </a:xfrm>
        </p:grpSpPr>
        <p:sp>
          <p:nvSpPr>
            <p:cNvPr id="295" name=""/>
            <p:cNvSpPr/>
            <p:nvPr/>
          </p:nvSpPr>
          <p:spPr>
            <a:xfrm>
              <a:off x="2563920" y="1963800"/>
              <a:ext cx="3308400" cy="30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63920" y="1963800"/>
              <a:ext cx="3308400" cy="3038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90720" y="2503440"/>
              <a:ext cx="300240" cy="2498760"/>
            </a:xfrm>
            <a:prstGeom prst="rect">
              <a:avLst/>
            </a:prstGeom>
            <a:solidFill>
              <a:srgbClr val="8cf4ea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48160" y="2863800"/>
              <a:ext cx="299880" cy="2138400"/>
            </a:xfrm>
            <a:prstGeom prst="rect">
              <a:avLst/>
            </a:prstGeom>
            <a:solidFill>
              <a:srgbClr val="8cf4ea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90960" y="2790720"/>
              <a:ext cx="304560" cy="2211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8040" y="2730600"/>
              <a:ext cx="298800" cy="2271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95520" y="2276640"/>
              <a:ext cx="300240" cy="2725560"/>
            </a:xfrm>
            <a:prstGeom prst="rect">
              <a:avLst/>
            </a:prstGeom>
            <a:solidFill>
              <a:srgbClr val="fafd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46840" y="2392200"/>
              <a:ext cx="299880" cy="2610000"/>
            </a:xfrm>
            <a:prstGeom prst="rect">
              <a:avLst/>
            </a:prstGeom>
            <a:solidFill>
              <a:srgbClr val="fafd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95760" y="3225960"/>
              <a:ext cx="299880" cy="1776240"/>
            </a:xfrm>
            <a:prstGeom prst="rect">
              <a:avLst/>
            </a:prstGeom>
            <a:solidFill>
              <a:srgbClr val="51dc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46720" y="3384720"/>
              <a:ext cx="299880" cy="1617480"/>
            </a:xfrm>
            <a:prstGeom prst="rect">
              <a:avLst/>
            </a:prstGeom>
            <a:solidFill>
              <a:srgbClr val="51dc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63920" y="1963800"/>
              <a:ext cx="0" cy="3038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90840" y="500220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90840" y="439596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0840" y="378936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90840" y="317664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90840" y="257004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90840" y="196380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63920" y="5002200"/>
              <a:ext cx="330840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563920" y="5001840"/>
              <a:ext cx="0" cy="73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4221000" y="5001840"/>
              <a:ext cx="0" cy="73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872320" y="5001840"/>
              <a:ext cx="0" cy="73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52520" y="487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95840" y="42670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6840" y="366084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06840" y="304812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,5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06840" y="244152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,0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6840" y="183528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,5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4520" y="52164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91960" y="52164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-193320" y="3542400"/>
              <a:ext cx="358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Hospitalizations per 100,000 population</a:t>
              </a:r>
              <a:endParaRPr b="1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40360" y="2846520"/>
              <a:ext cx="1374840" cy="1272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06960" y="2955960"/>
              <a:ext cx="141480" cy="141120"/>
            </a:xfrm>
            <a:prstGeom prst="rect">
              <a:avLst/>
            </a:prstGeom>
            <a:solidFill>
              <a:srgbClr val="8cf4ea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8920" y="2895480"/>
              <a:ext cx="10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theast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06960" y="3274920"/>
              <a:ext cx="141480" cy="141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08200" y="3213000"/>
              <a:ext cx="9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dwest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06960" y="3592440"/>
              <a:ext cx="141480" cy="141480"/>
            </a:xfrm>
            <a:prstGeom prst="rect">
              <a:avLst/>
            </a:prstGeom>
            <a:solidFill>
              <a:srgbClr val="fafd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07840" y="35323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uth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06960" y="3911760"/>
              <a:ext cx="141480" cy="141120"/>
            </a:xfrm>
            <a:prstGeom prst="rect">
              <a:avLst/>
            </a:prstGeom>
            <a:solidFill>
              <a:srgbClr val="51dc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8560" y="385128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st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ing the variations in potentially avoidable hospitalizations offer opportunities to identify communities and populations for targeted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terventions could lead to improvements in one dimension of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are potentially avoidable hospitalization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izations that may be preventable with high quality primary &amp; preventiv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measured by examining hospitalizations for specific conditions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bulatory care sensitive condition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may be hospitalized for asthma if they do not receive adequate outpatient care, or primary care practitioners do not adhere to practice guidelines or prescribe appropriate treat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efficiency measure, it is assumed that hospitalizations for these conditions are more costly than good quality outpatient c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are potentially avoidable hospitalizations measured in the NHQR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Prevention Quality Indicators (PQ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module of the AHRQ Quality Indicator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f measures to identify hospitalizations for "ambulatory care sensitive conditions" (ACSCs) in adult popu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QIs use existing hospital discharge data, based on readily available data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QIs adjust for age and gender of th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 hospitalizations are not preventable, but these are areas where improvements in outpatient &amp; preventive care could reduce U.S. hospit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00200" y="34308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vention Quality Indicators (PQIs) Composite Measures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3840" y="1752480"/>
            <a:ext cx="41482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hr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betes complications - short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betes complications - long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ontrolled diab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extremity a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ina without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ult asth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14800" y="17524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c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terial pneumo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ary tract 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9892-725F-438E-BCF0-DC8990C3C0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Source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ationwide Inpatient S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16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the Healthcare Cost and Utilization Project family of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for national estimates related to U.S. hospital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ll-payer hospital administrative (billing)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data supplied by state data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20% stratified sample of U.S. hospitals (all discharges from the hospi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es in the NHQ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nds in PQI composit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100,000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nds in national costs for PQI compo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for inflation (gross domestic product implicit price defl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late hospital charges to hospital costs using HCUP cost-to-charge rat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 represent the hospitals’ cost of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what was p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not include physician costs billed separat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tional trends in potentially avoidable hospitalization rates, by type of conditio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Hospitializations per 100,000 population.&#13;&#10;Acute: 1997 there were 694, 2000 there were 731, 2001 there were 719, 2002 there were 765, 2003 there were 734, 2004 there were 708, 2005 there were 741&#13;&#10;Chronic: 1997 there were 1,294, 2000 there were 1,213, 2001 there were 1,191, 2002 there were 1,223, 2003 there were 1,198, 2004 there were 1,136, 2005 there were 1,092&#13;&#10;Overall: 1997 there were 1,988, 2000 there were 1,944, 2001 there were 1,910, 2002 there were 1,988, 2003 there were 1,932, 2004 there were 1,844, 2005 there were 1,833"/>
          <p:cNvPicPr/>
          <p:nvPr/>
        </p:nvPicPr>
        <p:blipFill>
          <a:blip r:embed="rId1"/>
          <a:stretch/>
        </p:blipFill>
        <p:spPr>
          <a:xfrm>
            <a:off x="2585880" y="1581120"/>
            <a:ext cx="4305600" cy="4503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2575080" y="590868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346480" y="590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133720" y="6324480"/>
            <a:ext cx="5638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 Adults only.  Rates are adjusted for age &amp; gender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care Cost and Utilization Project, Nationwide Inpatient Sam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ends in national hospital costs of potentially avoidable hospitaliz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Bar grapch of costs ( in billions of 2005 $)&#13;&#10;1997 - 21.9 billion&#13;&#10;2000 - 26.8 billion&#13;&#10;2001 - 27.0 billion&#13;&#10;2002 - 29.4 billion&#13;&#10;2003 - 30.7 billion&#13;&#10;2004 - 29.7 billion&#13;&#10;2005 - 29.6 billion"/>
          <p:cNvPicPr/>
          <p:nvPr/>
        </p:nvPicPr>
        <p:blipFill>
          <a:blip r:embed="rId1"/>
          <a:stretch/>
        </p:blipFill>
        <p:spPr>
          <a:xfrm>
            <a:off x="2532240" y="1708200"/>
            <a:ext cx="4132080" cy="42148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1905120" y="6248520"/>
            <a:ext cx="5410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Adults only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care Cost and Utilization Project, Nationwide Inpatient Sam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literature indicates variations in preventable hospitalization rates by race, SES and geographic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DR illustrates variations by race &amp; SES in individual P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 State Snapshots illustrates variations by State in individual P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Preventable Hospitalization Costs mapping software can identify counties with high costs for PQI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7:59:45Z</dcterms:created>
  <dc:creator>JDeLaMar</dc:creator>
  <dc:description/>
  <dc:language>en-US</dc:language>
  <cp:lastModifiedBy>DHHS</cp:lastModifiedBy>
  <dcterms:modified xsi:type="dcterms:W3CDTF">2009-12-04T16:25:33Z</dcterms:modified>
  <cp:revision>182</cp:revision>
  <dc:subject/>
  <dc:title>Nine States Use AHRQ QIs for Public Hospital Reporting</dc:title>
</cp:coreProperties>
</file>