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050-24CF-491C-9FD8-9E711BB6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CCE-C6D7-4318-91E0-7715E059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F5F0-2D94-4F0A-8AF3-5D5179DC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73F-E5D3-4404-8D0B-9BC67572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263-0524-4B76-AB10-B204E9BF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DD6-F5A8-4A19-888F-D946A6D5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E104-4DED-40C5-B9FD-A9A2BD37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2EC1-FBFA-4A38-82A2-3B6FFB18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8971-87F6-4ECA-9131-04C92C5D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7EE8-159C-4C6C-93A8-B27BC0758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E81A-DABB-4B03-94A7-57B7CEF71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AE4B-9ACF-4B72-8F3A-52E62EE9E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E227-E2D6-4F3E-8003-BCD70ED21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8BBA-16C7-42C4-B3E1-F6747F8FA0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26D1-DC2D-438D-8BBD-5AA4F2291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DC57-B325-4BB6-B532-193DFAF09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1B85-32F0-44BA-83B0-E58B223AA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C0A7-350C-44F2-A0EF-F36E265D0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D406-BC8B-47CC-8306-18B534C813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D787-54B9-4A6C-96A9-D12460E51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83EA-4A96-4100-9ABF-2179BE43F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604B-6C1E-456E-BCD2-CC5361899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06CF-F0B6-4E6C-B257-F5C9D74094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DD3E-0D38-43F9-ABD9-A8B7692611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6075-A487-488C-95F3-B72938287D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0843-4422-480F-BE5D-385B21EE53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5DD-10A6-41AE-8774-A9C4B8E455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058-31E4-4F19-B8F2-5893D2B342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8B-037C-4D4D-A6A0-2F334EE05D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C45-42EA-4756-9C16-9378792319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228-EC3F-4B0B-B5AC-007CAD582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8282-0738-465E-BAAB-8CBC803035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54A-522F-4F62-85AF-C4B91FBCEC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2C8-DF8D-4683-98E1-6A5F88A394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AFD-8471-4FD3-B59F-FBE9A67502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F7D-7E78-4EA0-BAB1-0C1850103A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ACB-73A4-46EB-BC9F-B2282A57D1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5D6-9DB2-4253-A2DC-67394CDDE1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B60-3E55-41C4-AD80-FF1676EF8D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6D69C-B6E5-462B-81AA-809F73832A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5648E-275D-4159-9ABB-420C5642D6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44666-729A-4CBF-BBF7-5F65060FA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9B62-5D9F-43A7-9A16-71CCE5A89F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9DCB-1822-49E7-A7E5-B27B797172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726CC-D1D5-4D6D-8D00-19E3D724DE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38DB8-6213-4929-8876-35E90E00C1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9513-A657-455F-AD8F-9775ECBD41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73E78-AA91-405E-8C9F-22F7DD471D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66A5-E900-483E-9E1C-2279804F46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1C862-D22F-47AD-93BD-EB2D6B4981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13E77-2378-45BC-92D8-237D076913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6ED6E-54CE-4D4A-876E-0A6D5B09D8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E506-DCAF-4728-96A6-22D62DD55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4B57-F2C4-41CB-B11F-43632ABBDD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18AF-97D0-4103-A17A-85A1862038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3777-AF88-4817-A588-B331E3ED10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D76AC-3CED-4B6E-A558-22877D43B7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4DC3F-A26E-43BB-9573-8DA3A7B58E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D5233-2E64-4172-A817-C410748797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C5540-01C4-4797-BF70-EEAD4B416C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60D0-4250-4004-8553-E57DD86406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1ECFD-C5C7-49A2-8435-40A779AF09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49FD-D73E-4D08-9F63-31E5CBBD36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14A8F-3D39-4F69-9B95-C9AE08DDD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76F9-C03F-41D5-8A16-1AB4190669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CF20-75D7-4C98-8C17-B3711C70B6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9BA-5C54-4321-99E3-F52D845642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B55F-85B1-42C0-B686-7588321B7F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B2A-FBAB-4122-BEFE-9B60049259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24A-C66A-49D1-A4A8-928E6039E8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09EC-6294-4D1B-8744-674AA94A03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870-4304-457B-BC51-A20EB7FFE2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C4C-C748-44A4-964C-B967B605F3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DCB-A7CD-4FE0-956C-8F2270BD1C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51ED-18CF-4AC8-A5E2-FF156685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61A7-C088-4DAC-AEED-0DBE706359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B2B-136F-4E6E-836E-2B96403509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5089-67DB-4E97-B9FB-D140016424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730-7F83-4B0C-991D-94B73D30E1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3D66B-71FA-497E-9E96-DB0D971CDA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24C31-A962-4F73-9348-D4D0F1EEB6E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148E5-EA09-431B-88CD-FFE758B0E5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11AC6-6A2A-4A5B-976C-69119F6296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2605E-5354-44BA-9722-B604D48DA1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6D763-A13E-44D5-A0A7-35056E1AE1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22615-3AD5-4C72-94F7-B4C01D89D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8C3D-6DCB-4261-BE4C-8BC352B3B0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BD4A9-3281-4470-9188-E458FE1CB4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1235B-39E9-4987-9D02-C6716EB666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3DF00-041D-4999-AF6B-B6E5AE89CE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681FF-CED8-403D-B897-E6072BAD53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BFF0C-D2EA-44F2-9BD6-42FC86C6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1A1A-40CA-4D59-B460-A8435EE9C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F26-FF2B-4BD6-84EF-3012885796A0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43" name="Line 5"/>
          <p:cNvSpPr/>
          <p:nvPr/>
        </p:nvSpPr>
        <p:spPr>
          <a:xfrm>
            <a:off x="685800" y="3848040"/>
            <a:ext cx="7772400" cy="0"/>
          </a:xfrm>
          <a:prstGeom prst="line">
            <a:avLst/>
          </a:prstGeom>
          <a:ln w="57240">
            <a:solidFill>
              <a:srgbClr val="003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4BE-58E8-4656-A3D6-188FA890E532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85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BC5A-66FD-4972-92F8-0991F59F6720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127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826B-8F65-4C46-8BDE-117048FD7F35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169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5CB-A71B-4477-9589-CCB81617B73F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211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0BC-9605-48B3-B07A-0032F7F1F466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253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4CB7-3464-4477-915B-F7790710DD61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mplementing the GRADE Method in Guideline Development: Real-World Experiences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ntemplation Stage: To GRADE or Not to GRADE? 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685800" y="3848040"/>
            <a:ext cx="7772400" cy="0"/>
          </a:xfrm>
          <a:prstGeom prst="line">
            <a:avLst/>
          </a:prstGeom>
          <a:ln w="57240">
            <a:solidFill>
              <a:srgbClr val="003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3520" y="41144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Sheila A. Agyeman, M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irector of Evidence Based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merican Gastroenterological Association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September 15,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763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 Guideline Development Process Prior to 2007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8600" indent="789120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Searching for and appraising the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uthors performed literatur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able below was provided to aide authors in organizing findings but not a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lnSpc>
                <a:spcPct val="100000"/>
              </a:lnSpc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lnSpc>
                <a:spcPct val="100000"/>
              </a:lnSpc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600" indent="7891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Evidence summarized in Technical Review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echnical review (intended for academics) summarized into Medical Position Statement (intended for practicing clin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3048120"/>
          <a:ext cx="8458200" cy="757080"/>
        </p:xfrm>
        <a:graphic>
          <a:graphicData uri="http://schemas.openxmlformats.org/drawingml/2006/table">
            <a:tbl>
              <a:tblPr/>
              <a:tblGrid>
                <a:gridCol w="838080"/>
                <a:gridCol w="457200"/>
                <a:gridCol w="838080"/>
                <a:gridCol w="990720"/>
                <a:gridCol w="838080"/>
                <a:gridCol w="914400"/>
                <a:gridCol w="990720"/>
                <a:gridCol w="838080"/>
                <a:gridCol w="914400"/>
                <a:gridCol w="838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Design/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of Stu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Analy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 Guideline Development Process Prior to 2007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760" indent="826272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Inconsistencies identified in Pre-2007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echnical review and medical position statement not adequately evidenc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Disconnect between technical review and medical posit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340560">
              <a:spcBef>
                <a:spcPts val="75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Not guiding readers in interpreting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340560">
              <a:spcBef>
                <a:spcPts val="75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Not giving clear clinical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ncept of quality of evidence and strength of recommendations not well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640" indent="872676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Modifications made to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nstruction of specific clinical questions to be addressed in technic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mplementation of U.S. Preventive Services Task Force (USPSTF) Ratings – </a:t>
            </a:r>
            <a:r>
              <a:rPr b="0" i="1" lang="en-US" sz="2400" spc="-1" strike="noStrike">
                <a:solidFill>
                  <a:srgbClr val="003773"/>
                </a:solidFill>
                <a:latin typeface="Arial"/>
              </a:rPr>
              <a:t>Management of GERD 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mposition of Medical Position Pa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atient/patient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Gastroenterologist in communit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Gastroenterologist with knowledge in health services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rimary care physician, surgeon or pathologist (included as needed based on top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8726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Institute</a:t>
            </a:r>
            <a:r>
              <a:rPr b="1" lang="en-US" sz="2800" spc="-1" strike="noStrike">
                <a:solidFill>
                  <a:srgbClr val="003773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br>
              <a:rPr sz="3200"/>
            </a:b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928404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Challenges of curr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primarily designed for preventiv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changed after first guideline was already in the final stages (mid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caused confusion amongst guideline authors (Dysplasia in IBD guideline) how to grade evidence and recommendations (e.g., diagnostic t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891252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What made the AGA Institute decide to consider switching from USPSTF to using GR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vitations to collaborat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 with other GI and non-GI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Establish uniformity across all GI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Further invitations for collaboration led to the discovery that more societies are using or also considering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Considered using GRADE to reduce the confusion in different grading schemes used in various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Joining effort to establish an internation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000" indent="7334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Benefits of using GRADE we consid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 very rigorous and formalized process that will ensure evidence-based guidelines necessary for value-based health care initiatives (e.g., P4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lready closely resembles AGA Institute’s cur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Provides increased transparency of judgments of quality of evidence and strength of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vestment into GRADE evidence profiles in the long-term could be future asset at the time of guidelin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vailability of GRADE methodologists who could assist 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938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" indent="7334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5800" indent="9098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Initial reservations about using GR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800" indent="10158264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Higher 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Need to hire full time methodolog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74760">
              <a:spcBef>
                <a:spcPts val="499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773"/>
                </a:solidFill>
                <a:latin typeface="Arial"/>
              </a:rPr>
              <a:t>Answer: GRADE not necessarily more complex than other grading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Increased training of staff and auth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74760">
              <a:spcBef>
                <a:spcPts val="499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773"/>
                </a:solidFill>
                <a:latin typeface="Arial"/>
              </a:rPr>
              <a:t>Answer: Any grading system would require some form of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00" indent="10158264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Requires more time and lengthens the developmen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561"/>
              </a:spcBef>
              <a:buClr>
                <a:srgbClr val="005d9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Answer: No. The most time consuming and costly phase of the guideline development process is the systematic review of the evidence. This is independent from the grading system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00" indent="90982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82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928404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Develop an implement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Train staff in GRAD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Train committee members in GRAD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Include GRADE experts on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clude in budget cycle for 201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3:02:31Z</dcterms:created>
  <dc:creator>Jennifer Halbert</dc:creator>
  <dc:description/>
  <dc:language>en-US</dc:language>
  <cp:lastModifiedBy>Graham</cp:lastModifiedBy>
  <dcterms:modified xsi:type="dcterms:W3CDTF">2009-10-26T21:20:23Z</dcterms:modified>
  <cp:revision>267</cp:revision>
  <dc:subject/>
  <dc:title>PowerPoint Presentation</dc:title>
</cp:coreProperties>
</file>