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6D4-CFC5-468E-B299-2CCF7968A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A0F-7332-415F-9884-19CC6C628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8544-A31A-4593-B60B-D5C45F46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07C-02F9-439E-A695-9FB71D13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3B1-C6C3-486D-B59E-E36DA138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806-03F0-4F1F-A911-D0353E77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DA2-B684-4A68-AFFE-49C11C5D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48A-05F6-41D4-A5BE-5DC16E97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2737-533E-419E-9DC9-68AA3D0B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93A9-D4CF-48C1-9BE2-9A2EE3543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9941-36EE-48C0-B4F4-065EE3FC1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2F1E-8782-4FD9-A76F-C57A01307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DA51-13ED-4BB9-9246-2F3848C35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4AE4-2953-4AF7-A7D5-EE5BEB4486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9065-E7ED-4257-B3E4-55584E4EE6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845E-688A-4265-AE3E-98BFF7B693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8E65-EAD4-468E-8F4D-087EFE158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01B1-FA03-4C4A-8DAB-FCBCDDC56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2E98-98DA-4EDD-A063-9F117ACF5D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A04A-7080-406B-893C-13A15AD01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418A-4BD0-4F5E-8DB2-E105462AE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0791-699E-4D83-8F04-D952FFAF34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0AC2-694B-47A1-B043-2663E8DD2E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14D5-F505-4366-9A51-7322908088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45D6-C65F-48C3-A34A-7B0604EA62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35BB-9897-4DD8-A462-7DC7D449CC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378-64D6-4254-A25C-F91287D3DF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697-E7E9-40AA-8917-811E1B5C63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1A1-5046-403A-9EFA-D5F23CFD69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8CB-DAEA-4E73-9695-8FAF89B9AB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AC4-9280-4951-B371-BBE4C0403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27D0-8DF5-4B9C-8743-F2FAD2C5B5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11C-529E-47F5-9C89-DB0E9EEAAA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9AA-D47B-47B6-966E-0C0589E29C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09A-A5C5-4946-9997-913269D0DA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77E-42CA-45B5-B097-7FA735880B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456-C5F1-42FA-AA01-C03B197AC3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38B-25E5-484F-A51D-F1452B7FA2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E8D-83A6-470F-B7AA-1B72A43A36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03DD6-2332-441B-9C0F-AF11047214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09D5A-14B7-4ABA-B448-6372D1449E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E30E-4443-4825-B82A-2C33B2F91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AD6C-5D40-4678-861B-22A428FC6A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C8256-82A1-4F7C-976A-EAB7F67A11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3F5BB-979D-422B-8CAC-E20A86E752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4FC1-CBA1-491A-8478-D844E5C701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8DAB-30FF-4CDE-A0C4-8A7714A803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33334-D062-4CEC-94ED-442089032E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A9608-1870-41B5-B6E2-167B47A945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562A3-AA62-4092-9EDE-240491EEE8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C3D9A-72B0-47AC-9623-7A8F7BA48C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1194C-2C21-4DDB-90D1-7186232663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9A933-8339-428A-8DBB-19941D180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FA8B-6C25-4F36-B3EB-5D4F1508B7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183E-E929-4072-B55E-1DBE608BBF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3D4FB-4AB0-4BEA-899A-A19F37633E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6F02B-DB1C-4A37-96C1-BE8EE4AB6F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7EB96-391A-486E-94B4-FDC9E86DAE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AB2C9-426E-48D1-9451-1DB2064546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0A6A0-2435-403F-93E4-64A2D403AA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7D73E-813E-487F-A5D4-7338FE34DE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5591-780E-4E31-BD8F-2287978BDD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F81E-D965-4693-B6C3-6850725E86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89AD-59A2-48E0-9E53-43D38F88D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2BAC-BFEB-4704-A788-1689C6651D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B2F8D-F59E-456C-AA81-2C9A12B5E4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9AF-E229-44A4-816B-26175C211B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E006-BC8F-474E-90E2-43B86AC36A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83BA-494E-4AD4-9BD7-7878447435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625-D1DC-40EA-918F-73BEAABE1F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150-D67B-4CC8-95A8-8B05B077D6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FDF-5942-494D-864D-4CEA8F4299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0F8-5A05-46FE-951E-4F45B59C7F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A1FB-181E-4DF5-BC5E-D3E1CFCF74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E77-18B0-4260-9780-499972FE8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AE99-B3DF-40B0-A953-F37C952510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D62-A23B-4C12-BC49-CA8C3F6FFF6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301-2709-41B8-870A-6EC77D6DDA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720E-5349-4DDB-A4CE-3DABC7AFFB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8A44C-5554-49D2-A277-56D507857D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236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indent="0" algn="ctr">
              <a:spcBef>
                <a:spcPts val="624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002B8-1D57-4999-A563-BC53B0E8DB6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B4178-CC2D-4A2D-B6A1-8FDC71CCEF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1D958-17E2-4975-91BB-4AE0FB1AE7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C680B-31F1-459B-9DCB-F63F44778D6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66600"/>
            <a:ext cx="822960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13120" algn="ctr">
              <a:spcBef>
                <a:spcPts val="624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9AA48-21C2-4403-8F6E-7DF1F17DE88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06C52-B5C7-4BB5-962C-3D34EA653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8CBE-0836-4329-B07F-492E5C344C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EAD99-6EB9-4493-B71D-BC4BC9D4D5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122DD-6624-436B-A202-7066CDC6C3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6B509-E92D-4396-B2F1-5DE9E5614D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E5AC4F-84A3-410B-B120-412700CF7C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1C8AD-0FE3-400F-88E8-518B2C391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8C32-842B-46EE-B773-BF2C115FB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21F8-64C2-402A-9DC8-96684CF09880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43" name="Line 5"/>
          <p:cNvSpPr/>
          <p:nvPr/>
        </p:nvSpPr>
        <p:spPr>
          <a:xfrm>
            <a:off x="685800" y="3848040"/>
            <a:ext cx="7772400" cy="0"/>
          </a:xfrm>
          <a:prstGeom prst="line">
            <a:avLst/>
          </a:prstGeom>
          <a:ln w="57240">
            <a:solidFill>
              <a:srgbClr val="003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9F9-AFB1-4B18-8EC4-BC3E6A49915A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85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EB12-7291-4CC5-BD95-77CBFFBCE7E6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127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5A2-7617-407A-843F-03BAB474C4E3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169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E8BC-C64D-400D-A5AC-405EF679A28C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211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6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624-C3DB-4D4D-A6B9-BA395ABC16A0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6" descr="LH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AGA Seal Blue"/>
          <p:cNvPicPr/>
          <p:nvPr/>
        </p:nvPicPr>
        <p:blipFill>
          <a:blip r:embed="rId3"/>
          <a:stretch/>
        </p:blipFill>
        <p:spPr>
          <a:xfrm>
            <a:off x="372960" y="6205680"/>
            <a:ext cx="541440" cy="539640"/>
          </a:xfrm>
          <a:prstGeom prst="rect">
            <a:avLst/>
          </a:prstGeom>
          <a:ln w="0">
            <a:noFill/>
          </a:ln>
        </p:spPr>
      </p:pic>
      <p:sp>
        <p:nvSpPr>
          <p:cNvPr id="253" name="Line 23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15840">
            <a:solidFill>
              <a:srgbClr val="005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773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103655880">
              <a:spcBef>
                <a:spcPts val="624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2680">
              <a:spcBef>
                <a:spcPts val="624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382680">
              <a:spcBef>
                <a:spcPts val="624"/>
              </a:spcBef>
              <a:buClr>
                <a:srgbClr val="005d9e"/>
              </a:buClr>
              <a:buSzPct val="12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382680">
              <a:spcBef>
                <a:spcPts val="624"/>
              </a:spcBef>
              <a:buClr>
                <a:srgbClr val="005d9e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38268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618-AFCB-42CD-A935-C360A0BA34C8}" type="slidenum">
              <a:rPr b="0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mplementing the GRADE Method in Guideline Development: Real-World Experiences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Contemplation Stage: To GRADE or Not to GRADE? </a:t>
            </a:r>
            <a:endParaRPr b="0" lang="en-US" sz="36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685800" y="3848040"/>
            <a:ext cx="7772400" cy="0"/>
          </a:xfrm>
          <a:prstGeom prst="line">
            <a:avLst/>
          </a:prstGeom>
          <a:ln w="57240">
            <a:solidFill>
              <a:srgbClr val="003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33520" y="41144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Sheila A. Agyeman, M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irector of Evidence Based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merican Gastroenterological Association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57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September 15,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8763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 Guideline Development Process Prior to 2007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8600" indent="789120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Searching for and appraising the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uthors performed literatur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able below was provided to aide authors in organizing findings but not a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lnSpc>
                <a:spcPct val="100000"/>
              </a:lnSpc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lnSpc>
                <a:spcPct val="100000"/>
              </a:lnSpc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600" indent="7891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Evidence summarized in Technical Review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echnical review (intended for academics) summarized into Medical Position Statement (intended for practicing clin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600" indent="881074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3048120"/>
          <a:ext cx="8458200" cy="757080"/>
        </p:xfrm>
        <a:graphic>
          <a:graphicData uri="http://schemas.openxmlformats.org/drawingml/2006/table">
            <a:tbl>
              <a:tblPr/>
              <a:tblGrid>
                <a:gridCol w="838080"/>
                <a:gridCol w="457200"/>
                <a:gridCol w="838080"/>
                <a:gridCol w="990720"/>
                <a:gridCol w="838080"/>
                <a:gridCol w="914400"/>
                <a:gridCol w="990720"/>
                <a:gridCol w="838080"/>
                <a:gridCol w="914400"/>
                <a:gridCol w="838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Design/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of Stud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Analy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 Guideline Development Process Prior to 2007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760" indent="826272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Inconsistencies identified in Pre-2007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Technical review and medical position statement not adequately evidence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Disconnect between technical review and medical posit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340560">
              <a:spcBef>
                <a:spcPts val="75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Not guiding readers in interpreting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340560">
              <a:spcBef>
                <a:spcPts val="75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Not giving clear clinical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922536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ncept of quality of evidence and strength of recommendations not well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AGA Institu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640" indent="872676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Modifications made to the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nstruction of specific clinical questions to be addressed in technic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mplementation of U.S. Preventive Services Task Force (USPSTF) Ratings – </a:t>
            </a:r>
            <a:r>
              <a:rPr b="0" i="1" lang="en-US" sz="2400" spc="-1" strike="noStrike">
                <a:solidFill>
                  <a:srgbClr val="003773"/>
                </a:solidFill>
                <a:latin typeface="Arial"/>
              </a:rPr>
              <a:t>Management of GERD 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buClr>
                <a:srgbClr val="00377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Composition of Medical Position Pa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atient/patient advo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Gastroenterologist in communit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Gastroenterologist with knowledge in health services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5480" indent="-359280">
              <a:buClr>
                <a:srgbClr val="003773"/>
              </a:buClr>
              <a:buSzPct val="5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Primary care physician, surgeon or pathologist (included as needed based on top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9480" indent="-359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8726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Institute</a:t>
            </a:r>
            <a:r>
              <a:rPr b="1" lang="en-US" sz="2800" spc="-1" strike="noStrike">
                <a:solidFill>
                  <a:srgbClr val="003773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br>
              <a:rPr sz="3200"/>
            </a:b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928404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Challenges of current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primarily designed for preventiv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changed after first guideline was already in the final stages (mid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USPSTF grading system caused confusion amongst guideline authors (Dysplasia in IBD guideline) how to grade evidence and recommendations (e.g., diagnostic t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891252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What made the AGA Institute decide to consider switching from USPSTF to using GR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vitations to collaborat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 with other GI and non-GI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Establish uniformity across all GI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Further invitations for collaboration led to the discovery that more societies are using or also considering 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Considered using GRADE to reduce the confusion in different grading schemes used in various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Joining effort to establish an internation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36720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20" indent="99509400">
              <a:spcBef>
                <a:spcPts val="56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000" indent="7334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Benefits of using GRADE we consid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 very rigorous and formalized process that will ensure evidence-based guidelines necessary for value-based health care initiatives (e.g., P4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lready closely resembles AGA Institute’s cur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Provides increased transparency of judgments of quality of evidence and strength of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vestment into GRADE evidence profiles in the long-term could be future asset at the time of guideline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Availability of GRADE methodologists who could assist 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00" indent="81888120">
              <a:spcBef>
                <a:spcPts val="938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" indent="7334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5800" indent="90982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Initial reservations about using GR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800" indent="10158264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Higher 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Need to hire full time methodolog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74760">
              <a:spcBef>
                <a:spcPts val="499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773"/>
                </a:solidFill>
                <a:latin typeface="Arial"/>
              </a:rPr>
              <a:t>Answer: GRADE not necessarily more complex than other grading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624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773"/>
                </a:solidFill>
                <a:latin typeface="Arial"/>
              </a:rPr>
              <a:t>Increased training of staff and auth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374760">
              <a:spcBef>
                <a:spcPts val="499"/>
              </a:spcBef>
              <a:buClr>
                <a:srgbClr val="005d9e"/>
              </a:buClr>
              <a:buSzPct val="90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773"/>
                </a:solidFill>
                <a:latin typeface="Arial"/>
              </a:rPr>
              <a:t>Answer: Any grading system would require some form of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00" indent="10158264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Requires more time and lengthens the development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74760">
              <a:spcBef>
                <a:spcPts val="561"/>
              </a:spcBef>
              <a:buClr>
                <a:srgbClr val="005d9e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Answer: No. The most time consuming and costly phase of the guideline development process is the systematic review of the evidence. This is independent from the grading system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00" indent="90982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AGA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</a:rPr>
              <a:t>Institute </a:t>
            </a:r>
            <a:r>
              <a:rPr b="1" lang="en-US" sz="2800" spc="-1" strike="noStrike">
                <a:solidFill>
                  <a:srgbClr val="003773"/>
                </a:solidFill>
                <a:latin typeface="Arial"/>
                <a:ea typeface="Arial"/>
              </a:rPr>
              <a:t>Guideline Development Current Process</a:t>
            </a:r>
            <a:endParaRPr b="0" lang="en-US" sz="2800" spc="-1" strike="noStrike">
              <a:solidFill>
                <a:srgbClr val="003773"/>
              </a:solidFill>
              <a:latin typeface="Palatino Linotype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826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40" indent="928404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5c07"/>
                </a:solidFill>
                <a:latin typeface="Arial"/>
              </a:rPr>
              <a:t>Nex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Develop an implement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Train staff in GRAD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Train committee members in GRAD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buClr>
                <a:srgbClr val="005d9e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773"/>
                </a:solidFill>
                <a:latin typeface="Arial"/>
              </a:rPr>
              <a:t>Include GRADE experts on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26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40" indent="103655880">
              <a:spcBef>
                <a:spcPts val="751"/>
              </a:spcBef>
              <a:buClr>
                <a:srgbClr val="0037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73"/>
                </a:solidFill>
                <a:latin typeface="Arial"/>
              </a:rPr>
              <a:t>Include in budget cycle for 201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3:02:31Z</dcterms:created>
  <dc:creator>Jennifer Halbert</dc:creator>
  <dc:description/>
  <dc:language>en-US</dc:language>
  <cp:lastModifiedBy>Graham</cp:lastModifiedBy>
  <dcterms:modified xsi:type="dcterms:W3CDTF">2009-10-26T21:20:23Z</dcterms:modified>
  <cp:revision>267</cp:revision>
  <dc:subject/>
  <dc:title>PowerPoint Presentation</dc:title>
</cp:coreProperties>
</file>