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223B-FD90-4A89-92FA-0BA7CB24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CD4E-0B84-461E-B117-D594092364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227D71E-2579-4EB3-B6CF-A70A9D602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CCB2-508E-49E1-9CA0-A9C525148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EFA7-B9AB-4490-950E-1ABF02B04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114B-B53F-452C-9D5C-622D5AAAE8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028-E968-4BC2-87F9-F1E70588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FC8-152F-4D44-8A9A-6288CB3E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98C-4BBA-4A87-ACFA-4DBD3F3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8F5-6883-4E8A-A280-EE2A628A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9F79-16BC-49E7-B94E-4F0708C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FCE7-3A80-4C53-866F-68E92FF6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85C2-D04C-441F-9F59-513F69F2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98B0-5AD2-4634-959A-3F008B0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940-16D8-4E33-8B54-1659F121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4976-59CB-4ADE-A2B1-B24FC9B4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FF0-1787-41CD-B840-5A32C7A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0D5-3C00-4FED-B36A-B564587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F1B-0084-4B32-8F67-5BCC0F5C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5742-14BA-47FC-A0FB-271A99B1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3F78-7C20-43C2-9B0A-CA0616F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A85C-05F1-49DD-8C08-3207EF34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5F8D-6255-40CE-B94C-1B183249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7D7-1D22-4AD3-827D-3AF5B41C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391-FD89-445A-B247-75060133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441-D568-4CF2-8546-A4BDD893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7D9-F445-48B0-A74F-BAFAF2A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2EE-14EF-49A0-A6C9-9E816E4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E3B-7EDB-4507-A15E-97CDDF7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943-866C-4BA0-BAED-F51FB435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9A38-2697-4FBE-BF39-B6ABCB4DC5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6B4B-234E-43A0-9BAA-8F682FADF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57400" y="5791320"/>
            <a:ext cx="32702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0" y="39132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0" y="55753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National Center for Public Health Informatics"/>
          <p:cNvPicPr/>
          <p:nvPr/>
        </p:nvPicPr>
        <p:blipFill>
          <a:blip r:embed="rId3"/>
          <a:stretch/>
        </p:blipFill>
        <p:spPr>
          <a:xfrm>
            <a:off x="0" y="2230560"/>
            <a:ext cx="9144000" cy="15555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Verdana"/>
              </a:rPr>
              <a:t>Population Health and EHRs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Verdana"/>
              </a:rPr>
              <a:t>Seeing the Forest for the Tre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Dr. Aneel Adva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Nat’l Center for Public Health Informatics/Centers for Disease Control and Preven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Tuesday, September 15, 2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HRs and Public Health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ntinel vs. Large-Scale Surveillanc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us quo: Manual sentinel providers; long-standing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HRs: “Large-scale surveillance” – high fractions of total healthcare transactions avail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sues: indicators vs. raw data, (cross)-validation, signal-to-noise; analytics capacity; semantic heterogeneity; causal chains; visualization; multi-scale perspectives; state and local vs. federal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13" descr="&#13;&#10;-- public health &lt;--&gt; EHRs - road still to be travelled - we are just beginning to figure out how to integrate &quot;large-scale surveillance&quot; with sentinel surveillance for public health&#13;&#10;-- registries - EHRs not enough, need condition and event-specific registries&#13;&#10;-- information flows from health information-specific verticals - such as lab-information providers - are integral to public health response and must be considered along with patient-specific EHRs&#13;&#10;"/>
          <p:cNvPicPr/>
          <p:nvPr/>
        </p:nvPicPr>
        <p:blipFill>
          <a:blip r:embed="rId3"/>
          <a:stretch/>
        </p:blipFill>
        <p:spPr>
          <a:xfrm>
            <a:off x="4654440" y="2292480"/>
            <a:ext cx="4032360" cy="3144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4"/>
          <p:cNvSpPr/>
          <p:nvPr/>
        </p:nvSpPr>
        <p:spPr>
          <a:xfrm>
            <a:off x="4648320" y="556272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urce: CDC Influenza Divis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52280" y="6477120"/>
            <a:ext cx="17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r. Aneel Advan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HRs and Public Health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gistry-based information network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EHR concept: EHR to population health – messaging or CDA from raw transactional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re we need to go: condition-specific or event-based registrie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sues: counts vs. rates; de-duplication and aggregation; query protocols; last-mile connectivity; interoperability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2" descr="-- public health &lt;--&gt; EHRs - road still to be travelled - we are just beginning to figure out how to integrate &quot;large-scale surveillance&quot; with sentinel surveillance for public health&#13;&#10;-- registries - EHRs not enough, need condition and event-specific registries&#13;&#10;-- information flows from health information-specific verticals - such as lab-information providers - are integral to public health response and must be considered along with patient-specific EHRs&#13;&#10;"/>
          <p:cNvPicPr/>
          <p:nvPr/>
        </p:nvPicPr>
        <p:blipFill>
          <a:blip r:embed="rId3"/>
          <a:stretch/>
        </p:blipFill>
        <p:spPr>
          <a:xfrm>
            <a:off x="4495680" y="2286000"/>
            <a:ext cx="4267440" cy="304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4495680" y="54864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urce: CDC Div. Cancer Contro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52280" y="6477120"/>
            <a:ext cx="17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r. Aneel Advan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HRs and Public Health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ealth-information orgs (HIOs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8" descr="cdclogo"/>
          <p:cNvPicPr/>
          <p:nvPr/>
        </p:nvPicPr>
        <p:blipFill>
          <a:blip r:embed="rId1"/>
          <a:stretch/>
        </p:blipFill>
        <p:spPr>
          <a:xfrm>
            <a:off x="7848720" y="6321600"/>
            <a:ext cx="533160" cy="422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hhs"/>
          <p:cNvPicPr/>
          <p:nvPr/>
        </p:nvPicPr>
        <p:blipFill>
          <a:blip r:embed="rId2"/>
          <a:stretch/>
        </p:blipFill>
        <p:spPr>
          <a:xfrm>
            <a:off x="8534520" y="62485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rrent EHR concept: EHRs have horizontal whole-pati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ernate model for information exchange: vertical information flows specific to PH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sues: interoperability; legacy systems and standards; business models / mandates for specific HIOs/information flows; integration with full-service EHRs; participation on NHI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-- public health &lt;--&gt; EHRs - road still to be travelled - we are just beginning to figure out how to integrate &quot;large-scale surveillance&quot; with sentinel surveillance for public health&#13;&#10;-- registries - EHRs not enough, need condition and event-specific registries&#13;&#10;-- information flows from health information-specific verticals - such as lab-information providers - are integral to public health response and must be considered along with patient-specific EHRs&#13;&#10;"/>
          <p:cNvPicPr/>
          <p:nvPr/>
        </p:nvPicPr>
        <p:blipFill>
          <a:blip r:embed="rId3"/>
          <a:stretch/>
        </p:blipFill>
        <p:spPr>
          <a:xfrm rot="5400000">
            <a:off x="5006160" y="1927080"/>
            <a:ext cx="3770280" cy="4029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8"/>
          <p:cNvSpPr/>
          <p:nvPr/>
        </p:nvSpPr>
        <p:spPr>
          <a:xfrm>
            <a:off x="4876920" y="5943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urce: APH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52280" y="6477120"/>
            <a:ext cx="17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r. Aneel Advan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01:13Z</dcterms:created>
  <dc:creator>ieb4</dc:creator>
  <dc:description/>
  <dc:language>en-US</dc:language>
  <cp:lastModifiedBy>DHHS</cp:lastModifiedBy>
  <dcterms:modified xsi:type="dcterms:W3CDTF">2009-12-02T18:03:11Z</dcterms:modified>
  <cp:revision>21</cp:revision>
  <dc:subject/>
  <dc:title>Slide 1</dc:title>
</cp:coreProperties>
</file>