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ACE9-E96C-4B86-8EC9-8017BDE5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47F-6C3C-4744-B039-F9B0799D1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C7703EC-CE81-4B9F-9D5B-9803BBF47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A7D-E224-4C4E-9C85-9936A4B65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5A8-0CD9-4063-A3AC-8C5CBB25A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DFD-8450-4D34-9A62-6E8F50063F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7B9-E78C-40CA-9D4E-150722D9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A4A-34FD-43AA-8027-80AADFCE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1CD-801A-47FC-A40C-0364C725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78C-3D5D-461B-B07B-A59A155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FE6-2224-498A-AF0E-3F1993FE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C6C-DDD6-46E3-95D0-C0E2309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7D3D-E7F9-4B14-BAE4-84CEC6A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5AA-193D-4B46-9985-6789FB73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DD0-96DD-4A8E-A990-95E07DA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3856-381A-45CF-9A5F-9C50771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6B5E-7065-479E-90CE-5A48BED0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72C-04C0-471D-8135-D928FD4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8D81-9569-4383-8787-495BF7A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C75B-18A8-4645-B9B9-9542A5E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1D7-E444-4602-9024-A9BD218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21CD-3169-421B-9230-0E9F3C1D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F68-FFF5-4365-A42E-A217EB5B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E65-4867-4B52-8901-0AD67F68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A1B-CF71-4126-BE32-FA764CDC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E8-A52F-45C9-8BCA-4EAEBA2E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651-5FAF-4D68-8B07-E34FBD86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362-5FF0-4A41-8B04-BFEFE72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1D4-0DCC-4C29-AA21-B9FDF164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1C7-2F23-4A64-AF47-C67E0F4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2E97-C125-4E9D-9819-B58207E5C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689C-FC02-4DB2-AAEF-437247813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57400" y="5791320"/>
            <a:ext cx="32702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0" y="39132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5575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National Center for Public Health Informatics"/>
          <p:cNvPicPr/>
          <p:nvPr/>
        </p:nvPicPr>
        <p:blipFill>
          <a:blip r:embed="rId3"/>
          <a:stretch/>
        </p:blipFill>
        <p:spPr>
          <a:xfrm>
            <a:off x="0" y="2230560"/>
            <a:ext cx="9144000" cy="1555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Verdana"/>
              </a:rPr>
              <a:t>Population Health and EHR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Verdana"/>
              </a:rPr>
              <a:t>Seeing the Forest for the Tre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Dr. Aneel Adva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Nat’l Center for Public Health Informatics/Centers for Disease Control and Preven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Tuesday, September 15,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ntinel vs. Large-Scale Surveillan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us quo: Manual sentinel providers; long-standing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HRs: “Large-scale surveillance” – high fractions of total healthcare transactions avail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ues: indicators vs. raw data, (cross)-validation, signal-to-noise; analytics capacity; semantic heterogeneity; causal chains; visualization; multi-scale perspectives; state and local vs. federal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3" descr="&#13;&#10;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>
            <a:off x="4654440" y="2292480"/>
            <a:ext cx="4032360" cy="314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4648320" y="556272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CDC Influenza Divi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gistry-based information network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EHR concept: EHR to population health – messaging or CDA from raw transactional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we need to go: condition-specific or event-based registrie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sues: counts vs. rates; de-duplication and aggregation; query protocols; last-mile connectivity; interoperability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2" descr="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>
            <a:off x="4495680" y="2286000"/>
            <a:ext cx="4267440" cy="304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4495680" y="54864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CDC Div. Cancer Contr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-information orgs (HIOs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ent EHR concept: EHRs have horizontal whole-pati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ernate model for information exchange: vertical information flows specific to PH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ues: interoperability; legacy systems and standards; business models / mandates for specific HIOs/information flows; integration with full-service EHRs; participation on NH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 rot="5400000">
            <a:off x="5006160" y="1927080"/>
            <a:ext cx="3770280" cy="4029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487692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APH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01:13Z</dcterms:created>
  <dc:creator>ieb4</dc:creator>
  <dc:description/>
  <dc:language>en-US</dc:language>
  <cp:lastModifiedBy>DHHS</cp:lastModifiedBy>
  <dcterms:modified xsi:type="dcterms:W3CDTF">2009-12-02T18:03:11Z</dcterms:modified>
  <cp:revision>21</cp:revision>
  <dc:subject/>
  <dc:title>Slide 1</dc:title>
</cp:coreProperties>
</file>