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1BE4-8049-44F9-AE8B-9057976D1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front page of the VTE Safety Toolkit Website. A brief description of the toolkit components are descri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219B-E991-4D2A-BD1A-B8E907FFBE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olkit tab is selected and a drop down list of possible guidelines i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72F1-C82F-448E-8CD1-71D1364E19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laimer and terms of use document appears when a guideline is chosen. The viewer has to click on a download button, which also confirms that the viewer agrees to the terms of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D0B6-6A6C-4018-8298-4E70FB2BF6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creenshot of the VTE Website demonstrates the two guidelines available under the tab screening and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630D-9A94-4F36-AA9C-B75ADBBEEE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creenshot demonstrates the various links to other websites and tools. The links are updated period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D165-4D1F-4C54-9395-8452FB05CA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TE Safety Toolkit has references for each toolkit component and they are available under the “reference” t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4DC7-4D46-481E-8A5A-33A8699B52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creenshot highlights the members of the VTE Team who contributed to the development of the toolk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6E2B-89AA-4C62-933E-61CC83BF36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06D4-BB35-4D5A-AED2-CCCD1ACF79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creens are screenshots of the provider training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F013-B2AA-433A-8D33-F768CF94EB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lide showing 4 pictures of the University of Washington campus and the University of Washington Medical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936B-E5B7-4E09-AB20-44F2B535F8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44E4-DE9C-4C53-8615-91D69375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5203-A83B-43C6-AE2A-0FFBA7CA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E7B53-2027-4520-9E09-21361585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9CCBD-435C-4DA1-AD06-4480FF56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551E-26D1-4A55-9672-C67F152DF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E5E9-CE30-4210-BB97-43B46B0E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5987-1E34-44E4-904F-BCF1CAF7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6A52-0160-4508-97BA-107A6BBB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7CD4-A621-4ECB-913A-8AC10BB7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EA19-C726-453B-B797-CAD77521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3915-995D-4FB5-861A-631994BB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893D3-0FC5-4D82-ADF9-89CCD3BF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52AC-7960-466E-A460-74C0D7C7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89CD-430A-4C4E-807C-31AB6EE6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1602-9880-4E87-A660-CDB77A9F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15E1-57C7-42B6-82DD-2C993179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C536-3A94-4FC3-AFD5-C8401634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6FB79-290A-4CA7-B43C-91DBBF4D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47E0-8C37-473B-BA29-DF4B807F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281AD-380A-4FB4-98FB-7CDEDAFF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4C3CC-881B-4FD9-8945-1D44FFBD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0A2FD-86FD-4267-B405-9D84DBB1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FBD26-340B-47CD-BCA7-B766980F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AF48B-4187-4840-81D4-B9DDA63E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05CD-8026-4F4A-97C6-BCB96715914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2EFA-4A09-4051-B03E-83E6B1F8257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vte.son.washington.edu/" TargetMode="External"/><Relationship Id="rId2" Type="http://schemas.openxmlformats.org/officeDocument/2006/relationships/hyperlink" Target="http://vte.son.washington.edu/" TargetMode="External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84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enous Thromboembolism </a:t>
            </a:r>
            <a:br>
              <a:rPr sz="4200"/>
            </a:b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afety Tool Kit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839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renda K. Zierler, PhD, RN, RV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University of Washing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Medication Safety: Tools for Diverse Set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eptember 10, 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8:00 AM – 9:30 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VTE as a Clinical and System Problem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 Barr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rs are not employees of 450-bed academic medical ce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standards of pract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ple disciplines treating small numbers of patients (without experience or experti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phylaxis is underutiliz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AST EXPERI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800"/>
              </a:spcBef>
              <a:spcAft>
                <a:spcPts val="10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 of DVT pathw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1800"/>
              </a:spcBef>
              <a:spcAft>
                <a:spcPts val="10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sons for fail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ying to change individual physician behavi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ulture of saf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ck of systems sup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integrated information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wnership/turf iss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TE Prophylaxis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5920" y="1523880"/>
            <a:ext cx="8210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 patient should be assessed for risk of developing V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who should receive prophylax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dosing and contraindications to pharmacologic prophylaxis (heparin, warfarin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fer mechanical prophylaxis when pharmacologic prophylaxis is not saf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cument assessment and prophylaxis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teps in Implement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09480" y="14479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dicated Web Si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ning Modules – pilot in winter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interactive cases as educational interv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ther feedback about training (effectiveness, clarity, timeliness, relevanc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8228160" y="6172200"/>
            <a:ext cx="45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slide1"/>
          <p:cNvPicPr/>
          <p:nvPr/>
        </p:nvPicPr>
        <p:blipFill>
          <a:blip r:embed="rId1"/>
          <a:stretch/>
        </p:blipFill>
        <p:spPr>
          <a:xfrm>
            <a:off x="343080" y="200160"/>
            <a:ext cx="8458200" cy="64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slide3"/>
          <p:cNvPicPr/>
          <p:nvPr/>
        </p:nvPicPr>
        <p:blipFill>
          <a:blip r:embed="rId1"/>
          <a:stretch/>
        </p:blipFill>
        <p:spPr>
          <a:xfrm>
            <a:off x="133200" y="144360"/>
            <a:ext cx="8877600" cy="656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lide4"/>
          <p:cNvPicPr/>
          <p:nvPr/>
        </p:nvPicPr>
        <p:blipFill>
          <a:blip r:embed="rId1"/>
          <a:stretch/>
        </p:blipFill>
        <p:spPr>
          <a:xfrm>
            <a:off x="1717560" y="0"/>
            <a:ext cx="5707080" cy="693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slide5"/>
          <p:cNvPicPr/>
          <p:nvPr/>
        </p:nvPicPr>
        <p:blipFill>
          <a:blip r:embed="rId1"/>
          <a:stretch/>
        </p:blipFill>
        <p:spPr>
          <a:xfrm>
            <a:off x="152280" y="216000"/>
            <a:ext cx="8839440" cy="66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lide6"/>
          <p:cNvPicPr/>
          <p:nvPr/>
        </p:nvPicPr>
        <p:blipFill>
          <a:blip r:embed="rId1"/>
          <a:stretch/>
        </p:blipFill>
        <p:spPr>
          <a:xfrm>
            <a:off x="152280" y="146160"/>
            <a:ext cx="8839440" cy="65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slide3"/>
          <p:cNvPicPr/>
          <p:nvPr/>
        </p:nvPicPr>
        <p:blipFill>
          <a:blip r:embed="rId1"/>
          <a:stretch/>
        </p:blipFill>
        <p:spPr>
          <a:xfrm>
            <a:off x="595440" y="485640"/>
            <a:ext cx="7953120" cy="5886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slide5"/>
          <p:cNvPicPr/>
          <p:nvPr/>
        </p:nvPicPr>
        <p:blipFill>
          <a:blip r:embed="rId2"/>
          <a:stretch/>
        </p:blipFill>
        <p:spPr>
          <a:xfrm>
            <a:off x="566640" y="419040"/>
            <a:ext cx="8010720" cy="6019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slide6"/>
          <p:cNvPicPr/>
          <p:nvPr/>
        </p:nvPicPr>
        <p:blipFill>
          <a:blip r:embed="rId3"/>
          <a:stretch/>
        </p:blipFill>
        <p:spPr>
          <a:xfrm>
            <a:off x="552600" y="442800"/>
            <a:ext cx="8038800" cy="5972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slide7"/>
          <p:cNvPicPr/>
          <p:nvPr/>
        </p:nvPicPr>
        <p:blipFill>
          <a:blip r:embed="rId4"/>
          <a:stretch/>
        </p:blipFill>
        <p:spPr>
          <a:xfrm>
            <a:off x="76320" y="98280"/>
            <a:ext cx="8991360" cy="66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VTE Safety Toolki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nership in Patient Safety Gr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HRQ (Agency for Healthcare Research and Policy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year grant to improve care for patients at risk for or diagnosed with V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: Brenda Zierler, Ph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-PI: Gene Peterson, 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slide8"/>
          <p:cNvPicPr/>
          <p:nvPr/>
        </p:nvPicPr>
        <p:blipFill>
          <a:blip r:embed="rId1"/>
          <a:stretch/>
        </p:blipFill>
        <p:spPr>
          <a:xfrm>
            <a:off x="228600" y="187200"/>
            <a:ext cx="8686800" cy="648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slide9"/>
          <p:cNvPicPr/>
          <p:nvPr/>
        </p:nvPicPr>
        <p:blipFill>
          <a:blip r:embed="rId1"/>
          <a:stretch/>
        </p:blipFill>
        <p:spPr>
          <a:xfrm>
            <a:off x="266760" y="387360"/>
            <a:ext cx="8610480" cy="64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slide14"/>
          <p:cNvPicPr/>
          <p:nvPr/>
        </p:nvPicPr>
        <p:blipFill>
          <a:blip r:embed="rId1"/>
          <a:stretch/>
        </p:blipFill>
        <p:spPr>
          <a:xfrm>
            <a:off x="266760" y="190440"/>
            <a:ext cx="86104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slide15"/>
          <p:cNvPicPr/>
          <p:nvPr/>
        </p:nvPicPr>
        <p:blipFill>
          <a:blip r:embed="rId1"/>
          <a:stretch/>
        </p:blipFill>
        <p:spPr>
          <a:xfrm>
            <a:off x="1727280" y="0"/>
            <a:ext cx="5656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slide16"/>
          <p:cNvPicPr/>
          <p:nvPr/>
        </p:nvPicPr>
        <p:blipFill>
          <a:blip r:embed="rId1"/>
          <a:stretch/>
        </p:blipFill>
        <p:spPr>
          <a:xfrm>
            <a:off x="1751040" y="0"/>
            <a:ext cx="5641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Randomized Controlled Trial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knowledge acquisition about VTE prevention using interactive case stud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ol Group (passive didactic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rimental Group (interactive case studies with feedbac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datory training (similar to HIPA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cking outcomes by provider (currently tracking pre-intervention dat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005_login"/>
          <p:cNvPicPr/>
          <p:nvPr/>
        </p:nvPicPr>
        <p:blipFill>
          <a:blip r:embed="rId1"/>
          <a:stretch/>
        </p:blipFill>
        <p:spPr>
          <a:xfrm>
            <a:off x="104760" y="133200"/>
            <a:ext cx="8934480" cy="65916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2895480" y="4267080"/>
            <a:ext cx="5410440" cy="947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vider will be randomized when they log-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007_pre-test"/>
          <p:cNvPicPr/>
          <p:nvPr/>
        </p:nvPicPr>
        <p:blipFill>
          <a:blip r:embed="rId1"/>
          <a:stretch/>
        </p:blipFill>
        <p:spPr>
          <a:xfrm>
            <a:off x="104760" y="133200"/>
            <a:ext cx="8934480" cy="65916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457200" y="4648320"/>
            <a:ext cx="4952880" cy="1373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oth groups will be pre-tested on current VTE prophylaxis 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010_slide-3"/>
          <p:cNvPicPr/>
          <p:nvPr/>
        </p:nvPicPr>
        <p:blipFill>
          <a:blip r:embed="rId1"/>
          <a:stretch/>
        </p:blipFill>
        <p:spPr>
          <a:xfrm>
            <a:off x="104760" y="133200"/>
            <a:ext cx="8934480" cy="65916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304920" y="4876920"/>
            <a:ext cx="4267080" cy="1373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ssive Didactic Training on core princip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017_case-post-test"/>
          <p:cNvPicPr/>
          <p:nvPr/>
        </p:nvPicPr>
        <p:blipFill>
          <a:blip r:embed="rId1"/>
          <a:stretch/>
        </p:blipFill>
        <p:spPr>
          <a:xfrm>
            <a:off x="104760" y="133200"/>
            <a:ext cx="8934480" cy="65916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457200" y="4648320"/>
            <a:ext cx="4343400" cy="1373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trol Group will take Post test after passive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77920"/>
            <a:ext cx="8610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VTE Safety Toolkit- What is It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idence-based algorithms, guidelines, recommendations, and order sets for preventing, diagnosing, treating and educating patients and providers about V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al intervention and compliance 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cations – heparin, warfar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VTE_case1"/>
          <p:cNvPicPr/>
          <p:nvPr/>
        </p:nvPicPr>
        <p:blipFill>
          <a:blip r:embed="rId1"/>
          <a:stretch/>
        </p:blipFill>
        <p:spPr>
          <a:xfrm>
            <a:off x="228600" y="17136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990720" y="5410080"/>
            <a:ext cx="754380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ractive case studies with feed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VTE_case1_wrong"/>
          <p:cNvPicPr/>
          <p:nvPr/>
        </p:nvPicPr>
        <p:blipFill>
          <a:blip r:embed="rId1"/>
          <a:stretch/>
        </p:blipFill>
        <p:spPr>
          <a:xfrm>
            <a:off x="190440" y="14292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VTE_case1_correct"/>
          <p:cNvPicPr/>
          <p:nvPr/>
        </p:nvPicPr>
        <p:blipFill>
          <a:blip r:embed="rId1"/>
          <a:stretch/>
        </p:blipFill>
        <p:spPr>
          <a:xfrm>
            <a:off x="114480" y="171360"/>
            <a:ext cx="8915400" cy="651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020_completion"/>
          <p:cNvPicPr/>
          <p:nvPr/>
        </p:nvPicPr>
        <p:blipFill>
          <a:blip r:embed="rId1"/>
          <a:stretch/>
        </p:blipFill>
        <p:spPr>
          <a:xfrm>
            <a:off x="104760" y="133200"/>
            <a:ext cx="8934480" cy="65916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800280" y="4343400"/>
            <a:ext cx="7543800" cy="13737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00% pass rate expected; certification will be granted and linked to Quality Improvement (complianc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IMPLEMENTATION of VTE TOOLKIT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spcAft>
                <a:spcPts val="10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s approa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spcAft>
                <a:spcPts val="10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y-in from Administ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spcAft>
                <a:spcPts val="10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 on patient saf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spcAft>
                <a:spcPts val="10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datory training to meet core competencies on VTE prophylax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spcAft>
                <a:spcPts val="1001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int Commission and the National Quality Fo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80880" y="1180800"/>
            <a:ext cx="83059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 patient safety by adopting practice standards based on evidence from the litera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 utilization of diagnostic serv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rove safety of medications (heparin nomograms/guidelin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vte.son.washington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228160" y="6172200"/>
            <a:ext cx="45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066680" y="61722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VTE Safety Toolkit; AHRQ Patient Safety Gr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15328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ank You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0" name="Picture 4" descr="CampusImage20"/>
          <p:cNvPicPr/>
          <p:nvPr/>
        </p:nvPicPr>
        <p:blipFill>
          <a:blip r:embed="rId1"/>
          <a:stretch/>
        </p:blipFill>
        <p:spPr>
          <a:xfrm>
            <a:off x="331920" y="990720"/>
            <a:ext cx="8480160" cy="561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Interdisciplinary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linical Tea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42720" y="12193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rt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Ann Wittkowsky, Pharm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olkit/Cases/anticoagu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obb Glenny, M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olkit/Cases/Pulmonary IC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ul Hendrie, M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olkit/Hematologi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aren McDonough, M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olkit/Medicine Consul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im Cantwell-Gab, BS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olkit/Patient Edu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 Peterson, M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-PI/Cases/Administ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enda Zierler, Ph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olkit/Cases/Research Desig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vid Flum, M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ult/Prevention/Surge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*Mark Meissner, M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ult/DVT Diagnosis/Surge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lvia McKenzie, R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I/Mechanical Prophylax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1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h Wolpin, Ph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shboard/Web Te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8228160" y="6172200"/>
            <a:ext cx="45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066680" y="61722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VTE Safety Toolkit; AHRQ Patient Safety Gr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304920" y="1752480"/>
            <a:ext cx="8229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Why Study VTE? </a:t>
            </a:r>
            <a:br>
              <a:rPr sz="3800"/>
            </a:b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Epidemiology of VT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TE encompasses deep vein thrombosis (DVT) and pulmonary embolism (P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Most common preventable cause of hospital de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00,000 Americans suffer VTE each ye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00,000 DV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00,000 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Epidemiology of V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300,000 patients, PE proves fa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st common cause of hospital-related deaths in the United St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-thrombotic syndrome will be seen in 800,000 p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% of these individuals will have a severe form of the problem and will become disabl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ivors are at risk for recurrence of P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lmonary hypertension develops in approximately 30,000 patients who survive their 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pidemiology of V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2625"/>
              </a:spcBef>
              <a:spcAft>
                <a:spcPts val="176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 of 20 hospitalized medical patients will suffer a fatal PE if they have not received appropriate thrombosis prophylax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2625"/>
              </a:spcBef>
              <a:spcAft>
                <a:spcPts val="176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0% of the 2 million cases of DVT yearly are “silent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isk Factors for VT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rmine who should receive prophylax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 patient at UWMC should be assessed for risk of developing V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contraindications to pharmacologic prophylaxis (heparin, warfarin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spcAft>
                <a:spcPts val="524"/>
              </a:spcAft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fer mechanical prophylaxis when pharmacologic prophylaxis is not saf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9960" y="1371240"/>
            <a:ext cx="8344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TE Prophylax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focus of today’s tal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Assessment T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VT Diagnostic Algorith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 Diagnostic Algorith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T Asse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parin nomograms (dos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TE Treatment Path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VT Treatment Order S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scular Lab Requi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ral-axial anesthesia guidel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8a6a4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tient Education (prevention &amp; treatmen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VTE Safety Toolkit- Compone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22:04:16Z</dcterms:created>
  <dc:creator>brendaz</dc:creator>
  <dc:description/>
  <dc:language>en-US</dc:language>
  <cp:lastModifiedBy>william.hyde</cp:lastModifiedBy>
  <dcterms:modified xsi:type="dcterms:W3CDTF">2008-12-29T20:53:05Z</dcterms:modified>
  <cp:revision>181</cp:revision>
  <dc:subject/>
  <dc:title>VTE Safety Toolkit</dc:title>
</cp:coreProperties>
</file>