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30400" y="690120"/>
            <a:ext cx="4597200" cy="344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B314-AC97-48CA-9CD6-15C78FDAD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front page of the VTE Safety Toolkit Website. A brief description of the toolkit components are describ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AA0A-1DAC-4CB8-ACA0-719C3C0222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olkit tab is selected and a drop down list of possible guidelines is sh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501E-89A7-4DA4-9271-5162FBF640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sclaimer and terms of use document appears when a guideline is chosen. The viewer has to click on a download button, which also confirms that the viewer agrees to the terms of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093E-BEC8-478E-B185-BA1FA28684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creenshot of the VTE Website demonstrates the two guidelines available under the tab screening and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6A94-F85E-41BD-84F7-4A93E7EE23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creenshot demonstrates the various links to other websites and tools. The links are updated period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B270-F171-4983-B41B-BF9A4D0115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TE Safety Toolkit has references for each toolkit component and they are available under the “reference” ta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A919-E623-4E31-879A-A866225E80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creenshot highlights the members of the VTE Team who contributed to the development of the toolk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96EA-BD41-409E-A220-F7A3ACF08D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12CB-1FAF-452A-82D3-49760B40C5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xt few screens are screenshots of the provider training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68B3-85B2-4268-A206-DA8E08F032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lide showing 4 pictures of the University of Washington campus and the University of Washington Medical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88BA-C6B4-4FD3-98A9-DC2520925F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E691D-5512-4CAD-99E3-3D92D499C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41BBD-A921-46A5-BC35-20EE2190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ADA3A-5B69-4D15-AFD4-CD11F29C0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2A501-F46A-41B0-88CC-61CC06BC4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746B-B07D-4FB1-B2CB-F797D8EA9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67C1-D694-4549-98B0-05B87150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F7E1-B10B-4BE8-9B02-CF61C034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D0FA-A458-4F32-8FD0-912E3179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9DBD-1633-4AEA-8DF0-A8FD5D56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F922-AA1D-4615-8AEE-81A8DC62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2E1A-A938-4E38-B6C1-6B71B470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90C7B-2D43-4F96-B919-6E081EE9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782E-8170-4136-89FE-E7C58EE8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0ED3-AE86-4542-89FD-E68BB80E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6F12-26F2-45CE-94BF-45D55967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D7B3-D53C-4CA7-B552-6EA447051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10F4-A61A-4DD0-8C63-507DB0872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ED9D1-28E0-4557-9211-A442595D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64068-D625-438C-9DDA-1E570346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C8CAE-8826-4354-B164-C2CDC10C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3BBC8-AB9D-4628-B9CE-912201AD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E654E-6AC2-4E57-A48C-535074B9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0CF16-9C31-4E22-894A-95B68858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F5757-539B-41C0-BA74-B2E9FC4F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18EA-7796-48E5-8856-4F98BD9A70E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9093-CB87-42DC-93F5-5516B74E902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vte.son.washington.edu/" TargetMode="External"/><Relationship Id="rId2" Type="http://schemas.openxmlformats.org/officeDocument/2006/relationships/hyperlink" Target="http://vte.son.washington.edu/" TargetMode="External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8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Venous Thromboembolism </a:t>
            </a:r>
            <a:br>
              <a:rPr sz="4200"/>
            </a:b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afety Tool Kit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280" y="2437920"/>
            <a:ext cx="8839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Brenda K. Zierler, PhD, RN, RV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University of Washing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Medication Safety: Tools for Diverse Sett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September 10, 200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8:00 AM – 9:30 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277920"/>
            <a:ext cx="86104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VTE as a Clinical and System Problem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stem Barri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spcAft>
                <a:spcPts val="524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rs are not employees of 450-bed academic medical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spcAft>
                <a:spcPts val="524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standards of pract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spcAft>
                <a:spcPts val="524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ltiple disciplines treating small numbers of patients (without experience or expertis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spcAft>
                <a:spcPts val="524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hylaxis is underutiliz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AST EXPERIEN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800"/>
              </a:spcBef>
              <a:spcAft>
                <a:spcPts val="1001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lementation of DVT pathw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1800"/>
              </a:spcBef>
              <a:spcAft>
                <a:spcPts val="1001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sons for fail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ying to change individual physician behav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culture of safe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ck of systems sup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integrated information 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wnership/turf iss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VTE Prophylaxi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5920" y="1523880"/>
            <a:ext cx="8210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ry patient should be assessed for risk of developing V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rmine who should receive prophylax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stand dosing and contraindications to pharmacologic prophylaxis (heparin, warfarin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ffer mechanical prophylaxis when pharmacologic prophylaxis is not saf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cument assessment and prophylaxis pl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Steps in Implement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09480" y="14479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dicated Web Sit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ining Modules – pilot in winter 200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st interactive cases as educational interven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ather feedback about training (effectiveness, clarity, timeliness, relevanc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8228160" y="6172200"/>
            <a:ext cx="458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slide1"/>
          <p:cNvPicPr/>
          <p:nvPr/>
        </p:nvPicPr>
        <p:blipFill>
          <a:blip r:embed="rId1"/>
          <a:stretch/>
        </p:blipFill>
        <p:spPr>
          <a:xfrm>
            <a:off x="343080" y="200160"/>
            <a:ext cx="8458200" cy="64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slide3"/>
          <p:cNvPicPr/>
          <p:nvPr/>
        </p:nvPicPr>
        <p:blipFill>
          <a:blip r:embed="rId1"/>
          <a:stretch/>
        </p:blipFill>
        <p:spPr>
          <a:xfrm>
            <a:off x="133200" y="144360"/>
            <a:ext cx="8877600" cy="656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slide4"/>
          <p:cNvPicPr/>
          <p:nvPr/>
        </p:nvPicPr>
        <p:blipFill>
          <a:blip r:embed="rId1"/>
          <a:stretch/>
        </p:blipFill>
        <p:spPr>
          <a:xfrm>
            <a:off x="1717560" y="0"/>
            <a:ext cx="570708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slide5"/>
          <p:cNvPicPr/>
          <p:nvPr/>
        </p:nvPicPr>
        <p:blipFill>
          <a:blip r:embed="rId1"/>
          <a:stretch/>
        </p:blipFill>
        <p:spPr>
          <a:xfrm>
            <a:off x="152280" y="216000"/>
            <a:ext cx="8839440" cy="664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slide6"/>
          <p:cNvPicPr/>
          <p:nvPr/>
        </p:nvPicPr>
        <p:blipFill>
          <a:blip r:embed="rId1"/>
          <a:stretch/>
        </p:blipFill>
        <p:spPr>
          <a:xfrm>
            <a:off x="152280" y="146160"/>
            <a:ext cx="8839440" cy="656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slide3"/>
          <p:cNvPicPr/>
          <p:nvPr/>
        </p:nvPicPr>
        <p:blipFill>
          <a:blip r:embed="rId1"/>
          <a:stretch/>
        </p:blipFill>
        <p:spPr>
          <a:xfrm>
            <a:off x="595440" y="485640"/>
            <a:ext cx="7953120" cy="5886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slide5"/>
          <p:cNvPicPr/>
          <p:nvPr/>
        </p:nvPicPr>
        <p:blipFill>
          <a:blip r:embed="rId2"/>
          <a:stretch/>
        </p:blipFill>
        <p:spPr>
          <a:xfrm>
            <a:off x="566640" y="419040"/>
            <a:ext cx="8010720" cy="6019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slide6"/>
          <p:cNvPicPr/>
          <p:nvPr/>
        </p:nvPicPr>
        <p:blipFill>
          <a:blip r:embed="rId3"/>
          <a:stretch/>
        </p:blipFill>
        <p:spPr>
          <a:xfrm>
            <a:off x="552600" y="442800"/>
            <a:ext cx="8038800" cy="5972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slide7"/>
          <p:cNvPicPr/>
          <p:nvPr/>
        </p:nvPicPr>
        <p:blipFill>
          <a:blip r:embed="rId4"/>
          <a:stretch/>
        </p:blipFill>
        <p:spPr>
          <a:xfrm>
            <a:off x="76320" y="98280"/>
            <a:ext cx="8991360" cy="66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VTE Safety Toolki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tnership in Patient Safety Gra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HRQ (Agency for Healthcare Research and Policy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-year grant to improve care for patients at risk for or diagnosed with V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: Brenda Zierler, Ph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-PI: Gene Peterson, M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slide8"/>
          <p:cNvPicPr/>
          <p:nvPr/>
        </p:nvPicPr>
        <p:blipFill>
          <a:blip r:embed="rId1"/>
          <a:stretch/>
        </p:blipFill>
        <p:spPr>
          <a:xfrm>
            <a:off x="228600" y="187200"/>
            <a:ext cx="8686800" cy="648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slide9"/>
          <p:cNvPicPr/>
          <p:nvPr/>
        </p:nvPicPr>
        <p:blipFill>
          <a:blip r:embed="rId1"/>
          <a:stretch/>
        </p:blipFill>
        <p:spPr>
          <a:xfrm>
            <a:off x="266760" y="387360"/>
            <a:ext cx="8610480" cy="647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slide14"/>
          <p:cNvPicPr/>
          <p:nvPr/>
        </p:nvPicPr>
        <p:blipFill>
          <a:blip r:embed="rId1"/>
          <a:stretch/>
        </p:blipFill>
        <p:spPr>
          <a:xfrm>
            <a:off x="266760" y="190440"/>
            <a:ext cx="861048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slide15"/>
          <p:cNvPicPr/>
          <p:nvPr/>
        </p:nvPicPr>
        <p:blipFill>
          <a:blip r:embed="rId1"/>
          <a:stretch/>
        </p:blipFill>
        <p:spPr>
          <a:xfrm>
            <a:off x="1727280" y="0"/>
            <a:ext cx="5656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slide16"/>
          <p:cNvPicPr/>
          <p:nvPr/>
        </p:nvPicPr>
        <p:blipFill>
          <a:blip r:embed="rId1"/>
          <a:stretch/>
        </p:blipFill>
        <p:spPr>
          <a:xfrm>
            <a:off x="1751040" y="0"/>
            <a:ext cx="5641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Randomized Controlled Trial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st knowledge acquisition about VTE prevention using interactive case stud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rol Group (passive didactic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erimental Group (interactive case studies with feedbac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datory training (similar to HIPA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cking outcomes by provider (currently tracking pre-intervention dat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005_login"/>
          <p:cNvPicPr/>
          <p:nvPr/>
        </p:nvPicPr>
        <p:blipFill>
          <a:blip r:embed="rId1"/>
          <a:stretch/>
        </p:blipFill>
        <p:spPr>
          <a:xfrm>
            <a:off x="104760" y="133200"/>
            <a:ext cx="8934480" cy="65916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"/>
          <p:cNvSpPr/>
          <p:nvPr/>
        </p:nvSpPr>
        <p:spPr>
          <a:xfrm>
            <a:off x="2895480" y="4267080"/>
            <a:ext cx="5410440" cy="9471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vider will be randomized when they log-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007_pre-test"/>
          <p:cNvPicPr/>
          <p:nvPr/>
        </p:nvPicPr>
        <p:blipFill>
          <a:blip r:embed="rId1"/>
          <a:stretch/>
        </p:blipFill>
        <p:spPr>
          <a:xfrm>
            <a:off x="104760" y="133200"/>
            <a:ext cx="8934480" cy="65916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3"/>
          <p:cNvSpPr/>
          <p:nvPr/>
        </p:nvSpPr>
        <p:spPr>
          <a:xfrm>
            <a:off x="457200" y="4648320"/>
            <a:ext cx="4952880" cy="13737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oth groups will be pre-tested on current VTE prophylaxis knowled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010_slide-3"/>
          <p:cNvPicPr/>
          <p:nvPr/>
        </p:nvPicPr>
        <p:blipFill>
          <a:blip r:embed="rId1"/>
          <a:stretch/>
        </p:blipFill>
        <p:spPr>
          <a:xfrm>
            <a:off x="104760" y="133200"/>
            <a:ext cx="8934480" cy="65916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304920" y="4876920"/>
            <a:ext cx="4267080" cy="13737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assive Didactic Training on core princip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017_case-post-test"/>
          <p:cNvPicPr/>
          <p:nvPr/>
        </p:nvPicPr>
        <p:blipFill>
          <a:blip r:embed="rId1"/>
          <a:stretch/>
        </p:blipFill>
        <p:spPr>
          <a:xfrm>
            <a:off x="104760" y="133200"/>
            <a:ext cx="8934480" cy="65916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3"/>
          <p:cNvSpPr/>
          <p:nvPr/>
        </p:nvSpPr>
        <p:spPr>
          <a:xfrm>
            <a:off x="457200" y="4648320"/>
            <a:ext cx="4343400" cy="13737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trol Group will take Post test after passive trai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77920"/>
            <a:ext cx="86104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VTE Safety Toolkit- What is It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idence-based algorithms, guidelines, recommendations, and order sets for preventing, diagnosing, treating and educating patients and providers about VT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ucational intervention and compliance trai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ications – heparin, warfar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VTE_case1"/>
          <p:cNvPicPr/>
          <p:nvPr/>
        </p:nvPicPr>
        <p:blipFill>
          <a:blip r:embed="rId1"/>
          <a:stretch/>
        </p:blipFill>
        <p:spPr>
          <a:xfrm>
            <a:off x="228600" y="171360"/>
            <a:ext cx="8915400" cy="66866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990720" y="5410080"/>
            <a:ext cx="7543800" cy="520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teractive case studies with feed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VTE_case1_wrong"/>
          <p:cNvPicPr/>
          <p:nvPr/>
        </p:nvPicPr>
        <p:blipFill>
          <a:blip r:embed="rId1"/>
          <a:stretch/>
        </p:blipFill>
        <p:spPr>
          <a:xfrm>
            <a:off x="190440" y="142920"/>
            <a:ext cx="8763120" cy="65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5" descr="VTE_case1_correct"/>
          <p:cNvPicPr/>
          <p:nvPr/>
        </p:nvPicPr>
        <p:blipFill>
          <a:blip r:embed="rId1"/>
          <a:stretch/>
        </p:blipFill>
        <p:spPr>
          <a:xfrm>
            <a:off x="114480" y="171360"/>
            <a:ext cx="8915400" cy="651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020_completion"/>
          <p:cNvPicPr/>
          <p:nvPr/>
        </p:nvPicPr>
        <p:blipFill>
          <a:blip r:embed="rId1"/>
          <a:stretch/>
        </p:blipFill>
        <p:spPr>
          <a:xfrm>
            <a:off x="104760" y="133200"/>
            <a:ext cx="8934480" cy="65916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"/>
          <p:cNvSpPr/>
          <p:nvPr/>
        </p:nvSpPr>
        <p:spPr>
          <a:xfrm>
            <a:off x="800280" y="4343400"/>
            <a:ext cx="7543800" cy="13737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00% pass rate expected; certification will be granted and linked to Quality Improvement (complianc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IMPLEMENTATION of VTE TOOLKIT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spcAft>
                <a:spcPts val="1001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stems approa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spcAft>
                <a:spcPts val="1001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y-in from Administ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spcAft>
                <a:spcPts val="1001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cus on patient saf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spcAft>
                <a:spcPts val="1001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datory training to meet core competencies on VTE prophylax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spcAft>
                <a:spcPts val="1001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int Commission and the National Quality For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380880" y="1180800"/>
            <a:ext cx="830592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rove patient safety by adopting practice standards based on evidence from the litera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rove utilization of diagnostic serv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rove safety of medications (heparin nomograms/guidelin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vte.son.washington.ed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8228160" y="6172200"/>
            <a:ext cx="458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066680" y="617220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VTE Safety Toolkit; AHRQ Patient Safety Gr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153280" cy="789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ank You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0" name="Picture 4" descr="CampusImage20"/>
          <p:cNvPicPr/>
          <p:nvPr/>
        </p:nvPicPr>
        <p:blipFill>
          <a:blip r:embed="rId1"/>
          <a:stretch/>
        </p:blipFill>
        <p:spPr>
          <a:xfrm>
            <a:off x="331920" y="990720"/>
            <a:ext cx="8480160" cy="561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Interdisciplinary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Clinical Tea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42720" y="12193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m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ert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14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*Ann Wittkowsky, Pharm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olkit/Cases/anticoagul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14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obb Glenny, M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olkit/Cases/Pulmonary IC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14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ul Hendrie, M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olkit/Hematologi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14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aren McDonough, M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olkit/Medicine Consul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14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im Cantwell-Gab, BS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olkit/Patient Educ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14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ne Peterson, M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-PI/Cases/Administr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14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renda Zierler, Ph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olkit/Cases/Research Desig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14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vid Flum, M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sult/Prevention/Surge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14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*Mark Meissner, M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sult/DVT Diagnosis/Surge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14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ylvia McKenzie, R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I/Mechanical Prophylax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14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th Wolpin, Ph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shboard/Web Tea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8228160" y="6172200"/>
            <a:ext cx="458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1066680" y="617220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VTE Safety Toolkit; AHRQ Patient Safety Gr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304920" y="1752480"/>
            <a:ext cx="8229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Why Study VTE? </a:t>
            </a:r>
            <a:br>
              <a:rPr sz="3800"/>
            </a:b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Epidemiology of VTE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TE encompasses deep vein thrombosis (DVT) and pulmonary embolism (P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Most common preventable cause of hospital dea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00,000 Americans suffer VTE each y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00,000 DV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00,000 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Epidemiology of VT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300,000 patients, PE proves fat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st common cause of hospital-related deaths in the United Sta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-thrombotic syndrome will be seen in 800,000 p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% of these individuals will have a severe form of the problem and will become disabl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rvivors are at risk for recurrence of P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lmonary hypertension develops in approximately 30,000 patients who survive their P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Epidemiology of VT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2625"/>
              </a:spcBef>
              <a:spcAft>
                <a:spcPts val="176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of 20 hospitalized medical patients will suffer a fatal PE if they have not received appropriate thrombosis prophylax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2625"/>
              </a:spcBef>
              <a:spcAft>
                <a:spcPts val="176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0% of the 2 million cases of DVT yearly are “silent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Risk Factors for VT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spcAft>
                <a:spcPts val="524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rmine who should receive prophylax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spcAft>
                <a:spcPts val="524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ry patient at UWMC should be assessed for risk of developing V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spcAft>
                <a:spcPts val="524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stand contraindications to pharmacologic prophylaxis (heparin, warfarin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spcAft>
                <a:spcPts val="524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ffer mechanical prophylaxis when pharmacologic prophylaxis is not saf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99960" y="1371240"/>
            <a:ext cx="8344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VTE Prophylaxi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focus of today’s talk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sk Assessment To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VT Diagnostic Algorith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 Diagnostic Algorith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T Assess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parin nomograms (dos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TE Treatment Pathw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VT Treatment Order Se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scular Lab Requis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ural-axial anesthesia guideli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tient Education (prevention &amp; treatmen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VTE Safety Toolkit- Componen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8T22:04:16Z</dcterms:created>
  <dc:creator>brendaz</dc:creator>
  <dc:description/>
  <dc:language>en-US</dc:language>
  <cp:lastModifiedBy>william.hyde</cp:lastModifiedBy>
  <dcterms:modified xsi:type="dcterms:W3CDTF">2008-12-29T20:53:05Z</dcterms:modified>
  <cp:revision>181</cp:revision>
  <dc:subject/>
  <dc:title>VTE Safety Toolkit</dc:title>
</cp:coreProperties>
</file>