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9082-D506-4F4D-B059-323216CC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AF-ED92-42C2-913F-B07B224F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032D-9E0D-4E3A-A2AD-66C222D2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3620-EBB0-4D01-8355-A7F95EAD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979F-24BF-4169-8717-FFEA3C06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4747-CBEB-47C7-BB92-FFE4586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7C3-DD57-4490-9B77-BF48303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5119-D72A-4B0C-93CB-790F2659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2757-85AE-4E1C-BCBB-0E2B2FB9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8E96-511E-4D26-9BD0-33288149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090C-6142-47FF-A642-1AE2749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F1F-E7E2-47ED-80C1-424AFDA9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680-A3D9-432A-ACCA-1BDA820A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3835-B533-4977-AE9B-4E59841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8B53-AC24-4C3F-A1FC-401877F3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3468-29D4-4EA4-A8EA-DC675DBA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7B9D-E58E-4C6C-BE49-22EFF00E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9D0-C6DA-4A39-A1AD-7CA0E1B0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DCA-8E77-4480-A2EB-229EA03E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7EE-BABE-448B-A7C1-20B2FC0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EE6-4E9D-4435-B1E0-69F82317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3AA-20C0-4198-9E60-821F1D9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AF87-BADF-4BEE-9C29-40AD0E35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2F8-FC2B-4887-9CE0-E771E48D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hyperlink" Target="http://www.hrsa.gov/" TargetMode="External"/><Relationship Id="rId7" Type="http://schemas.openxmlformats.org/officeDocument/2006/relationships/image" Target="../media/image5.png"/><Relationship Id="rId8" Type="http://schemas.openxmlformats.org/officeDocument/2006/relationships/hyperlink" Target="http://www.cms.hhs.gov/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C80A-D77A-4337-8070-0056E94D1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B974-79CD-4A70-A366-58CCB88C60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52280" y="6126120"/>
            <a:ext cx="5181840" cy="731880"/>
            <a:chOff x="152280" y="6126120"/>
            <a:chExt cx="5181840" cy="7318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52280" y="6225840"/>
              <a:ext cx="2125800" cy="52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rcRect l="3678" t="4331" r="0" b="0"/>
            <a:stretch/>
          </p:blipFill>
          <p:spPr>
            <a:xfrm>
              <a:off x="2344320" y="6225840"/>
              <a:ext cx="172728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..%5Cicons%5Ccdc_logo" descr=""/>
            <p:cNvPicPr/>
            <p:nvPr/>
          </p:nvPicPr>
          <p:blipFill>
            <a:blip r:embed="rId4"/>
            <a:stretch/>
          </p:blipFill>
          <p:spPr>
            <a:xfrm>
              <a:off x="4337640" y="6126120"/>
              <a:ext cx="99648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aoasmall" descr=""/>
          <p:cNvPicPr/>
          <p:nvPr/>
        </p:nvPicPr>
        <p:blipFill>
          <a:blip r:embed="rId5"/>
          <a:stretch/>
        </p:blipFill>
        <p:spPr>
          <a:xfrm>
            <a:off x="2362320" y="6033960"/>
            <a:ext cx="1600200" cy="824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RSA - U.S Department of Health and Human Services, Health Resources and Service Administrati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5880" y="6095880"/>
            <a:ext cx="2514600" cy="381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Centers for Medicare &amp; Medicaid Service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6529320"/>
            <a:ext cx="35434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czernial@aacog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839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Reducing Health Disparities Among Hispanic Elders: Lessons from a Learning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Team San Antonio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AHRQ Annual Meeting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Carol Zer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369"/>
                </a:solidFill>
                <a:latin typeface="Arial"/>
              </a:rPr>
              <a:t>Bexar Area Agency on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2E8-1AC0-468D-A8E5-0233845F3B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did the team build capacity before engaging clinical partners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A and community partners have been developing expertise in delivering evidence-based disease-prevention and health promotion activities since 20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betes Prevention Program (DP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ford Chronic Disease Self-Management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ter of Balance Falls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hritis Foundation Exercise Program (formerly PA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744-DD5C-41C1-87D4-6ADC16D93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How is the team engaging clinical providers?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y few programs are targeting prevention in the older population, particularly among older Hispan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ers spend more time in the community setting. Consistent messaging reinforced between clinical and community set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ians only compare their scores against the entire projec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ect each health system. Come to table as health care providers versus recruiter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s come from a prepared, proactive practice team AND and an informed, activated patient – It takes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9A3-21A7-43CE-AEFF-DCA13FB47B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Accomplish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meeting for community stakeholders in May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0,000 foundation grant to bring Stanford CDSMP Master Training to Bexar County in October 2008 to increase capacity in targeted zip c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izing a diabetes scorecard to be adopt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spanic Elders Project has significantly enhanced the communication between the clinical services and the social services around diabetes and generated interest in collaborating for other initi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50840" y="293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EC6-30F5-4D34-828F-E6389B2262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How was the Learning Network helpful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ons learned within this network are transferred to individual team member networks (i.e, AAA associations, public health agencie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-to-team learning within the project was very important – building on each other’s knowled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ing access to clinical expertise from George Washington University Department of Prevention and Community Health was invaluable in the decision-making proc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7C9B-8151-41B6-8503-0DE839B4F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Most Challenging A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barriers to improving adherence to diabetes standards of 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ing incentives for clinicians to adopt the diabetes scorec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coming fear of losing patients to other provi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ng to the network of clinicians in target a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212-27CD-46E8-AB91-92A7C2888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Lessons Learn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of the teams with national support has been the largest asset to the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ultiple outreach strategies for different physicians (i.e., HMO, physician groups, independent physic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ntives to participate are difficu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centives have not worked in the p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 time is linked to reimbursement, and therefore, often limi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fices use of electronic medical rec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nds are available. It is a matter of priorities. Make our health intervention a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EBF-5A4F-48F9-83B2-4F35504BD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For More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ol Zernial,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xar Area Agency on 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00 Tesoro Drive, #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Antonio, TX 78217-62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czernial@aacog.co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10) 362-526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C878-F117-4981-9A13-9925E43E6B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ctober 2007, the National Association of County &amp; City Health Officials (NACCHO) reported San Antonio having the 2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ghest death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abetes after New Orl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xar County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02,25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5 mil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are living with diabetes, with an additio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7,4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viduals undiagn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diabetes in Bexar County alone is $481 million/year or $348 per resident per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1F5-FF45-4702-B5F4-18C01DCEA1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255600"/>
            <a:ext cx="84837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y is your community doing th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362320"/>
            <a:ext cx="7467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Hispanics age 65 and over, 39,926 have diabetes and another 50,407 are undiagn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diabetes in Hispanics age 65 and over is 34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idence of diabetes among older Hispanics in target areas may be as high as 59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9DD-143A-42FC-9558-9D92152951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at is the plan you hope to implemen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ary prevention to delay or prevent  complications from diab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lot in ten zip codes with the highest incidence of diabetes,the highest incidence of complications, and the highest mortality 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improving physician adherence to diabetes standards of care and patient adherence through disease self-manag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 wrap-around supports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ford Chronic Disease Self-Management Program (CDSM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betes Passport to Better Healt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EED-2451-412E-B159-930ACD4C6F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6359400" cy="6553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267600" y="1881360"/>
            <a:ext cx="2287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6560" y="3124080"/>
            <a:ext cx="1449000" cy="1286280"/>
            <a:chOff x="6856560" y="3124080"/>
            <a:chExt cx="1449000" cy="1286280"/>
          </a:xfrm>
        </p:grpSpPr>
        <p:sp>
          <p:nvSpPr>
            <p:cNvPr id="170" name=""/>
            <p:cNvSpPr/>
            <p:nvPr/>
          </p:nvSpPr>
          <p:spPr>
            <a:xfrm>
              <a:off x="6856560" y="3143160"/>
              <a:ext cx="271440" cy="1951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6000" y="312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61800" y="3124080"/>
              <a:ext cx="60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u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6560" y="3387600"/>
              <a:ext cx="271440" cy="19692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6000" y="3370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62160" y="337032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97400" y="33703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56560" y="3633840"/>
              <a:ext cx="271440" cy="19656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36000" y="3616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62160" y="361620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97400" y="3616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6560" y="3879720"/>
              <a:ext cx="271440" cy="1969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96560" y="3862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2160" y="386244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63000" y="3862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6560" y="4125960"/>
              <a:ext cx="271440" cy="196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36360" y="41050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228240"/>
            <a:ext cx="48769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betes Deaths in Bexar Co. 2005 Ages 65 and Older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y Zip codes</a:t>
            </a: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2005 Texas Department of State Health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 death certificates</a:t>
            </a:r>
            <a:br>
              <a:rPr sz="12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23623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aths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p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C5B-CD53-4C97-B8F2-8A717FB736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Who is in the partnership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xar Area Agency on 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ropolitan Health Distr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oMed (FQH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holic Cha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iversity Health System Texas Diabetes Institu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 Health Science Center Barshop Institute on Longevity &amp; 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DB3E-B3E1-4E25-8289-4F10379C01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Developing Partnerships –roles of each partn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capacity of providers to adhere to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barriers and facilitators to adh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, disseminate, and support utilization of a community diabetes scorecard for providers to track progress in preventing co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consistent messaging for project 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4720" y="171936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ty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r Stanford Chronic Disease Self-Management in nine zip codes in churches, senior centers, parks &amp; rec, and senior ho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e and educate about a “Diabetes Passport to Better Health” to reinforce adherence guide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consistent messaging for project in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465-1BB2-4A1E-A8A8-109C1F6C6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015920" y="947880"/>
          <a:ext cx="7113600" cy="49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947880"/>
                    <a:ext cx="7113600" cy="49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F9A-9CA7-4FF7-AE35-54CF19EA0D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209600" y="900000"/>
          <a:ext cx="6726240" cy="50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900000"/>
                    <a:ext cx="672624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6ED-516B-4149-A484-F0BAAD978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2:53:13Z</dcterms:created>
  <dc:creator>Nancy.Whitelaw</dc:creator>
  <dc:description/>
  <dc:language>en-US</dc:language>
  <cp:lastModifiedBy>Ibukun_2</cp:lastModifiedBy>
  <dcterms:modified xsi:type="dcterms:W3CDTF">2008-10-09T18:31:33Z</dcterms:modified>
  <cp:revision>47</cp:revision>
  <dc:subject/>
  <dc:title>Slide 1</dc:title>
</cp:coreProperties>
</file>