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153-8BB1-410E-A63B-9854584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3ED-5B63-47D3-8794-CD6AADAC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93D-765D-4379-987C-6C01D9E3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D46-E6B8-4547-9838-37C95626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0C5-B1D5-4CA2-8F3E-F5832A5A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60CF-CAF3-4FD8-AC0B-1CA9D36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9FF4-B81E-4DFF-8845-FBACB5DC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08D8-ADDE-4BA3-85F5-03FF1B44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267E-8ED9-4242-9DBD-A4F43605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77F-42D1-4724-B1EC-743803DF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254-0A76-41BB-B80E-5CF4349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860-80C3-4917-9655-782B0626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963F-6BE3-4BDA-B0FF-6511DAF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CA2-3E1E-4005-BDA1-94383FF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52BA-CF75-4DBE-ADDD-99A5F6A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4837-CB71-4AAD-8E0C-6C194B14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72A1-E6A9-4CB0-80D3-518A471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7C8-CE26-4B37-AD44-EC6273B2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055-CB06-4C03-BBC9-7B6E676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2FE-C095-4124-A497-E837E39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0F2-855B-4D71-8717-5C347A4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421-D741-4E76-AAEA-DE7E887E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DB0-53B4-496F-A0DE-DD64AEF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A98-7B69-4C3E-A6DB-F20B3BD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hyperlink" Target="http://www.hrsa.gov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cms.hhs.gov/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AC1-BBE7-41F7-8AE8-0F1A7EEC0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400-3E75-49D5-9A20-55A75D2D8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2280" y="6126120"/>
            <a:ext cx="5181840" cy="731880"/>
            <a:chOff x="152280" y="6126120"/>
            <a:chExt cx="5181840" cy="731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52280" y="6225840"/>
              <a:ext cx="2125800" cy="5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rcRect l="3678" t="4331" r="0" b="0"/>
            <a:stretch/>
          </p:blipFill>
          <p:spPr>
            <a:xfrm>
              <a:off x="2344320" y="6225840"/>
              <a:ext cx="172728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..%5Cicons%5Ccdc_logo" descr=""/>
            <p:cNvPicPr/>
            <p:nvPr/>
          </p:nvPicPr>
          <p:blipFill>
            <a:blip r:embed="rId4"/>
            <a:stretch/>
          </p:blipFill>
          <p:spPr>
            <a:xfrm>
              <a:off x="4337640" y="6126120"/>
              <a:ext cx="99648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aoasmall" descr=""/>
          <p:cNvPicPr/>
          <p:nvPr/>
        </p:nvPicPr>
        <p:blipFill>
          <a:blip r:embed="rId5"/>
          <a:stretch/>
        </p:blipFill>
        <p:spPr>
          <a:xfrm>
            <a:off x="2362320" y="6033960"/>
            <a:ext cx="1600200" cy="82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RSA - U.S Department of Health and Human Services, Health Resources and Service Administr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6095880"/>
            <a:ext cx="251460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Centers for Medicare &amp; Medicaid Servic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6529320"/>
            <a:ext cx="35434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czernial@aacog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ducing Health Disparities Among Hispanic Elders: Lessons from a Learning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eam San Antonio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AHRQ Annual Meet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Carol Zer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Bexar Area Agency on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12EC-BD1E-4522-A8BA-B69F36D03B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did the team build capacity before engaging clinical partners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A and community partners have been developing expertise in delivering evidence-based disease-prevention and health promotion activities since 20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betes Prevention Program (DP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ford Chronic Disease Self-Management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er of Balance Falls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hritis Foundation Exercise Program (formerly P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59B-2D3A-4DDE-AF79-3F84B8415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is the team engaging clinical providers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few programs are targeting prevention in the older population, particularly among older Hisp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s spend more time in the community setting. Consistent messaging reinforced between clinical and community set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s only compare their scores against the entire projec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ect each health system. Come to table as health care providers versus recruit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s come from a prepared, proactive practice team AND and an informed, activated patient – It take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05B-8B3B-421B-BD15-0ABB1E133C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Accomplish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meeting for community stakeholders in May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0,000 foundation grant to bring Stanford CDSMP Master Training to Bexar County in October 2008 to increase capacity in targeted zip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izing a diabetes scorecard to be adop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spanic Elders Project has significantly enhanced the communication between the clinical services and the social services around diabetes and generated interest in collaborating for other initi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508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AC9-6D4C-4B00-8345-450943F9E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How was the Learning Network helpfu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ons learned within this network are transferred to individual team member networks (i.e, AAA associations, public health agenci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-to-team learning within the project was very important – building on each other’s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ccess to clinical expertise from George Washington University Department of Prevention and Community Health was invaluable in the decision-making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58F-2C04-4CB3-B232-C5771AAF56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Most Challenging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barriers to improving adherence to diabetes standards of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incentives for clinicians to adopt the diabetes score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coming fear of losing patients to other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to the network of clinicians in target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5E4-6083-4217-A487-433C4177A9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of the teams with national support has been the largest asset to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ultiple outreach strategies for different physicians (i.e., HMO, physician groups, independent phys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 to participate are diffic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centives have not worked in the p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time is linked to reimbursement, and therefore, often limi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fices use of electronic medical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s are available. It is a matter of priorities. Make our health intervention a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E58-B482-4437-955C-B399D81FF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For More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l Zernial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xar Area Agency on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00 Tesoro Drive, #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Antonio, TX 78217-62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zernial@aacog.co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10) 362-526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629-2B03-438D-A9D1-DF820D0AD0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ctober 2007, the National Association of County &amp; City Health Officials (NACCHO) reported San Antonio having the 2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ghest death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abetes after New Orl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xar Count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2,25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re living with diabetes, with an addi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,4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iduals undiagn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diabetes in Bexar County alone is $481 million/year or $348 per resident per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821-7F5E-482A-A590-05C23D279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panics age 65 and over, 39,926 have diabetes and another 50,407 are undiagn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diabetes in Hispanics age 65 and over is 34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idence of diabetes among older Hispanics in target areas may be as high as 5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78D-E95F-4D8A-9C62-1E31E6058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at is the plan you hope to imple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ary prevention to delay or prevent  complications from diab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 in ten zip codes with the highest incidence of diabetes,the highest incidence of complications, and the highest mortality 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improving physician adherence to diabetes standards of care and patient adherence through disease self-manag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 wrap-around supports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ford Chronic Disease Self-Management Program (CDSM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betes Passport to Better Healt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E46-ACAD-463E-A199-730CA0382D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359400" cy="655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267600" y="1881360"/>
            <a:ext cx="2287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6560" y="3124080"/>
            <a:ext cx="1449000" cy="1286280"/>
            <a:chOff x="6856560" y="3124080"/>
            <a:chExt cx="1449000" cy="1286280"/>
          </a:xfrm>
        </p:grpSpPr>
        <p:sp>
          <p:nvSpPr>
            <p:cNvPr id="170" name=""/>
            <p:cNvSpPr/>
            <p:nvPr/>
          </p:nvSpPr>
          <p:spPr>
            <a:xfrm>
              <a:off x="6856560" y="3143160"/>
              <a:ext cx="271440" cy="195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6000" y="312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61800" y="312408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u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6560" y="3387600"/>
              <a:ext cx="271440" cy="196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6000" y="3370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62160" y="337032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7400" y="3370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6560" y="3633840"/>
              <a:ext cx="271440" cy="1965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6000" y="3616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2160" y="361620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7400" y="3616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6560" y="3879720"/>
              <a:ext cx="271440" cy="196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6560" y="3862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2160" y="386244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3000" y="3862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6560" y="4125960"/>
              <a:ext cx="271440" cy="196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6360" y="41050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4876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betes Deaths in Bexar Co. 2005 Ages 65 and Ol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Zip code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2005 Texas Department of State Heal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 death certificates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3623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aths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A65-52AD-4833-94CF-F7F59BAFB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o is in the partnership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xar Area Agency on 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opolitan Health Distr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oMed (FQH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olic Cha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ity Health System Texas Diabetes Instit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 Health Science Center Barshop Institute on Longevity &amp; 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386-3B7B-4808-AADA-EECA7CA1B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Developing Partnerships –roles of each part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capacity of providers to adhere to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barriers and facilitators to ad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, disseminate, and support utilization of a community diabetes scorecard for providers to track progress in preventing co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consistent messaging for project 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71936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ty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r Stanford Chronic Disease Self-Management in nine zip codes in churches, senior centers, parks &amp; rec, and senior ho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e and educate about a “Diabetes Passport to Better Health” to reinforce adherence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consistent messaging for project 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125-3A3F-4934-9C8D-1A53F3E4C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15920" y="947880"/>
          <a:ext cx="7113600" cy="49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947880"/>
                    <a:ext cx="711360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C57-EDB1-4FA4-AB9C-14A55CF04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209600" y="900000"/>
          <a:ext cx="6726240" cy="50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900000"/>
                    <a:ext cx="672624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DFF-FAB8-4992-AAAD-42EE59A72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2:53:13Z</dcterms:created>
  <dc:creator>Nancy.Whitelaw</dc:creator>
  <dc:description/>
  <dc:language>en-US</dc:language>
  <cp:lastModifiedBy>Ibukun_2</cp:lastModifiedBy>
  <dcterms:modified xsi:type="dcterms:W3CDTF">2008-10-09T18:31:33Z</dcterms:modified>
  <cp:revision>47</cp:revision>
  <dc:subject/>
  <dc:title>Slide 1</dc:title>
</cp:coreProperties>
</file>