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B56B-3D09-4587-8F0D-549EF7888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9ED5-3515-4ACE-AACF-B1F09104FE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A555-7DE8-45AD-9344-ED1B294743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EFC1-DF4D-4F7C-884E-61A2F7C269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5B1B-6DA6-4432-B33E-BFF6FDFFDC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23FF-395D-40EB-9BEA-A8EDF17514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BCD1-FA96-42C1-9531-93E82EEEA6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9643-85A5-4C63-B71E-C42E010FDD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F99F-AD74-417F-9994-48EE681DF0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5138-95F0-44E9-81A2-4411B2C963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E075-DD4D-4B2E-8B17-06D1162420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B716-820F-4456-AF92-E5E4A3EBDD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1E10-BF74-42F4-B743-C407EC4892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7535-E00C-4488-B85C-F7C3BC1797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E040-DA7C-461C-B3EE-EA5E896CB6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BE3B-87CF-45A9-BB56-2C4BF069C9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25FA-5382-41D6-9D8B-B1E1B155BF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59CC-8A3A-46F4-8FCD-1637F07C5C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97E2-4142-4426-9384-0D41921E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1D61-0B10-483E-A49C-EFEA6D83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7F50-7B2B-4739-AA5D-3459D92BF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3FA3-DB7E-4626-91B5-91CE4ADFE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7112-3EEA-49CC-98FD-703210DD9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68EF-83F8-4069-BFF4-A4CE095E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F7C3-3A93-40AF-BDB7-F8478929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17D9-9BC4-4775-8BA0-FB7FD9B1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A30B-3B62-4AB2-936C-3D897449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9835-6796-4B3A-8B65-5DE81CE9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42AD-3A04-4700-A840-9132C920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E507-CC7D-4558-BFFF-3C517F7A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9249-0823-4197-B40D-2EE42F7E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8A81-14BF-4CB6-8A2E-F4191DE4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1B1C-CE7E-4AB5-8CE0-D4C4CFAC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0F89-EFF4-41C7-B198-E7FC78C1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D093-A010-492B-9F06-647B47D8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9895-5AE0-4984-A8DD-5ABD18BF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FFF3-40BF-4385-84EB-8F542B23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00E9-9C81-43CA-9CE7-7C0FA008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6A35-CA6C-43C3-BC8B-48544CF0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A1A7-F142-4663-A3D6-B7F0F532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82FE-9F10-48C0-B75B-408B5B51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8CEA-4588-400F-BF11-1F1CC413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E9AD-68D5-4F33-A3A2-BFB76DC2BE7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3D6D-8721-4AA3-A245-CE5EC2644D7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ay-for-Performance in Safety Net Settings: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New Evidence from the Agency for Healthcare Research and Quality (AHRQ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ary Young, J.D., Ph.D., Bert White M.B.A., Karen Sautter, M.P.H., Jason Silver, Barbara Bokhour, Ph.D., Mark Meterko, Ph.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oston University School of Public Healt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partment of Veterans Affairs, Health Services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search and Development Servi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HRQ annual meeting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ptember 9, 2008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nancial support from the Agency for Healthcare Research and Qua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Key Findings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o definitive evidence of quality improvement in short term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igher adherence to clinical process correlated with better patient outcom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o evidence of unintended consequences based on survey, interviews, and clinical performance dat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hysicians accepting of concept, bu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nancial incentive not a direct motivator for qual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chievement of pay-for-performance program goals complicated by socio-economic status of patients.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nancial incentives for quality can be undercut by larger incentives for productiv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Finding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 definitive evidence of quality improvement in short term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BMC HealthNet Performance Measures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dherence scores, 13 community health center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609480" y="83808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ext Box 1152"/>
          <p:cNvSpPr/>
          <p:nvPr/>
        </p:nvSpPr>
        <p:spPr>
          <a:xfrm>
            <a:off x="380880" y="6033960"/>
            <a:ext cx="83822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Diabetic Eye Exam no incentive in 2007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*HbA1c incentive in 2007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**No Data Availab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57200" y="1371600"/>
          <a:ext cx="8229600" cy="4530600"/>
        </p:xfrm>
        <a:graphic>
          <a:graphicData uri="http://schemas.openxmlformats.org/drawingml/2006/table">
            <a:tbl>
              <a:tblPr/>
              <a:tblGrid>
                <a:gridCol w="1981080"/>
                <a:gridCol w="990720"/>
                <a:gridCol w="1066680"/>
                <a:gridCol w="990720"/>
                <a:gridCol w="871560"/>
                <a:gridCol w="1041480"/>
                <a:gridCol w="1287360"/>
              </a:tblGrid>
              <a:tr h="569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MC HealthNet Measur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centiviz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MC HealthNe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National Medicai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MC HealthNe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NationalMedicai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MC HealthNe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dicaid***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sthm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Well Child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iabetic Eye Exam *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bA1c Testing **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Non-Incentiviz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dolescent Well Child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LDL Screening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Nephropathy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Finding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Higher adherence to clinical process correlated with better patient outcomes (based on sample of 51 physicians at Montefiore from 2002 to 2006).</a:t>
            </a: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bA1c: .33 -- .6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DL: .22 -- .47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Finding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No evidence of unintended consequences based on survey, interviews and clinical performance data.</a:t>
            </a: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hysician Survey Data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Rectangle 391"/>
          <p:cNvSpPr/>
          <p:nvPr/>
        </p:nvSpPr>
        <p:spPr>
          <a:xfrm rot="16200000">
            <a:off x="441360" y="3371760"/>
            <a:ext cx="180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cale Score (Min=1/Max=5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5" name="Group 491"/>
          <p:cNvGrpSpPr/>
          <p:nvPr/>
        </p:nvGrpSpPr>
        <p:grpSpPr>
          <a:xfrm>
            <a:off x="1143000" y="914400"/>
            <a:ext cx="7086600" cy="4819680"/>
            <a:chOff x="1143000" y="914400"/>
            <a:chExt cx="7086600" cy="4819680"/>
          </a:xfrm>
        </p:grpSpPr>
        <p:sp>
          <p:nvSpPr>
            <p:cNvPr id="196" name="AutoShape 492"/>
            <p:cNvSpPr/>
            <p:nvPr/>
          </p:nvSpPr>
          <p:spPr>
            <a:xfrm>
              <a:off x="1143000" y="914400"/>
              <a:ext cx="7086600" cy="481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7" name="Rectangle 493"/>
            <p:cNvSpPr/>
            <p:nvPr/>
          </p:nvSpPr>
          <p:spPr>
            <a:xfrm>
              <a:off x="1184040" y="954720"/>
              <a:ext cx="7002720" cy="4737600"/>
            </a:xfrm>
            <a:prstGeom prst="rect">
              <a:avLst/>
            </a:prstGeom>
            <a:noFill/>
            <a:ln w="19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8" name="Line 494"/>
            <p:cNvSpPr/>
            <p:nvPr/>
          </p:nvSpPr>
          <p:spPr>
            <a:xfrm>
              <a:off x="1711800" y="1729440"/>
              <a:ext cx="720" cy="350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9" name="Line 495"/>
            <p:cNvSpPr/>
            <p:nvPr/>
          </p:nvSpPr>
          <p:spPr>
            <a:xfrm>
              <a:off x="1680840" y="5238720"/>
              <a:ext cx="309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0" name="Line 496"/>
            <p:cNvSpPr/>
            <p:nvPr/>
          </p:nvSpPr>
          <p:spPr>
            <a:xfrm>
              <a:off x="1680840" y="4800600"/>
              <a:ext cx="309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1" name="Line 497"/>
            <p:cNvSpPr/>
            <p:nvPr/>
          </p:nvSpPr>
          <p:spPr>
            <a:xfrm>
              <a:off x="1680840" y="4361760"/>
              <a:ext cx="309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2" name="Line 498"/>
            <p:cNvSpPr/>
            <p:nvPr/>
          </p:nvSpPr>
          <p:spPr>
            <a:xfrm>
              <a:off x="1680840" y="3923640"/>
              <a:ext cx="309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3" name="Line 499"/>
            <p:cNvSpPr/>
            <p:nvPr/>
          </p:nvSpPr>
          <p:spPr>
            <a:xfrm>
              <a:off x="1680840" y="3484080"/>
              <a:ext cx="309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4" name="Line 500"/>
            <p:cNvSpPr/>
            <p:nvPr/>
          </p:nvSpPr>
          <p:spPr>
            <a:xfrm>
              <a:off x="1680840" y="3045960"/>
              <a:ext cx="309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5" name="Line 501"/>
            <p:cNvSpPr/>
            <p:nvPr/>
          </p:nvSpPr>
          <p:spPr>
            <a:xfrm>
              <a:off x="1680840" y="2606760"/>
              <a:ext cx="309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6" name="Line 502"/>
            <p:cNvSpPr/>
            <p:nvPr/>
          </p:nvSpPr>
          <p:spPr>
            <a:xfrm>
              <a:off x="1680840" y="2169000"/>
              <a:ext cx="309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7" name="Line 503"/>
            <p:cNvSpPr/>
            <p:nvPr/>
          </p:nvSpPr>
          <p:spPr>
            <a:xfrm>
              <a:off x="1680840" y="1729440"/>
              <a:ext cx="309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8" name="Line 504"/>
            <p:cNvSpPr/>
            <p:nvPr/>
          </p:nvSpPr>
          <p:spPr>
            <a:xfrm>
              <a:off x="1711800" y="5238720"/>
              <a:ext cx="63831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9" name="Line 505"/>
            <p:cNvSpPr/>
            <p:nvPr/>
          </p:nvSpPr>
          <p:spPr>
            <a:xfrm flipV="1">
              <a:off x="1711800" y="5238720"/>
              <a:ext cx="72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0" name="Line 506"/>
            <p:cNvSpPr/>
            <p:nvPr/>
          </p:nvSpPr>
          <p:spPr>
            <a:xfrm flipV="1">
              <a:off x="2623680" y="5238720"/>
              <a:ext cx="72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1" name="Line 507"/>
            <p:cNvSpPr/>
            <p:nvPr/>
          </p:nvSpPr>
          <p:spPr>
            <a:xfrm flipV="1">
              <a:off x="3534840" y="5238720"/>
              <a:ext cx="72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2" name="Line 508"/>
            <p:cNvSpPr/>
            <p:nvPr/>
          </p:nvSpPr>
          <p:spPr>
            <a:xfrm flipV="1">
              <a:off x="4447440" y="5238720"/>
              <a:ext cx="72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" name="Line 509"/>
            <p:cNvSpPr/>
            <p:nvPr/>
          </p:nvSpPr>
          <p:spPr>
            <a:xfrm flipV="1">
              <a:off x="5359320" y="5238720"/>
              <a:ext cx="36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4" name="Line 510"/>
            <p:cNvSpPr/>
            <p:nvPr/>
          </p:nvSpPr>
          <p:spPr>
            <a:xfrm flipV="1">
              <a:off x="6271920" y="5238720"/>
              <a:ext cx="72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5" name="Line 511"/>
            <p:cNvSpPr/>
            <p:nvPr/>
          </p:nvSpPr>
          <p:spPr>
            <a:xfrm flipV="1">
              <a:off x="7182360" y="5238720"/>
              <a:ext cx="36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6" name="Line 512"/>
            <p:cNvSpPr/>
            <p:nvPr/>
          </p:nvSpPr>
          <p:spPr>
            <a:xfrm flipV="1">
              <a:off x="8094960" y="5238720"/>
              <a:ext cx="36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7" name="Freeform 513"/>
            <p:cNvSpPr/>
            <p:nvPr/>
          </p:nvSpPr>
          <p:spPr>
            <a:xfrm>
              <a:off x="2167200" y="2352600"/>
              <a:ext cx="5472360" cy="1684080"/>
            </a:xfrm>
            <a:prstGeom prst="pie">
              <a:avLst/>
            </a:prstGeom>
            <a:noFill/>
            <a:ln w="198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8" name="Freeform 514"/>
            <p:cNvSpPr/>
            <p:nvPr/>
          </p:nvSpPr>
          <p:spPr>
            <a:xfrm>
              <a:off x="2167200" y="2729880"/>
              <a:ext cx="5472360" cy="1649160"/>
            </a:xfrm>
            <a:prstGeom prst="pie">
              <a:avLst/>
            </a:prstGeom>
            <a:noFill/>
            <a:ln w="198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9" name="Freeform 515"/>
            <p:cNvSpPr/>
            <p:nvPr/>
          </p:nvSpPr>
          <p:spPr>
            <a:xfrm>
              <a:off x="2167200" y="2940480"/>
              <a:ext cx="5472360" cy="1209600"/>
            </a:xfrm>
            <a:prstGeom prst="pie">
              <a:avLst/>
            </a:prstGeom>
            <a:noFill/>
            <a:ln w="19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0" name="Rectangle 516"/>
            <p:cNvSpPr/>
            <p:nvPr/>
          </p:nvSpPr>
          <p:spPr>
            <a:xfrm>
              <a:off x="2125800" y="3522960"/>
              <a:ext cx="81360" cy="80640"/>
            </a:xfrm>
            <a:prstGeom prst="rect">
              <a:avLst/>
            </a:prstGeom>
            <a:solidFill>
              <a:srgbClr val="0000ff"/>
            </a:solidFill>
            <a:ln w="10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" name="Rectangle 517"/>
            <p:cNvSpPr/>
            <p:nvPr/>
          </p:nvSpPr>
          <p:spPr>
            <a:xfrm>
              <a:off x="3038400" y="3995280"/>
              <a:ext cx="80640" cy="80640"/>
            </a:xfrm>
            <a:prstGeom prst="rect">
              <a:avLst/>
            </a:prstGeom>
            <a:solidFill>
              <a:srgbClr val="0000ff"/>
            </a:solidFill>
            <a:ln w="10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2" name="Rectangle 518"/>
            <p:cNvSpPr/>
            <p:nvPr/>
          </p:nvSpPr>
          <p:spPr>
            <a:xfrm>
              <a:off x="3951000" y="2311200"/>
              <a:ext cx="80640" cy="80640"/>
            </a:xfrm>
            <a:prstGeom prst="rect">
              <a:avLst/>
            </a:prstGeom>
            <a:solidFill>
              <a:srgbClr val="0000ff"/>
            </a:solidFill>
            <a:ln w="10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" name="Rectangle 519"/>
            <p:cNvSpPr/>
            <p:nvPr/>
          </p:nvSpPr>
          <p:spPr>
            <a:xfrm>
              <a:off x="4862880" y="2469240"/>
              <a:ext cx="81360" cy="80640"/>
            </a:xfrm>
            <a:prstGeom prst="rect">
              <a:avLst/>
            </a:prstGeom>
            <a:solidFill>
              <a:srgbClr val="0000ff"/>
            </a:solidFill>
            <a:ln w="10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" name="Rectangle 520"/>
            <p:cNvSpPr/>
            <p:nvPr/>
          </p:nvSpPr>
          <p:spPr>
            <a:xfrm>
              <a:off x="5774040" y="3153960"/>
              <a:ext cx="80640" cy="80640"/>
            </a:xfrm>
            <a:prstGeom prst="rect">
              <a:avLst/>
            </a:prstGeom>
            <a:solidFill>
              <a:srgbClr val="0000ff"/>
            </a:solidFill>
            <a:ln w="10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" name="Rectangle 521"/>
            <p:cNvSpPr/>
            <p:nvPr/>
          </p:nvSpPr>
          <p:spPr>
            <a:xfrm>
              <a:off x="6685920" y="3539880"/>
              <a:ext cx="81360" cy="80640"/>
            </a:xfrm>
            <a:prstGeom prst="rect">
              <a:avLst/>
            </a:prstGeom>
            <a:solidFill>
              <a:srgbClr val="0000ff"/>
            </a:solidFill>
            <a:ln w="10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6" name="Rectangle 522"/>
            <p:cNvSpPr/>
            <p:nvPr/>
          </p:nvSpPr>
          <p:spPr>
            <a:xfrm>
              <a:off x="7598160" y="3917160"/>
              <a:ext cx="80640" cy="80640"/>
            </a:xfrm>
            <a:prstGeom prst="rect">
              <a:avLst/>
            </a:prstGeom>
            <a:solidFill>
              <a:srgbClr val="0000ff"/>
            </a:solidFill>
            <a:ln w="10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" name="Oval 523"/>
            <p:cNvSpPr/>
            <p:nvPr/>
          </p:nvSpPr>
          <p:spPr>
            <a:xfrm>
              <a:off x="2125800" y="3732480"/>
              <a:ext cx="81360" cy="80640"/>
            </a:xfrm>
            <a:prstGeom prst="ellipse">
              <a:avLst/>
            </a:prstGeom>
            <a:solidFill>
              <a:srgbClr val="ff0000"/>
            </a:solidFill>
            <a:ln w="10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" name="Oval 524"/>
            <p:cNvSpPr/>
            <p:nvPr/>
          </p:nvSpPr>
          <p:spPr>
            <a:xfrm>
              <a:off x="3038400" y="4338360"/>
              <a:ext cx="80640" cy="80640"/>
            </a:xfrm>
            <a:prstGeom prst="ellipse">
              <a:avLst/>
            </a:prstGeom>
            <a:solidFill>
              <a:srgbClr val="ff0000"/>
            </a:solidFill>
            <a:ln w="10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Oval 525"/>
            <p:cNvSpPr/>
            <p:nvPr/>
          </p:nvSpPr>
          <p:spPr>
            <a:xfrm>
              <a:off x="3951000" y="2688480"/>
              <a:ext cx="80640" cy="80640"/>
            </a:xfrm>
            <a:prstGeom prst="ellipse">
              <a:avLst/>
            </a:prstGeom>
            <a:solidFill>
              <a:srgbClr val="ff0000"/>
            </a:solidFill>
            <a:ln w="10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" name="Oval 526"/>
            <p:cNvSpPr/>
            <p:nvPr/>
          </p:nvSpPr>
          <p:spPr>
            <a:xfrm>
              <a:off x="4862880" y="2776680"/>
              <a:ext cx="81360" cy="80640"/>
            </a:xfrm>
            <a:prstGeom prst="ellipse">
              <a:avLst/>
            </a:prstGeom>
            <a:solidFill>
              <a:srgbClr val="ff0000"/>
            </a:solidFill>
            <a:ln w="10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1" name="Oval 527"/>
            <p:cNvSpPr/>
            <p:nvPr/>
          </p:nvSpPr>
          <p:spPr>
            <a:xfrm>
              <a:off x="5774040" y="3785760"/>
              <a:ext cx="80640" cy="80640"/>
            </a:xfrm>
            <a:prstGeom prst="ellipse">
              <a:avLst/>
            </a:prstGeom>
            <a:solidFill>
              <a:srgbClr val="ff0000"/>
            </a:solidFill>
            <a:ln w="10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2" name="Oval 528"/>
            <p:cNvSpPr/>
            <p:nvPr/>
          </p:nvSpPr>
          <p:spPr>
            <a:xfrm>
              <a:off x="6685920" y="3346200"/>
              <a:ext cx="81360" cy="80640"/>
            </a:xfrm>
            <a:prstGeom prst="ellipse">
              <a:avLst/>
            </a:prstGeom>
            <a:solidFill>
              <a:srgbClr val="ff0000"/>
            </a:solidFill>
            <a:ln w="10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3" name="Oval 529"/>
            <p:cNvSpPr/>
            <p:nvPr/>
          </p:nvSpPr>
          <p:spPr>
            <a:xfrm>
              <a:off x="7598160" y="3627000"/>
              <a:ext cx="80640" cy="80640"/>
            </a:xfrm>
            <a:prstGeom prst="ellipse">
              <a:avLst/>
            </a:prstGeom>
            <a:solidFill>
              <a:srgbClr val="ff0000"/>
            </a:solidFill>
            <a:ln w="10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4" name="Freeform 530"/>
            <p:cNvSpPr/>
            <p:nvPr/>
          </p:nvSpPr>
          <p:spPr>
            <a:xfrm>
              <a:off x="2125800" y="3583080"/>
              <a:ext cx="82440" cy="81720"/>
            </a:xfrm>
            <a:prstGeom prst="pie">
              <a:avLst/>
            </a:prstGeom>
            <a:solidFill>
              <a:srgbClr val="000000"/>
            </a:solidFill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5" name="Freeform 531"/>
            <p:cNvSpPr/>
            <p:nvPr/>
          </p:nvSpPr>
          <p:spPr>
            <a:xfrm>
              <a:off x="3038400" y="4109760"/>
              <a:ext cx="81720" cy="81720"/>
            </a:xfrm>
            <a:prstGeom prst="pie">
              <a:avLst/>
            </a:prstGeom>
            <a:solidFill>
              <a:srgbClr val="000000"/>
            </a:solidFill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6" name="Freeform 532"/>
            <p:cNvSpPr/>
            <p:nvPr/>
          </p:nvSpPr>
          <p:spPr>
            <a:xfrm>
              <a:off x="3951000" y="2995200"/>
              <a:ext cx="81720" cy="81720"/>
            </a:xfrm>
            <a:prstGeom prst="pie">
              <a:avLst/>
            </a:prstGeom>
            <a:solidFill>
              <a:srgbClr val="000000"/>
            </a:solidFill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7" name="Freeform 533"/>
            <p:cNvSpPr/>
            <p:nvPr/>
          </p:nvSpPr>
          <p:spPr>
            <a:xfrm>
              <a:off x="4862880" y="2899800"/>
              <a:ext cx="82440" cy="81720"/>
            </a:xfrm>
            <a:prstGeom prst="pie">
              <a:avLst/>
            </a:prstGeom>
            <a:solidFill>
              <a:srgbClr val="000000"/>
            </a:solidFill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8" name="Freeform 534"/>
            <p:cNvSpPr/>
            <p:nvPr/>
          </p:nvSpPr>
          <p:spPr>
            <a:xfrm>
              <a:off x="5774040" y="3689280"/>
              <a:ext cx="81720" cy="81360"/>
            </a:xfrm>
            <a:prstGeom prst="pie">
              <a:avLst/>
            </a:prstGeom>
            <a:solidFill>
              <a:srgbClr val="000000"/>
            </a:solidFill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9" name="Freeform 535"/>
            <p:cNvSpPr/>
            <p:nvPr/>
          </p:nvSpPr>
          <p:spPr>
            <a:xfrm>
              <a:off x="6685920" y="3495600"/>
              <a:ext cx="82440" cy="81720"/>
            </a:xfrm>
            <a:prstGeom prst="pie">
              <a:avLst/>
            </a:prstGeom>
            <a:solidFill>
              <a:srgbClr val="000000"/>
            </a:solidFill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0" name="Freeform 536"/>
            <p:cNvSpPr/>
            <p:nvPr/>
          </p:nvSpPr>
          <p:spPr>
            <a:xfrm>
              <a:off x="7598160" y="3820680"/>
              <a:ext cx="81720" cy="81720"/>
            </a:xfrm>
            <a:prstGeom prst="pie">
              <a:avLst/>
            </a:prstGeom>
            <a:solidFill>
              <a:srgbClr val="000000"/>
            </a:solidFill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1" name="Rectangle 537"/>
            <p:cNvSpPr/>
            <p:nvPr/>
          </p:nvSpPr>
          <p:spPr>
            <a:xfrm>
              <a:off x="2736720" y="1143000"/>
              <a:ext cx="4273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ysician Perceptions of P4Q In Three Healthcare Settings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2" name="Rectangle 538"/>
            <p:cNvSpPr/>
            <p:nvPr/>
          </p:nvSpPr>
          <p:spPr>
            <a:xfrm>
              <a:off x="2067120" y="33494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.91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3" name="Rectangle 539"/>
            <p:cNvSpPr/>
            <p:nvPr/>
          </p:nvSpPr>
          <p:spPr>
            <a:xfrm>
              <a:off x="2980080" y="38228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.37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4" name="Rectangle 540"/>
            <p:cNvSpPr/>
            <p:nvPr/>
          </p:nvSpPr>
          <p:spPr>
            <a:xfrm>
              <a:off x="3892680" y="21398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.29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5" name="Rectangle 541"/>
            <p:cNvSpPr/>
            <p:nvPr/>
          </p:nvSpPr>
          <p:spPr>
            <a:xfrm>
              <a:off x="4804200" y="22971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.11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6" name="Rectangle 542"/>
            <p:cNvSpPr/>
            <p:nvPr/>
          </p:nvSpPr>
          <p:spPr>
            <a:xfrm>
              <a:off x="5715360" y="29811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.33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7" name="Rectangle 543"/>
            <p:cNvSpPr/>
            <p:nvPr/>
          </p:nvSpPr>
          <p:spPr>
            <a:xfrm>
              <a:off x="2067120" y="38671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.67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8" name="Rectangle 544"/>
            <p:cNvSpPr/>
            <p:nvPr/>
          </p:nvSpPr>
          <p:spPr>
            <a:xfrm>
              <a:off x="2980080" y="44722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.98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9" name="Rectangle 545"/>
            <p:cNvSpPr/>
            <p:nvPr/>
          </p:nvSpPr>
          <p:spPr>
            <a:xfrm>
              <a:off x="2980080" y="40914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.24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0" name="Rectangle 546"/>
            <p:cNvSpPr/>
            <p:nvPr/>
          </p:nvSpPr>
          <p:spPr>
            <a:xfrm>
              <a:off x="7441200" y="40100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.46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1" name="Rectangle 547"/>
            <p:cNvSpPr/>
            <p:nvPr/>
          </p:nvSpPr>
          <p:spPr>
            <a:xfrm>
              <a:off x="6572520" y="36511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.89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2" name="Rectangle 548"/>
            <p:cNvSpPr/>
            <p:nvPr/>
          </p:nvSpPr>
          <p:spPr>
            <a:xfrm>
              <a:off x="7556760" y="34783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.79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3" name="Rectangle 549"/>
            <p:cNvSpPr/>
            <p:nvPr/>
          </p:nvSpPr>
          <p:spPr>
            <a:xfrm>
              <a:off x="6579000" y="32054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.11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4" name="Rectangle 550"/>
            <p:cNvSpPr/>
            <p:nvPr/>
          </p:nvSpPr>
          <p:spPr>
            <a:xfrm>
              <a:off x="5834520" y="38732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.61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" name="Rectangle 551"/>
            <p:cNvSpPr/>
            <p:nvPr/>
          </p:nvSpPr>
          <p:spPr>
            <a:xfrm>
              <a:off x="4724640" y="30178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.76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6" name="Rectangle 552"/>
            <p:cNvSpPr/>
            <p:nvPr/>
          </p:nvSpPr>
          <p:spPr>
            <a:xfrm>
              <a:off x="3997440" y="27896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.86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7" name="Rectangle 553"/>
            <p:cNvSpPr/>
            <p:nvPr/>
          </p:nvSpPr>
          <p:spPr>
            <a:xfrm>
              <a:off x="7715520" y="38163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.57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8" name="Rectangle 554"/>
            <p:cNvSpPr/>
            <p:nvPr/>
          </p:nvSpPr>
          <p:spPr>
            <a:xfrm>
              <a:off x="6784200" y="34275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.94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9" name="Rectangle 555"/>
            <p:cNvSpPr/>
            <p:nvPr/>
          </p:nvSpPr>
          <p:spPr>
            <a:xfrm>
              <a:off x="5756760" y="35164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.72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0" name="Rectangle 556"/>
            <p:cNvSpPr/>
            <p:nvPr/>
          </p:nvSpPr>
          <p:spPr>
            <a:xfrm>
              <a:off x="4781880" y="26575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.62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1" name="Rectangle 557"/>
            <p:cNvSpPr/>
            <p:nvPr/>
          </p:nvSpPr>
          <p:spPr>
            <a:xfrm>
              <a:off x="3997440" y="31557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.51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2" name="Rectangle 558"/>
            <p:cNvSpPr/>
            <p:nvPr/>
          </p:nvSpPr>
          <p:spPr>
            <a:xfrm>
              <a:off x="1911600" y="36036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.84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" name="Rectangle 559"/>
            <p:cNvSpPr/>
            <p:nvPr/>
          </p:nvSpPr>
          <p:spPr>
            <a:xfrm>
              <a:off x="1577880" y="5178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4" name="Rectangle 560"/>
            <p:cNvSpPr/>
            <p:nvPr/>
          </p:nvSpPr>
          <p:spPr>
            <a:xfrm>
              <a:off x="1492200" y="47422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5" name="Rectangle 561"/>
            <p:cNvSpPr/>
            <p:nvPr/>
          </p:nvSpPr>
          <p:spPr>
            <a:xfrm>
              <a:off x="1577880" y="4302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6" name="Rectangle 562"/>
            <p:cNvSpPr/>
            <p:nvPr/>
          </p:nvSpPr>
          <p:spPr>
            <a:xfrm>
              <a:off x="1492200" y="38638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7" name="Rectangle 563"/>
            <p:cNvSpPr/>
            <p:nvPr/>
          </p:nvSpPr>
          <p:spPr>
            <a:xfrm>
              <a:off x="1577880" y="3424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8" name="Rectangle 564"/>
            <p:cNvSpPr/>
            <p:nvPr/>
          </p:nvSpPr>
          <p:spPr>
            <a:xfrm>
              <a:off x="1492200" y="29862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9" name="Rectangle 565"/>
            <p:cNvSpPr/>
            <p:nvPr/>
          </p:nvSpPr>
          <p:spPr>
            <a:xfrm>
              <a:off x="1577880" y="2548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0" name="Rectangle 566"/>
            <p:cNvSpPr/>
            <p:nvPr/>
          </p:nvSpPr>
          <p:spPr>
            <a:xfrm>
              <a:off x="1492200" y="21099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.5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1" name="Rectangle 567"/>
            <p:cNvSpPr/>
            <p:nvPr/>
          </p:nvSpPr>
          <p:spPr>
            <a:xfrm>
              <a:off x="1577880" y="1670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2" name="Rectangle 568"/>
            <p:cNvSpPr/>
            <p:nvPr/>
          </p:nvSpPr>
          <p:spPr>
            <a:xfrm>
              <a:off x="1911240" y="5327640"/>
              <a:ext cx="50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wareness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3" name="Rectangle 569"/>
            <p:cNvSpPr/>
            <p:nvPr/>
          </p:nvSpPr>
          <p:spPr>
            <a:xfrm>
              <a:off x="2661840" y="5327640"/>
              <a:ext cx="829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nancial Salience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4" name="Rectangle 570"/>
            <p:cNvSpPr/>
            <p:nvPr/>
          </p:nvSpPr>
          <p:spPr>
            <a:xfrm>
              <a:off x="3567600" y="5327640"/>
              <a:ext cx="840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linical Relevance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5" name="Rectangle 571"/>
            <p:cNvSpPr/>
            <p:nvPr/>
          </p:nvSpPr>
          <p:spPr>
            <a:xfrm>
              <a:off x="4563000" y="5327640"/>
              <a:ext cx="678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 Unintended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6" name="Rectangle 572"/>
            <p:cNvSpPr/>
            <p:nvPr/>
          </p:nvSpPr>
          <p:spPr>
            <a:xfrm>
              <a:off x="4560120" y="5454720"/>
              <a:ext cx="680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nsequences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7" name="Rectangle 573"/>
            <p:cNvSpPr/>
            <p:nvPr/>
          </p:nvSpPr>
          <p:spPr>
            <a:xfrm>
              <a:off x="5650200" y="5327640"/>
              <a:ext cx="32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8" name="Rectangle 574"/>
            <p:cNvSpPr/>
            <p:nvPr/>
          </p:nvSpPr>
          <p:spPr>
            <a:xfrm>
              <a:off x="6448320" y="5327640"/>
              <a:ext cx="55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operation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9" name="Rectangle 575"/>
            <p:cNvSpPr/>
            <p:nvPr/>
          </p:nvSpPr>
          <p:spPr>
            <a:xfrm>
              <a:off x="7482600" y="5327640"/>
              <a:ext cx="308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mpact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" name="Line 576"/>
            <p:cNvSpPr/>
            <p:nvPr/>
          </p:nvSpPr>
          <p:spPr>
            <a:xfrm>
              <a:off x="2513160" y="1476360"/>
              <a:ext cx="226440" cy="360"/>
            </a:xfrm>
            <a:prstGeom prst="line">
              <a:avLst/>
            </a:prstGeom>
            <a:ln w="198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1" name="Rectangle 577"/>
            <p:cNvSpPr/>
            <p:nvPr/>
          </p:nvSpPr>
          <p:spPr>
            <a:xfrm>
              <a:off x="2591280" y="1441800"/>
              <a:ext cx="68400" cy="67680"/>
            </a:xfrm>
            <a:prstGeom prst="rect">
              <a:avLst/>
            </a:prstGeom>
            <a:solidFill>
              <a:srgbClr val="0000ff"/>
            </a:solidFill>
            <a:ln w="10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2" name="Rectangle 578"/>
            <p:cNvSpPr/>
            <p:nvPr/>
          </p:nvSpPr>
          <p:spPr>
            <a:xfrm>
              <a:off x="2738160" y="1485720"/>
              <a:ext cx="168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ontefiore Medical Group (n=45)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3" name="Line 579"/>
            <p:cNvSpPr/>
            <p:nvPr/>
          </p:nvSpPr>
          <p:spPr>
            <a:xfrm>
              <a:off x="4505760" y="1476360"/>
              <a:ext cx="226080" cy="360"/>
            </a:xfrm>
            <a:prstGeom prst="line">
              <a:avLst/>
            </a:prstGeom>
            <a:ln w="19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4" name="Oval 580"/>
            <p:cNvSpPr/>
            <p:nvPr/>
          </p:nvSpPr>
          <p:spPr>
            <a:xfrm>
              <a:off x="4572000" y="1485720"/>
              <a:ext cx="68400" cy="67680"/>
            </a:xfrm>
            <a:prstGeom prst="ellipse">
              <a:avLst/>
            </a:prstGeom>
            <a:solidFill>
              <a:srgbClr val="ff0000"/>
            </a:solidFill>
            <a:ln w="10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5" name="Rectangle 581"/>
            <p:cNvSpPr/>
            <p:nvPr/>
          </p:nvSpPr>
          <p:spPr>
            <a:xfrm>
              <a:off x="4798440" y="1485720"/>
              <a:ext cx="1163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MC HealthNet (n=27)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6" name="Line 582"/>
            <p:cNvSpPr/>
            <p:nvPr/>
          </p:nvSpPr>
          <p:spPr>
            <a:xfrm>
              <a:off x="5979600" y="1519920"/>
              <a:ext cx="226080" cy="360"/>
            </a:xfrm>
            <a:prstGeom prst="line">
              <a:avLst/>
            </a:prstGeom>
            <a:ln w="19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7" name="Freeform 583"/>
            <p:cNvSpPr/>
            <p:nvPr/>
          </p:nvSpPr>
          <p:spPr>
            <a:xfrm>
              <a:off x="6057720" y="1485720"/>
              <a:ext cx="69840" cy="69120"/>
            </a:xfrm>
            <a:prstGeom prst="pie">
              <a:avLst/>
            </a:prstGeom>
            <a:solidFill>
              <a:srgbClr val="000000"/>
            </a:solidFill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8" name="Rectangle 584"/>
            <p:cNvSpPr/>
            <p:nvPr/>
          </p:nvSpPr>
          <p:spPr>
            <a:xfrm>
              <a:off x="6286320" y="1371600"/>
              <a:ext cx="69588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IPA (n=234)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9" name="Rectangle 585"/>
            <p:cNvSpPr/>
            <p:nvPr/>
          </p:nvSpPr>
          <p:spPr>
            <a:xfrm>
              <a:off x="1184040" y="954720"/>
              <a:ext cx="7002720" cy="4737600"/>
            </a:xfrm>
            <a:prstGeom prst="rect">
              <a:avLst/>
            </a:prstGeom>
            <a:noFill/>
            <a:ln w="19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0" name="Rectangle 586"/>
            <p:cNvSpPr/>
            <p:nvPr/>
          </p:nvSpPr>
          <p:spPr>
            <a:xfrm>
              <a:off x="1257120" y="2628720"/>
              <a:ext cx="262800" cy="174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91" name="Rectangle 588"/>
          <p:cNvSpPr/>
          <p:nvPr/>
        </p:nvSpPr>
        <p:spPr>
          <a:xfrm rot="16200000">
            <a:off x="297000" y="3269880"/>
            <a:ext cx="21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cale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cor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(Min=1/Max=5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Finding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Physicians accepting of concept, but</a:t>
            </a: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financial incentive not a direct motivator for quality.</a:t>
            </a: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“…</a:t>
            </a: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just pay us appropriately to begin with. Why should you have to incentivize a doctor for quality if you pay them enough.”</a:t>
            </a: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Finding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Achievement of pay-for-performance program goals complicated by socio-economic status of patients.  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Many of these people we care for, part of their economic, social and psychological experience is that they lack value…So that the whole process of communicating to a person that they are a human being of value, part of that occurs in the communication between a physician and that of a patient.” 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Finding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Financial incentives for quality can be undercut by larger incentives for productivity.</a:t>
            </a: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You feel like sometimes you’re running an assembly line…there is an inherent conflict between time and quality.”</a:t>
            </a: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nclusions and Directions for Future Researc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ile our research suggests that P4P is not necessarily antithetical to the values of safety-net providers, the effectiveness of the concept for improving quality in such settings is not very apparen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designing P4P programs to improve quality, careful consideration must be given to other incentive and compensation arrangements that may conflict or undermine quality-related incentives.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s our investigation consisted of two case studies, research is needed to test the validity of the findings in a large sample of safety-net provider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efinition of Safety-Net Provider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arious criteria have been proposed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rvice to high levels of Medicaid and uninsured patien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ublic ownersh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ural sett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ay-for-Performance (P4P) in Safety-Net Settings*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 of July 2006, 28 state Medicaid agencies were operating P4P program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5 Medicaid agencies plan to start P4P program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y 2011, there will be an estimated 82 P4P programs in 43 stat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* Source: Center for Health Care Strateg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4P: Will it Work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ecent evidence points to modest gains from P4P in terms of provider adherenc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elected Findings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osenthal et al. (2006) Relative increase of 3.6 percentage points for cervical cancer screening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evin-Scherz et al. (2006) Relative increase of 2-19 percentage points for diabetes measur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indenauer et a. (2007) CMS Premier demonstration: Relative increase of 2.6 percentage points for AMI measures; 3.4 points for pneumonia measures; 4.1 points for heart failure measures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Young et al. (2007)Absolute increase of 7 percentage points for diabetes measure (e.g., eye exam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earson et al. (2008) Relative increase of .04 to .07 percentage points for certain diabetes measures and well child visits. But relatively less improvement for other measures (e.g., Chlamydia screening)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4P and Safety-Net Providers: Existing Researc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elt-Lisk et al. (2007) Absolute increase of 4 to 22 percentage point increase among 4 CA Medicaid plans (i.e., Local Initiative Rewarding Results) for well child visits (documentation-driven improvement)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erner et al. (2008) Hospitals with high Medicaid caseloads (&gt; or = 40%) exhibit relatively less improvement on Medicare Compare measures (e.g., aspirin at discharge) than hospitals with low Medicaid caseloads(&lt; or =5% 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oldman et al (2007) Survey of 37 executives at safety-net hospitals about public reporting and P4P. Major concerns: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ase mix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lack of resourc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, a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socio-economic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blems of patients (e.g., inability to speak English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4P in Safety-Net Settings: Theoretical Consideration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erformance = Motivation + Skil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nancial incentive as a motivator: external rewards vs. intrinsic motiv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kills for improving quality: Learning vs. Performing; Resources for improving quality (added pressures from complexity of case mix, high need for care coordination)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HRQ Research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ree Key Questi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is the potential for pay-for-performance to improve quality in safety net settings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e there unique challenges to designing and implementing pay-for-performance in safety net settings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es applying pay-for-performance to safety net settings carry substantial risks for unintended consequences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tudy Setting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Boston Medical Center HealthNet Plan and 13 community health center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nsurer-sponsored program (new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ommunity health center as unit of accountabili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edicaid popul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ontefiore Medical Groups (New York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rovider-sponsored program (mature; full-risk contracts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ndividual physician as unit of accountability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edicaid and uninsured popul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rces of Data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rvey of physicia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- HealthNet (61/108; 56% response rate; 44% aware of incentive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-Montefiore (89/141; 63% response rate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50% aware of incentive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erviews with senior lead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nical performance data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- Administrative data (HealthNet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- Chart reviews (Montefior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8:46:04Z</dcterms:created>
  <dc:creator>BUMC</dc:creator>
  <dc:description/>
  <dc:language>en-US</dc:language>
  <cp:lastModifiedBy>1_Mary</cp:lastModifiedBy>
  <dcterms:modified xsi:type="dcterms:W3CDTF">2009-01-01T23:53:59Z</dcterms:modified>
  <cp:revision>28</cp:revision>
  <dc:subject/>
  <dc:title>Slide 1</dc:title>
</cp:coreProperties>
</file>