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2A0D-F0E0-4D29-8059-7DB12EAB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998E-34EE-47F2-B47E-999716F5CC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BBC0-69E9-429C-9028-8E0458318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7AE3-2830-4818-9385-EE766AD47F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BEA1-DB92-4400-B65D-0DC5902B91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AFFA-8354-4132-96C2-8D0AC790B3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7164-ED35-41B6-B180-B771AC3B33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2355-C92B-405C-862A-33939A8BFF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9E0-A7EA-4201-B4B3-9B5ED04BA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8AD3-71B7-490E-B1CE-A3B0FB9F7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CFC-E87A-4FD5-90D3-3213F1398E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82E9-53D3-40BB-9E05-2251783915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33D-39D8-4697-A3FC-27B8686AC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DF5C-EA61-4471-AD10-831CD14E1E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000-0429-47F7-876A-357ED760B8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6251-B84F-4C9A-BE27-D47378B7B8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D0DE-6E8C-4F22-BD81-C22F2BF8D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F7DE-FB08-4A22-8CB3-22D0DA434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18B-62A1-43E5-A9C6-8D518591E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1F6-28F7-4150-B237-710D9CC8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86D5-9061-4040-ABC0-AB8D3C16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C94-F23E-48DD-BD94-1CE53DA0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AFB1-3F92-4CDD-B7BB-DAEA78D2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251C-1F51-4E48-9499-A64A013D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E596-FAD5-4D6F-8351-DCF696E4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C7F7-5AAC-4149-B94A-4C7B9400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137A-54EE-4031-8002-51321E6A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15FB-5113-470F-A626-E8B68C4B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CA12-571A-4C8F-88B2-22F1B2C2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050-6428-4F09-BCB0-E7AE1F86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0CFD-03FC-45A1-B83D-84EBB11A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4C5-72C6-40D8-92F0-EFE327C7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AD49-BEA1-4113-BC77-D682A4D7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40F1-B97D-4C2B-82FB-C2C48E32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BD03-EA98-42D9-843B-5806B9CB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76E-C53B-47C5-AC0E-D9F27443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82B-D2C0-4F0A-B435-F14DD454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AEEA-259D-40E9-8FDB-438255E9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89A-81B7-4467-B5C4-E68E17B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4B4-4ECF-4D3B-93AD-00AA6173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D6A-B555-4BCA-A8FE-5C0F4581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852-9A80-4C45-9AAE-051240D6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3C6-CC84-4CDF-9A30-7D158269472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A8B-7DB7-406B-8D5C-3372C84603F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y-for-Performance in Safety Net Settings: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New Evidence from the Agency for Healthcare Research and Quality (AHRQ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ry Young, J.D., Ph.D., Bert White M.B.A., Karen Sautter, M.P.H., Jason Silver, Barbara Bokhour, Ph.D., Mark Meterko, Ph.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ston University School of Public Healt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partment of Veterans Affairs, Health Services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and Development Serv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HRQ annual meet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ptember 9, 200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ancial support from the Agency for Healthcare Research and Qualit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Key Findings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definitive evidence of quality improvement in short te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igher adherence to clinical process correlated with better patient outcom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evidence of unintended consequences based on survey, interviews, and clinical performance da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ysicians accepting of concept, bu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incentive not a direct motivator for qual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hievement of pay-for-performance program goals complicated by socio-economic status of patients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incentives for quality can be undercut by larger incentives for productivit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definitive evidence of quality improvement in short ter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BMC HealthNet Performance Measures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herence scores, 13 community health center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09480" y="8380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152"/>
          <p:cNvSpPr/>
          <p:nvPr/>
        </p:nvSpPr>
        <p:spPr>
          <a:xfrm>
            <a:off x="380880" y="6033960"/>
            <a:ext cx="8382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Diabetic Eye Exam no incentive in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HbA1c incentive in 2007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**No Data Availabl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371600"/>
          <a:ext cx="8229600" cy="453060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1066680"/>
                <a:gridCol w="990720"/>
                <a:gridCol w="871560"/>
                <a:gridCol w="1041480"/>
                <a:gridCol w="1287360"/>
              </a:tblGrid>
              <a:tr h="569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 Measu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centiviz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ional Medica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ationalMedicai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MC Health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Medicaid**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sthm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Well Child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Diabetic Eye Exam 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bA1c Testing *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n-Incentiviz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dolescent Well Child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LDL Screenin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ephropathy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Higher adherence to clinical process correlated with better patient outcomes (based on sample of 51 physicians at Montefiore from 2002 to 2006)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bA1c: .33 -- .6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DL: .22 -- .4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No evidence of unintended consequences based on survey, interviews and clinical performance data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hysician Survey Data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Rectangle 391"/>
          <p:cNvSpPr/>
          <p:nvPr/>
        </p:nvSpPr>
        <p:spPr>
          <a:xfrm rot="16200000">
            <a:off x="441360" y="3371760"/>
            <a:ext cx="180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cale Score (Min=1/Max=5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Group 491"/>
          <p:cNvGrpSpPr/>
          <p:nvPr/>
        </p:nvGrpSpPr>
        <p:grpSpPr>
          <a:xfrm>
            <a:off x="1143000" y="914400"/>
            <a:ext cx="7086600" cy="4819680"/>
            <a:chOff x="1143000" y="914400"/>
            <a:chExt cx="7086600" cy="4819680"/>
          </a:xfrm>
        </p:grpSpPr>
        <p:sp>
          <p:nvSpPr>
            <p:cNvPr id="196" name="AutoShape 492"/>
            <p:cNvSpPr/>
            <p:nvPr/>
          </p:nvSpPr>
          <p:spPr>
            <a:xfrm>
              <a:off x="1143000" y="914400"/>
              <a:ext cx="7086600" cy="4819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Rectangle 493"/>
            <p:cNvSpPr/>
            <p:nvPr/>
          </p:nvSpPr>
          <p:spPr>
            <a:xfrm>
              <a:off x="1184040" y="954720"/>
              <a:ext cx="7002720" cy="4737600"/>
            </a:xfrm>
            <a:prstGeom prst="rect">
              <a:avLst/>
            </a:prstGeom>
            <a:noFill/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Line 494"/>
            <p:cNvSpPr/>
            <p:nvPr/>
          </p:nvSpPr>
          <p:spPr>
            <a:xfrm>
              <a:off x="1711800" y="1729440"/>
              <a:ext cx="720" cy="350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Line 495"/>
            <p:cNvSpPr/>
            <p:nvPr/>
          </p:nvSpPr>
          <p:spPr>
            <a:xfrm>
              <a:off x="1680840" y="523872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Line 496"/>
            <p:cNvSpPr/>
            <p:nvPr/>
          </p:nvSpPr>
          <p:spPr>
            <a:xfrm>
              <a:off x="1680840" y="480060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Line 497"/>
            <p:cNvSpPr/>
            <p:nvPr/>
          </p:nvSpPr>
          <p:spPr>
            <a:xfrm>
              <a:off x="1680840" y="436176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Line 498"/>
            <p:cNvSpPr/>
            <p:nvPr/>
          </p:nvSpPr>
          <p:spPr>
            <a:xfrm>
              <a:off x="1680840" y="392364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Line 499"/>
            <p:cNvSpPr/>
            <p:nvPr/>
          </p:nvSpPr>
          <p:spPr>
            <a:xfrm>
              <a:off x="1680840" y="348408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Line 500"/>
            <p:cNvSpPr/>
            <p:nvPr/>
          </p:nvSpPr>
          <p:spPr>
            <a:xfrm>
              <a:off x="1680840" y="3045960"/>
              <a:ext cx="309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5" name="Line 501"/>
            <p:cNvSpPr/>
            <p:nvPr/>
          </p:nvSpPr>
          <p:spPr>
            <a:xfrm>
              <a:off x="1680840" y="260676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Line 502"/>
            <p:cNvSpPr/>
            <p:nvPr/>
          </p:nvSpPr>
          <p:spPr>
            <a:xfrm>
              <a:off x="1680840" y="216900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Line 503"/>
            <p:cNvSpPr/>
            <p:nvPr/>
          </p:nvSpPr>
          <p:spPr>
            <a:xfrm>
              <a:off x="1680840" y="1729440"/>
              <a:ext cx="3096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Line 504"/>
            <p:cNvSpPr/>
            <p:nvPr/>
          </p:nvSpPr>
          <p:spPr>
            <a:xfrm>
              <a:off x="1711800" y="5238720"/>
              <a:ext cx="638316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Line 505"/>
            <p:cNvSpPr/>
            <p:nvPr/>
          </p:nvSpPr>
          <p:spPr>
            <a:xfrm flipV="1">
              <a:off x="171180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Line 506"/>
            <p:cNvSpPr/>
            <p:nvPr/>
          </p:nvSpPr>
          <p:spPr>
            <a:xfrm flipV="1">
              <a:off x="262368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1" name="Line 507"/>
            <p:cNvSpPr/>
            <p:nvPr/>
          </p:nvSpPr>
          <p:spPr>
            <a:xfrm flipV="1">
              <a:off x="353484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Line 508"/>
            <p:cNvSpPr/>
            <p:nvPr/>
          </p:nvSpPr>
          <p:spPr>
            <a:xfrm flipV="1">
              <a:off x="444744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Line 509"/>
            <p:cNvSpPr/>
            <p:nvPr/>
          </p:nvSpPr>
          <p:spPr>
            <a:xfrm flipV="1">
              <a:off x="535932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Line 510"/>
            <p:cNvSpPr/>
            <p:nvPr/>
          </p:nvSpPr>
          <p:spPr>
            <a:xfrm flipV="1">
              <a:off x="6271920" y="5238720"/>
              <a:ext cx="72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Line 511"/>
            <p:cNvSpPr/>
            <p:nvPr/>
          </p:nvSpPr>
          <p:spPr>
            <a:xfrm flipV="1">
              <a:off x="718236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Line 512"/>
            <p:cNvSpPr/>
            <p:nvPr/>
          </p:nvSpPr>
          <p:spPr>
            <a:xfrm flipV="1">
              <a:off x="8094960" y="5238720"/>
              <a:ext cx="36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513"/>
            <p:cNvSpPr/>
            <p:nvPr/>
          </p:nvSpPr>
          <p:spPr>
            <a:xfrm>
              <a:off x="2167200" y="2352600"/>
              <a:ext cx="5472360" cy="1684080"/>
            </a:xfrm>
            <a:prstGeom prst="pie">
              <a:avLst/>
            </a:prstGeom>
            <a:noFill/>
            <a:ln w="19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514"/>
            <p:cNvSpPr/>
            <p:nvPr/>
          </p:nvSpPr>
          <p:spPr>
            <a:xfrm>
              <a:off x="2167200" y="2729880"/>
              <a:ext cx="5472360" cy="1649160"/>
            </a:xfrm>
            <a:prstGeom prst="pie">
              <a:avLst/>
            </a:prstGeom>
            <a:noFill/>
            <a:ln w="198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515"/>
            <p:cNvSpPr/>
            <p:nvPr/>
          </p:nvSpPr>
          <p:spPr>
            <a:xfrm>
              <a:off x="2167200" y="2940480"/>
              <a:ext cx="5472360" cy="1209600"/>
            </a:xfrm>
            <a:prstGeom prst="pie">
              <a:avLst/>
            </a:prstGeom>
            <a:noFill/>
            <a:ln w="19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Rectangle 516"/>
            <p:cNvSpPr/>
            <p:nvPr/>
          </p:nvSpPr>
          <p:spPr>
            <a:xfrm>
              <a:off x="2125800" y="352296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Rectangle 517"/>
            <p:cNvSpPr/>
            <p:nvPr/>
          </p:nvSpPr>
          <p:spPr>
            <a:xfrm>
              <a:off x="3038400" y="399528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Rectangle 518"/>
            <p:cNvSpPr/>
            <p:nvPr/>
          </p:nvSpPr>
          <p:spPr>
            <a:xfrm>
              <a:off x="3951000" y="231120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Rectangle 519"/>
            <p:cNvSpPr/>
            <p:nvPr/>
          </p:nvSpPr>
          <p:spPr>
            <a:xfrm>
              <a:off x="4862880" y="246924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Rectangle 520"/>
            <p:cNvSpPr/>
            <p:nvPr/>
          </p:nvSpPr>
          <p:spPr>
            <a:xfrm>
              <a:off x="5774040" y="315396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Rectangle 521"/>
            <p:cNvSpPr/>
            <p:nvPr/>
          </p:nvSpPr>
          <p:spPr>
            <a:xfrm>
              <a:off x="6685920" y="3539880"/>
              <a:ext cx="8136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522"/>
            <p:cNvSpPr/>
            <p:nvPr/>
          </p:nvSpPr>
          <p:spPr>
            <a:xfrm>
              <a:off x="7598160" y="3917160"/>
              <a:ext cx="80640" cy="8064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Oval 523"/>
            <p:cNvSpPr/>
            <p:nvPr/>
          </p:nvSpPr>
          <p:spPr>
            <a:xfrm>
              <a:off x="2125800" y="373248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Oval 524"/>
            <p:cNvSpPr/>
            <p:nvPr/>
          </p:nvSpPr>
          <p:spPr>
            <a:xfrm>
              <a:off x="3038400" y="433836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Oval 525"/>
            <p:cNvSpPr/>
            <p:nvPr/>
          </p:nvSpPr>
          <p:spPr>
            <a:xfrm>
              <a:off x="3951000" y="268848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Oval 526"/>
            <p:cNvSpPr/>
            <p:nvPr/>
          </p:nvSpPr>
          <p:spPr>
            <a:xfrm>
              <a:off x="4862880" y="277668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Oval 527"/>
            <p:cNvSpPr/>
            <p:nvPr/>
          </p:nvSpPr>
          <p:spPr>
            <a:xfrm>
              <a:off x="5774040" y="378576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Oval 528"/>
            <p:cNvSpPr/>
            <p:nvPr/>
          </p:nvSpPr>
          <p:spPr>
            <a:xfrm>
              <a:off x="6685920" y="3346200"/>
              <a:ext cx="8136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Oval 529"/>
            <p:cNvSpPr/>
            <p:nvPr/>
          </p:nvSpPr>
          <p:spPr>
            <a:xfrm>
              <a:off x="7598160" y="3627000"/>
              <a:ext cx="80640" cy="8064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530"/>
            <p:cNvSpPr/>
            <p:nvPr/>
          </p:nvSpPr>
          <p:spPr>
            <a:xfrm>
              <a:off x="2125800" y="358308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5" name="Freeform 531"/>
            <p:cNvSpPr/>
            <p:nvPr/>
          </p:nvSpPr>
          <p:spPr>
            <a:xfrm>
              <a:off x="3038400" y="410976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6" name="Freeform 532"/>
            <p:cNvSpPr/>
            <p:nvPr/>
          </p:nvSpPr>
          <p:spPr>
            <a:xfrm>
              <a:off x="3951000" y="299520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7" name="Freeform 533"/>
            <p:cNvSpPr/>
            <p:nvPr/>
          </p:nvSpPr>
          <p:spPr>
            <a:xfrm>
              <a:off x="4862880" y="289980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8" name="Freeform 534"/>
            <p:cNvSpPr/>
            <p:nvPr/>
          </p:nvSpPr>
          <p:spPr>
            <a:xfrm>
              <a:off x="5774040" y="3689280"/>
              <a:ext cx="81720" cy="8136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9" name="Freeform 535"/>
            <p:cNvSpPr/>
            <p:nvPr/>
          </p:nvSpPr>
          <p:spPr>
            <a:xfrm>
              <a:off x="6685920" y="3495600"/>
              <a:ext cx="8244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Freeform 536"/>
            <p:cNvSpPr/>
            <p:nvPr/>
          </p:nvSpPr>
          <p:spPr>
            <a:xfrm>
              <a:off x="7598160" y="3820680"/>
              <a:ext cx="81720" cy="817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1" name="Rectangle 537"/>
            <p:cNvSpPr/>
            <p:nvPr/>
          </p:nvSpPr>
          <p:spPr>
            <a:xfrm>
              <a:off x="2736720" y="1143000"/>
              <a:ext cx="4273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ysician Perceptions of P4Q In Three Healthcare Settings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Rectangle 538"/>
            <p:cNvSpPr/>
            <p:nvPr/>
          </p:nvSpPr>
          <p:spPr>
            <a:xfrm>
              <a:off x="2067120" y="3349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9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3" name="Rectangle 539"/>
            <p:cNvSpPr/>
            <p:nvPr/>
          </p:nvSpPr>
          <p:spPr>
            <a:xfrm>
              <a:off x="2980080" y="3822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3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4" name="Rectangle 540"/>
            <p:cNvSpPr/>
            <p:nvPr/>
          </p:nvSpPr>
          <p:spPr>
            <a:xfrm>
              <a:off x="3892680" y="21398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2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5" name="Rectangle 541"/>
            <p:cNvSpPr/>
            <p:nvPr/>
          </p:nvSpPr>
          <p:spPr>
            <a:xfrm>
              <a:off x="4804200" y="2297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1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6" name="Rectangle 542"/>
            <p:cNvSpPr/>
            <p:nvPr/>
          </p:nvSpPr>
          <p:spPr>
            <a:xfrm>
              <a:off x="5715360" y="29811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33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7" name="Rectangle 543"/>
            <p:cNvSpPr/>
            <p:nvPr/>
          </p:nvSpPr>
          <p:spPr>
            <a:xfrm>
              <a:off x="2067120" y="3867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6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8" name="Rectangle 544"/>
            <p:cNvSpPr/>
            <p:nvPr/>
          </p:nvSpPr>
          <p:spPr>
            <a:xfrm>
              <a:off x="2980080" y="44722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98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9" name="Rectangle 545"/>
            <p:cNvSpPr/>
            <p:nvPr/>
          </p:nvSpPr>
          <p:spPr>
            <a:xfrm>
              <a:off x="2980080" y="40914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2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0" name="Rectangle 546"/>
            <p:cNvSpPr/>
            <p:nvPr/>
          </p:nvSpPr>
          <p:spPr>
            <a:xfrm>
              <a:off x="7441200" y="40100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4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1" name="Rectangle 547"/>
            <p:cNvSpPr/>
            <p:nvPr/>
          </p:nvSpPr>
          <p:spPr>
            <a:xfrm>
              <a:off x="6572520" y="36511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8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2" name="Rectangle 548"/>
            <p:cNvSpPr/>
            <p:nvPr/>
          </p:nvSpPr>
          <p:spPr>
            <a:xfrm>
              <a:off x="7556760" y="34783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79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3" name="Rectangle 549"/>
            <p:cNvSpPr/>
            <p:nvPr/>
          </p:nvSpPr>
          <p:spPr>
            <a:xfrm>
              <a:off x="6579000" y="32054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1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4" name="Rectangle 550"/>
            <p:cNvSpPr/>
            <p:nvPr/>
          </p:nvSpPr>
          <p:spPr>
            <a:xfrm>
              <a:off x="5834520" y="38732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6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5" name="Rectangle 551"/>
            <p:cNvSpPr/>
            <p:nvPr/>
          </p:nvSpPr>
          <p:spPr>
            <a:xfrm>
              <a:off x="4724640" y="30178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7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6" name="Rectangle 552"/>
            <p:cNvSpPr/>
            <p:nvPr/>
          </p:nvSpPr>
          <p:spPr>
            <a:xfrm>
              <a:off x="3997440" y="278964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86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7" name="Rectangle 553"/>
            <p:cNvSpPr/>
            <p:nvPr/>
          </p:nvSpPr>
          <p:spPr>
            <a:xfrm>
              <a:off x="7715520" y="38163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7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8" name="Rectangle 554"/>
            <p:cNvSpPr/>
            <p:nvPr/>
          </p:nvSpPr>
          <p:spPr>
            <a:xfrm>
              <a:off x="6784200" y="34275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9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9" name="Rectangle 555"/>
            <p:cNvSpPr/>
            <p:nvPr/>
          </p:nvSpPr>
          <p:spPr>
            <a:xfrm>
              <a:off x="5756760" y="351648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7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0" name="Rectangle 556"/>
            <p:cNvSpPr/>
            <p:nvPr/>
          </p:nvSpPr>
          <p:spPr>
            <a:xfrm>
              <a:off x="4781880" y="265752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6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1" name="Rectangle 557"/>
            <p:cNvSpPr/>
            <p:nvPr/>
          </p:nvSpPr>
          <p:spPr>
            <a:xfrm>
              <a:off x="3997440" y="315576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5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2" name="Rectangle 558"/>
            <p:cNvSpPr/>
            <p:nvPr/>
          </p:nvSpPr>
          <p:spPr>
            <a:xfrm>
              <a:off x="1911600" y="3603600"/>
              <a:ext cx="198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8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Rectangle 559"/>
            <p:cNvSpPr/>
            <p:nvPr/>
          </p:nvSpPr>
          <p:spPr>
            <a:xfrm>
              <a:off x="1577880" y="517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4" name="Rectangle 560"/>
            <p:cNvSpPr/>
            <p:nvPr/>
          </p:nvSpPr>
          <p:spPr>
            <a:xfrm>
              <a:off x="1492200" y="47422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Rectangle 561"/>
            <p:cNvSpPr/>
            <p:nvPr/>
          </p:nvSpPr>
          <p:spPr>
            <a:xfrm>
              <a:off x="1577880" y="4302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6" name="Rectangle 562"/>
            <p:cNvSpPr/>
            <p:nvPr/>
          </p:nvSpPr>
          <p:spPr>
            <a:xfrm>
              <a:off x="1492200" y="38638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7" name="Rectangle 563"/>
            <p:cNvSpPr/>
            <p:nvPr/>
          </p:nvSpPr>
          <p:spPr>
            <a:xfrm>
              <a:off x="1577880" y="3424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8" name="Rectangle 564"/>
            <p:cNvSpPr/>
            <p:nvPr/>
          </p:nvSpPr>
          <p:spPr>
            <a:xfrm>
              <a:off x="1492200" y="2986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Rectangle 565"/>
            <p:cNvSpPr/>
            <p:nvPr/>
          </p:nvSpPr>
          <p:spPr>
            <a:xfrm>
              <a:off x="1577880" y="2548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Rectangle 566"/>
            <p:cNvSpPr/>
            <p:nvPr/>
          </p:nvSpPr>
          <p:spPr>
            <a:xfrm>
              <a:off x="1492200" y="21099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Rectangle 567"/>
            <p:cNvSpPr/>
            <p:nvPr/>
          </p:nvSpPr>
          <p:spPr>
            <a:xfrm>
              <a:off x="1577880" y="1670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Rectangle 568"/>
            <p:cNvSpPr/>
            <p:nvPr/>
          </p:nvSpPr>
          <p:spPr>
            <a:xfrm>
              <a:off x="1911240" y="5327640"/>
              <a:ext cx="505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wareness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Rectangle 569"/>
            <p:cNvSpPr/>
            <p:nvPr/>
          </p:nvSpPr>
          <p:spPr>
            <a:xfrm>
              <a:off x="2661840" y="5327640"/>
              <a:ext cx="82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nancial Salience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Rectangle 570"/>
            <p:cNvSpPr/>
            <p:nvPr/>
          </p:nvSpPr>
          <p:spPr>
            <a:xfrm>
              <a:off x="3567600" y="5327640"/>
              <a:ext cx="840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nical Relevance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Rectangle 571"/>
            <p:cNvSpPr/>
            <p:nvPr/>
          </p:nvSpPr>
          <p:spPr>
            <a:xfrm>
              <a:off x="4563000" y="5327640"/>
              <a:ext cx="678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 Unintended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Rectangle 572"/>
            <p:cNvSpPr/>
            <p:nvPr/>
          </p:nvSpPr>
          <p:spPr>
            <a:xfrm>
              <a:off x="4560120" y="54547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sequences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Rectangle 573"/>
            <p:cNvSpPr/>
            <p:nvPr/>
          </p:nvSpPr>
          <p:spPr>
            <a:xfrm>
              <a:off x="5650200" y="5327640"/>
              <a:ext cx="32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Rectangle 574"/>
            <p:cNvSpPr/>
            <p:nvPr/>
          </p:nvSpPr>
          <p:spPr>
            <a:xfrm>
              <a:off x="6448320" y="5327640"/>
              <a:ext cx="55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operation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Rectangle 575"/>
            <p:cNvSpPr/>
            <p:nvPr/>
          </p:nvSpPr>
          <p:spPr>
            <a:xfrm>
              <a:off x="7482600" y="5327640"/>
              <a:ext cx="30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mpact</a:t>
              </a:r>
              <a:endParaRPr b="0" lang="en-US" sz="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Line 576"/>
            <p:cNvSpPr/>
            <p:nvPr/>
          </p:nvSpPr>
          <p:spPr>
            <a:xfrm>
              <a:off x="2513160" y="1476360"/>
              <a:ext cx="226440" cy="360"/>
            </a:xfrm>
            <a:prstGeom prst="line">
              <a:avLst/>
            </a:prstGeom>
            <a:ln w="198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Rectangle 577"/>
            <p:cNvSpPr/>
            <p:nvPr/>
          </p:nvSpPr>
          <p:spPr>
            <a:xfrm>
              <a:off x="2591280" y="1441800"/>
              <a:ext cx="68400" cy="67680"/>
            </a:xfrm>
            <a:prstGeom prst="rect">
              <a:avLst/>
            </a:prstGeom>
            <a:solidFill>
              <a:srgbClr val="0000ff"/>
            </a:solidFill>
            <a:ln w="10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Rectangle 578"/>
            <p:cNvSpPr/>
            <p:nvPr/>
          </p:nvSpPr>
          <p:spPr>
            <a:xfrm>
              <a:off x="2738160" y="1485720"/>
              <a:ext cx="168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ntefiore Medical Group (n=45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3" name="Line 579"/>
            <p:cNvSpPr/>
            <p:nvPr/>
          </p:nvSpPr>
          <p:spPr>
            <a:xfrm>
              <a:off x="4505760" y="1476360"/>
              <a:ext cx="226080" cy="360"/>
            </a:xfrm>
            <a:prstGeom prst="line">
              <a:avLst/>
            </a:prstGeom>
            <a:ln w="198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4" name="Oval 580"/>
            <p:cNvSpPr/>
            <p:nvPr/>
          </p:nvSpPr>
          <p:spPr>
            <a:xfrm>
              <a:off x="4572000" y="1485720"/>
              <a:ext cx="68400" cy="67680"/>
            </a:xfrm>
            <a:prstGeom prst="ellipse">
              <a:avLst/>
            </a:prstGeom>
            <a:solidFill>
              <a:srgbClr val="ff0000"/>
            </a:solidFill>
            <a:ln w="10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Rectangle 581"/>
            <p:cNvSpPr/>
            <p:nvPr/>
          </p:nvSpPr>
          <p:spPr>
            <a:xfrm>
              <a:off x="4798440" y="1485720"/>
              <a:ext cx="1163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MC HealthNet (n=27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6" name="Line 582"/>
            <p:cNvSpPr/>
            <p:nvPr/>
          </p:nvSpPr>
          <p:spPr>
            <a:xfrm>
              <a:off x="5979600" y="1519920"/>
              <a:ext cx="226080" cy="360"/>
            </a:xfrm>
            <a:prstGeom prst="line">
              <a:avLst/>
            </a:prstGeom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7" name="Freeform 583"/>
            <p:cNvSpPr/>
            <p:nvPr/>
          </p:nvSpPr>
          <p:spPr>
            <a:xfrm>
              <a:off x="6057720" y="1485720"/>
              <a:ext cx="69840" cy="69120"/>
            </a:xfrm>
            <a:prstGeom prst="pie">
              <a:avLst/>
            </a:prstGeom>
            <a:solidFill>
              <a:srgbClr val="000000"/>
            </a:solidFill>
            <a:ln w="10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8" name="Rectangle 584"/>
            <p:cNvSpPr/>
            <p:nvPr/>
          </p:nvSpPr>
          <p:spPr>
            <a:xfrm>
              <a:off x="6286320" y="1371600"/>
              <a:ext cx="695880" cy="28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IPA (n=234)</a:t>
              </a:r>
              <a:endParaRPr b="0" lang="en-US" sz="9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9" name="Rectangle 585"/>
            <p:cNvSpPr/>
            <p:nvPr/>
          </p:nvSpPr>
          <p:spPr>
            <a:xfrm>
              <a:off x="1184040" y="954720"/>
              <a:ext cx="7002720" cy="4737600"/>
            </a:xfrm>
            <a:prstGeom prst="rect">
              <a:avLst/>
            </a:prstGeom>
            <a:noFill/>
            <a:ln w="19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Rectangle 586"/>
            <p:cNvSpPr/>
            <p:nvPr/>
          </p:nvSpPr>
          <p:spPr>
            <a:xfrm>
              <a:off x="1257120" y="2628720"/>
              <a:ext cx="262800" cy="174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1" name="Rectangle 588"/>
          <p:cNvSpPr/>
          <p:nvPr/>
        </p:nvSpPr>
        <p:spPr>
          <a:xfrm rot="16200000">
            <a:off x="297000" y="3269880"/>
            <a:ext cx="21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cale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cor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(Min=1/Max=5)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Physicians accepting of concept, but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financial incentive not a direct motivator for quality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“…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just pay us appropriately to begin with. Why should you have to incentivize a doctor for quality if you pay them enough.”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Achievement of pay-for-performance program goals complicated by socio-economic status of patients. 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Many of these people we care for, part of their economic, social and psychological experience is that they lack value…So that the whole process of communicating to a person that they are a human being of value, part of that occurs in the communication between a physician and that of a patient.” 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Financial incentives for quality can be undercut by larger incentives for productivity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You feel like sometimes you’re running an assembly line…there is an inherent conflict between time and quality.”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lusions and Directions for Future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ile our research suggests that P4P is not necessarily antithetical to the values of safety-net providers, the effectiveness of the concept for improving quality in such settings is not very appar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 designing P4P programs to improve quality, careful consideration must be given to other incentive and compensation arrangements that may conflict or undermine quality-related incentives.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s our investigation consisted of two case studies, research is needed to test the validity of the findings in a large sample of safety-net provid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finition of Safety-Net Provider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rious criteria have been propose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rvice to high levels of Medicaid and uninsured pati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owner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ral set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ay-for-Performance (P4P) in Safety-Net Settings*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of July 2006, 28 state Medicaid agencies were operating P4P progra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5 Medicaid agencies plan to start P4P progra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2011, there will be an estimated 82 P4P programs in 43 stat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* Source: Center for Health Care Strateg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4P: Will it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lected Finding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senthal et al. (2006) Relative increase of 3.6 percentage points for cervical cancer screening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vin-Scherz et al. (2006) Relative increase of 2-19 percentage points for diabetes measu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Young et al. (2007)Absolute increase of 7 percentage points for diabetes measure (e.g., eye exam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arson et al. (2008) Relative increase of .04 to .07 percentage points for certain diabetes measures and well child visits. But relatively less improvement for other measures (e.g., Chlamydia screening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4P and Safety-Net Providers: Existing Research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elt-Lisk et al. (2007) Absolute increase of 4 to 22 percentage point increase among 4 CA Medicaid plans (i.e., Local Initiative Rewarding Results) for well child visits (documentation-driven improvement)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rner et al. (2008) Hospitals with high Medicaid caseloads (&gt; or = 40%) exhibit relatively less improvement on Medicare Compare measures (e.g., aspirin at discharge) than hospitals with low Medicaid caseloads(&lt; or =5% 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ldman et al (2007) Survey of 37 executives at safety-net hospitals about public reporting and P4P. Major concerns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ase mix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lack of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a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ocio-economic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blems of patients (e.g., inability to speak English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4P in Safety-Net Settings: Theoretical Considera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formance = Motivation + Skil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ancial incentive as a motivator: external rewards vs. intrinsic moti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kills for improving quality: Learning vs. Performing; Resources for improving quality (added pressures from complexity of case mix, high need for care coordination)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HRQ Research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ree Key Ques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is the potential for pay-for-performance to improve quality in safety net sett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e there unique challenges to designing and implementing pay-for-performance in safety net settings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es applying pay-for-performance to safety net settings carry substantial risks for unintended consequences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udy Setting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oston Medical Center HealthNet Plan and 13 community health center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surer-sponsored program (new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mmunity health center as unit of accountabil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id pop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ontefiore Medical Groups (New York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ovider-sponsored program (mature; full-risk contracts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dividual physician as unit of accountability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edicaid and uninsured popul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 of Data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rvey of physici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HealthNet (61/108; 56% response rate; 44% aware of incentive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Montefiore (89/141; 63% response rat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50% aware of incentive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views with senior lead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nical performance dat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Administrative data (HealthNet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- Chart reviews (Montefiore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2T18:46:04Z</dcterms:created>
  <dc:creator>BUMC</dc:creator>
  <dc:description/>
  <dc:language>en-US</dc:language>
  <cp:lastModifiedBy>1_Mary</cp:lastModifiedBy>
  <dcterms:modified xsi:type="dcterms:W3CDTF">2009-01-01T23:53:59Z</dcterms:modified>
  <cp:revision>28</cp:revision>
  <dc:subject/>
  <dc:title>Slide 1</dc:title>
</cp:coreProperties>
</file>