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1.jpeg" ContentType="image/jpeg"/>
  <Override PartName="/ppt/media/image23.wmf" ContentType="image/x-wmf"/>
  <Override PartName="/ppt/media/image9.wmf" ContentType="image/x-wmf"/>
  <Override PartName="/ppt/media/image14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2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1E940F9-F640-4F2B-85A8-E05F2D769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0F01EA8-42BE-4B34-97D9-7F19B977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9BE8DE-F06F-40DD-8A78-C14589C35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A92CCE-A376-4F39-9D2F-5E056CF1C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6F0AE14-5ECA-428B-B235-C18DC93FD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DD394C-4E7B-4D33-8B94-75BACEDC0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23B193-D02C-434C-BFDF-F56544DC5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A896AC7-298A-480F-8E36-559880CE0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909493-5257-44A2-877B-FCEB5967C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4A8C47-F96A-45E6-9253-7537F01C7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2B0C7CD-B58E-44E2-ADBC-141EE7D1E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FBB003-FB80-4F95-8B8C-4E4DD1A99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19A51DB-232D-4E7B-8AA2-D870548F7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82981C-370B-431E-B71D-4F34B8BD5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D08-D312-470C-ABE7-D3F7F66D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566-5756-47E1-A69B-63103404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341-6558-4AC0-A12A-D959E4CA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04D-FE45-43FE-92A6-C760F0AC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021-7353-4B82-B5B1-0B4F61FE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970-4332-409B-B7E3-724302A8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BBA-1B3B-4008-844D-4A3A654A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A20-C0E9-4F9C-84FC-D1D5B001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1B6-3F46-4926-BEA8-EF192FCA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1A3-0E09-47D7-8692-3D5B705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643-4DFD-477E-AE39-E9695BB2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F68-9816-4FAC-95B8-98FF1027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DD6B-D383-409B-A5CC-F537F9E08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provingchroniccare.org/index.php?p=Chronic+Care+Model&amp;s=12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7440" y="808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Knowledge in Care 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41360" y="4054320"/>
            <a:ext cx="64008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H. Woolf, MD,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Family Medi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ginia Commonwealth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 R. Kemper, MD, MPH,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Pedia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ke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20600" y="27338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RQ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hesda, Mary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9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ediments Faced by Community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up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referrals; “medical community doesn’t know we are he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nnection with primary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ity of community resources and public health infra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-public health div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2220840"/>
            <a:ext cx="8839440" cy="2960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of Si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o Phenome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666880"/>
            <a:ext cx="2514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providers and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666880"/>
            <a:ext cx="2514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o Phenome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666880"/>
            <a:ext cx="2514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providers and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666880"/>
            <a:ext cx="2514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53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105520"/>
            <a:ext cx="25146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atic identification of behavi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ef ad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5181480"/>
            <a:ext cx="2514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ive assistance from skilled counsel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 sup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-Win”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i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re intensive and convenient assistance with behavi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nic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lief from untenable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unity 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re referrals and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o Phenome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message emanates from multiple projects sponsored by Robert Wood Johnson Foundation, CDC, AHRQ, academic cent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emes (and solutions) are common for chronic illness care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projects know little about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iscussion needed to address where we go from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it on Linking Clinical Practice and the Community for Health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erican Medical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State and Territorial Health Offi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30-May 1, 2008, Baltimore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vention and Healthcare Reform Roun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ancer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rt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Diabete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8-9, 2008, 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communities create local infrastructure, including pathways for referral and “bidirectional feedba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nfrastructure evolve without burdening members of either s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ational/regional resources are needed to facilitate local 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replicate local success stories more broad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4H_no_tagline TRANSPARENT"/>
          <p:cNvPicPr/>
          <p:nvPr/>
        </p:nvPicPr>
        <p:blipFill>
          <a:blip r:embed="rId1"/>
          <a:stretch/>
        </p:blipFill>
        <p:spPr>
          <a:xfrm>
            <a:off x="833400" y="871560"/>
            <a:ext cx="8048520" cy="3498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04840" y="4863960"/>
            <a:ext cx="69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34991"/>
                </a:solidFill>
                <a:latin typeface="Lucida Handwriting"/>
              </a:rPr>
              <a:t>Write It No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1840" y="18216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cription for Health (P4H)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40" y="1430280"/>
            <a:ext cx="836928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dentify, test, evaluate, and disseminate effective strategies for primary care clinicians and practices to help their patients be healthier by targeting 4 behaviors that are leading causes of preventable disease, disability, healthcare burden, and premature death in the U.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ed by RWJF and AH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und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(6/03-12/04), 17 PBRNs received 16-month “innovation grants” of $125,000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und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(9/05-8/07), 10 PBRNs received 24-month “innovation grants” of $300,000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Wood Johnson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19656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4H Design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1876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10 stud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ed 4 health behaviors (diet, exercise, smoking AND alcoh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re done in primary care PB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ed a common set of health behavior outcomes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ed information about the practice intervention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re asked to report results using the RE-AIM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atically reported their intervention implementation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ACY or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re-aim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1760" y="263520"/>
            <a:ext cx="819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230480"/>
            <a:ext cx="844524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O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mprehensive Practice-Friendly Model for Promoting Healthy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RL: Connecting Primary Care Patients with Community Resources to Encourage Healthy Life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ing Health Behaviors Through Telephone Link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Re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ltiple Interactive Technologies to Enhance Care – MITEC (CaRe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1760" y="177840"/>
            <a:ext cx="819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3880" y="1252080"/>
            <a:ext cx="8445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ealthy Teens System Project (CE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CFP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orth Carolina Prevention Collab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YC 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amily Lifestyle Assessment of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KP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atic Delivery of Brief Behavioral Counseling in Prima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N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Engaging the Team: A Multilevel Program to Promote Healthy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ctivating Primary Care and Community Resources for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cription for Health Product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16040"/>
            <a:ext cx="77724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rescriptionforhealth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3962520" cy="3990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713120" y="2371680"/>
            <a:ext cx="380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854600" y="2413080"/>
            <a:ext cx="388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541760" y="2301840"/>
            <a:ext cx="4059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Learn more ab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Prescription for Health</a:t>
            </a:r>
            <a:r>
              <a:rPr b="0" lang="en-US" sz="2400" spc="-1" strike="noStrike">
                <a:solidFill>
                  <a:srgbClr val="aac17d"/>
                </a:solidFill>
                <a:latin typeface="Lydia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and its funded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Access toolkit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Collaborat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communicate wi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funded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Sign up for quart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e-newsl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4640" y="37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763280"/>
            <a:ext cx="777240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levels of intensity to promote care coordination between primary care practices and community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nkS  - use of 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Link - use of a fax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P2 – use of a website and QI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3480" y="86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 Ambulatory Care Outcomes Research Network (ACOR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95200" y="3021120"/>
            <a:ext cx="6777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nkS –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ronic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tem for Health Behavior Couns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CORN P4H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P1010020"/>
          <p:cNvPicPr/>
          <p:nvPr/>
        </p:nvPicPr>
        <p:blipFill>
          <a:blip r:embed="rId1"/>
          <a:stretch/>
        </p:blipFill>
        <p:spPr>
          <a:xfrm>
            <a:off x="5305320" y="0"/>
            <a:ext cx="3886200" cy="234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GreenAcrossSt2"/>
          <p:cNvPicPr/>
          <p:nvPr/>
        </p:nvPicPr>
        <p:blipFill>
          <a:blip r:embed="rId2"/>
          <a:stretch/>
        </p:blipFill>
        <p:spPr>
          <a:xfrm>
            <a:off x="-9360" y="0"/>
            <a:ext cx="458136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2"/>
          <p:cNvGraphicFramePr/>
          <p:nvPr/>
        </p:nvGraphicFramePr>
        <p:xfrm>
          <a:off x="-152280" y="-336600"/>
          <a:ext cx="8534160" cy="628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-336600"/>
                    <a:ext cx="853416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Picture 5" descr="Front"/>
          <p:cNvPicPr/>
          <p:nvPr/>
        </p:nvPicPr>
        <p:blipFill>
          <a:blip r:embed="rId5"/>
          <a:stretch/>
        </p:blipFill>
        <p:spPr>
          <a:xfrm>
            <a:off x="3048120" y="5410080"/>
            <a:ext cx="4190760" cy="149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M00079p"/>
          <p:cNvPicPr/>
          <p:nvPr/>
        </p:nvPicPr>
        <p:blipFill>
          <a:blip r:embed="rId6"/>
          <a:stretch/>
        </p:blipFill>
        <p:spPr>
          <a:xfrm>
            <a:off x="-9360" y="3629160"/>
            <a:ext cx="2184120" cy="32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ACORN full logo - jpeg"/>
          <p:cNvPicPr/>
          <p:nvPr/>
        </p:nvPicPr>
        <p:blipFill>
          <a:blip r:embed="rId7"/>
          <a:stretch/>
        </p:blipFill>
        <p:spPr>
          <a:xfrm>
            <a:off x="2209680" y="4191120"/>
            <a:ext cx="666756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5920" y="232920"/>
            <a:ext cx="815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vention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8640" y="1317240"/>
            <a:ext cx="77724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s good at A1-A3 (Ask, Advise, Agree) but lacked expertise, infrastructure, and support to adequately provide A4 (Assist) and A5 (Ar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resources available that already provide A4 and 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an easy and systematic method to establish such a lin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between counselors and clinicians was “automated” through an E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selors contacted patients to initiate counseling (proactive counse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9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19120" y="461880"/>
          <a:ext cx="797256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1880"/>
                    <a:ext cx="797256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den of illness associated with unhealthy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role of clinicians and community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of care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Specific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MR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1163520" y="1112760"/>
          <a:ext cx="6546960" cy="51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112760"/>
                    <a:ext cx="654696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5388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pos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practices in Tidewater Virginia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s appear for adults with an elevated BMI, who smoke, or who drink excess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 assessed by survey, tracking systems within the EMR, counselor databases, and semi-structured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604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lth Behaviors as Recorded in the EMR (n=567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3" descr=""/>
          <p:cNvPicPr/>
          <p:nvPr/>
        </p:nvPicPr>
        <p:blipFill>
          <a:blip r:embed="rId1"/>
          <a:stretch/>
        </p:blipFill>
        <p:spPr>
          <a:xfrm>
            <a:off x="106200" y="1442880"/>
            <a:ext cx="4202280" cy="453708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4087800" y="1087560"/>
            <a:ext cx="4897440" cy="5016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152360" y="203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314720" y="22273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443680" y="26179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551240" y="38242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904040" y="15937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542720" y="21495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276240" y="27687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6859800" y="3390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297920" y="3990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8020440" y="45673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1065240" y="600408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.B. = Unhealthy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1000" y="-360"/>
            <a:ext cx="876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MR Prompt System Use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 weeks and 2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3" descr=""/>
          <p:cNvPicPr/>
          <p:nvPr/>
        </p:nvPicPr>
        <p:blipFill>
          <a:blip r:embed="rId1"/>
          <a:stretch/>
        </p:blipFill>
        <p:spPr>
          <a:xfrm>
            <a:off x="701640" y="1224000"/>
            <a:ext cx="7589880" cy="40482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953280" y="5197320"/>
            <a:ext cx="717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% of patients with an unhealthy behavior re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luded chronic care (42%), acute care (34%), and wellness (1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6% would not have brought up the topic if the clinician had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1440" y="205920"/>
            <a:ext cx="860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th Behavior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001520" y="15508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ferred for Weigh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164560" y="154620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ferred for Sm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457200" y="1724040"/>
          <a:ext cx="4033800" cy="4278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24040"/>
                    <a:ext cx="403380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R Prompt System Us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e vs. Patient p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ject 2" descr=""/>
          <p:cNvPicPr/>
          <p:nvPr/>
        </p:nvPicPr>
        <p:blipFill>
          <a:blip r:embed="rId1"/>
          <a:stretch/>
        </p:blipFill>
        <p:spPr>
          <a:xfrm>
            <a:off x="601560" y="1809720"/>
            <a:ext cx="80139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pilogue: VDH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Content Placeholder 3" descr=""/>
          <p:cNvPicPr/>
          <p:nvPr/>
        </p:nvPicPr>
        <p:blipFill>
          <a:blip r:embed="rId1"/>
          <a:stretch/>
        </p:blipFill>
        <p:spPr>
          <a:xfrm>
            <a:off x="685800" y="1515960"/>
            <a:ext cx="7772400" cy="45799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4017600" y="1558800"/>
            <a:ext cx="4291920" cy="1922760"/>
          </a:xfrm>
          <a:prstGeom prst="rect">
            <a:avLst/>
          </a:prstGeom>
          <a:solidFill>
            <a:srgbClr val="034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2 FTEs gener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7 referrals in 8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4 (4.9) per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ghly 30 similar referrals/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63480" y="86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 Ambulatory Care Outcomes Research Network (ACOR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95200" y="3021120"/>
            <a:ext cx="6777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it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veraging Community Quit Line Services to Promote Smoking Cessation Couns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864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tLink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248040" y="1174320"/>
            <a:ext cx="6326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xpanded vital sign intervention (Ask, Advise, Assess done by staf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acity to provide fax referral of preparation-stage patients for proactive telephone counseling (American Cancer Society Quitl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dback to the provider team, including individual and aggregate reports and prescription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5859360" y="1930320"/>
          <a:ext cx="304812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9360" y="1930320"/>
                    <a:ext cx="30481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tion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52240"/>
            <a:ext cx="83059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ming staff u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vital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offered fa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al for proacti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couns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contacted by ACS Quitline staff for inta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nrollment in 4 session counsel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propion SR fax prescription reques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patient outcome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benchmarked aggreg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4341960" y="1406520"/>
          <a:ext cx="423360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1960" y="1406520"/>
                    <a:ext cx="423360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ing Causes of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bacc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in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dr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4640" y="6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4280" y="1365120"/>
            <a:ext cx="789948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-randomized controlled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- traditional tobacco-use vital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primary care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98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nner-city, 4 rural, and 9 subur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adults completing an office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ources: exits survey (13,562 patients, 18% smokers), ACS minimal data set, and semi-structured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2011320"/>
          <a:ext cx="8839440" cy="3995640"/>
        </p:xfrm>
        <a:graphic>
          <a:graphicData uri="http://schemas.openxmlformats.org/drawingml/2006/table">
            <a:tbl>
              <a:tblPr/>
              <a:tblGrid>
                <a:gridCol w="1752840"/>
                <a:gridCol w="2361960"/>
                <a:gridCol w="1295640"/>
                <a:gridCol w="1371600"/>
                <a:gridCol w="1143000"/>
                <a:gridCol w="9144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unseling Behav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urvey 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djusted Affirmative Respo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terv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s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A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 anyone ask you today if you smoke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4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9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4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dv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A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f you smoke, did anyone advise you today to stop smoking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464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280" y="1450800"/>
          <a:ext cx="8839440" cy="5407200"/>
        </p:xfrm>
        <a:graphic>
          <a:graphicData uri="http://schemas.openxmlformats.org/drawingml/2006/table">
            <a:tbl>
              <a:tblPr/>
              <a:tblGrid>
                <a:gridCol w="1752840"/>
                <a:gridCol w="2361960"/>
                <a:gridCol w="1295640"/>
                <a:gridCol w="1371600"/>
                <a:gridCol w="1143000"/>
                <a:gridCol w="9144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unseling Behav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urvey 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djusted Affirmative Respo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terv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1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tensive Counse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A3-5+Referr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 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9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1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A3-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f you smoke, did anyone talk with you today about ideas or plans to help you quit smoking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efer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f you smoke, were you referred today to a quit line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1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ian and Community Partnership for Pre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To evaluate strategies to develop and foster sustainable linkages between primary care practices and existing community resources to help patients add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in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TION 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0280" y="1160640"/>
            <a:ext cx="804240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352680" y="1219320"/>
            <a:ext cx="5524560" cy="4025520"/>
            <a:chOff x="3352680" y="1219320"/>
            <a:chExt cx="5524560" cy="4025520"/>
          </a:xfrm>
        </p:grpSpPr>
        <p:sp>
          <p:nvSpPr>
            <p:cNvPr id="184" name=""/>
            <p:cNvSpPr/>
            <p:nvPr/>
          </p:nvSpPr>
          <p:spPr>
            <a:xfrm>
              <a:off x="7353360" y="5029200"/>
              <a:ext cx="9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ww.learnnc.or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352680" y="1219320"/>
              <a:ext cx="5524560" cy="3838320"/>
              <a:chOff x="3352680" y="1219320"/>
              <a:chExt cx="5524560" cy="3838320"/>
            </a:xfrm>
          </p:grpSpPr>
          <p:pic>
            <p:nvPicPr>
              <p:cNvPr id="1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52680" y="1219320"/>
                <a:ext cx="5524560" cy="38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248520" y="236196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304920" y="1143000"/>
            <a:ext cx="289548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nge Coun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2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: 1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panic: 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ham Coun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23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3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panic 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, 13% below F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416480"/>
            <a:ext cx="9144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North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bacco: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physical activity ≥3 days per week: &lt;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weight: 3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se: 2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y to change: 44% who smoke, 60% with poor nutrition, 68% who lack 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nts and Inter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57200" y="3505320"/>
            <a:ext cx="2286000" cy="1523880"/>
            <a:chOff x="457200" y="3505320"/>
            <a:chExt cx="2286000" cy="1523880"/>
          </a:xfrm>
        </p:grpSpPr>
        <p:sp>
          <p:nvSpPr>
            <p:cNvPr id="192" name=""/>
            <p:cNvSpPr/>
            <p:nvPr/>
          </p:nvSpPr>
          <p:spPr>
            <a:xfrm>
              <a:off x="457200" y="3505320"/>
              <a:ext cx="228600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4038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9680" y="5410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tion of the Intervention: 6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599480" y="1328760"/>
            <a:ext cx="6782400" cy="3700440"/>
            <a:chOff x="1599480" y="1328760"/>
            <a:chExt cx="6782400" cy="3700440"/>
          </a:xfrm>
        </p:grpSpPr>
        <p:grpSp>
          <p:nvGrpSpPr>
            <p:cNvPr id="196" name=""/>
            <p:cNvGrpSpPr/>
            <p:nvPr/>
          </p:nvGrpSpPr>
          <p:grpSpPr>
            <a:xfrm>
              <a:off x="3510000" y="1328760"/>
              <a:ext cx="1828800" cy="1371600"/>
              <a:chOff x="3510000" y="1328760"/>
              <a:chExt cx="1828800" cy="1371600"/>
            </a:xfrm>
          </p:grpSpPr>
          <p:sp>
            <p:nvSpPr>
              <p:cNvPr id="197" name=""/>
              <p:cNvSpPr/>
              <p:nvPr/>
            </p:nvSpPr>
            <p:spPr>
              <a:xfrm>
                <a:off x="3510000" y="1328760"/>
                <a:ext cx="1828800" cy="137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3920" y="160020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Practi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IM and F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276720" y="3505320"/>
              <a:ext cx="2286000" cy="1523880"/>
              <a:chOff x="3276720" y="3505320"/>
              <a:chExt cx="2286000" cy="1523880"/>
            </a:xfrm>
          </p:grpSpPr>
          <p:sp>
            <p:nvSpPr>
              <p:cNvPr id="200" name=""/>
              <p:cNvSpPr/>
              <p:nvPr/>
            </p:nvSpPr>
            <p:spPr>
              <a:xfrm>
                <a:off x="3276720" y="3505320"/>
                <a:ext cx="2286000" cy="1523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10240" y="403848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ass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ven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095880" y="3505320"/>
              <a:ext cx="2286000" cy="1523880"/>
              <a:chOff x="6095880" y="3505320"/>
              <a:chExt cx="2286000" cy="1523880"/>
            </a:xfrm>
          </p:grpSpPr>
          <p:sp>
            <p:nvSpPr>
              <p:cNvPr id="203" name=""/>
              <p:cNvSpPr/>
              <p:nvPr/>
            </p:nvSpPr>
            <p:spPr>
              <a:xfrm>
                <a:off x="6095880" y="3505320"/>
                <a:ext cx="2286000" cy="1523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29400" y="403848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ven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05" name=""/>
            <p:cNvCxnSpPr>
              <a:stCxn id="197" idx="4"/>
              <a:endCxn id="192" idx="0"/>
            </p:cNvCxnSpPr>
            <p:nvPr/>
          </p:nvCxnSpPr>
          <p:spPr>
            <a:xfrm rot="5400000">
              <a:off x="2608920" y="1690560"/>
              <a:ext cx="805680" cy="2824920"/>
            </a:xfrm>
            <a:prstGeom prst="bentConnector3">
              <a:avLst>
                <a:gd name="adj1" fmla="val 498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200" idx="0"/>
            </p:cNvCxnSpPr>
            <p:nvPr/>
          </p:nvCxnSpPr>
          <p:spPr>
            <a:xfrm flipH="1">
              <a:off x="4419000" y="2700360"/>
              <a:ext cx="5400" cy="80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7" idx="4"/>
              <a:endCxn id="203" idx="0"/>
            </p:cNvCxnSpPr>
            <p:nvPr/>
          </p:nvCxnSpPr>
          <p:spPr>
            <a:xfrm flipH="1" rot="16200000">
              <a:off x="5429160" y="1695240"/>
              <a:ext cx="805680" cy="2815200"/>
            </a:xfrm>
            <a:prstGeom prst="bentConnector3">
              <a:avLst>
                <a:gd name="adj1" fmla="val 498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4148280" y="2938320"/>
              <a:ext cx="533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76800" y="290988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and after survey to deter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eferr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audits at the beginning, middle and end of the intervention to evalu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population that could benefit from referral to a communit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Referr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ve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per control practices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chure and referral material for selected community organiz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 Tobacco Qu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Department Diet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ke “Live for Life”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kick-of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help as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1295280"/>
            <a:ext cx="8381880" cy="5089680"/>
            <a:chOff x="304920" y="1295280"/>
            <a:chExt cx="8381880" cy="5089680"/>
          </a:xfrm>
        </p:grpSpPr>
        <p:graphicFrame>
          <p:nvGraphicFramePr>
            <p:cNvPr id="216" name=""/>
            <p:cNvGraphicFramePr/>
            <p:nvPr/>
          </p:nvGraphicFramePr>
          <p:xfrm>
            <a:off x="304920" y="1295280"/>
            <a:ext cx="8381880" cy="508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295280"/>
                      <a:ext cx="8381880" cy="508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609480" y="5334120"/>
              <a:ext cx="3200400" cy="609480"/>
              <a:chOff x="609480" y="5334120"/>
              <a:chExt cx="3200400" cy="609480"/>
            </a:xfrm>
          </p:grpSpPr>
          <p:sp>
            <p:nvSpPr>
              <p:cNvPr id="219" name=""/>
              <p:cNvSpPr/>
              <p:nvPr/>
            </p:nvSpPr>
            <p:spPr>
              <a:xfrm>
                <a:off x="609480" y="5334120"/>
                <a:ext cx="129564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95480" y="5334120"/>
                <a:ext cx="91440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nic Car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32200" y="1481040"/>
            <a:ext cx="2989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3720" y="1712880"/>
            <a:ext cx="2684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665360" y="1450800"/>
            <a:ext cx="5987520" cy="4644360"/>
            <a:chOff x="1665360" y="1450800"/>
            <a:chExt cx="5987520" cy="4644360"/>
          </a:xfrm>
        </p:grpSpPr>
        <p:pic>
          <p:nvPicPr>
            <p:cNvPr id="6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65360" y="1541520"/>
              <a:ext cx="5987520" cy="455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969640" y="1450800"/>
              <a:ext cx="312948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7200" y="1447920"/>
            <a:ext cx="8229600" cy="4995720"/>
            <a:chOff x="457200" y="1447920"/>
            <a:chExt cx="8229600" cy="4995720"/>
          </a:xfrm>
        </p:grpSpPr>
        <p:graphicFrame>
          <p:nvGraphicFramePr>
            <p:cNvPr id="223" name=""/>
            <p:cNvGraphicFramePr/>
            <p:nvPr/>
          </p:nvGraphicFramePr>
          <p:xfrm>
            <a:off x="457200" y="1447920"/>
            <a:ext cx="8229600" cy="499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447920"/>
                      <a:ext cx="8229600" cy="49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6934320" y="4419720"/>
              <a:ext cx="137160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Intervention Protocol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Champion who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other communit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feedback, including number of referrals made and completed, outcomes of chart 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a small number of refer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QI phone call with other active practices and community resource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the “ACCTION Pa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TION 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al to a community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refer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provider knowledge and attitudes towards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barriers to and facilitators of developing linkages between practices and communit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he ACCTION 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minimal features of a community re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ssess with the practices about whether something is really a community resource (e.g., a mall walking progr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community resources be identified and tracked efficien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velop reproducible strategies for bidirectional communication between practices and community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others to add to the ACCTION P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easures vs. Health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Prevention vs. Secondary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Base for Choosing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396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behavior change counseling is feasible in frontline primary care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acles to practices include inadeq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mbu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 practice redesign and revised reimbursement systems are necess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faceted solutions involving new tools, technologies, and care teams are now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39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11360" y="144792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allels of addressing chronic care illness and preventive health care can be leveraged to significantly improve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and frameworks such as the 5As, the Chronic Care Model, and RE-AIM are valuable guides in the implementation of innovations into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behavior change strategies extends beyond the exam room, beyond a single visit, and beyond the off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clinical and community services to achieve behavior change is both challenging and critical. The infrastructure to make the connection is broken, fragile, or l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Clin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tionale for clinician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bility and imprimatur of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primary care and medical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ed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of counseling depend on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ime, skills, staff, reimbursement to offer intensive counseling and ongo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redesign to offer such services not feasible in typical US primary care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seling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36760" y="1596960"/>
          <a:ext cx="434016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6760" y="1596960"/>
                    <a:ext cx="43401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1201680" y="351000"/>
          <a:ext cx="6738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351000"/>
                    <a:ext cx="6738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ty Resources for Intensive Couns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counseling (e.g., quit 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itians, trainers, fitnes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meetings and classes (e.g., Weight Watc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ite and school-based wellnes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health departme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 an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4:18:44Z</dcterms:created>
  <dc:creator>Douglas H. Fernald</dc:creator>
  <dc:description/>
  <dc:language>en-US</dc:language>
  <cp:lastModifiedBy>william.hyde</cp:lastModifiedBy>
  <dcterms:modified xsi:type="dcterms:W3CDTF">2008-12-29T19:49:15Z</dcterms:modified>
  <cp:revision>482</cp:revision>
  <dc:subject/>
  <dc:title>PowerPoint Presentation</dc:title>
</cp:coreProperties>
</file>