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11.jpeg" ContentType="image/jpeg"/>
  <Override PartName="/ppt/media/image23.wmf" ContentType="image/x-wmf"/>
  <Override PartName="/ppt/media/image9.wmf" ContentType="image/x-wmf"/>
  <Override PartName="/ppt/media/image14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2.wmf" ContentType="image/x-wmf"/>
  <Override PartName="/ppt/media/image21.png" ContentType="image/png"/>
  <Override PartName="/ppt/media/image19.wmf" ContentType="image/x-wmf"/>
  <Override PartName="/ppt/media/image17.png" ContentType="image/png"/>
  <Override PartName="/ppt/media/image16.png" ContentType="image/png"/>
  <Override PartName="/ppt/media/image1.jpeg" ContentType="image/jpeg"/>
  <Override PartName="/ppt/media/image2.wmf" ContentType="image/x-wmf"/>
  <Override PartName="/ppt/media/image4.jpeg" ContentType="image/jpeg"/>
  <Override PartName="/ppt/media/image25.jpeg" ContentType="image/jpeg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040" y="698400"/>
            <a:ext cx="464652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69B9FDA-A2EA-4842-841B-CE592B7CD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620AB7B-B49B-47FB-95EA-96964F06E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128E510-60C8-48F4-9573-8E415FA0F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7BE884B-A492-4315-AA3E-4001A0F0C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E50DFB7-AFB4-4E23-AD99-08EBCCD74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64F1C0D-ECC6-4F65-821A-89081C9D9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89F5943-AC99-4AF0-AEBD-765D73204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D26B567-9567-4CDB-B563-E3DDA4468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C01F2F5-C276-4D20-9EDD-C203AF96E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A6FBEB7-E05E-409D-90BD-9E81115C4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8084B85-5E52-4D7D-BB7B-AD0C65AB2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25E7B1E-96A4-4ABD-A440-436E1CC98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06EB1A0-F6BD-4E9F-8872-BE2D2FEE4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198F41F-9913-4090-B2FB-895AB2808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D3B1-3736-4E6A-A6BC-F1A0A85A5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55D6-A332-49C3-8851-CE4D1942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CABC-1F33-4723-82C3-7558035E2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E34E-FDD4-42FE-9348-3CFE37FA5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DFCA-8630-4884-8E5D-865AFF22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0511-BB7E-4428-9D8A-B6713246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5F01-974C-4BE0-9D15-ACE25B0E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F5B4-64E0-443A-95DA-2DAE2D27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69C7-4CD9-4BA6-9A33-15A1A13F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5349-F238-49C0-97CD-E4F91F17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1D0B-5EB7-4CB7-983E-D55FC093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9A4D-0330-4F5A-8EF2-1FFD7F6D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0DFF-C08A-44EE-9672-401CF1782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mprovingchroniccare.org/index.php?p=Chronic+Care+Model&amp;s=124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7440" y="808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Knowledge in Care Coord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41360" y="4054320"/>
            <a:ext cx="6400800" cy="24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H. Woolf, MD, M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artment of Family Medic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ginia Commonwealth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ex R. Kemper, MD, MPH,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artment of Pediatr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ke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20600" y="273384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HRQ Annual Con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hesda, Mary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tember 9,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ediments Faced by Community Pro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upt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w referrals; “medical community doesn’t know we are he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nnection with primary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ility of community resources and public health infrastruc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ine-public health div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52280" y="2220840"/>
            <a:ext cx="8839440" cy="29606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blem of Si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lo Phenomen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2666880"/>
            <a:ext cx="2514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lth care providers and instit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57800" y="2666880"/>
            <a:ext cx="2514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ty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lo Phenomen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2666880"/>
            <a:ext cx="2514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lth care providers and instit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257800" y="2666880"/>
            <a:ext cx="2514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ty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05320" y="35053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505320" y="38098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5105520"/>
            <a:ext cx="25146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atic identification of behavi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ef ad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al set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57800" y="5181480"/>
            <a:ext cx="25146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nsive assistance from skilled counsel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going supp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n-Win” of Collab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ti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more intensive and convenient assistance with behavior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nicia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relief from untenable de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munity resour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more referrals and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lo Phenomen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message emanates from multiple projects sponsored by Robert Wood Johnson Foundation, CDC, AHRQ, academic center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hemes (and solutions) are common for chronic illness care and pre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 projects know little about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discussion needed to address where we go from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cy Mee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mmit on Linking Clinical Practice and the Community for Health Pro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nsor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erican Medical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ion of State and Territorial Health Offic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cy for Healthcare Research and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30-May 1, 2008, Baltimore, M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evention and Healthcare Reform Round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nsor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rican Cancer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rican Heart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rican Diabetes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y 8-9, 2008, Washington, 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 Ques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935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communities create local infrastructure, including pathways for referral and “bidirectional feedback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infrastructure evolve without burdening members of either sil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national/regional resources are needed to facilitate local a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we replicate local success stories more broad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P4H_no_tagline TRANSPARENT"/>
          <p:cNvPicPr/>
          <p:nvPr/>
        </p:nvPicPr>
        <p:blipFill>
          <a:blip r:embed="rId1"/>
          <a:stretch/>
        </p:blipFill>
        <p:spPr>
          <a:xfrm>
            <a:off x="833400" y="871560"/>
            <a:ext cx="8048520" cy="34988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1104840" y="4863960"/>
            <a:ext cx="690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34991"/>
                </a:solidFill>
                <a:latin typeface="Lucida Handwriting"/>
              </a:rPr>
              <a:t>Write It Now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1840" y="182160"/>
            <a:ext cx="79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cription for Health (P4H)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9040" y="1430280"/>
            <a:ext cx="836928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identify, test, evaluate, and disseminate effective strategies for primary care clinicians and practices to help their patients be healthier by targeting 4 behaviors that are leading causes of preventable disease, disability, healthcare burden, and premature death in the U.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ed by RWJF and AHR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ound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(6/03-12/04), 17 PBRNs received 16-month “innovation grants” of $125,000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ound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(9/05-8/07), 10 PBRNs received 24-month “innovation grants” of $300,000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ncy for Healthcare Research and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ert Wood Johnson Foun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1040" y="196560"/>
            <a:ext cx="7988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4H Design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418760"/>
            <a:ext cx="7772400" cy="46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10 studi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ressed 4 health behaviors (diet, exercise, smoking AND alcoho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re done in primary care PB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lected a common set of health behavior outcomes meas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lected information about the practice intervention expen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re asked to report results using the RE-AIM frame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atically reported their intervention implementation experi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-AI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ACY or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ww.re-aim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1760" y="263520"/>
            <a:ext cx="8199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4H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2720" y="1230480"/>
            <a:ext cx="8445240" cy="54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COR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Comprehensive Practice-Friendly Model for Promoting Healthy Behavi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R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ERL: Connecting Primary Care Patients with Community Resources to Encourage Healthy Life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R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mproving Health Behaviors Through Telephone Linked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aReN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ltiple Interactive Technologies to Enhance Care – MITEC (CaRe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1760" y="177840"/>
            <a:ext cx="8199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4H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53880" y="1252080"/>
            <a:ext cx="84456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E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Healthy Teens System Project (CE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CFPR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North Carolina Prevention Collabo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YC 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Family Lifestyle Assessment of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KPR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ystematic Delivery of Brief Behavioral Counseling in Primary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ENS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Engaging the Team: A Multilevel Program to Promote Healthy Behavi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ctivating Primary Care and Community Resources for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93400"/>
            <a:ext cx="77724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scription for Health Products and Re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16040"/>
            <a:ext cx="77724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prescriptionforhealth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457200" y="2335320"/>
            <a:ext cx="3962520" cy="39909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4713120" y="2371680"/>
            <a:ext cx="380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4854600" y="2413080"/>
            <a:ext cx="3882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4541760" y="2301840"/>
            <a:ext cx="4059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ydian BT"/>
              </a:rPr>
              <a:t>Learn more abo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ydian BT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Lydian BT"/>
              </a:rPr>
              <a:t>Prescription for Health</a:t>
            </a:r>
            <a:r>
              <a:rPr b="0" lang="en-US" sz="2400" spc="-1" strike="noStrike">
                <a:solidFill>
                  <a:srgbClr val="aac17d"/>
                </a:solidFill>
                <a:latin typeface="Lydian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ydian BT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Lydian BT"/>
              </a:rPr>
              <a:t>and its funded stu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ydian B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ydian BT"/>
              </a:rPr>
              <a:t>Access toolkit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ydian B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ydian BT"/>
              </a:rPr>
              <a:t>Collaborate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ydian BT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Lydian BT"/>
              </a:rPr>
              <a:t>communicate with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ydian BT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Lydian BT"/>
              </a:rPr>
              <a:t>funded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ydian B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ydian BT"/>
              </a:rPr>
              <a:t>Sign up for quarte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ydian BT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Lydian BT"/>
              </a:rPr>
              <a:t>e-newslet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4640" y="372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763280"/>
            <a:ext cx="777240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levels of intensity to promote care coordination between primary care practices and community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nkS  - use of E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tLink - use of a fax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2P2 – use of a website and QI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63480" y="860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ginia Ambulatory Care Outcomes Research Network (ACOR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95200" y="3021120"/>
            <a:ext cx="67770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nkS – 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ronic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stem for Health Behavior Counse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CORN P4H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P1010020"/>
          <p:cNvPicPr/>
          <p:nvPr/>
        </p:nvPicPr>
        <p:blipFill>
          <a:blip r:embed="rId1"/>
          <a:stretch/>
        </p:blipFill>
        <p:spPr>
          <a:xfrm>
            <a:off x="5305320" y="0"/>
            <a:ext cx="3886200" cy="2344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GreenAcrossSt2"/>
          <p:cNvPicPr/>
          <p:nvPr/>
        </p:nvPicPr>
        <p:blipFill>
          <a:blip r:embed="rId2"/>
          <a:stretch/>
        </p:blipFill>
        <p:spPr>
          <a:xfrm>
            <a:off x="-9360" y="0"/>
            <a:ext cx="4581360" cy="266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Object 2"/>
          <p:cNvGraphicFramePr/>
          <p:nvPr/>
        </p:nvGraphicFramePr>
        <p:xfrm>
          <a:off x="-152280" y="-336600"/>
          <a:ext cx="8534160" cy="628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52280" y="-336600"/>
                    <a:ext cx="8534160" cy="62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" name="Picture 5" descr="Front"/>
          <p:cNvPicPr/>
          <p:nvPr/>
        </p:nvPicPr>
        <p:blipFill>
          <a:blip r:embed="rId5"/>
          <a:stretch/>
        </p:blipFill>
        <p:spPr>
          <a:xfrm>
            <a:off x="3048120" y="5410080"/>
            <a:ext cx="4190760" cy="1492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EM00079p"/>
          <p:cNvPicPr/>
          <p:nvPr/>
        </p:nvPicPr>
        <p:blipFill>
          <a:blip r:embed="rId6"/>
          <a:stretch/>
        </p:blipFill>
        <p:spPr>
          <a:xfrm>
            <a:off x="-9360" y="3629160"/>
            <a:ext cx="2184120" cy="3276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ACORN full logo - jpeg"/>
          <p:cNvPicPr/>
          <p:nvPr/>
        </p:nvPicPr>
        <p:blipFill>
          <a:blip r:embed="rId7"/>
          <a:stretch/>
        </p:blipFill>
        <p:spPr>
          <a:xfrm>
            <a:off x="2209680" y="4191120"/>
            <a:ext cx="666756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75920" y="232920"/>
            <a:ext cx="815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vention Conce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28640" y="1317240"/>
            <a:ext cx="7772400" cy="42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ians good at A1-A3 (Ask, Advise, Agree) but lacked expertise, infrastructure, and support to adequately provide A4 (Assist) and A5 (Arran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 resources available that already provide A4 and A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ed an easy and systematic method to establish such a lin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between counselors and clinicians was “automated” through an EM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selors contacted patients to initiate counseling (proactive counsel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90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Object 3"/>
          <p:cNvGraphicFramePr/>
          <p:nvPr/>
        </p:nvGraphicFramePr>
        <p:xfrm>
          <a:off x="519120" y="461880"/>
          <a:ext cx="7972560" cy="52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61880"/>
                    <a:ext cx="7972560" cy="52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rden of illness associated with unhealthy behavi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role of clinicians and community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 of care coord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Specific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7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EMR Fo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Object 3"/>
          <p:cNvGraphicFramePr/>
          <p:nvPr/>
        </p:nvGraphicFramePr>
        <p:xfrm>
          <a:off x="1163520" y="1112760"/>
          <a:ext cx="6546960" cy="513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3520" y="1112760"/>
                    <a:ext cx="6546960" cy="51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9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53880"/>
            <a:ext cx="7772400" cy="48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post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practices in Tidewater Virginia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pts appear for adults with an elevated BMI, who smoke, or who drink excess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comes assessed by survey, tracking systems within the EMR, counselor databases, and semi-structured inter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16040" y="253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alth Behaviors as Recorded in the EMR (n=5679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Object 3" descr=""/>
          <p:cNvPicPr/>
          <p:nvPr/>
        </p:nvPicPr>
        <p:blipFill>
          <a:blip r:embed="rId1"/>
          <a:stretch/>
        </p:blipFill>
        <p:spPr>
          <a:xfrm>
            <a:off x="106200" y="1442880"/>
            <a:ext cx="4202280" cy="4537080"/>
          </a:xfrm>
          <a:prstGeom prst="rect">
            <a:avLst/>
          </a:prstGeom>
          <a:ln w="0">
            <a:noFill/>
          </a:ln>
        </p:spPr>
      </p:pic>
      <p:pic>
        <p:nvPicPr>
          <p:cNvPr id="135" name="Object 4" descr=""/>
          <p:cNvPicPr/>
          <p:nvPr/>
        </p:nvPicPr>
        <p:blipFill>
          <a:blip r:embed="rId2"/>
          <a:stretch/>
        </p:blipFill>
        <p:spPr>
          <a:xfrm>
            <a:off x="4087800" y="1087560"/>
            <a:ext cx="4897440" cy="50162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1152360" y="2035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1314720" y="222732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2443680" y="261792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1551240" y="382428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5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1904040" y="1593720"/>
            <a:ext cx="7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&lt;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7542720" y="214956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6276240" y="276876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6859800" y="33908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7297920" y="399096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8020440" y="456732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1065240" y="6004080"/>
            <a:ext cx="24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.B. = Unhealthy Behav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1000" y="-360"/>
            <a:ext cx="876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MR Prompt System Use</a:t>
            </a:r>
            <a:br>
              <a:rPr sz="36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5 weeks and 2 day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3" descr=""/>
          <p:cNvPicPr/>
          <p:nvPr/>
        </p:nvPicPr>
        <p:blipFill>
          <a:blip r:embed="rId1"/>
          <a:stretch/>
        </p:blipFill>
        <p:spPr>
          <a:xfrm>
            <a:off x="701640" y="1224000"/>
            <a:ext cx="7589880" cy="40482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953280" y="5197320"/>
            <a:ext cx="7175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0% of patients with an unhealthy behavior refer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cluded chronic care (42%), acute care (34%), and wellness (18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6% would not have brought up the topic if the clinician hadn’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1440" y="205920"/>
            <a:ext cx="860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lth Behavior Cha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Object 2" descr=""/>
          <p:cNvPicPr/>
          <p:nvPr/>
        </p:nvPicPr>
        <p:blipFill>
          <a:blip r:embed="rId1"/>
          <a:stretch/>
        </p:blipFill>
        <p:spPr>
          <a:xfrm>
            <a:off x="4653000" y="1600200"/>
            <a:ext cx="4033800" cy="45259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1001520" y="1550880"/>
            <a:ext cx="351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Referred for Weight L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5164560" y="1546200"/>
            <a:ext cx="304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Referred for Smo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Object 6"/>
          <p:cNvGraphicFramePr/>
          <p:nvPr/>
        </p:nvGraphicFramePr>
        <p:xfrm>
          <a:off x="457200" y="1724040"/>
          <a:ext cx="4033800" cy="4278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5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724040"/>
                    <a:ext cx="4033800" cy="42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MR Prompt System Us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ee vs. Patient p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Object 2" descr=""/>
          <p:cNvPicPr/>
          <p:nvPr/>
        </p:nvPicPr>
        <p:blipFill>
          <a:blip r:embed="rId1"/>
          <a:stretch/>
        </p:blipFill>
        <p:spPr>
          <a:xfrm>
            <a:off x="601560" y="1809720"/>
            <a:ext cx="801396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42960" y="16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pilogue: VDH Partne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Content Placeholder 3" descr=""/>
          <p:cNvPicPr/>
          <p:nvPr/>
        </p:nvPicPr>
        <p:blipFill>
          <a:blip r:embed="rId1"/>
          <a:stretch/>
        </p:blipFill>
        <p:spPr>
          <a:xfrm>
            <a:off x="685800" y="1515960"/>
            <a:ext cx="7772400" cy="4579920"/>
          </a:xfrm>
          <a:prstGeom prst="rect">
            <a:avLst/>
          </a:prstGeom>
          <a:ln w="0">
            <a:noFill/>
          </a:ln>
        </p:spPr>
      </p:pic>
      <p:sp>
        <p:nvSpPr>
          <p:cNvPr id="160" name="TextBox 4"/>
          <p:cNvSpPr/>
          <p:nvPr/>
        </p:nvSpPr>
        <p:spPr>
          <a:xfrm>
            <a:off x="4017600" y="1558800"/>
            <a:ext cx="4291920" cy="1922760"/>
          </a:xfrm>
          <a:prstGeom prst="rect">
            <a:avLst/>
          </a:prstGeom>
          <a:solidFill>
            <a:srgbClr val="0349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12 FTEs generat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7 referrals in 8 mon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4 (4.9) per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ughly 30 similar referrals/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63480" y="860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ginia Ambulatory Care Outcomes Research Network (ACOR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195200" y="3021120"/>
            <a:ext cx="67770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uit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everaging Community Quit Line Services to Promote Smoking Cessation Couns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2864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tLink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-248040" y="1174320"/>
            <a:ext cx="6326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930960" indent="-5014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expanded vital sign intervention (Ask, Advise, Assess done by staff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-5014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pacity to provide fax referral of preparation-stage patients for proactive telephone counseling (American Cancer Society Quitlin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-50148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edback to the provider team, including individual and aggregate reports and prescription reque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Object 2"/>
          <p:cNvGraphicFramePr/>
          <p:nvPr/>
        </p:nvGraphicFramePr>
        <p:xfrm>
          <a:off x="5859360" y="1930320"/>
          <a:ext cx="3048120" cy="30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59360" y="1930320"/>
                    <a:ext cx="3048120" cy="30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4120" y="156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vention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452240"/>
            <a:ext cx="83059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ming staff us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ed vital 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offered fax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ral for proactiv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phone counse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s contacted by ACS Quitline staff for intak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enrollment in 4 session counseling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propion SR fax prescription request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patient outcomes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rterly benchmarked aggregate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Object 2"/>
          <p:cNvGraphicFramePr/>
          <p:nvPr/>
        </p:nvGraphicFramePr>
        <p:xfrm>
          <a:off x="4341960" y="1406520"/>
          <a:ext cx="4233600" cy="17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1960" y="1406520"/>
                    <a:ext cx="4233600" cy="17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ding Causes of De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bacc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in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dr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4640" y="64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74280" y="1365120"/>
            <a:ext cx="7899480" cy="45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uster-randomized controlled t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9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- traditional tobacco-use vital 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 primary care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98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inner-city, 4 rural, and 9 suburb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d adults completing an office vis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sources: exits survey (13,562 patients, 18% smokers), ACS minimal data set, and semi-structured inter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al Fin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52280" y="2011320"/>
          <a:ext cx="8839440" cy="3995640"/>
        </p:xfrm>
        <a:graphic>
          <a:graphicData uri="http://schemas.openxmlformats.org/drawingml/2006/table">
            <a:tbl>
              <a:tblPr/>
              <a:tblGrid>
                <a:gridCol w="1752840"/>
                <a:gridCol w="2361960"/>
                <a:gridCol w="1295640"/>
                <a:gridCol w="1371600"/>
                <a:gridCol w="1143000"/>
                <a:gridCol w="91440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ounseling Behav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urvey Ques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djusted Affirmative Respon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ont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terven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iffer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s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A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id anyone ask you today if you smoke?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4.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9.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4.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dv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A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f you smoke, did anyone advise you today to stop smoking?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5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7.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7464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al Fin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52280" y="1450800"/>
          <a:ext cx="8839440" cy="5407200"/>
        </p:xfrm>
        <a:graphic>
          <a:graphicData uri="http://schemas.openxmlformats.org/drawingml/2006/table">
            <a:tbl>
              <a:tblPr/>
              <a:tblGrid>
                <a:gridCol w="1752840"/>
                <a:gridCol w="2361960"/>
                <a:gridCol w="1295640"/>
                <a:gridCol w="1371600"/>
                <a:gridCol w="1143000"/>
                <a:gridCol w="91440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ounseling Behav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urvey Ques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djusted Affirmative Respon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ont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terven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iffer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11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tensive Counse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A3-5+Referra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ain Out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9.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1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1.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&lt;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iscu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A3-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f you smoke, did anyone talk with you today about ideas or plans to help you quit smoking?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8.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5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.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Refer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f you smoke, were you referred today to a quit line?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8.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1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.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&lt;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nician and Community Partnership for Prev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To evaluate strategies to develop and foster sustainable linkages between primary care practices and existing community resources to help patients addr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bacc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r 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in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TION P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0280" y="1160640"/>
            <a:ext cx="8042400" cy="52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352680" y="1219320"/>
            <a:ext cx="5524560" cy="4025520"/>
            <a:chOff x="3352680" y="1219320"/>
            <a:chExt cx="5524560" cy="4025520"/>
          </a:xfrm>
        </p:grpSpPr>
        <p:sp>
          <p:nvSpPr>
            <p:cNvPr id="184" name=""/>
            <p:cNvSpPr/>
            <p:nvPr/>
          </p:nvSpPr>
          <p:spPr>
            <a:xfrm>
              <a:off x="7353360" y="5029200"/>
              <a:ext cx="99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ww.learnnc.or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3352680" y="1219320"/>
              <a:ext cx="5524560" cy="3838320"/>
              <a:chOff x="3352680" y="1219320"/>
              <a:chExt cx="5524560" cy="3838320"/>
            </a:xfrm>
          </p:grpSpPr>
          <p:pic>
            <p:nvPicPr>
              <p:cNvPr id="18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352680" y="1219320"/>
                <a:ext cx="5524560" cy="383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6248520" y="2361960"/>
                <a:ext cx="457200" cy="380880"/>
              </a:xfrm>
              <a:prstGeom prst="ellipse">
                <a:avLst/>
              </a:prstGeom>
              <a:noFill/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8" name=""/>
          <p:cNvSpPr/>
          <p:nvPr/>
        </p:nvSpPr>
        <p:spPr>
          <a:xfrm>
            <a:off x="304920" y="1143000"/>
            <a:ext cx="2895480" cy="27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ange Coun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: 12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: 1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panic: 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ham Coun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 23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 3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panic 1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all, 13% below F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4416480"/>
            <a:ext cx="914400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North Carol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bacco: 2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minutes physical activity ≥3 days per week: &lt;2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weight: 3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ese: 2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y to change: 44% who smoke, 60% with poor nutrition, 68% who lack exerc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cipants and Interven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457200" y="3505320"/>
            <a:ext cx="2286000" cy="1523880"/>
            <a:chOff x="457200" y="3505320"/>
            <a:chExt cx="2286000" cy="1523880"/>
          </a:xfrm>
        </p:grpSpPr>
        <p:sp>
          <p:nvSpPr>
            <p:cNvPr id="192" name=""/>
            <p:cNvSpPr/>
            <p:nvPr/>
          </p:nvSpPr>
          <p:spPr>
            <a:xfrm>
              <a:off x="457200" y="3505320"/>
              <a:ext cx="2286000" cy="1523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90720" y="40384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9680" y="541008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ation of the Intervention: 6 mon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599480" y="1328760"/>
            <a:ext cx="6782400" cy="3700440"/>
            <a:chOff x="1599480" y="1328760"/>
            <a:chExt cx="6782400" cy="3700440"/>
          </a:xfrm>
        </p:grpSpPr>
        <p:grpSp>
          <p:nvGrpSpPr>
            <p:cNvPr id="196" name=""/>
            <p:cNvGrpSpPr/>
            <p:nvPr/>
          </p:nvGrpSpPr>
          <p:grpSpPr>
            <a:xfrm>
              <a:off x="3510000" y="1328760"/>
              <a:ext cx="1828800" cy="1371600"/>
              <a:chOff x="3510000" y="1328760"/>
              <a:chExt cx="1828800" cy="1371600"/>
            </a:xfrm>
          </p:grpSpPr>
          <p:sp>
            <p:nvSpPr>
              <p:cNvPr id="197" name=""/>
              <p:cNvSpPr/>
              <p:nvPr/>
            </p:nvSpPr>
            <p:spPr>
              <a:xfrm>
                <a:off x="3510000" y="1328760"/>
                <a:ext cx="1828800" cy="1371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733920" y="1600200"/>
                <a:ext cx="160020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9 Practic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(IM and FP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3276720" y="3505320"/>
              <a:ext cx="2286000" cy="1523880"/>
              <a:chOff x="3276720" y="3505320"/>
              <a:chExt cx="2286000" cy="1523880"/>
            </a:xfrm>
          </p:grpSpPr>
          <p:sp>
            <p:nvSpPr>
              <p:cNvPr id="200" name=""/>
              <p:cNvSpPr/>
              <p:nvPr/>
            </p:nvSpPr>
            <p:spPr>
              <a:xfrm>
                <a:off x="3276720" y="3505320"/>
                <a:ext cx="2286000" cy="1523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810240" y="4038480"/>
                <a:ext cx="160020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assiv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terven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6095880" y="3505320"/>
              <a:ext cx="2286000" cy="1523880"/>
              <a:chOff x="6095880" y="3505320"/>
              <a:chExt cx="2286000" cy="1523880"/>
            </a:xfrm>
          </p:grpSpPr>
          <p:sp>
            <p:nvSpPr>
              <p:cNvPr id="203" name=""/>
              <p:cNvSpPr/>
              <p:nvPr/>
            </p:nvSpPr>
            <p:spPr>
              <a:xfrm>
                <a:off x="6095880" y="3505320"/>
                <a:ext cx="2286000" cy="15238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629400" y="4038480"/>
                <a:ext cx="160020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ctiv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terven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05" name=""/>
            <p:cNvCxnSpPr>
              <a:stCxn id="197" idx="4"/>
              <a:endCxn id="192" idx="0"/>
            </p:cNvCxnSpPr>
            <p:nvPr/>
          </p:nvCxnSpPr>
          <p:spPr>
            <a:xfrm rot="5400000">
              <a:off x="2608920" y="1690560"/>
              <a:ext cx="805680" cy="2824920"/>
            </a:xfrm>
            <a:prstGeom prst="bentConnector3">
              <a:avLst>
                <a:gd name="adj1" fmla="val 4988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6" name=""/>
            <p:cNvCxnSpPr>
              <a:stCxn id="197" idx="4"/>
              <a:endCxn id="200" idx="0"/>
            </p:cNvCxnSpPr>
            <p:nvPr/>
          </p:nvCxnSpPr>
          <p:spPr>
            <a:xfrm flipH="1">
              <a:off x="4419000" y="2700360"/>
              <a:ext cx="5400" cy="805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197" idx="4"/>
              <a:endCxn id="203" idx="0"/>
            </p:cNvCxnSpPr>
            <p:nvPr/>
          </p:nvCxnSpPr>
          <p:spPr>
            <a:xfrm flipH="1" rot="16200000">
              <a:off x="5429160" y="1695240"/>
              <a:ext cx="805680" cy="2815200"/>
            </a:xfrm>
            <a:prstGeom prst="bentConnector3">
              <a:avLst>
                <a:gd name="adj1" fmla="val 4988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8" name=""/>
            <p:cNvSpPr/>
            <p:nvPr/>
          </p:nvSpPr>
          <p:spPr>
            <a:xfrm>
              <a:off x="4148280" y="2938320"/>
              <a:ext cx="53316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276800" y="2909880"/>
              <a:ext cx="62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 Prac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and after survey to determ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Referral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t audits at the beginning, middle and end of the intervention to evalu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 population that could benefit from referral to a community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 Referral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sive Interv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ol per control practices pl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chure and referral material for selected community organiz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C Tobacco Qui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M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Department Diet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ke “Live for Life”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kick-off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ef help as requ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Broch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04920" y="1295280"/>
            <a:ext cx="8381880" cy="5089680"/>
            <a:chOff x="304920" y="1295280"/>
            <a:chExt cx="8381880" cy="5089680"/>
          </a:xfrm>
        </p:grpSpPr>
        <p:graphicFrame>
          <p:nvGraphicFramePr>
            <p:cNvPr id="216" name=""/>
            <p:cNvGraphicFramePr/>
            <p:nvPr/>
          </p:nvGraphicFramePr>
          <p:xfrm>
            <a:off x="304920" y="1295280"/>
            <a:ext cx="8381880" cy="5089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1295280"/>
                      <a:ext cx="8381880" cy="508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8" name=""/>
            <p:cNvGrpSpPr/>
            <p:nvPr/>
          </p:nvGrpSpPr>
          <p:grpSpPr>
            <a:xfrm>
              <a:off x="609480" y="5334120"/>
              <a:ext cx="3200400" cy="609480"/>
              <a:chOff x="609480" y="5334120"/>
              <a:chExt cx="3200400" cy="609480"/>
            </a:xfrm>
          </p:grpSpPr>
          <p:sp>
            <p:nvSpPr>
              <p:cNvPr id="219" name=""/>
              <p:cNvSpPr/>
              <p:nvPr/>
            </p:nvSpPr>
            <p:spPr>
              <a:xfrm>
                <a:off x="609480" y="5334120"/>
                <a:ext cx="1295640" cy="609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895480" y="5334120"/>
                <a:ext cx="914400" cy="5331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nic Care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32200" y="1481040"/>
            <a:ext cx="2989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33720" y="1712880"/>
            <a:ext cx="2684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665360" y="1450800"/>
            <a:ext cx="5987520" cy="4644360"/>
            <a:chOff x="1665360" y="1450800"/>
            <a:chExt cx="5987520" cy="4644360"/>
          </a:xfrm>
        </p:grpSpPr>
        <p:pic>
          <p:nvPicPr>
            <p:cNvPr id="61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665360" y="1541520"/>
              <a:ext cx="5987520" cy="455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2969640" y="1450800"/>
              <a:ext cx="3129480" cy="31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Broch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57200" y="1447920"/>
            <a:ext cx="8229600" cy="4995720"/>
            <a:chOff x="457200" y="1447920"/>
            <a:chExt cx="8229600" cy="4995720"/>
          </a:xfrm>
        </p:grpSpPr>
        <p:graphicFrame>
          <p:nvGraphicFramePr>
            <p:cNvPr id="223" name=""/>
            <p:cNvGraphicFramePr/>
            <p:nvPr/>
          </p:nvGraphicFramePr>
          <p:xfrm>
            <a:off x="457200" y="1447920"/>
            <a:ext cx="8229600" cy="4995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1447920"/>
                      <a:ext cx="8229600" cy="499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5" name=""/>
            <p:cNvSpPr/>
            <p:nvPr/>
          </p:nvSpPr>
          <p:spPr>
            <a:xfrm>
              <a:off x="6934320" y="4419720"/>
              <a:ext cx="137160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e Interv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ive Intervention Protocol pl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Champion who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other community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 feedback, including number of referrals made and completed, outcomes of chart aud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-up a small number of refer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hly QI phone call with other active practices and community resource 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to the “ACCTION Pack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TION P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31520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com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ral to a community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ion of refer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in provider knowledge and attitudes towards partner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 of the barriers to and facilitators of developing linkages between practices and community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the ACCTION 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minimal features of a community resour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assess with the practices about whether something is really a community resource (e.g., a mall walking program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community resources be identified and tracked efficient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evelop reproducible strategies for bidirectional communication between practices and community resour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get others to add to the ACCTION Pac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measures vs. Health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iz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Prevention vs. Secondary Pre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ce Base for Choosing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2396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 of behavior change counseling is feasible in frontline primary care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tacles to practices include inadequ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imburs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antial practice redesign and revised reimbursement systems are necessa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faceted solutions involving new tools, technologies, and care teams are now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2396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11360" y="1447920"/>
            <a:ext cx="777240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arallels of addressing chronic care illness and preventive health care can be leveraged to significantly improve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s and frameworks such as the 5As, the Chronic Care Model, and RE-AIM are valuable guides in the implementation of innovations into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 of behavior change strategies extends beyond the exam room, beyond a single visit, and beyond the off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 of clinical and community services to achieve behavior change is both challenging and critical. The infrastructure to make the connection is broken, fragile, or l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le of Clinic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ationale for clinician invol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bility and imprimatur of 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with primary care and medical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mped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ts of counseling depend on int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time, skills, staff, reimbursement to offer intensive counseling and ongoing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redesign to offer such services not feasible in typical US primary care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seling Recommend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36760" y="1596960"/>
          <a:ext cx="4340160" cy="37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6760" y="1596960"/>
                    <a:ext cx="4340160" cy="37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1201680" y="351000"/>
          <a:ext cx="673884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1680" y="351000"/>
                    <a:ext cx="673884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unity Resources for Intensive Counse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phone counseling (e.g., quit lin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titians, trainers, fitness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meetings and classes (e.g., Weight Watch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ite and school-based wellness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rcial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health departme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resources and web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30T14:18:44Z</dcterms:created>
  <dc:creator>Douglas H. Fernald</dc:creator>
  <dc:description/>
  <dc:language>en-US</dc:language>
  <cp:lastModifiedBy>william.hyde</cp:lastModifiedBy>
  <dcterms:modified xsi:type="dcterms:W3CDTF">2008-12-29T19:49:15Z</dcterms:modified>
  <cp:revision>482</cp:revision>
  <dc:subject/>
  <dc:title>PowerPoint Presentation</dc:title>
</cp:coreProperties>
</file>