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8FC-BA32-4BF0-8017-0D0B8838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3AF-34C6-4F2C-B503-7F85C0CC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4819-B43D-4AA9-B4A2-6F76CE9F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A9C-0F3F-4339-8082-BF5A9016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F045-776A-447D-ABAC-EEE8F1BD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24E-96DD-4D32-8074-7D0C54CA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7BA9-154A-4308-A1EB-16E639D8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BC29-28DF-4654-96C9-B2698825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29D-49EC-4518-B96A-F8E192D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D84-3667-4ABE-9F53-B4E28FB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FC9-6120-4D9A-85C1-C0914360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EE1-1693-4069-870A-C633900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D8C-7394-4F68-92F7-8842B50A3B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90440" y="1057320"/>
            <a:ext cx="69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terminants of Asthma Morbidity Among Inner-City Popul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40560" y="4006800"/>
            <a:ext cx="6410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an P. Wisnivesky, MD, MP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sions of General Internal Medicine and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, Critical Care, and Sleep Medicin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unt Sinai School of Medici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41320" y="-46440"/>
            <a:ext cx="758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dication Beliefs Associated with ICS Adherence (M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9600" y="5721480"/>
            <a:ext cx="84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peated measures regression adjusted for age, sex, prior intubation, and frequency of oral steroid us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24080"/>
          <a:ext cx="7772400" cy="4114800"/>
        </p:xfrm>
        <a:graphic>
          <a:graphicData uri="http://schemas.openxmlformats.org/drawingml/2006/table">
            <a:tbl>
              <a:tblPr/>
              <a:tblGrid>
                <a:gridCol w="4240080"/>
                <a:gridCol w="1436760"/>
                <a:gridCol w="2095560"/>
              </a:tblGrid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edication Belief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1368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 to take when asymptomatic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dent in ability to use ICS as prescribe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ry about side effec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0.00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tion regimen hard to follow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368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368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7640" y="138240"/>
            <a:ext cx="91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Relationship Between Language Barriers and Outcomes of Inner-city Asthmatic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040" y="158580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 million people living in the US have no or limited English-language skil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English proficiency can impair access to quality health ca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 patient-provider communication is a key aspect of asthma manag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ive of this analysis was to assess how language barriers affect the outcomes of adult inner-city asthmat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90960" y="55818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362320" y="4951440"/>
            <a:ext cx="1015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62320" y="3875040"/>
            <a:ext cx="1015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62320" y="2803680"/>
            <a:ext cx="10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55760" y="4411800"/>
            <a:ext cx="2080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55760" y="3336840"/>
            <a:ext cx="208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20320" y="53229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20320" y="4251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20320" y="3179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0320" y="2112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219960" y="3722760"/>
            <a:ext cx="268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442960" y="1944720"/>
            <a:ext cx="2052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227320" y="2225520"/>
            <a:ext cx="20808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38880" y="55818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60880" y="3660840"/>
            <a:ext cx="647640" cy="183024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08520" y="3489480"/>
            <a:ext cx="648000" cy="200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25560" y="3587760"/>
            <a:ext cx="648000" cy="19033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73560" y="3502080"/>
            <a:ext cx="647640" cy="198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22640" y="3021120"/>
            <a:ext cx="647640" cy="2469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64440" y="2651040"/>
            <a:ext cx="647640" cy="28400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97160" y="5506920"/>
            <a:ext cx="4906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4480" y="2170080"/>
            <a:ext cx="5266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1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60120" y="2170080"/>
            <a:ext cx="709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&lt;0.0001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1206360"/>
            <a:ext cx="329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Hispanic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Proficient in English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Limited Proficienc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72200" y="1271520"/>
            <a:ext cx="13644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2200" y="1512720"/>
            <a:ext cx="136440" cy="130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2200" y="1744560"/>
            <a:ext cx="136440" cy="1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9920" y="0"/>
            <a:ext cx="7047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thma Control in Relationship to English Proficienc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51200" y="6381720"/>
            <a:ext cx="6788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74960" y="6384960"/>
            <a:ext cx="732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snivesky J, et al. Assessing the Relationship between Language Proficiency and Asthma Morbidity amongst Inner-city Asthmatics. Medical Care, In Press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619600" y="1441440"/>
            <a:ext cx="329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Hispanic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Proficient in English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Limited Proficienc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72200" y="1506600"/>
            <a:ext cx="13644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317320" y="5243400"/>
            <a:ext cx="103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317320" y="4165560"/>
            <a:ext cx="1033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317320" y="3092400"/>
            <a:ext cx="103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12920" y="4702320"/>
            <a:ext cx="20808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12920" y="3627360"/>
            <a:ext cx="208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398680" y="2235240"/>
            <a:ext cx="22320" cy="36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185920" y="2571840"/>
            <a:ext cx="20808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88560" y="5613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7160" y="4541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47160" y="34704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47160" y="2403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849960" y="3953520"/>
            <a:ext cx="137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52200" y="5840280"/>
            <a:ext cx="1740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ati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cerb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4520" y="4791240"/>
            <a:ext cx="64764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2160" y="4994280"/>
            <a:ext cx="649440" cy="804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89520" y="2733840"/>
            <a:ext cx="647640" cy="3065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38040" y="2616120"/>
            <a:ext cx="618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4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94280" y="5840280"/>
            <a:ext cx="1953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 Visits-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spitalizatio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76640" y="4851360"/>
            <a:ext cx="648000" cy="94788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24640" y="4592520"/>
            <a:ext cx="647640" cy="1206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81640" y="3122640"/>
            <a:ext cx="647640" cy="2676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98720" y="2600280"/>
            <a:ext cx="618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7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2200" y="1747800"/>
            <a:ext cx="136440" cy="130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72200" y="1979640"/>
            <a:ext cx="136440" cy="1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17680" y="5791320"/>
            <a:ext cx="5029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5840" y="-14400"/>
            <a:ext cx="8545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 Utilization in Relationship to English Proficienc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rot="16200000">
            <a:off x="215640" y="3760920"/>
            <a:ext cx="247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of Life Sco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00600" y="57960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279160" y="5189400"/>
            <a:ext cx="1033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279160" y="4113360"/>
            <a:ext cx="1033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279160" y="3041640"/>
            <a:ext cx="103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174760" y="4649760"/>
            <a:ext cx="20808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174760" y="3576600"/>
            <a:ext cx="208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6200" y="5527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6200" y="44578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6200" y="3386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6200" y="2320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360520" y="2184120"/>
            <a:ext cx="22320" cy="365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144520" y="2465280"/>
            <a:ext cx="207720" cy="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08920" y="5796000"/>
            <a:ext cx="120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-Month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78440" y="3740040"/>
            <a:ext cx="647640" cy="19893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26080" y="4202280"/>
            <a:ext cx="647640" cy="1527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44920" y="3740040"/>
            <a:ext cx="647640" cy="19893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92560" y="4245120"/>
            <a:ext cx="647640" cy="1484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8120" y="4591080"/>
            <a:ext cx="647640" cy="1138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80200" y="4849920"/>
            <a:ext cx="647640" cy="87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16160" y="5745240"/>
            <a:ext cx="4905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0720" y="2629080"/>
            <a:ext cx="618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2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76840" y="2662200"/>
            <a:ext cx="70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=0.0001</a:t>
            </a:r>
            <a:endParaRPr b="0" lang="en-US" sz="1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19600" y="1441440"/>
            <a:ext cx="32958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-Hispanic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Proficient in English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spanics, Limited Proficiency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72200" y="1506600"/>
            <a:ext cx="13644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72200" y="1747800"/>
            <a:ext cx="136440" cy="130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72200" y="1979640"/>
            <a:ext cx="136440" cy="130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7160" y="0"/>
            <a:ext cx="7394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uality of Life in Relationship to English Proficiency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1280" y="150840"/>
            <a:ext cx="898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dication and Disease Beliefs, Self-Efficacy, and Adherence According to English Proficienc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0" y="1471680"/>
            <a:ext cx="337680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Variabl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Medication Beliefs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orry Side Effects IC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orry Addiction to IC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CS are Controller Med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Disease Beliefs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o Symptoms, No Asthma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sthma is Chronic Diseas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Self-efficacy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fident Control Asthma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fident Use ICS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trol Over Future Health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69320" y="1471680"/>
            <a:ext cx="110160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0.000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1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0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&lt;0.000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68760" y="1471680"/>
            <a:ext cx="17413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Non-Hispanics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n=14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0960" y="1471680"/>
            <a:ext cx="157644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Hispanic,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roficient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n=12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72080" y="1471680"/>
            <a:ext cx="258912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Hispanics, Limited Proficienc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n=5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00" y="1422360"/>
            <a:ext cx="9001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00" y="2487600"/>
            <a:ext cx="903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00" y="6338880"/>
            <a:ext cx="9001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87360" y="152280"/>
            <a:ext cx="65516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The Role of Allergic Sensitization on Asthma Morbidity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720" y="1533600"/>
            <a:ext cx="79437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-city residents are often exposed to high levels of indoor allerge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tization to cockroach allergen has been linked to increased asthma morbidity in childr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 data suggest that sensitization to indoor allergens may worsen asthma in elderly patients and pregnant wome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 of the study was to evaluate the role of sensitization to indoor allergens on asthma control among inner-city asthmat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09520" y="135000"/>
            <a:ext cx="87822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</a:rPr>
              <a:t>Prevalence of Sensitization to Indoor Allergens Among Inner-city Asthmatics</a:t>
            </a:r>
            <a:endParaRPr b="0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-634320" y="35024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nt Sensitiz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603440" y="1631880"/>
            <a:ext cx="0" cy="369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2880" y="273060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42880" y="339084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42880" y="404028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2880" y="468936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2880" y="532908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 rot="10800000">
            <a:off x="921960" y="447516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921960" y="381960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 rot="10800000">
            <a:off x="921960" y="251532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 rot="10800000">
            <a:off x="1117800" y="512280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 rot="10800000">
            <a:off x="921960" y="317340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01640" y="5329080"/>
            <a:ext cx="6820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03440" y="5327280"/>
            <a:ext cx="0" cy="157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42880" y="2081160"/>
            <a:ext cx="157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 rot="10800000">
            <a:off x="921960" y="186228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96880" y="6207120"/>
            <a:ext cx="7248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7600" y="6224760"/>
            <a:ext cx="74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snivesky J, et al. Association between indoor allergen sensitization and asthma morbidity in inner-city asthmatics. JACI, 2007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 rot="10800000">
            <a:off x="2107800" y="5368680"/>
            <a:ext cx="90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s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t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 rot="10800000">
            <a:off x="4271760" y="539280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ckroach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 rot="10800000">
            <a:off x="5880960" y="5392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 rot="10800000">
            <a:off x="3424320" y="539028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 rot="10800000">
            <a:off x="7144200" y="5392800"/>
            <a:ext cx="92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ld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2529000"/>
            <a:ext cx="490680" cy="279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43480" y="2655720"/>
            <a:ext cx="490320" cy="26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18240" y="1801800"/>
            <a:ext cx="490320" cy="3519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3000" y="4002120"/>
            <a:ext cx="490320" cy="13190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69200" y="4416480"/>
            <a:ext cx="490680" cy="904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703520" y="250344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55920" y="2817720"/>
            <a:ext cx="8064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71760" y="2565360"/>
            <a:ext cx="64800" cy="61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58920" y="309420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19040" y="309420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87680" y="309420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1120" y="309420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60360" y="320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05240" y="320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4520" y="3205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258560" y="276696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258560" y="2133720"/>
            <a:ext cx="60120" cy="2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258560" y="150336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196640" y="244944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1196640" y="1817640"/>
            <a:ext cx="12204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08000" y="2933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08000" y="2303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08000" y="1673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08000" y="1046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-374400" y="197856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1306080" y="99828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0360" y="1608120"/>
            <a:ext cx="1098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29000" y="1719360"/>
            <a:ext cx="13644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87760" y="168444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76600" y="1531800"/>
            <a:ext cx="135000" cy="1177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5680" y="167796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43040" y="189540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V="1">
            <a:off x="2660400" y="1755720"/>
            <a:ext cx="981720" cy="1558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1844640" y="342900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83" name=""/>
          <p:cNvCxnSpPr/>
          <p:nvPr/>
        </p:nvCxnSpPr>
        <p:spPr>
          <a:xfrm>
            <a:off x="1346040" y="1714320"/>
            <a:ext cx="1254960" cy="831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284" name=""/>
          <p:cNvCxnSpPr/>
          <p:nvPr/>
        </p:nvCxnSpPr>
        <p:spPr>
          <a:xfrm flipV="1">
            <a:off x="2612880" y="1591560"/>
            <a:ext cx="999000" cy="20556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285" name=""/>
          <p:cNvCxnSpPr/>
          <p:nvPr/>
        </p:nvCxnSpPr>
        <p:spPr>
          <a:xfrm>
            <a:off x="1316160" y="1647720"/>
            <a:ext cx="1281600" cy="2880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1460160" y="784080"/>
            <a:ext cx="265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ckroach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02320" y="310212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662440" y="310212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931080" y="310212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986600" y="3102120"/>
            <a:ext cx="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03760" y="321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8640" y="321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0000" y="321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601960" y="2774880"/>
            <a:ext cx="601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601960" y="214164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01960" y="151128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540040" y="24573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40040" y="1825560"/>
            <a:ext cx="12204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51400" y="294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51400" y="2311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51400" y="1681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51400" y="1054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3968640" y="198648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649480" y="100620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03760" y="1735200"/>
            <a:ext cx="1098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72400" y="1687680"/>
            <a:ext cx="13644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31160" y="187488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0000" y="165096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86440" y="1919160"/>
            <a:ext cx="10800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88040" y="343692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50880" y="792000"/>
            <a:ext cx="18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at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200" y="263988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4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02840" y="263988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15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664240" y="1736640"/>
            <a:ext cx="126216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6400" y="1736640"/>
            <a:ext cx="106524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49840" y="1792440"/>
            <a:ext cx="1297080" cy="177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953400" y="1914480"/>
            <a:ext cx="10382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65400" y="615780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325520" y="615780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3800" y="615780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57600" y="615780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66840" y="626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1360" y="626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1000" y="6269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265040" y="58309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265040" y="519732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265040" y="456732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203120" y="551340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203120" y="488160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14480" y="5997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014480" y="5367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14480" y="4737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14480" y="4110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6200000">
            <a:off x="-367920" y="504216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1312560" y="4062240"/>
            <a:ext cx="12600" cy="21513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66840" y="4592520"/>
            <a:ext cx="10944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35120" y="4822920"/>
            <a:ext cx="1368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94240" y="4398840"/>
            <a:ext cx="10764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583080" y="466740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62160" y="469440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549520" y="4633920"/>
            <a:ext cx="10800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51120" y="649908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343" name=""/>
          <p:cNvCxnSpPr/>
          <p:nvPr/>
        </p:nvCxnSpPr>
        <p:spPr>
          <a:xfrm>
            <a:off x="1352520" y="4778280"/>
            <a:ext cx="1254960" cy="8352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cxnSp>
        <p:nvCxnSpPr>
          <p:cNvPr id="344" name=""/>
          <p:cNvCxnSpPr/>
          <p:nvPr/>
        </p:nvCxnSpPr>
        <p:spPr>
          <a:xfrm flipV="1">
            <a:off x="2619360" y="4704480"/>
            <a:ext cx="1032480" cy="204120"/>
          </a:xfrm>
          <a:prstGeom prst="straightConnector1">
            <a:avLst/>
          </a:prstGeom>
          <a:ln w="19080">
            <a:solidFill>
              <a:srgbClr val="00ff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1546560" y="380988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use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08800" y="616572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68920" y="616572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7200" y="616572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93080" y="6165720"/>
            <a:ext cx="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10240" y="627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4760" y="627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6480" y="6276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608440" y="583884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08440" y="520524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608440" y="457524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546520" y="552132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46520" y="488952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57880" y="600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5375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57880" y="4745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57880" y="4118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3975120" y="5050440"/>
            <a:ext cx="22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thma Control Scor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655960" y="407016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10240" y="4656240"/>
            <a:ext cx="10944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78520" y="4989600"/>
            <a:ext cx="1368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37640" y="4668840"/>
            <a:ext cx="107640" cy="936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926480" y="475452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05560" y="474984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92920" y="4856040"/>
            <a:ext cx="108000" cy="93960"/>
          </a:xfrm>
          <a:prstGeom prst="rect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94520" y="6507000"/>
            <a:ext cx="147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71760" y="3881520"/>
            <a:ext cx="20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ld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0320" y="570384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2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09680" y="570384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 &gt;0.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6320" y="4705200"/>
            <a:ext cx="1297080" cy="177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959520" y="4726080"/>
            <a:ext cx="1013040" cy="1490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12920" y="4626000"/>
            <a:ext cx="1270080" cy="3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590920" y="4422600"/>
            <a:ext cx="1084320" cy="238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81520" y="4803840"/>
            <a:ext cx="1278000" cy="2458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967440" y="4820760"/>
            <a:ext cx="1033560" cy="22068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179360" y="116352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4840" y="252108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07240" y="2835360"/>
            <a:ext cx="8064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23080" y="2583000"/>
            <a:ext cx="64800" cy="6192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530680" y="11811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95600" y="551340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547640" y="582768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63840" y="5575320"/>
            <a:ext cx="6480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187280" y="42609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46920" y="559908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899320" y="5913360"/>
            <a:ext cx="8064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15160" y="5661000"/>
            <a:ext cx="6480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522760" y="42591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599080" y="1685880"/>
            <a:ext cx="135000" cy="1173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76320"/>
            <a:ext cx="9163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Asthma Control According to Sensitization Status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131840" y="309420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92320" y="309420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35760" y="312408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131840" y="2766960"/>
            <a:ext cx="6048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1131840" y="2133720"/>
            <a:ext cx="60480" cy="2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131840" y="1503360"/>
            <a:ext cx="60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069920" y="244944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069920" y="1817640"/>
            <a:ext cx="12240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88840" y="2933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303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20" y="1673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2120" y="1046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-85320" y="186408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179360" y="998280"/>
            <a:ext cx="1296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33080" y="784080"/>
            <a:ext cx="265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ckroach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75240" y="3102120"/>
            <a:ext cx="2820960" cy="61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35720" y="3102120"/>
            <a:ext cx="3240" cy="10152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475240" y="2774880"/>
            <a:ext cx="6048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475240" y="2141640"/>
            <a:ext cx="6048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475240" y="1511280"/>
            <a:ext cx="60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413320" y="2457360"/>
            <a:ext cx="12240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5413320" y="1825560"/>
            <a:ext cx="12240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522760" y="1006200"/>
            <a:ext cx="1296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23800" y="792000"/>
            <a:ext cx="184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at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38320" y="615780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198440" y="615780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137960" y="583092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1137960" y="519732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1137960" y="456732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1076040" y="551340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1076040" y="488160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flipV="1">
            <a:off x="1185480" y="4062240"/>
            <a:ext cx="12600" cy="215136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19480" y="3809880"/>
            <a:ext cx="219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use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81720" y="6165720"/>
            <a:ext cx="2820960" cy="64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41840" y="6165720"/>
            <a:ext cx="3240" cy="1018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481360" y="5838840"/>
            <a:ext cx="601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481360" y="5205240"/>
            <a:ext cx="6012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481360" y="4575240"/>
            <a:ext cx="60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419440" y="552132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419440" y="4889520"/>
            <a:ext cx="1220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5528880" y="4070160"/>
            <a:ext cx="12600" cy="2151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944680" y="3881520"/>
            <a:ext cx="2010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Mold Sensitizatio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052280" y="116352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5403600" y="11811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060200" y="42609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395680" y="4259160"/>
            <a:ext cx="122040" cy="32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95400" y="152280"/>
            <a:ext cx="946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Arial"/>
              </a:rPr>
              <a:t>Resource Utilization According to Sensitization Status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24360" y="312408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63400" y="312408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25000" y="312408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02360" y="2954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075280" y="23241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75280" y="1693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75280" y="10666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4227480" y="188532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9080" y="6002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2000" y="5372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2000" y="4741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92000" y="4114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-55080" y="493272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32240" y="6022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53928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47624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05520" y="41353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4257720" y="4953960"/>
            <a:ext cx="11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70280" y="1895400"/>
            <a:ext cx="380880" cy="11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51160" y="1946160"/>
            <a:ext cx="380880" cy="1138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36840" y="1440000"/>
            <a:ext cx="380880" cy="164304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17720" y="1630440"/>
            <a:ext cx="380880" cy="145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248600" y="2405160"/>
            <a:ext cx="380880" cy="68724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9480" y="1752480"/>
            <a:ext cx="380880" cy="1339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15160" y="1820880"/>
            <a:ext cx="380880" cy="127008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296040" y="1355760"/>
            <a:ext cx="380880" cy="1735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41880" y="618804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30840" y="618804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69520" y="6188040"/>
            <a:ext cx="657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teroi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31120" y="6188040"/>
            <a:ext cx="4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D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isit</a:t>
            </a:r>
            <a:endParaRPr b="0" lang="en-US" sz="1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76400" y="4792680"/>
            <a:ext cx="381240" cy="13557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257640" y="5010120"/>
            <a:ext cx="380880" cy="1138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42960" y="5003640"/>
            <a:ext cx="3812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24200" y="4589640"/>
            <a:ext cx="380880" cy="1557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254720" y="5207040"/>
            <a:ext cx="381240" cy="9493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35960" y="4902120"/>
            <a:ext cx="380880" cy="1254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921280" y="5241960"/>
            <a:ext cx="381240" cy="9126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302520" y="4902120"/>
            <a:ext cx="380880" cy="12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47960" y="116532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00360" y="147960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716200" y="1227240"/>
            <a:ext cx="6516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0040" y="417528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92440" y="448956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08280" y="4237200"/>
            <a:ext cx="6516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191360" y="4260960"/>
            <a:ext cx="11016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ensitized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043760" y="4575240"/>
            <a:ext cx="81000" cy="77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59600" y="4322880"/>
            <a:ext cx="65160" cy="61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47880" y="1395360"/>
            <a:ext cx="711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*P=0.06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15680" y="228600"/>
            <a:ext cx="411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ner-City Asthm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1760" y="1276200"/>
            <a:ext cx="85183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sthma is a chronic disease affecting 15 to 17 million  American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ority inner-city populations are disproportionately affected by asthma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frican Americans and Hispanics have 2 to 3 times greater rates of death due to asthma when compared to whi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w York City has asthma mortality rates 10 times the national averag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083120" y="1152360"/>
            <a:ext cx="1295280" cy="38124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25320" y="1189080"/>
            <a:ext cx="991440" cy="27468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ttitud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512120" y="1152360"/>
            <a:ext cx="1295280" cy="38124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59720" y="1189080"/>
            <a:ext cx="977760" cy="27468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8720" y="1152360"/>
            <a:ext cx="1295280" cy="38124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83080" y="1189080"/>
            <a:ext cx="1221480" cy="274680"/>
          </a:xfrm>
          <a:prstGeom prst="rect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2540160"/>
            <a:ext cx="1748880" cy="103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Familiar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ccessibi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89320" y="4762440"/>
            <a:ext cx="1794600" cy="103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Awarenes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volu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accessibil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87480" y="2433600"/>
            <a:ext cx="1760760" cy="12445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Agreement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specific item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guidelines in 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gener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40240" y="1886040"/>
            <a:ext cx="1295640" cy="733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Outcome Expectanc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40240" y="3314880"/>
            <a:ext cx="1295640" cy="5202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Self-efficac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40240" y="4695840"/>
            <a:ext cx="1295640" cy="7333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ack of Motivation/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Inerti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2948040"/>
            <a:ext cx="1752480" cy="12445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External Barrie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patient facto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guideline facto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environmental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facto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496" idx="0"/>
            <a:endCxn id="494" idx="2"/>
          </p:cNvCxnSpPr>
          <p:nvPr/>
        </p:nvCxnSpPr>
        <p:spPr>
          <a:xfrm flipH="1" flipV="1">
            <a:off x="1475640" y="1546920"/>
            <a:ext cx="10440" cy="9788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497" idx="0"/>
            <a:endCxn id="496" idx="2"/>
          </p:cNvCxnSpPr>
          <p:nvPr/>
        </p:nvCxnSpPr>
        <p:spPr>
          <a:xfrm flipH="1" flipV="1">
            <a:off x="1485720" y="3610800"/>
            <a:ext cx="2160" cy="11372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4" idx="3"/>
            <a:endCxn id="490" idx="1"/>
          </p:cNvCxnSpPr>
          <p:nvPr/>
        </p:nvCxnSpPr>
        <p:spPr>
          <a:xfrm>
            <a:off x="2138400" y="1342800"/>
            <a:ext cx="1931040" cy="1080"/>
          </a:xfrm>
          <a:prstGeom prst="straightConnector1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490" idx="3"/>
            <a:endCxn id="492" idx="1"/>
          </p:cNvCxnSpPr>
          <p:nvPr/>
        </p:nvCxnSpPr>
        <p:spPr>
          <a:xfrm>
            <a:off x="5392440" y="1342800"/>
            <a:ext cx="2105640" cy="1080"/>
          </a:xfrm>
          <a:prstGeom prst="straightConnector1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2" idx="0"/>
            <a:endCxn id="492" idx="2"/>
          </p:cNvCxnSpPr>
          <p:nvPr/>
        </p:nvCxnSpPr>
        <p:spPr>
          <a:xfrm flipV="1">
            <a:off x="8159400" y="1547280"/>
            <a:ext cx="1080" cy="13867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8" idx="3"/>
            <a:endCxn id="490" idx="2"/>
          </p:cNvCxnSpPr>
          <p:nvPr/>
        </p:nvCxnSpPr>
        <p:spPr>
          <a:xfrm flipV="1">
            <a:off x="4562280" y="1546920"/>
            <a:ext cx="168840" cy="152172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stCxn id="499" idx="1"/>
            <a:endCxn id="490" idx="2"/>
          </p:cNvCxnSpPr>
          <p:nvPr/>
        </p:nvCxnSpPr>
        <p:spPr>
          <a:xfrm rot="10800000">
            <a:off x="4730040" y="1546920"/>
            <a:ext cx="596160" cy="7185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500" idx="1"/>
            <a:endCxn id="490" idx="2"/>
          </p:cNvCxnSpPr>
          <p:nvPr/>
        </p:nvCxnSpPr>
        <p:spPr>
          <a:xfrm rot="10800000">
            <a:off x="4730040" y="1546920"/>
            <a:ext cx="596160" cy="20408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501" idx="1"/>
            <a:endCxn id="490" idx="2"/>
          </p:cNvCxnSpPr>
          <p:nvPr/>
        </p:nvCxnSpPr>
        <p:spPr>
          <a:xfrm rot="10800000">
            <a:off x="4730040" y="1546920"/>
            <a:ext cx="596160" cy="3528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2" idx="1"/>
            <a:endCxn id="499" idx="3"/>
          </p:cNvCxnSpPr>
          <p:nvPr/>
        </p:nvCxnSpPr>
        <p:spPr>
          <a:xfrm rot="10800000">
            <a:off x="6649200" y="2264760"/>
            <a:ext cx="619920" cy="13183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2" idx="1"/>
            <a:endCxn id="500" idx="3"/>
          </p:cNvCxnSpPr>
          <p:nvPr/>
        </p:nvCxnSpPr>
        <p:spPr>
          <a:xfrm flipV="1" rot="10800000">
            <a:off x="6649200" y="3582000"/>
            <a:ext cx="619920" cy="540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2" idx="1"/>
            <a:endCxn id="501" idx="3"/>
          </p:cNvCxnSpPr>
          <p:nvPr/>
        </p:nvCxnSpPr>
        <p:spPr>
          <a:xfrm flipV="1" rot="10800000">
            <a:off x="6649200" y="3582000"/>
            <a:ext cx="619920" cy="1492920"/>
          </a:xfrm>
          <a:prstGeom prst="bentConnector3">
            <a:avLst>
              <a:gd name="adj1" fmla="val 49970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2" idx="2"/>
            <a:endCxn id="497" idx="2"/>
          </p:cNvCxnSpPr>
          <p:nvPr/>
        </p:nvCxnSpPr>
        <p:spPr>
          <a:xfrm rot="5400000">
            <a:off x="4021920" y="1697040"/>
            <a:ext cx="1602720" cy="6672960"/>
          </a:xfrm>
          <a:prstGeom prst="bentConnector3">
            <a:avLst>
              <a:gd name="adj1" fmla="val 113367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2612880" y="6354720"/>
            <a:ext cx="5748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93960" y="6362640"/>
            <a:ext cx="563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apted from Cabana MD, et al. Why don’t physicians follow clinical practice guidelines? a framework for improvement. JAMA 1999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43000" y="-41400"/>
            <a:ext cx="8723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rriers to Adherence to Asthma Management Guidelines among Primary Care Providers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738080" y="4994280"/>
            <a:ext cx="42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C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352520" y="4324320"/>
            <a:ext cx="1015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352520" y="2206800"/>
            <a:ext cx="1015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352520" y="3236760"/>
            <a:ext cx="101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245960" y="3784680"/>
            <a:ext cx="20772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1245960" y="2709720"/>
            <a:ext cx="20772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4520" y="4714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23040" y="3624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23040" y="25527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955080" y="3493080"/>
            <a:ext cx="2885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 Adherence (%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1436760" y="1856880"/>
            <a:ext cx="17280" cy="3117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20960" y="4979880"/>
            <a:ext cx="1373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ak Flow Monitor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6120" y="3138480"/>
            <a:ext cx="546120" cy="17305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23040" y="4167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23040" y="30862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81560" y="20480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29160" y="4994280"/>
            <a:ext cx="10177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 Pl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37240" y="4994280"/>
            <a:ext cx="1268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ergy Test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970680" y="4994280"/>
            <a:ext cx="1452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luenza Vaccin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381800" y="2917800"/>
            <a:ext cx="546120" cy="19512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987880" y="4600440"/>
            <a:ext cx="546120" cy="26856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68920" y="4645080"/>
            <a:ext cx="546120" cy="22392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13000" y="3925800"/>
            <a:ext cx="546120" cy="943200"/>
          </a:xfrm>
          <a:prstGeom prst="rect">
            <a:avLst/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287360" y="4879800"/>
            <a:ext cx="7156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94840" y="163080"/>
            <a:ext cx="862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imary Care Provider Adherence to NHLBI Asthma Guideline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714240" y="155520"/>
            <a:ext cx="770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ultivariate Predictors of Adherence to the NHLBI Guideline Compone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7840" y="1846440"/>
            <a:ext cx="328608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Barrie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Familiarit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Expect Patient Adherenc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Self-Efficac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Insufficient Tim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2073240"/>
            <a:ext cx="1741320" cy="40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41920" y="2071800"/>
            <a:ext cx="1576440" cy="37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3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8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89840" y="2071800"/>
            <a:ext cx="1573200" cy="40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5520" y="197640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5520" y="274644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25520" y="609912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315200" y="2071800"/>
            <a:ext cx="141768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7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2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452480" y="2019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CS Us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58560" y="200196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PF Monitor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714240" y="155520"/>
            <a:ext cx="770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ultivariate Predictors of Adherence to the NHLBI Guideline Compone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7840" y="1398600"/>
            <a:ext cx="328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Barrie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Familiarit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Expect Patient Adherenc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Self-Efficac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Insufficient Tim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00240" y="1625760"/>
            <a:ext cx="174168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.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36880" y="1633680"/>
            <a:ext cx="157644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3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9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25520" y="152892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25520" y="233676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5520" y="6108840"/>
            <a:ext cx="8359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04320" y="15717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ction Pl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34000" y="1616040"/>
            <a:ext cx="174132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41840" y="1623960"/>
            <a:ext cx="157644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56440" y="156204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All Testing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486480" y="1625760"/>
            <a:ext cx="1741680" cy="43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OR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94680" y="1643040"/>
            <a:ext cx="1576440" cy="40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P-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8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994800" y="156204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Vaccin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44360" y="365040"/>
            <a:ext cx="882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0" lang="en-US" sz="3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98400" y="1582560"/>
            <a:ext cx="79344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not be generalizable to other inner-city population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self-reported measures of adherence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able to directly observe patient-provider encounter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d self-reported data on provider adherence to the guidelin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52280" y="730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8800" y="762120"/>
            <a:ext cx="865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s of inner-city asthmatics remain poo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appears to be multifactori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optimal disease and medication beliefs are associated with poor asthma self-manage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uage barriers may also explain the increased levels of asthma morbidity among inner-city Hispan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le of allergic sensitization appears to be more important among children than adults with asthm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arity and adherence to key treatment recommendations remains suboptimal amongst providers who take care of a large number of inner-city asthmatic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554040" y="63360"/>
            <a:ext cx="807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98560" y="658800"/>
            <a:ext cx="791532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partment of Medic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an A. Halm, MD, MP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hen Berns, M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mas McGinn, MD, MP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sica Lorenzo, MP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hael Iannuzzi, MD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lian Baez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ego Ponieman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sica Segni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partment of Pediatric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h Sampson, M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Michelle Misho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partment of Geriatric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bert Siu, MD, MSP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Rutgers Univers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mara Musumeci, Ph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oward Leventhal, Ph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Columbia University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Evans, Ph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er Kattan, M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studies were funded by AHRQ and NYC Department of Heal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2520" y="465120"/>
            <a:ext cx="694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terminants of Morbidity Among Inner-City Asthma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2320" y="2706840"/>
            <a:ext cx="7569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Study Goal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to evaluate the role of patient, provider, and environmental factors on outcomes of inner-city asthmatic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320" y="2678040"/>
            <a:ext cx="2666880" cy="1494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eline Surve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Mount Sinai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Rutgers Univers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ulmonary function test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lood for IgE, serum, DNA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hart review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56560" y="2874960"/>
            <a:ext cx="1579680" cy="1099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st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8720" y="2874960"/>
            <a:ext cx="1579680" cy="1099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nd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4960" y="607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9960" y="6324480"/>
            <a:ext cx="198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ime (months)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21440" y="6076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86280" y="607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84360" y="585936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948280" y="586080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71560" y="6076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7600" y="4487760"/>
            <a:ext cx="131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ic measure of adheren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481640"/>
            <a:ext cx="1752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emographic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thma regime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edication belief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sease belief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0880" y="4487760"/>
            <a:ext cx="175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dherenc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sthma contro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esource utilization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Quality of lif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70000" y="2874960"/>
            <a:ext cx="1579680" cy="1099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rd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lephone 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llow-up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935680"/>
            <a:ext cx="78501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733920" y="585936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158320" y="5859360"/>
            <a:ext cx="0" cy="1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7880" y="152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y Outli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8320" y="858960"/>
            <a:ext cx="2326680" cy="1494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hysician Surve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Mount Sinai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Metropolitan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North General Hospital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Local health centers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Rutgers University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47" idx="3"/>
            <a:endCxn id="48" idx="1"/>
          </p:cNvCxnSpPr>
          <p:nvPr/>
        </p:nvCxnSpPr>
        <p:spPr>
          <a:xfrm>
            <a:off x="2752200" y="3433320"/>
            <a:ext cx="4834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8" idx="3"/>
            <a:endCxn id="49" idx="1"/>
          </p:cNvCxnSpPr>
          <p:nvPr/>
        </p:nvCxnSpPr>
        <p:spPr>
          <a:xfrm>
            <a:off x="4857480" y="3433320"/>
            <a:ext cx="54036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60" idx="1"/>
          </p:cNvCxnSpPr>
          <p:nvPr/>
        </p:nvCxnSpPr>
        <p:spPr>
          <a:xfrm>
            <a:off x="7020000" y="3433320"/>
            <a:ext cx="4291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9" idx="0"/>
            <a:endCxn id="48" idx="2"/>
          </p:cNvCxnSpPr>
          <p:nvPr/>
        </p:nvCxnSpPr>
        <p:spPr>
          <a:xfrm flipV="1" rot="16200000">
            <a:off x="4883400" y="3162240"/>
            <a:ext cx="487800" cy="2162880"/>
          </a:xfrm>
          <a:prstGeom prst="bentConnector3">
            <a:avLst>
              <a:gd name="adj1" fmla="val 50812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9" idx="0"/>
            <a:endCxn id="60" idx="2"/>
          </p:cNvCxnSpPr>
          <p:nvPr/>
        </p:nvCxnSpPr>
        <p:spPr>
          <a:xfrm flipH="1" flipV="1" rot="5400000">
            <a:off x="6990480" y="3218040"/>
            <a:ext cx="487800" cy="2052000"/>
          </a:xfrm>
          <a:prstGeom prst="bentConnector3">
            <a:avLst>
              <a:gd name="adj1" fmla="val 50812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9" idx="0"/>
            <a:endCxn id="49" idx="2"/>
          </p:cNvCxnSpPr>
          <p:nvPr/>
        </p:nvCxnSpPr>
        <p:spPr>
          <a:xfrm flipV="1">
            <a:off x="6208200" y="3999960"/>
            <a:ext cx="1080" cy="487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8" idx="0"/>
            <a:endCxn id="47" idx="2"/>
          </p:cNvCxnSpPr>
          <p:nvPr/>
        </p:nvCxnSpPr>
        <p:spPr>
          <a:xfrm flipV="1">
            <a:off x="1409400" y="4196880"/>
            <a:ext cx="1080" cy="28512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5" idx="2"/>
            <a:endCxn id="47" idx="0"/>
          </p:cNvCxnSpPr>
          <p:nvPr/>
        </p:nvCxnSpPr>
        <p:spPr>
          <a:xfrm>
            <a:off x="1401840" y="2377800"/>
            <a:ext cx="8640" cy="29124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4" name=""/>
          <p:cNvCxnSpPr>
            <a:stCxn id="57" idx="0"/>
            <a:endCxn id="48" idx="2"/>
          </p:cNvCxnSpPr>
          <p:nvPr/>
        </p:nvCxnSpPr>
        <p:spPr>
          <a:xfrm flipV="1">
            <a:off x="4046040" y="3999960"/>
            <a:ext cx="1080" cy="487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09680" y="1523880"/>
            <a:ext cx="4876920" cy="426744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2057400"/>
            <a:ext cx="1600200" cy="13716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3048120"/>
            <a:ext cx="1523880" cy="12189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Physician 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Attitude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Languag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1905120"/>
            <a:ext cx="2133360" cy="16002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havioral Proces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ff00"/>
                </a:solidFill>
                <a:latin typeface="Arial"/>
              </a:rPr>
              <a:t>Adherence to controller meds</a:t>
            </a:r>
            <a:endParaRPr b="0" lang="en-US" sz="11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dhere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-regulation of med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-monitoring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igger avoid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2590920"/>
            <a:ext cx="1447560" cy="22096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Quality of lif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irway func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 utiliz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146560"/>
            <a:ext cx="1562040" cy="15670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ystem Factor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ccess to car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t education capac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atekeeping Insuranc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809880"/>
            <a:ext cx="2361960" cy="137160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962520"/>
            <a:ext cx="2286000" cy="12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gnitive/Emotional Processe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 Regulation belief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f efficac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pression/anxie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19440" y="2320920"/>
            <a:ext cx="1319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nical Factor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thma histor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Sensitiza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20840" y="15238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TIE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743200"/>
            <a:ext cx="2286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3205080"/>
            <a:ext cx="762120" cy="909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191120" y="3205080"/>
            <a:ext cx="457200" cy="7574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3505320"/>
            <a:ext cx="228600" cy="304560"/>
          </a:xfrm>
          <a:prstGeom prst="upDownArrow">
            <a:avLst>
              <a:gd name="adj1" fmla="val 50000"/>
              <a:gd name="adj2" fmla="val 26522"/>
            </a:avLst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6080" y="2971800"/>
            <a:ext cx="1170000" cy="182520"/>
          </a:xfrm>
          <a:prstGeom prst="rightArrow">
            <a:avLst>
              <a:gd name="adj1" fmla="val 50000"/>
              <a:gd name="adj2" fmla="val 160256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324480" y="4495320"/>
            <a:ext cx="1600200" cy="3812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1" name=""/>
          <p:cNvCxnSpPr/>
          <p:nvPr/>
        </p:nvCxnSpPr>
        <p:spPr>
          <a:xfrm flipH="1" rot="16200000">
            <a:off x="5460840" y="-355680"/>
            <a:ext cx="442080" cy="5420520"/>
          </a:xfrm>
          <a:prstGeom prst="bentConnector3">
            <a:avLst>
              <a:gd name="adj1" fmla="val -193480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92" name=""/>
          <p:cNvCxnSpPr/>
          <p:nvPr/>
        </p:nvCxnSpPr>
        <p:spPr>
          <a:xfrm flipH="1" flipV="1" rot="5400000">
            <a:off x="5421600" y="2272680"/>
            <a:ext cx="365760" cy="5420520"/>
          </a:xfrm>
          <a:prstGeom prst="bentConnector3">
            <a:avLst>
              <a:gd name="adj1" fmla="val -233891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 flipH="1">
            <a:off x="6781680" y="3200400"/>
            <a:ext cx="45720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252440"/>
            <a:ext cx="1714680" cy="12625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Environmental Factor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ousing conditio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ssive smoking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Aeroallergens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Air Pollution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324480" y="4572000"/>
            <a:ext cx="1600200" cy="380880"/>
          </a:xfrm>
          <a:prstGeom prst="line">
            <a:avLst/>
          </a:prstGeom>
          <a:ln w="1908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6320" y="1838160"/>
            <a:ext cx="451080" cy="1109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90640" y="4723920"/>
            <a:ext cx="723960" cy="1096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90640" y="-14400"/>
            <a:ext cx="7415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Potential Determinants of Asthma Morbidity in Inner-City Populations </a:t>
            </a:r>
            <a:endParaRPr b="0" lang="en-US" sz="29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77" idx="3"/>
            <a:endCxn id="75" idx="2"/>
          </p:cNvCxnSpPr>
          <p:nvPr/>
        </p:nvCxnSpPr>
        <p:spPr>
          <a:xfrm>
            <a:off x="1780920" y="3657240"/>
            <a:ext cx="41508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2514600" y="3657600"/>
            <a:ext cx="1752480" cy="1066680"/>
          </a:xfrm>
          <a:prstGeom prst="ellipse">
            <a:avLst/>
          </a:prstGeom>
          <a:solidFill>
            <a:srgbClr val="000066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70400" y="3875040"/>
            <a:ext cx="164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ociodemographic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ge, sex, race, ethnicity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ff00"/>
                </a:solidFill>
                <a:latin typeface="Arial"/>
              </a:rPr>
              <a:t>Language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, Culture,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ducation, Income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1120" y="4419720"/>
            <a:ext cx="228600" cy="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1200" y="85680"/>
            <a:ext cx="86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haracteristics of Study Population (N=326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523880"/>
            <a:ext cx="4365720" cy="50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Ag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yrs), mean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D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48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Femal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Race/Ethnicity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ispanic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56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frican-American                    28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hit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1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thers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4  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Insuranc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edicaid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edica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mmercial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ninsured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Income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&lt;$15,000/yr (%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62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Asthma History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ge Onset (yrs), mean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D   26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D visit last year (%)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52 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ospitalized last year (%)       23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8720" y="914400"/>
            <a:ext cx="828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1480" y="914400"/>
            <a:ext cx="1792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haracteristic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360" y="838080"/>
            <a:ext cx="880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360" y="1447920"/>
            <a:ext cx="880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5360" y="6673680"/>
            <a:ext cx="8802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2320" y="1523880"/>
            <a:ext cx="436536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ontroller Medication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omorbid Conditions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czema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hronic sinusitis    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iabete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ypertension     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6 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Environmental Exposure</a:t>
            </a: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cond hand smoking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t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ckroach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ampness/Mold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odents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18720" y="914400"/>
            <a:ext cx="828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Value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13120" y="914400"/>
            <a:ext cx="1792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00"/>
                </a:solidFill>
                <a:latin typeface="Arial"/>
              </a:rPr>
              <a:t>Characteristic</a:t>
            </a:r>
            <a:endParaRPr b="0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236520" y="228600"/>
            <a:ext cx="95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ease Beliefs and Asthma Self-Manag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960" y="4680"/>
            <a:ext cx="861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management is critical for long-term asthma control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Do you think you have asthma all of the time or only when you are having symptoms?"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es: I have it all of the 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of the 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ti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68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nly when I am having sympto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55000"/>
              <a:buFont typeface="Monotype Sorts" charset="2"/>
              <a:buChar char=""/>
              <a:tabLst>
                <a:tab algn="l" pos="96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% of patients were classified as having the no symptoms-no asthma, acute episodic disease belie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3040" y="6059520"/>
            <a:ext cx="7445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59000" y="6076800"/>
            <a:ext cx="74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lm EA, et al. No Symptoms, No Asthma. The Acute Episodic Disease Belief Is Associated With Poor Self-Management Among Inner-City Adults With Persistent Asthma. Chest, 2006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30320" y="1046160"/>
          <a:ext cx="8848440" cy="5661000"/>
        </p:xfrm>
        <a:graphic>
          <a:graphicData uri="http://schemas.openxmlformats.org/drawingml/2006/table">
            <a:tbl>
              <a:tblPr/>
              <a:tblGrid>
                <a:gridCol w="4025880"/>
                <a:gridCol w="1147680"/>
                <a:gridCol w="1201680"/>
                <a:gridCol w="2473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Beliefs and Behavior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Belief, %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hronic Belief, %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R (CI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not always have asthma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9 (1.94–10.42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lungs are always inflamed/irritated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 (0.20–0.66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edication belief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000" indent="-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CS use is important when no symptom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 (0.19–0.74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Medication adherence (ICS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000" indent="-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it all/most of the time when no symptom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5 (0.19–0.64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Other self-management behavior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4000" indent="-54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tine asthma visits when no symptom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4 (0.30–0.97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PFM all/most of the day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9 (0.19–0.80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PFM to self-adjust medicines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3 (0.25–1.09)</a:t>
                      </a:r>
                      <a:endParaRPr b="0" lang="en-US" sz="17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33200" y="20520"/>
            <a:ext cx="94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sociations Between the No Symptoms, No Asthma Belief and Other Key Asthma Beliefs and Behavi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424" t="0" r="66669" b="0"/>
          <a:stretch/>
        </p:blipFill>
        <p:spPr>
          <a:xfrm>
            <a:off x="142920" y="1252440"/>
            <a:ext cx="2025720" cy="4873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01680" y="-69840"/>
            <a:ext cx="860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herence to Inhaled Corticosteroids (IC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43160" y="765000"/>
            <a:ext cx="7066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S are the cornerstone of asthma therap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herence to ICS is often suboptima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Adherence Reporting Scale (MAR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 patients were given an electronic monitoring devic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% of prescribed days used ICS, 35% of the doses prescrib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key medication beliefs independently associated with adherence with 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buClr>
                <a:srgbClr val="ff00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5800" y="5465880"/>
            <a:ext cx="1487520" cy="4899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DI Log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0T20:51:20Z</dcterms:created>
  <dc:creator>Juan P Wisnivesky</dc:creator>
  <dc:description/>
  <dc:language>en-US</dc:language>
  <cp:lastModifiedBy>Denise</cp:lastModifiedBy>
  <cp:lastPrinted>2000-08-15T14:41:12Z</cp:lastPrinted>
  <dcterms:modified xsi:type="dcterms:W3CDTF">2008-09-08T12:31:46Z</dcterms:modified>
  <cp:revision>242</cp:revision>
  <dc:subject/>
  <dc:title>No Slide Title</dc:title>
</cp:coreProperties>
</file>