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E33-20E0-4D00-857E-951A05D34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688-21C2-4516-9498-236492652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9D55-149B-460F-A1C1-5ECBF9F1C8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2D7-A697-4318-BE27-10449B9164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14CE-18E9-4E9F-A2D7-0EEB20D79B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11F-3171-4643-9BC8-6AC19BFFAC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FFF9-E915-49FA-AB3E-C4846B0D5E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F90-1709-430A-826A-75D50C0F8D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1336-0883-4708-B035-85E36ECFB1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D73F-9B94-4B49-8DB6-A9EEC7DD85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4CB-40A3-4F82-A65D-5FF0F28748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BADA-88AB-4CC7-A669-95B567F9E2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83A-0538-4BDE-BFA5-05D00EC0F1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 a picture of the eMAR system. A computer on a medication ca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C18-724E-4864-B150-AA112D3809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A42-7068-43F6-8A2A-226D67CE59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4BA-B569-4A36-BDAA-830171A226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flow diagram of the medication order entry process as it occurred prior to the implementation of eM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een colored boxes are points of transcrip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637-33CF-4EB6-9CD8-7FDA0F3435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the flow diagram of the medication order entry process after the implementation of eM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indicated, there are fewer points of transcription which is beneficial to the risk for transcription error, however the process is really not less complicated as some might assu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FA79-8965-4908-AE29-1CCF71E765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0AA-05BD-4277-AAC6-5E9BB9A9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2D7-A645-455A-9422-3B38D3D6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48C-480F-42B5-A8A0-0487D68F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268-903F-4D0B-A0B3-E05AA9E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525-5FEA-4FDC-93AB-4ACD0183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432-4090-42B6-BE14-AB2A28C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B46E-ECD5-4F7C-8E71-E9423C0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6F3-CA8F-4E29-8378-2A2F24F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0A51-3E11-48C3-B386-286A36C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C31-F551-4DA3-B038-DAB6B86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F66E-C852-4B33-A5CA-72AF329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357-0FE7-4DFE-8CFA-9B5ED23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901-26D5-4BC6-8985-EB0399F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044-0DF5-43C3-BAAE-1581090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FA5-6952-4578-B8B8-B1B8349C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CE6-5CEA-4811-873E-6D97D7AB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63E-9372-46B9-A8B7-E32803EA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E1E-1486-4F11-B473-AE4C24D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555-137D-4E14-BEBC-527C4EF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914-0286-4A69-ADDB-C3DE8D6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978-9230-426C-9CEA-CBE62D3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555-0DE7-49D6-97B1-4A80247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726-8251-4F15-9BDA-21028CE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DB3-6489-470B-82C8-D51BFA37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FF2-8AED-42F4-B753-047086DEE4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2MUlg"/>
          <p:cNvPicPr/>
          <p:nvPr/>
        </p:nvPicPr>
        <p:blipFill>
          <a:blip r:embed="rId4"/>
          <a:stretch/>
        </p:blipFill>
        <p:spPr>
          <a:xfrm>
            <a:off x="201600" y="228600"/>
            <a:ext cx="8650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1028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029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3" name="Rectangle 1030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" name="Group 1031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1032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1033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7" name="Group 103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03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Oval 103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Oval 103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Oval 103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Oval 103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Oval 104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Oval 104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Oval 104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Oval 104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D96-FDC2-436E-A663-E336D032B8B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ursing Home Medication Safety: Bringing new tools to old challenges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Picture 4" descr="2MUlg"/>
          <p:cNvPicPr/>
          <p:nvPr/>
        </p:nvPicPr>
        <p:blipFill>
          <a:blip r:embed="rId1"/>
          <a:stretch/>
        </p:blipFill>
        <p:spPr>
          <a:xfrm>
            <a:off x="457200" y="304920"/>
            <a:ext cx="865080" cy="99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CHNURS"/>
          <p:cNvPicPr/>
          <p:nvPr/>
        </p:nvPicPr>
        <p:blipFill>
          <a:blip r:embed="rId2"/>
          <a:stretch/>
        </p:blipFill>
        <p:spPr>
          <a:xfrm>
            <a:off x="3276720" y="5410080"/>
            <a:ext cx="570204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676160" y="41911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y Vogelsmeier PhD R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ill Scott-Cawiezell, Principal Investigator, PhD RN FA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HRQ 5 UC1 HS014281-02HRQ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Data to Improve Proces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Late medications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racked via time stamping of actual medication administration ti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identify trends of high volume medication passes and systems issues that impede medication administ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30 day look back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ovides a 30 day MAR for each resid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Medication exception report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racks documentation as to why medications were not administer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identify systems impeding medication administ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Moving from Paper to Touch Screen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Quicker proces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egible MA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cused eMAR for current medication administr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organized medication administr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accessible MA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accessible related health inform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al time medication ord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echnology Uptake C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ead to Improve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Maximizing success with technology requires diligence and creating interfaces which lead to updated clinical processes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Data, data, data can drive how to maximize technology to improve resident safety and guide more directed and focused process improvement strategies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Workarounds are a reality and occur despite good process improvement or instead of good process improvement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a Workaround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informal temporary practice for handling exceptions to normal workflow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orkaround occurs as a worker perceives some disruption or block in the system that prevents the worker from completing a task as desire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karounds when the process had been improved and integrated into technological upda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2173320"/>
          <a:ext cx="6933960" cy="3735360"/>
        </p:xfrm>
        <a:graphic>
          <a:graphicData uri="http://schemas.openxmlformats.org/drawingml/2006/table">
            <a:tbl>
              <a:tblPr/>
              <a:tblGrid>
                <a:gridCol w="2361960"/>
                <a:gridCol w="1795680"/>
                <a:gridCol w="277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nical Pro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lock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karoun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dication dose limits in eMAR dictionar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afe dose not available in dictionar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lecting dose not matching ordered dose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ministering medications using eMA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, perceived workloa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ministering medications via the dispensing device without checking eMA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905120" y="1828800"/>
          <a:ext cx="7086600" cy="4648320"/>
        </p:xfrm>
        <a:graphic>
          <a:graphicData uri="http://schemas.openxmlformats.org/drawingml/2006/table">
            <a:tbl>
              <a:tblPr/>
              <a:tblGrid>
                <a:gridCol w="2388960"/>
                <a:gridCol w="1814760"/>
                <a:gridCol w="2882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nical Pro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lock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karoun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cessing EHR for clinical information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low wireless syste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lied on handwritten notes and verbal information exchange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cating new orders to pharmac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e fax machine for 180 residents available 24 hours a da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dwriting and calling new orders to pharmac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arounds when the process had not been improved and integrated into the technological updates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ow Facilities Defined Succ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from the eMAR systems results in good QI informatio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reased communication, increased focus on the work, and a heightened awareness of the potential for mistakes… “we cannot let our guard down, we always need to think about the potential for error.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gnizing that systems are underlying most errors; feel like “we are becoming better problem solvers.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What Have Been the Biggest Challenge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orking with state surveyor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Learning to maximize the use of data for real information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Underestimating the learning curve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anaging implementation with limited onsite resource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Recognizing that technology will not solve all the problem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imary Study Ai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valuated the impact of technology and focused quality improvement efforts upon medication safety practices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udy Over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ve nursing homes in three states participated in the stu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anging in size from 60 to 400 be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oth urban and rura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oth profit and not-for-prof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ursing homes implemented full EHR and then eMA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team observed medication administration and related processes for approximately 16,000 medication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rsing homes each had a focused quality improvement team that met monthly throughout for about two yea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0" y="493704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80988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905120"/>
            <a:ext cx="9144000" cy="19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screen"/>
          <p:cNvPicPr/>
          <p:nvPr/>
        </p:nvPicPr>
        <p:blipFill>
          <a:blip r:embed="rId1"/>
          <a:stretch/>
        </p:blipFill>
        <p:spPr>
          <a:xfrm>
            <a:off x="838080" y="0"/>
            <a:ext cx="769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cumentation of assessment parameters correlated to specific medications helped link clinical data to medication administra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imination of monthly MAR change over reduced risk of medication errors and saved valuable staff tim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How Has Technology Helped the Medication Administration Process?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How Has Technology Helped the Medication Administration Process?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gs” on eMAR are helpful – the addition of green flags for new orders and yellow highlight for PRN monitoring have seen a positive response from staff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d transcription from five points to two points – with the potential to go to remote physician acces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e eMAR Order Ent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143000" y="1143000"/>
          <a:ext cx="7858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858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st eMAR Order Ent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923760" y="1295280"/>
          <a:ext cx="822024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295280"/>
                    <a:ext cx="822024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Data to Improve Proces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w order report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y new orders from the past 24 hou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stay current on resident condition and verify accuracy of new ord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gh risk medication repor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ch as anticoagulant and psychotropic agents, identify specific residents that may require careful monitoring and identify facility-wide trends of medication u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6:40:12Z</dcterms:created>
  <dc:creator>UMHC User</dc:creator>
  <dc:description/>
  <dc:language>en-US</dc:language>
  <cp:lastModifiedBy>bcambridge</cp:lastModifiedBy>
  <dcterms:modified xsi:type="dcterms:W3CDTF">2008-10-16T13:12:28Z</dcterms:modified>
  <cp:revision>64</cp:revision>
  <dc:subject/>
  <dc:title>Evaluation of the Use of Bedside Technology to Improve  Quality of Care in Nursing Facilities</dc:title>
</cp:coreProperties>
</file>