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8"/>
          </p:nvPr>
        </p:nvSpPr>
        <p:spPr>
          <a:xfrm>
            <a:off x="-3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9"/>
          </p:nvPr>
        </p:nvSpPr>
        <p:spPr>
          <a:xfrm>
            <a:off x="388440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3407-7BD9-4C4B-AD97-B8E2C7301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9B48-3C0E-4365-AA26-452425EF463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48FC-8CD1-4FD3-98C5-13682A8A018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82C7-D4A2-40C2-926B-F26A8619E8F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E361-C279-4F12-8B76-73719B71FDC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3505-EDCF-4413-B593-B87E5ABAB97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DBBE-8CE1-4461-857B-5369AEC54E6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B8FB-22CF-4977-AEAF-7A6D53CB5AC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14A2-E728-4CA4-9DE5-8701BD2905B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8AE6-B3F5-41FB-8E4C-5700410A1A7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954D-511B-44AC-9E17-928AA9CB177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1026-7380-45AF-8636-E5494E1229A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97AE-28CF-4934-803D-CA127D0D479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 is  a picture of the eMAR system. A computer on a medication car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F050-7B29-4020-A347-D9E456D272C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CD73-FFB7-460D-9A5A-09177703179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AAE7-31C3-4914-A769-E099E1A3BB1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 is a flow diagram of the medication order entry process as it occurred prior to the implementation of eMA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green colored boxes are points of transcrip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4241-93BB-4CC8-834A-3D32C9D7AFE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 is the flow diagram of the medication order entry process after the implementation of eMA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indicated, there are fewer points of transcription which is beneficial to the risk for transcription error, however the process is really not less complicated as some might assum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D9D4-A9BD-4657-BB11-E2F82CF1085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A84A-15CD-4F00-AB66-E2EC8DFCF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5EF8-4AB7-4051-9847-CF412322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4B95-8E6D-49BA-A5E1-B10DE6DD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79E6-3EA2-4121-BF0C-E81E222B1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BA7B-B512-40A3-B447-EEDAF723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83B3-CEEC-43D4-B98F-9C13DB16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585E-789B-4EEB-84B4-1F377981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5D72-AAC5-40AD-A821-0294F9AD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5C4B-E3DC-42AA-9B1E-C40645B6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5671-05D6-422E-8499-1B942F81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A1AE-FB03-44BE-AD32-C80A4E53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9503-4861-457B-8CC8-AA0D7A47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38B9-ED0B-4458-8DDC-A5D628DA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847E-29D4-4E2B-A1A3-4FB2621F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4365-0836-4803-BDA5-2EDD2748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1B5B-4B52-455A-B583-73D3EE0EB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F666-156B-492B-91F5-0BBBCACE9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3556-414E-4F39-A7C6-2C176DB9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8F79-40E2-4E97-B1AC-9F0F3D1B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73E9-9767-4928-842F-BE9F693D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9249-E89C-4668-AE20-4D652828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28DF-25B0-4A36-ACE6-A782D154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93F1-CE85-4A0E-8C79-6488FD3C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544B-231A-492C-85E6-DE3E0A73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prstGeom prst="pie">
                <a:avLst/>
              </a:prstGeom>
              <a:gradFill rotWithShape="0">
                <a:gsLst>
                  <a:gs pos="0">
                    <a:srgbClr val="f5ebc1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prstGeom prst="pie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6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6D61-DC90-4DDB-9510-3A80EB63AAC1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" name="Picture 24" descr="2MUlg"/>
          <p:cNvPicPr/>
          <p:nvPr/>
        </p:nvPicPr>
        <p:blipFill>
          <a:blip r:embed="rId4"/>
          <a:stretch/>
        </p:blipFill>
        <p:spPr>
          <a:xfrm>
            <a:off x="201600" y="228600"/>
            <a:ext cx="865080" cy="99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0" name="Group 1027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1" name="Rectangle 1028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1029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3" name="Rectangle 1030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4" name="Group 1031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5" name="Freeform 1032"/>
            <p:cNvSpPr/>
            <p:nvPr/>
          </p:nvSpPr>
          <p:spPr>
            <a:xfrm rot="21092400">
              <a:off x="0" y="2344680"/>
              <a:ext cx="1681200" cy="273240"/>
            </a:xfrm>
            <a:prstGeom prst="pie">
              <a:avLst/>
            </a:prstGeom>
            <a:gradFill rotWithShape="0">
              <a:gsLst>
                <a:gs pos="0">
                  <a:srgbClr val="f5ebc1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1033"/>
            <p:cNvSpPr/>
            <p:nvPr/>
          </p:nvSpPr>
          <p:spPr>
            <a:xfrm rot="21092400">
              <a:off x="1862280" y="1371240"/>
              <a:ext cx="6543360" cy="100008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7" name="Group 1034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8" name="Oval 1035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Oval 1036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Oval 1037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Oval 1038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Oval 1039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Oval 1040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Oval 1041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Oval 1042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Oval 1043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4E67-92FE-4A7C-A8F5-8B359FD59029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33720" y="2285640"/>
            <a:ext cx="6781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Nursing Home Medication Safety: Bringing new tools to old challenges.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6" name="Picture 4" descr="2MUlg"/>
          <p:cNvPicPr/>
          <p:nvPr/>
        </p:nvPicPr>
        <p:blipFill>
          <a:blip r:embed="rId1"/>
          <a:stretch/>
        </p:blipFill>
        <p:spPr>
          <a:xfrm>
            <a:off x="457200" y="304920"/>
            <a:ext cx="865080" cy="990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SCHNURS"/>
          <p:cNvPicPr/>
          <p:nvPr/>
        </p:nvPicPr>
        <p:blipFill>
          <a:blip r:embed="rId2"/>
          <a:stretch/>
        </p:blipFill>
        <p:spPr>
          <a:xfrm>
            <a:off x="3276720" y="5410080"/>
            <a:ext cx="5702040" cy="12463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676160" y="419112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my Vogelsmeier PhD R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Jill Scott-Cawiezell, Principal Investigator, PhD RN FAA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HRQ 5 UC1 HS014281-02HRQ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Using Data to Improve Process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Late medications 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racked via time stamping of actual medication administration time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eful to identify trends of high volume medication passes and systems issues that impede medication administr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30 day look back 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provides a 30 day MAR for each resident.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Medication exception report 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racks documentation as to why medications were not administered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eful to identify systems impeding medication administr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Narrow"/>
              </a:rPr>
              <a:t>Moving from Paper to Touch Screen</a:t>
            </a:r>
            <a:endParaRPr b="0" lang="en-US" sz="4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981080" y="1828440"/>
            <a:ext cx="6934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1624"/>
              </a:spcAft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Quicker proces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49"/>
              </a:spcBef>
              <a:spcAft>
                <a:spcPts val="1624"/>
              </a:spcAft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Legible MAR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49"/>
              </a:spcBef>
              <a:spcAft>
                <a:spcPts val="1624"/>
              </a:spcAft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Focused eMAR for current medication administration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49"/>
              </a:spcBef>
              <a:spcAft>
                <a:spcPts val="1624"/>
              </a:spcAft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ore organized medication administration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49"/>
              </a:spcBef>
              <a:spcAft>
                <a:spcPts val="1624"/>
              </a:spcAft>
              <a:buSzPct val="1266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ore accessible MAR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49"/>
              </a:spcBef>
              <a:spcAft>
                <a:spcPts val="1624"/>
              </a:spcAft>
              <a:buSzPct val="1266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More accessible related health information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49"/>
              </a:spcBef>
              <a:spcAft>
                <a:spcPts val="1624"/>
              </a:spcAft>
              <a:buSzPct val="12665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Real time medication order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Technology Uptake C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Lead to Improvemen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828440" y="1904760"/>
            <a:ext cx="7162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spcAft>
                <a:spcPts val="1939"/>
              </a:spcAft>
              <a:buSzPct val="10616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Maximizing success with technology requires diligence and creating interfaces which lead to updated clinical processes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spcAft>
                <a:spcPts val="1939"/>
              </a:spcAft>
              <a:buSzPct val="10616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Data, data, data can drive how to maximize technology to improve resident safety and guide more directed and focused process improvement strategies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spcAft>
                <a:spcPts val="1939"/>
              </a:spcAft>
              <a:buSzPct val="10616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Workarounds are a reality and occur despite good process improvement or instead of good process improvement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What is a Workaround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 informal temporary practice for handling exceptions to normal workflow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 workaround occurs as a worker perceives some disruption or block in the system that prevents the worker from completing a task as desired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28800" y="5331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orkarounds when the process had been improved and integrated into technological update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905120" y="2173320"/>
          <a:ext cx="6933960" cy="3735360"/>
        </p:xfrm>
        <a:graphic>
          <a:graphicData uri="http://schemas.openxmlformats.org/drawingml/2006/table">
            <a:tbl>
              <a:tblPr/>
              <a:tblGrid>
                <a:gridCol w="2361960"/>
                <a:gridCol w="1795680"/>
                <a:gridCol w="2776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linical Proces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lock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Workaroun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edication dose limits in eMAR dictionary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afe dose not available in dictionary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electing dose not matching ordered dose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ministering medications using eMAR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ime, perceived workloa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ministering medications via the dispensing device without checking eMAR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905120" y="1828800"/>
          <a:ext cx="7086600" cy="4648320"/>
        </p:xfrm>
        <a:graphic>
          <a:graphicData uri="http://schemas.openxmlformats.org/drawingml/2006/table">
            <a:tbl>
              <a:tblPr/>
              <a:tblGrid>
                <a:gridCol w="2388960"/>
                <a:gridCol w="1814760"/>
                <a:gridCol w="288288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linical Proces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lock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Workaroun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ccessing EHR for clinical information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low wireless system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lied on handwritten notes and verbal information exchange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unicating new orders to pharmacy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ne fax machine for 180 residents available 24 hours a day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andwriting and calling new orders to pharmacy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orkarounds when the process had not been improved and integrated into the technological updates.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How Facilities Defined Succes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7010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ata from the eMAR systems results in good QI information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creased communication, increased focus on the work, and a heightened awareness of the potential for mistakes… “we cannot let our guard down, we always need to think about the potential for error.”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cognizing that systems are underlying most errors; feel like “we are becoming better problem solvers.”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52480" y="456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What Have Been the Biggest Challenges?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904760" y="1904760"/>
            <a:ext cx="7010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spcAft>
                <a:spcPts val="1687"/>
              </a:spcAft>
              <a:buSzPct val="1218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Working with state surveyors.</a:t>
            </a:r>
            <a:endParaRPr b="0" lang="en-US" sz="27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75"/>
              </a:spcBef>
              <a:spcAft>
                <a:spcPts val="1687"/>
              </a:spcAft>
              <a:buSzPct val="121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Learning to maximize the use of data for real information.</a:t>
            </a:r>
            <a:endParaRPr b="0" lang="en-US" sz="27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75"/>
              </a:spcBef>
              <a:spcAft>
                <a:spcPts val="1687"/>
              </a:spcAft>
              <a:buSzPct val="121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Underestimating the learning curve.</a:t>
            </a:r>
            <a:endParaRPr b="0" lang="en-US" sz="27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75"/>
              </a:spcBef>
              <a:spcAft>
                <a:spcPts val="1687"/>
              </a:spcAft>
              <a:buSzPct val="1218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Managing implementation with limited onsite resources.</a:t>
            </a:r>
            <a:endParaRPr b="0" lang="en-US" sz="27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75"/>
              </a:spcBef>
              <a:spcAft>
                <a:spcPts val="1687"/>
              </a:spcAft>
              <a:buSzPct val="1218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Recognizing that technology will not solve all the problems.</a:t>
            </a:r>
            <a:endParaRPr b="0" lang="en-US" sz="27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rimary Study Aim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285840">
              <a:spcBef>
                <a:spcPts val="901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Evaluated the impact of technology and focused quality improvement efforts upon medication safety practices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Study Overview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708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ve nursing homes in three states participated in the stud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Ranging in size from 60 to 400 bed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Both urban and rura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spcAft>
                <a:spcPts val="1375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Both profit and not-for-profit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nursing homes implemented full EHR and then eMAR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team observed medication administration and related processes for approximately 16,000 medication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ursing homes each had a focused quality improvement team that met monthly throughout for about two year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8"/>
          <p:cNvSpPr/>
          <p:nvPr/>
        </p:nvSpPr>
        <p:spPr>
          <a:xfrm>
            <a:off x="0" y="4937040"/>
            <a:ext cx="9144000" cy="19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0" y="3809880"/>
            <a:ext cx="9144000" cy="19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0" y="1905120"/>
            <a:ext cx="9144000" cy="192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9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4" descr="screen"/>
          <p:cNvPicPr/>
          <p:nvPr/>
        </p:nvPicPr>
        <p:blipFill>
          <a:blip r:embed="rId1"/>
          <a:stretch/>
        </p:blipFill>
        <p:spPr>
          <a:xfrm>
            <a:off x="838080" y="0"/>
            <a:ext cx="769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9047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ocumentation of assessment parameters correlated to specific medications helped link clinical data to medication administration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limination of monthly MAR change over reduced risk of medication errors and saved valuable staff time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How Has Technology Helped the Medication Administration Process?</a:t>
            </a:r>
            <a:endParaRPr b="0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How Has Technology Helped the Medication Administration Process?</a:t>
            </a:r>
            <a:endParaRPr b="0" lang="en-US" sz="3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7010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lags” on eMAR are helpful – the addition of green flags for new orders and yellow highlight for PRN monitoring have seen a positive response from staff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duced transcription from five points to two points – with the potential to go to remote physician acces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re eMAR Order Entry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1143000" y="1143000"/>
          <a:ext cx="785808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143000"/>
                    <a:ext cx="78580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ost eMAR Order Entry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8" name="Object 4"/>
          <p:cNvGraphicFramePr/>
          <p:nvPr/>
        </p:nvGraphicFramePr>
        <p:xfrm>
          <a:off x="923760" y="1295280"/>
          <a:ext cx="8220240" cy="531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295280"/>
                    <a:ext cx="8220240" cy="53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Using Data to Improve Process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981080" y="1980720"/>
            <a:ext cx="6858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ew order reports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dentify new orders from the past 24 hou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eful to stay current on resident condition and verify accuracy of new ord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gh risk medication report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uch as anticoagulant and psychotropic agents, identify specific residents that may require careful monitoring and identify facility-wide trends of medication us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4T16:40:12Z</dcterms:created>
  <dc:creator>UMHC User</dc:creator>
  <dc:description/>
  <dc:language>en-US</dc:language>
  <cp:lastModifiedBy>bcambridge</cp:lastModifiedBy>
  <dcterms:modified xsi:type="dcterms:W3CDTF">2008-10-16T13:12:28Z</dcterms:modified>
  <cp:revision>64</cp:revision>
  <dc:subject/>
  <dc:title>Evaluation of the Use of Bedside Technology to Improve  Quality of Care in Nursing Facilities</dc:title>
</cp:coreProperties>
</file>