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B679-7545-400C-90F1-414736E1C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13D4-D073-4C89-BE3D-E1141C8D9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0F94-870D-4455-9E3D-3DBED5A34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EF3D-2943-4CD6-A3AE-A3609150A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131A-605C-4D38-9A7B-908D7D7FA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A0C5-9A07-4A87-8489-39E67AA79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5FE9-78C9-4125-B4A1-C2113F7E1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6957-CF89-4A3D-B507-F140B55C7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2B26-7F8A-48E9-8E96-9A5A6703C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E1EE-FBCE-4636-B89E-ADD27184C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5C49-A61B-480B-9158-4BDC626EF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07EC-A3EA-4785-9AE2-BC7C51825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882D-428C-4604-A0DA-BC11044E1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472F-D776-4213-9B6D-FA9A7B76B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24F-4214-420C-84D0-06EEEC0E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12B-AEC2-45B0-8BA1-85A7F44A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352-EF36-4F10-AB0C-4AFFB1FF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E7D-F806-4C61-BF0E-183CF0A3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8662E-447C-4D82-BA28-2AE6383E38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38A92-1074-416D-A44F-DA974250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29E4D-36A4-41AF-A803-61131AC2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35D62-1FDD-40D2-922C-8F43AD1D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F3CCA-0EFB-4089-B34D-686F0457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17D8D-9ED9-488A-B196-837D8474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A6BDF-1F7A-4F2B-9175-6E6E7803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D27-6D4C-4FF4-99F3-DA58C745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D84FD-0337-41B3-8972-FFD756F2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23921-F29C-432C-9FC3-8ED34965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1F8A9-BEF0-4B32-A2DF-2C975EC5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7A14C-3F20-42FB-ADEA-FED40644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89655-5F12-40E8-8A7B-28AD832A66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2B1-42BB-4D31-85FD-8E695C8C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13A-535C-42A1-BE0E-27649B60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196F-B8EF-42E3-98C7-89C1D9DC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0F49-CED0-4EAB-89E6-C64677FA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BBF-8DDC-4D29-866A-358DD247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83A-ABC7-47A1-B2FC-5D7549F3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E1F-6D08-4E5C-ADDB-E6C0396E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hyperlink" Target="http://www.cms.hhs.gov/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hrsa.gov/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6E7A-D53D-4E82-945C-B6EC460362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1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42"/>
          <p:cNvGrpSpPr/>
          <p:nvPr/>
        </p:nvGrpSpPr>
        <p:grpSpPr>
          <a:xfrm>
            <a:off x="152280" y="6105600"/>
            <a:ext cx="5333760" cy="752400"/>
            <a:chOff x="152280" y="6105600"/>
            <a:chExt cx="5333760" cy="752400"/>
          </a:xfrm>
        </p:grpSpPr>
        <p:pic>
          <p:nvPicPr>
            <p:cNvPr id="110" name="Picture 43" descr="AHRQ Brand"/>
            <p:cNvPicPr/>
            <p:nvPr/>
          </p:nvPicPr>
          <p:blipFill>
            <a:blip r:embed="rId2"/>
            <a:stretch/>
          </p:blipFill>
          <p:spPr>
            <a:xfrm>
              <a:off x="152280" y="6208200"/>
              <a:ext cx="2188080" cy="54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4" descr="topnav_logo"/>
            <p:cNvPicPr/>
            <p:nvPr/>
          </p:nvPicPr>
          <p:blipFill>
            <a:blip r:embed="rId3"/>
            <a:srcRect l="3678" t="4331" r="0" b="0"/>
            <a:stretch/>
          </p:blipFill>
          <p:spPr>
            <a:xfrm>
              <a:off x="2408760" y="6208200"/>
              <a:ext cx="1778040" cy="60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5" descr="http://www.askcnet.org/CDC_edits/..%5Cicons%5Ccdc_logo.jpg"/>
            <p:cNvPicPr/>
            <p:nvPr/>
          </p:nvPicPr>
          <p:blipFill>
            <a:blip r:embed="rId4"/>
            <a:stretch/>
          </p:blipFill>
          <p:spPr>
            <a:xfrm>
              <a:off x="4460400" y="6105600"/>
              <a:ext cx="1025640" cy="752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48" descr="Centers for Medicare &amp; Medicaid Service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6529320"/>
            <a:ext cx="354348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9" descr="HRSA - U.S Department of Health and Human Services, Health Resources and Service Administratio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6095880"/>
            <a:ext cx="2514600" cy="38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0" descr="http://www.aoa.gov/images/logo_downloads/aoasmall.gif"/>
          <p:cNvPicPr/>
          <p:nvPr/>
        </p:nvPicPr>
        <p:blipFill>
          <a:blip r:embed="rId9"/>
          <a:stretch/>
        </p:blipFill>
        <p:spPr>
          <a:xfrm>
            <a:off x="2438280" y="6033960"/>
            <a:ext cx="1600200" cy="8240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0E22-0F65-4CB1-9496-9603AC48DE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vega@aliviomedicalcenter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5F16-6F5A-4ACC-B6DD-977D04C4E5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Reducing Health Disparities Among Hispanic Elders: Lessons from a Learning Network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EAM CHICAG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240" y="2971440"/>
            <a:ext cx="56386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AHRQ Annual Meet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September 10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Washington,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32369"/>
                </a:solidFill>
                <a:latin typeface="Arial"/>
              </a:rPr>
              <a:t>Susan Ve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32369"/>
                </a:solidFill>
                <a:latin typeface="Arial"/>
              </a:rPr>
              <a:t>Senior Advoc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32369"/>
                </a:solidFill>
                <a:latin typeface="Arial"/>
              </a:rPr>
              <a:t>Alivio Medical Cen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7512-5791-460C-9999-2B81FE6311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ow was the Learning Network helpful to Team Chicago and their project?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09480" y="18288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09480" y="187164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d impetus to take on the eff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d assistance in focusing eff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d as “reality check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d framework / templ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pt project “on-track” through process, e.g., monthly Team Chicago calls and All-Teams ca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d forum for problem-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d resources, e.g, October 2007 Workshop, AHRQ Data Chartbook, NCOA-ASA HEP adjunct meeting, Site Visit, additional ca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B956-1FEF-485D-A2E2-20900C77C7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Most Challenging Asp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m process / collabo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learning cur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ting buy-in from sponsoring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ing clinicians understand role of interven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ing clinicians understand usefulness of lay health promotion / interven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ing resources to meet community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E2C2-2392-49A3-90A0-63D3893F17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Lessons Learn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nothing for gra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takes longer than you think it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open to new id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mindful of individual, group and organization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plugging alo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substitute for working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e vision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A7BC-0A9C-46A8-85DE-C8502F752A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For More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an V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 Adv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vio Medica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66 W. 21st Street, Chicago, IL  606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. 312-829-6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 312-829-68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svega@aliviomedicalcenter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BEDE-779D-442D-A741-2D01B42696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960" y="255600"/>
            <a:ext cx="848376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Why is your community doing th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85800" y="2362320"/>
            <a:ext cx="746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ress chronic diseases in Latino seni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ult onset diabetes negatively affecting quality of life for Latino seniors and their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to work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ogethe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develop and implement interventions that have long-lasting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plan that depends less on clinical interventions and more on community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6EDB-AC00-4429-BE7F-A37E4DB7AF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Chicago Area Latin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,071,740 Latinos in Chicago and Suburban Cook County – 22.2% of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3% of Latinos in Chicago / Cook County are Mexican immigrants or of Mexican des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in four will develop adult onset diab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E11C-60CE-47AD-B3F1-F0BC921BCF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Team Chicago’s </a:t>
            </a:r>
            <a:br>
              <a:rPr sz="3900"/>
            </a:b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Target Commun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ttle Vill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Chicago – southwest of downt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icer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suburbs– just west of Little Vill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st number of Latinos in all of Chicago community areas and largest numbers in suburban Cook Coun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most 10,000 residents 65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2% of Latinos 65 + in Little Village and 63% of Cicero Latinos 65+ live with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C420-37D2-4D73-B3D7-9AC282290B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What is the plan you hope to implemen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omando Control de Su Salu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tanford’s CDSMP in Spani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programming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mproving Latino Health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cused on one-on-one coaching, community resources, and individualized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geting two contiguous largely Mexican / Mexican-American communities - one city and one Suburb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9B46-E1B3-47DF-BC3C-0120D32041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3300"/>
                </a:solidFill>
                <a:latin typeface="Arial"/>
              </a:rPr>
              <a:t>Partnership Members and Roles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752480"/>
          <a:ext cx="7848720" cy="395784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cago Dept. Senior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nve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Options / Ru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raining /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Options / Aliv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rogram Imple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cago Dept. Public 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ata /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cago Hispanic Health Coal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val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ai Community Instit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adership /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roup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95C2-0EB0-4BBB-9395-CCA57F1871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ow did the team build capacity before engaging clinical partners?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organizations brought resources to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vio – Comp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ñeros en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ush – Experience connecting clinicians with CDSM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 Options, Chicago Department of Senior Services, and Rush already funded through AoA and NCOA for CDSM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ed resources to build Team Chicago’s capacity for implementing Tomando Control de Su Sal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ed to focus Team Chicago’s choice of interv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3D55-C85E-4995-BD56-F108B9B59E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ow is the team engaging clinical providers?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vio Medical Center will pilot interven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nior Advocate pitched intervention to clinica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vio process may serve as model for other clinical sett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07DE-C068-4389-844A-4D916F20F7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Accomplish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of Core Working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and refinement of Team Cha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of Implemen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ing in Take Charge of Your Health and Tomando Control de Su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dule of Tomando Control de Su Salud classes in target communities to meet objectives of Implemen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te agreements with Alivio Medical Cen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tative agreements with two additional healthcare provi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050840" y="2932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2:53:13Z</dcterms:created>
  <dc:creator>Nancy.Whitelaw</dc:creator>
  <dc:description/>
  <dc:language>en-US</dc:language>
  <cp:lastModifiedBy>1_Mary</cp:lastModifiedBy>
  <dcterms:modified xsi:type="dcterms:W3CDTF">2009-01-02T00:05:59Z</dcterms:modified>
  <cp:revision>17</cp:revision>
  <dc:subject/>
  <dc:title>Slide 1</dc:title>
</cp:coreProperties>
</file>