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8020-4F84-421C-B6F3-8F128C48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C4E7-8B46-4A9B-BB00-63ED217F2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EA08-0AC4-4D10-98BA-082BAD06D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0EF3-62F9-4281-991A-EF6F8D4BC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0F7B-068C-48B8-8412-EE0C4AFD6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12C9-D883-4A77-9809-9EB86C97B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A052-C386-4057-A567-BCFBDE634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044C-29B2-4217-ACD4-3D23948A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9D0E-3A95-43BC-8C8E-11E3F35E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72B7-686B-4C11-8718-9B65F483C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725D-DCD4-4120-8733-BBE9AD36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ADF0-F9C2-4CB7-8058-3F98151B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51A2-FBFF-4458-81B3-5F2C06DC2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1685-47D0-4C10-8CD8-6EA891102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A57-8F9E-4FBF-855C-05CAD303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61D4-896D-4AF8-A479-44EEAB75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79F-DBE4-46AC-8E61-F0F7607C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B3F-3464-478D-A86C-B58F7FB3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BE797-61A8-427F-8539-31CABF0DD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07E6F-6056-4211-9D94-DCCF564B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5257D-B84B-47A1-A6C9-6FFE714D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0BB29-E9CC-48CC-A6C7-83FC8AC3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51167-D8E3-412C-A39E-5E30CC9A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11F29-4588-4D00-8A5E-0418FFCDA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B80EB-F31D-4D18-B815-42921A56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CFC-F0A6-441F-A8BB-B896CE29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79A07-E824-43D5-B24A-8E7C3D4F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2CAAD-854D-46DD-99ED-BC541016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89F40-9375-4344-980F-5AEA58D7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48073-4D41-4435-B82D-BE5F8492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B1B81-5F9B-4FBD-A77D-2D8EC397EB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C70-300B-4377-BE60-C5CA89E9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FB3-F509-4B0C-A397-12E102E3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394-F100-4702-9005-DE51AF19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56A-BD25-46C3-B853-D3F56330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113D-8B1F-4285-9E95-4769B76C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314-5B73-4409-9D7E-9955CBBC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4F2-2E06-4936-8F4D-CFCA662C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hyperlink" Target="http://www.cms.hhs.gov/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hrsa.gov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33C3-C371-47D1-814D-EAAECEB5B8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1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42"/>
          <p:cNvGrpSpPr/>
          <p:nvPr/>
        </p:nvGrpSpPr>
        <p:grpSpPr>
          <a:xfrm>
            <a:off x="152280" y="6105600"/>
            <a:ext cx="5333760" cy="752400"/>
            <a:chOff x="152280" y="6105600"/>
            <a:chExt cx="5333760" cy="752400"/>
          </a:xfrm>
        </p:grpSpPr>
        <p:pic>
          <p:nvPicPr>
            <p:cNvPr id="110" name="Picture 43" descr="AHRQ Brand"/>
            <p:cNvPicPr/>
            <p:nvPr/>
          </p:nvPicPr>
          <p:blipFill>
            <a:blip r:embed="rId2"/>
            <a:stretch/>
          </p:blipFill>
          <p:spPr>
            <a:xfrm>
              <a:off x="152280" y="6208200"/>
              <a:ext cx="2188080" cy="54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4" descr="topnav_logo"/>
            <p:cNvPicPr/>
            <p:nvPr/>
          </p:nvPicPr>
          <p:blipFill>
            <a:blip r:embed="rId3"/>
            <a:srcRect l="3678" t="4331" r="0" b="0"/>
            <a:stretch/>
          </p:blipFill>
          <p:spPr>
            <a:xfrm>
              <a:off x="2408760" y="6208200"/>
              <a:ext cx="1778040" cy="60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5" descr="http://www.askcnet.org/CDC_edits/..%5Cicons%5Ccdc_logo.jpg"/>
            <p:cNvPicPr/>
            <p:nvPr/>
          </p:nvPicPr>
          <p:blipFill>
            <a:blip r:embed="rId4"/>
            <a:stretch/>
          </p:blipFill>
          <p:spPr>
            <a:xfrm>
              <a:off x="4460400" y="6105600"/>
              <a:ext cx="1025640" cy="75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48" descr="Centers for Medicare &amp; Medicaid Servic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6529320"/>
            <a:ext cx="354348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9" descr="HRSA - U.S Department of Health and Human Services, Health Resources and Service Administratio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6095880"/>
            <a:ext cx="2514600" cy="381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0" descr="http://www.aoa.gov/images/logo_downloads/aoasmall.gif"/>
          <p:cNvPicPr/>
          <p:nvPr/>
        </p:nvPicPr>
        <p:blipFill>
          <a:blip r:embed="rId9"/>
          <a:stretch/>
        </p:blipFill>
        <p:spPr>
          <a:xfrm>
            <a:off x="2438280" y="6033960"/>
            <a:ext cx="1600200" cy="824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96AC-4043-4D05-8B71-B5BAC880B0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vega@aliviomedicalcenter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5C03-1090-4A72-9308-67CD027684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Reducing Health Disparities Among Hispanic Elders: Lessons from a Learning Network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TEAM CHICAG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240" y="2971440"/>
            <a:ext cx="56386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AHRQ Annual Meet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September 10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Washington,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2369"/>
                </a:solidFill>
                <a:latin typeface="Arial"/>
              </a:rPr>
              <a:t>Susan Ve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2369"/>
                </a:solidFill>
                <a:latin typeface="Arial"/>
              </a:rPr>
              <a:t>Senior Advoc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32369"/>
                </a:solidFill>
                <a:latin typeface="Arial"/>
              </a:rPr>
              <a:t>Alivio Medical Cen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4FEA-EC46-45F9-8174-F410751C1F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w was the Learning Network helpful to Team Chicago and their project?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09480" y="18288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609480" y="187164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d impetus to take on the eff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d assistance in focusing eff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d as “reality check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d framework / templ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pt project “on-track” through process, e.g., monthly Team Chicago calls and All-Teams c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d forum for problem-sol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d resources, e.g, October 2007 Workshop, AHRQ Data Chartbook, NCOA-ASA HEP adjunct meeting, Site Visit, additional c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76B0-25A4-4CFC-BBAC-8DD41CF030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Most Challenging Asp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m process / collabo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learning cur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ting buy-in from sponsoring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ing clinicians understand role of interven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ing clinicians understand usefulness of lay health promotion / interven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ing resources to meet community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0784-FBF4-43F9-B522-DC82394519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Lessons Learn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nothing for gra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takes longer than you think it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open to new id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mindful of individual, group and organization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plugging alo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substitute for working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the vision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3259-5BE9-48D8-8CDB-CD90817044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For More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an Ve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Advo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vio Medical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6 W. 21st Street, Chicago, IL  606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. 312-829-6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x 312-829-68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svega@aliviomedicalcenter.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BA1A-3A58-4BF8-ACEC-EDA198680F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960" y="255600"/>
            <a:ext cx="848376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Why is your community doing th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85800" y="23623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ress chronic diseases in Latino seni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ult onset diabetes negatively affecting quality of life for Latino seniors and their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ed to work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gethe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velop and implement interventions that have long-lasting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 plan that depends less on clinical interventions and more on community re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57FB-6C48-4504-B12B-168ABA28BC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Chicago Area Latin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,071,740 Latinos in Chicago and Suburban Cook County – 22.2% of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3% of Latinos in Chicago / Cook County are Mexican immigrants or of Mexican desc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in four will develop adult onset diab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0F7E-EF83-4919-9654-EEBC091F35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Team Chicago’s </a:t>
            </a:r>
            <a:br>
              <a:rPr sz="3900"/>
            </a:b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Target Communit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ttle Vill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Chicago – southwest of downtow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icer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suburbs– just west of Little Vill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st number of Latinos in all of Chicago community areas and largest numbers in suburban Cook Coun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most 10,000 residents 65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2% of Latinos 65 + in Little Village and 63% of Cicero Latinos 65+ live with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6927-3A32-440C-B7FE-9233ABA178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What is the plan you hope to implemen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mando Control de Su Salu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tanford’s CDSMP in Spanis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programming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mproving Latino Health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cused on one-on-one coaching, community resources, and individualized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geting two contiguous largely Mexican / Mexican-American communities - one city and one Suburb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0335-AE6F-479B-BC14-8D3F0C643E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3300"/>
                </a:solidFill>
                <a:latin typeface="Arial"/>
              </a:rPr>
              <a:t>Partnership Members and Roles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752480"/>
          <a:ext cx="7848720" cy="395784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cago Dept. Senior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nve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Options / Ru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raining / Pla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Options / Aliv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ogram Imple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cago Dept. Public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ata /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cago Hispanic Health Coal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oli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i Community Instit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adership /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roup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r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0152-1F08-4C43-95A2-6D677B60D9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w did the team build capacity before engaging clinical partners?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organizations brought resources to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vio – Comp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ñeros en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ush – Experience connecting clinicians with CDSM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e Options, Chicago Department of Senior Services, and Rush already funded through AoA and NCOA for CDSM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d resources to build Team Chicago’s capacity for implementing Tomando Control de Su Salu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ed to focus Team Chicago’s choice of inter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EA69-E34E-41C9-AC8C-EC1F53C1DF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w is the team engaging clinical providers?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vio Medical Center will pilot interven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nior Advocate pitched intervention to clinica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vio process may serve as model for other clinical sett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8FF8-F4DC-4867-80B2-C936AD80A2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Accomplish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of Core Working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and refinement of Team Cha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of Implemen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ing in Take Charge of Your Health and Tomando Control de Su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dule of Tomando Control de Su Salud classes in target communities to meet objectives of Implementation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e agreements with Alivio Medical Cen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tative agreements with two additional healthcare provi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050840" y="293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2:53:13Z</dcterms:created>
  <dc:creator>Nancy.Whitelaw</dc:creator>
  <dc:description/>
  <dc:language>en-US</dc:language>
  <cp:lastModifiedBy>1_Mary</cp:lastModifiedBy>
  <dcterms:modified xsi:type="dcterms:W3CDTF">2009-01-02T00:05:59Z</dcterms:modified>
  <cp:revision>17</cp:revision>
  <dc:subject/>
  <dc:title>Slide 1</dc:title>
</cp:coreProperties>
</file>