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13F578-8F76-485B-84C2-E2F316A6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93BB3A-50D9-4211-A111-25A97B00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s is a picture of the cover of the ESI hand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42AF19-3FB8-438F-91EE-738A65DD5E3D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920" y="4416120"/>
            <a:ext cx="568656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27A19D-C914-4908-8EC1-0604E6DDFD2C}" type="slidenum">
              <a:rPr b="0" lang="en-US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hrq.gov/research/esi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Emergency Severity Index (ESI), A Triage System: Research and Implemen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HRQ Annual Meeting 2008</a:t>
            </a:r>
            <a:br>
              <a:rPr sz="4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ula Tanabe, PhD, MPH, 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western University, Feinberg School of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Emergency Medicine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stitute for Healthcare Stu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304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SI Vers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736800" cy="487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68920" y="1143000"/>
            <a:ext cx="3705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I v.4 Mate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010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shed May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 Implementation Handboo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ucational DV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requests: 17,142 (as of April 30, 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cy for Healthcare Research and Quality (AHRQ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ng research into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hrq.gov/research/e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 of char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book- download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VD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43000" y="70102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7315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aramond"/>
              </a:rPr>
              <a:t>www.ahrq.gov/research/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going Rese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validation study funded by the Health Resources and Services Administration (HRSA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rdinating ce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 Department of Emergency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new pediatric centers added as research 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HRQ Formal Eval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C, and The George Washington Univers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 assessment of the ESI training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ll 2008 with final report to AHRQ in February 200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asure the acceptance of the ESI by ED personne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ess the satisfaction training materi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are usefulness of the ESI with other similar triag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ermine what improvements users would like to see in the next version of the produ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itel D, Travers D, Rosenau A, Gilboy N, Wuerz R.  The Emergency Severity Index Triage Algorithm Version 2 is Reliable and Valid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ademic Emergency Medicin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2003; 10(10) 1070-108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abe, P, Travers, D, Gilboy, N, Rosenau, A, Sierzega, G, Rupp, V, Martinovich, Z, Adams, JG.  Refining emergency severity Index triage criteria.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ademic Emergency Medici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2005; 12(6): 497-50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ahrq.gov/research/e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tmail account: esitriageteam@hotmail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I Research Team Memb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vid Eitel, MD, MBA, York Hospital, Pennsylv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i Gilboy, MS, RN, FAEN,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ex Rosenau, DO, Pennsylva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bbie Travers, PhD, RN, FAEN, North Carol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knowledgement to Debbie Travers for assistance in the development of this presen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mportance of Tri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departments (ED) are crowded with long waits for physicia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oming patients are initially assessed by a triage nurse and assigned an acuity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to be seen immediatel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safe to wai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iting room is the highest risk area of the 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 scientifically validated triage acuity 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stimates of Triage System Choice in the United States (n=444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yp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 of E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tria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1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leve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3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valuating Triage System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Validity and Reliabilit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xy measures for acuity include death and hospital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: Inter-r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nurses rate the same patient with the same ESI rat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d with Weighted kappa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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nge (0-1, no to perfect agree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ly work in ESI – Late 1990’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s’ Richard Wuerz and David Eitel devised the original 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iloted at Boston hospitals- 1998 for ages 14 and ol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I shown to be reliable and val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d 5 distinct categories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mission, length of st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ources, char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tained funding from AHR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Times New Roman"/>
              </a:rPr>
              <a:t>Wuerz, Milne, Eitel, Travers, Gilboy (2000), Reliability &amp; validity of a new 5-level triage instrument. Acad Emerg Med, 7:236-242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1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HRQ Funde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ulti-Center Trial- 1999-200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ed by AHRQ (Agency for Healthcare Research and Qu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EDs in 3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gham &amp; Women’s (Bost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ulkner (Bost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 (Chapel Hill, N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rk (York, 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high Valley (Allentown, PA)- 3 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lent reliability (k=.78) and valid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5913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pitalization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HRQ Multi-center Stud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12880" y="2017800"/>
          <a:ext cx="772164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2017800"/>
                    <a:ext cx="772164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480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emix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HRQ Multi-center Stud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15920" y="2057400"/>
          <a:ext cx="750420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057400"/>
                    <a:ext cx="75042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18:20:00Z</dcterms:created>
  <dc:creator>dtravers</dc:creator>
  <dc:description/>
  <dc:language>en-US</dc:language>
  <cp:lastModifiedBy>DHHS</cp:lastModifiedBy>
  <dcterms:modified xsi:type="dcterms:W3CDTF">2009-01-06T22:01:21Z</dcterms:modified>
  <cp:revision>45</cp:revision>
  <dc:subject/>
  <dc:title>ESI </dc:title>
</cp:coreProperties>
</file>