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08813" cy="9294813"/>
</p:presentation>
</file>

<file path=ppt/commentAuthors.xml><?xml version="1.0" encoding="utf-8"?>
<p:cmAuthorLst xmlns:p="http://schemas.openxmlformats.org/presentationml/2006/main">
  <p:cmAuthor id="0" name="spersell" initials="s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08-08-21T11:33:53.102000000" idx="1">
    <p:pos x="10" y="10"/>
    <p:text>Consider only putting percentages on results tables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9AC4-3219-40EE-9221-9AA616004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CBA1-E6D2-4350-9CE8-0A8E04DE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DC28-3B0E-43F3-810E-822C5F03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5EA3-C68A-4EC5-8F07-A98954CF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103C-9897-4CFF-98FE-C5BCC46F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C7D0-A5F4-4911-9E22-0FC391D1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CAAE-22CF-4772-AC9F-0A6D7A97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DFAD-3C75-4378-AD86-3A3A01C5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E693-905D-4AB2-B294-B98EF0F4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DECC-43EE-40B1-B5AF-41AD58AD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26AB-1092-4BDF-8D90-84F56188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50D5-14B0-4228-8610-371ADCAD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28C8-0946-4D75-8EB5-DAC48FD57F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28800" cy="109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ncreased Blood Pressure in the Emergency Department: Pain, Anxiety, or Undiagnosed Hypertens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HRQ Annual Meeting 2008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1760" y="4038120"/>
            <a:ext cx="73911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ula Tanabe, PhD, MPH, 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thwestern University, Feinberg School of Medic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artment of Emergency Medicine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d th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stitute for Healthcare Stud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ethods of Retur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2880" y="2743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iage de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t office, postage paid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minick’s pharma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4038480" cy="36576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tudy Variabl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stained blood pressure ele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ighest and lowest SBP and DBP delet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ean monitor SBP and DBP calculat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assified as sustained elevation if SBP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40 or DBP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90 mm H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in and Anxiet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 Pain score (0-10 verbal descriptor sca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 Anxiety sco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ielberger State Anxiety Sc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ring patient report: 20-80, low to high anxi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nalysi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hi-square and Fisher’s exact test (categorical variables), t test (continuous variabl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tandard logistic regress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earson correlation coefficients to determine the correlations between th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Chang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from ED to home SBP and DBP with the ED mean pain score and anxiety sco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f elevated ED BP is due to pain or anxiety, we anticipated a negative correl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sult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63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189 subjects enrolled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63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171 (90%) returned monitor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63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156/171  (91%)  had adequate BP data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63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Mean (SD) age = 47 (13)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63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50% Female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63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35% Black, 60% White, 7 (n) Hispanic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sult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4% had sustained HT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40% prehyperten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6% patients had a “normal” JNC7 B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evalence of Home Sustained HTN Based on ED Blood Pressur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600200"/>
          <a:ext cx="8305920" cy="5172120"/>
        </p:xfrm>
        <a:graphic>
          <a:graphicData uri="http://schemas.openxmlformats.org/drawingml/2006/table">
            <a:tbl>
              <a:tblPr/>
              <a:tblGrid>
                <a:gridCol w="2849400"/>
                <a:gridCol w="2687760"/>
                <a:gridCol w="276876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ome JNC Classific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ge I ED B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. (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ge II ED B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. (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rm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&lt;120, &lt;80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(6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(8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-hypertens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120-139, 80-90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1(52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(3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ge 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140-159, 90-99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(36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(2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ge I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&gt;160, &gt;100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(6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(28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emographic Characteristic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838080" y="1447920"/>
          <a:ext cx="7772400" cy="43225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stained HT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(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rmal B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(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ma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2(64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(36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(4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(57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l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(69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(31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i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(45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3(55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atient Characteristics Associated with Elevated Home Blood Pressu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5800" y="2133720"/>
          <a:ext cx="7772400" cy="4601880"/>
        </p:xfrm>
        <a:graphic>
          <a:graphicData uri="http://schemas.openxmlformats.org/drawingml/2006/table">
            <a:tbl>
              <a:tblPr/>
              <a:tblGrid>
                <a:gridCol w="3124080"/>
                <a:gridCol w="2514600"/>
                <a:gridCol w="2133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haracterist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justed Odds Rat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5% C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ge / 10 yea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03-1.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lack race vs. white (ref.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16-5.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male vs. male (ref.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95-3.9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 SBP, (per 10 mm Hg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99-1.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lationship between self-reported anxiety and pain and th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differenc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between patients’ home and ED systolic blood pressure (SBP)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3657600" cy="30477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876920" y="3505320"/>
            <a:ext cx="365760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cknowledgement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ded by the Agency for Healthcare Research and Quality, RO3 -HSO15619-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imita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ngle sit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nglish-speaking only patien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ost patients had insuranc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ome vs. office BP measuremen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e believe our study under-estimates the findings based on these limitati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63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high proportion of ED patients with elevated BPs were found to have sustained BP elevation at home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63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 patients with 2 or more blood pressures </a:t>
            </a:r>
            <a:r>
              <a:rPr b="0" lang="en-US" sz="35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gt;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0/90 should not be assumed to be anxious or in pain and are at risk for undiagnosed HTN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D is an important setting for identifying  patients with undetected HT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chanisms to standardize and automate BP re-assessment orders and prompt discharge instructions are need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research is needed to determine referral mechanisms and brief interventions to motivate patients to follow-up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cknowledgments, Study Tea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hen D. Persell, MD, MP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mes G. Adams, MD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ennifer McCormick, BS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oran Martinovich, PhD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vid W. Baker, MD, MP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ri McGee, Steve Gorman and Alexis Bergan-Guzman for their assistance with patient enroll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thwestern University, Feinberg School of Medic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ergency Medicine,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eral Internal Medicine,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sychia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ferenc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. Lewington S, Clarke R, Qizilbash N, et al. Age-specific relevance of usual blood pressure to vascular mortality: a meta-analysis of individual data for one million adults in 61 prospective studies.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Lancet.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c 14 2002;360(9349):1903-1913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.  Chobabanian AV, Bakris GL, Black HR, et al. Seventh Report of the Joint National Committee on Prevention, Detection, Evaluation, and Treatment of High Blood Pressure: The JNC 7 Report.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JAMA.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03;289:2560-257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.  Almgren T, Persson B, Wilhelmsen L, et al. Stroke and coronary heart disease in treated hypertension -- a prospective cohort study over three decades.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J Intern Med.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un 2005;257(6):496-50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.  Hsia J, Margolis KL, Eaton CB, et al. Prehypertension and cardiovascular disease risk in the Women's Health Initiative.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irculation.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eb 20 2007;115(7):855-860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5.  Mensah GA, Mokdad AH, Ford ES, et al. State of disparities in cardiovascular health in the United States.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irculation.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ar 15 2005;111(10):1233-124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6.  Dennison CR, Post WS, Kim MT, et al. Underserved urban african american men: hypertension trial outcomes and mortality during 5 years.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m J Hypertens.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eb 2007;20(2):164-17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.  Chobabanian AV, Bakris GL, Black HR, et al. Seventh report of the joint national committee on prevention, detection, evaluation, and treatment of high blood pressure.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Hypertens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. 2003;42:1206-125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.   Decker WW, Godwin SA, Hess EP, et al. Clinical policy: critical issues in the evaluation and management of adult patients with asymptomatic hypertension in the emergency department.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nn Emerg Med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2006;47:237-249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ackgroun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29% of adults in the US have HT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3.5% of these adults are undiagnosed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1,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N leads to cardiac disease, strokes and renal failur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3,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ults from low socioeconomic backgrounds and African Americans have a higher morbidity and mortality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5,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3 JNC 7 guidelines re-defined hypertension as 2 or more SBP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gt;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0 mm Hg or DBP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gt;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90 mm H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elines advocate improvement in recognition and treatment of HT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mergency Department Opportunit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patients use the ED as their primary health care provi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patients with physicians do not routinely visit their physici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6 American College of Emergency Physicians Clinical Policy recommends: “If BP measurements are persistently elevated with a SBP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0 mm Hg or DBP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gt;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 mm Hg, the patient  should be referred for follow-up of possible HTN and BP management”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P policy acknowledges the meaning of elevated ED blood pressures is unclear and often these elevated BPs are attributed to pain or anxiety; data is needed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tudy Aim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spcBef>
                <a:spcPts val="938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etermine proportion of patients with no history of HTN and two ED blood pressure readings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40/90 who have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sustained blood pressure elevations measured at home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after ED discharg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54400" indent="-554400">
              <a:spcBef>
                <a:spcPts val="938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escribe characteristics associated with sustained BP increas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54400" indent="-554400">
              <a:spcBef>
                <a:spcPts val="938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xamine the relationship between pain and anxiety and the change in BP after ED discharg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54400"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5544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ethod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sign, Setting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ospective cohort of ED patient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arge urban, academic medical center with an EM residency progra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ample Inclusion Criteri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 ED SBP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0 or DBP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 mm H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history of  HT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at ED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BP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40 or DBP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90 mm H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xclusion Criteri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on-English speak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dmitted to the hospita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nable to operate home BP monito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egnan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edical or psychiatric instabili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adequate contact informa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ischarged with anti-HTN prescrip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tudy Protocol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As enrolled subjects Mon.-Thurs. 9A-9P, Fri. and Sat 9A-5P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81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rief patient interview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81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structed subjects on use of home BP monito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ome BP monitor: UA 787EJ Home BP monitor (British Hypertension Society approved) – Monitor stored up to 30 reading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38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atients were asked to record home BP twice daily for 1 wee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4T21:59:44Z</dcterms:created>
  <dc:creator> </dc:creator>
  <dc:description/>
  <dc:language>en-US</dc:language>
  <cp:lastModifiedBy>DHHS</cp:lastModifiedBy>
  <dcterms:modified xsi:type="dcterms:W3CDTF">2009-01-06T20:54:13Z</dcterms:modified>
  <cp:revision>21</cp:revision>
  <dc:subject/>
  <dc:title>Do Patients with Elevated BP have Persistently Elevated BP on Home Monitoring?</dc:title>
</cp:coreProperties>
</file>