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spersell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08-08-21T11:33:53.102000000" idx="1">
    <p:pos x="10" y="10"/>
    <p:text>Consider only putting percentages on results tables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8F5-3FE6-40AF-B9C0-6BC64A1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D1F-F975-4706-B806-F5ABF503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277-84F2-4278-A859-F54564E9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3AA-CD40-4DA5-9C0E-59A5FF38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4BD-D21C-4B9A-8FFF-74EB9C8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EBF-FE6A-4388-B671-1E7CB58A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3D4-73E7-4B03-9D3D-359331B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011-DD98-4C28-B826-181DD365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DA9-5A32-40B8-8816-154F1AF3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549-8C06-462D-AB38-0B6FB02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359-59C1-4303-8FAA-20E5533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7D5-F5DD-40C5-AB50-4EF35CFF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3716-E49D-4250-B7D3-10FF20B39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reased Blood Pressure in the Emergency Department: Pain, Anxiety, or Undiagnosed Hypertens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HRQ Annual Meeting 2008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a Tanabe, PhD, MPH,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Emergency Medicine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titute for Healthcare Stu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hods of Retur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28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ge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 office, postage paid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’s pharm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657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udy Variab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blood pressure ele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ighest and lowest SBP and DBP dele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an monitor SBP and DBP calcula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ssified as sustained elevation if 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in and Anxie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 Pain score (0-10 verbal descriptor sca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 Anxiety sc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elberger State Anxiety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ing patient report: 20-80, low to high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-square and Fisher’s exact test (categorical variables), t test (continuous variabl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logistic regr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arson correlation coefficients to determine the correlations between th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an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from ED to home SBP and DBP with the ED mean pain score and anxiety sco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elevated ED BP is due to pain or anxiety, we anticipated a negative correl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89 subjects enrolled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71 (90%) returned monito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56/171  (91%)  had adequate BP data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Mean (SD) age = 47 (13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50% Female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35% Black, 60% White, 7 (n) Hispan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4% had sustained HT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0% prehyperten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% patients had a “normal” JNC7 B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valence of Home Sustained HTN Based on ED Blood Pressu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305920" cy="5172120"/>
        </p:xfrm>
        <a:graphic>
          <a:graphicData uri="http://schemas.openxmlformats.org/drawingml/2006/table">
            <a:tbl>
              <a:tblPr/>
              <a:tblGrid>
                <a:gridCol w="2849400"/>
                <a:gridCol w="2687760"/>
                <a:gridCol w="2768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e JNC Classif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 ED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I ED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&lt;120, &lt;8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(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-hypert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20-139, 80-9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(5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(3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40-159, 90-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(3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(2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&gt;160, &gt;1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(2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mographic Characterist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38080" y="1447920"/>
          <a:ext cx="7772400" cy="432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stained HT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(6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(3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(4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(5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(6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(3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(4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(5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 Characteristics Associated with Elevated Home Blood Pres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133720"/>
          <a:ext cx="7772400" cy="4601880"/>
        </p:xfrm>
        <a:graphic>
          <a:graphicData uri="http://schemas.openxmlformats.org/drawingml/2006/table">
            <a:tbl>
              <a:tblPr/>
              <a:tblGrid>
                <a:gridCol w="3124080"/>
                <a:gridCol w="2514600"/>
                <a:gridCol w="2133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acter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ed Odds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/ 10 ye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3-1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ck race vs. white (ref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6-5.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male vs. male (ref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5-3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 SBP, (per 10 mm H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-1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lationship between self-reported anxiety and pain and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ffere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between patients’ home and ED systolic blood pressure (SBP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65760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6576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ed by the Agency for Healthcare Research and Quality, RO3 -HSO15619-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ngle s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glish-speaking only pati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st patients had insu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me vs. office BP measu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believe our study under-estimates the findings based on these limit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gh proportion of ED patients with elevated BPs were found to have sustained BP elevation at hom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patients with 2 or more blood pressures </a:t>
            </a:r>
            <a:r>
              <a:rPr b="0" lang="en-US" sz="3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/90 should not be assumed to be anxious or in pain and are at risk for undiagnosed HT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D is an important setting for identifying  patients with undetected HT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s to standardize and automate BP re-assessment orders and prompt discharge instructions are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search is needed to determine referral mechanisms and brief interventions to motivate patients to follow-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knowledgments, Study Tea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hen D. Persell, MD, MP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es G. Adams, M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nnifer McCormick, B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ran Martinovich, Ph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 W. Baker, MD, MP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i McGee, Steve Gorman and Alexis Bergan-Guzman for their assistance with patient enroll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ergency Medicine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 Internal Medicine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ychia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. Lewington S, Clarke R, Qizilbash N, et al. Age-specific relevance of usual blood pressure to vascular mortality: a meta-analysis of individual data for one million adults in 61 prospective studi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Lancet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c 14 2002;360(9349):1903-191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.  Chobabanian AV, Bakris GL, Black HR, et al. Seventh Report of the Joint National Committee on Prevention, Detection, Evaluation, and Treatment of High Blood Pressure: The JNC 7 Report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JAMA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3;289:2560-257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  Almgren T, Persson B, Wilhelmsen L, et al. Stroke and coronary heart disease in treated hypertension -- a prospective cohort study over three decad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J Intern Med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n 2005;257(6):496-50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.  Hsia J, Margolis KL, Eaton CB, et al. Prehypertension and cardiovascular disease risk in the Women's Health Initiative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irculation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b 20 2007;115(7):855-8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.  Mensah GA, Mokdad AH, Ford ES, et al. State of disparities in cardiovascular health in the United Stat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irculation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r 15 2005;111(10):1233-124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.  Dennison CR, Post WS, Kim MT, et al. Underserved urban african american men: hypertension trial outcomes and mortality during 5 year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m J Hypertens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b 2007;20(2):164-17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.  Chobabanian AV, Bakris GL, Black HR, et al. Seventh report of the joint national committee on prevention, detection, evaluation, and treatment of high blood pressure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2003;42:1206-12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.   Decker WW, Godwin SA, Hess EP, et al. Clinical policy: critical issues in the evaluation and management of adult patients with asymptomatic hypertension in the emergency department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nn Emerg Med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2006;47:237-2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29% of adults in the US have H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5% of these adults are undiagnos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N leads to cardiac disease, strokes and renal failur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,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s from low socioeconomic backgrounds and African Americans have a higher morbidity and mortality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,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JNC 7 guidelines re-defined hypertension as 2 or more SB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mm Hg or DB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0 mm 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dvocate improvement in recognition and treatment of HT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mergency Department Opportu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atients use the ED as their primary health care 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atients with physicians do not routinely visit their phys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6 American College of Emergency Physicians Clinical Policy recommends: “If BP measurements are persistently elevated with a SB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mm Hg or DB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mm Hg, the patient  should be referred for follow-up of possible HTN and BP management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 policy acknowledges the meaning of elevated ED blood pressures is unclear and often these elevated BPs are attributed to pain or anxiety; data is need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dy Ai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termine proportion of patients with no history of HTN and two ED blood pressure reading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/90 who have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ustained blood pressure elevations measured at hom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fter ED dischar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scribe characteristics associated with sustained BP incr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ine the relationship between pain and anxiety and the change in BP after ED dischar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ign, Sett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spective cohort of ED patient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urban, academic medical center with an EM residency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mple Inclus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ED 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story of  HT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clus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n-English speak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mitted to the hospi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able to operate home BP monit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gna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dical or psychiatric insta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adequate contact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charged with anti-HTN prescrip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udy Protoco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s enrolled subjects Mon.-Thurs. 9A-9P, Fri. and Sat 9A-5P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ef patient inter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tructed subjects on use of home BP moni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me BP monitor: UA 787EJ Home BP monitor (British Hypertension Society approved) – Monitor stored up to 30 reading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ients were asked to record home BP twice daily for 1 wee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1:59:44Z</dcterms:created>
  <dc:creator> </dc:creator>
  <dc:description/>
  <dc:language>en-US</dc:language>
  <cp:lastModifiedBy>DHHS</cp:lastModifiedBy>
  <dcterms:modified xsi:type="dcterms:W3CDTF">2009-01-06T20:54:13Z</dcterms:modified>
  <cp:revision>21</cp:revision>
  <dc:subject/>
  <dc:title>Do Patients with Elevated BP have Persistently Elevated BP on Home Monitoring?</dc:title>
</cp:coreProperties>
</file>