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3ECA-A79A-4963-A231-212E7069C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F9E7-812E-4EFE-9F13-37F0F63F8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C00E-194C-4A13-A27B-899EBCF15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C592-4E9D-428A-B3D9-B3CF075E2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aborative and Took Kit groups were equivalent at baseline in their QI initiatives and hospital characteristic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2680-C3AC-4CAD-BEC4-906822841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Kit group had a 14% greater risk of a Catheter-related Bloodstream Infection, however, the p-value was nonsignificant (p=.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1A67-649C-456A-87B9-64093C984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Kit group had a 28% greater risk of a Ventilator-associated pneumonia, statistical significance at p = .0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9334-B35A-4E13-9303-67313F67A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7240"/>
            <a:ext cx="4572000" cy="3429000"/>
          </a:xfrm>
          <a:prstGeom prst="rect">
            <a:avLst/>
          </a:prstGeom>
          <a:ln w="0">
            <a:noFill/>
          </a:ln>
        </p:spPr>
      </p:sp>
      <p:sp>
        <p:nvSpPr>
          <p:cNvPr id="16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y improvement strategies that were used by the Collaborative Grou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348B-D939-46D3-9F86-5367B349D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10 web seminars offered during the study period, 5 were on clinical topics and 5 were on data topics, including BSI/VAP data collection, SAQ survey findings, quality improvement methodology, and use of statistical process control methods.  Both groups attended over half the clinical topics but the Collaborative Group had greater participation in the data topics (Collaborative 52% vs Tool Kit 22%, p = .001).  Respondents were requested to also answer whether the seminar was useful to their ICU improvement project.  For respondents who attended the seminar, the usefulness rating was high for the clinical topics (Collaborative 88% vs Tool Kit 85%).  For the data topics, the Collaborative Group usefulness rating was 78% vs the Tool Kit rating of 5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41A3-4980-4E4A-88C2-A1CE60DC6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14 tools were produced during the study period, 9 clinical process tools such as checklists, algorithms, protocols, and flowsheets; and 5 tools related to data monitoring and quality improvement such as easy-to-use statistical process control spreadsheet templates, quality improvement tools, and Meditec computer tools.  The Collaborative Group accessed a median of 9 tools and the Tool Kit group a median of 7 (p=.06).  Within the clinical tool set, a greater proportion of the Collaborative group accessed the BSI checklist (p=.057) and the VAP daily assessment tool (p=.014).  A greater percentage of the Collaborative Group accessed the SPC tool for BSI (p=.001), SPC tool for VAP (p=.001), and the QI tool kit (p=.043).  The chart shows the usefulness rating of the tools.  If the clinical tools were accessed, 75% of the Collaborative group found them useful and 55% of the Tool Kit group found them useful.  If the data tools were accessed, 70% of the Collaborative group found them useful versus 47% of the Tool Kit group.  The Collaborative group reported higher rates of implementing the tools; once implemented, both groups report a very high rate of sustaining their implementation (86%-10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C8B1-EFB1-4B8E-A74F-FFF5B81D0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evidence-based quality improvement interventions that were recommended for prevention of BSI.  The Collaborative group had a higher rate of implementing each intervention.   The follow-up questionnaire also asked the sites to self-report on their use of the interventions as a bundle, i.e., credit only if all interventions implemented.  82% of the Collaborative group implemented the bundle vs 56% for the Tool Kit group (p=.027).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2EE4-0361-441B-9253-341005773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evidence-based quality improvement interventions that were recommended for prevention of VAP.  The Collaborative group had a higher rate of implementing each intervention.   The follow-up questionnaire also asked the sites to self-report on their use of the interventions as a bundle, i.e., credit only if all interventions implemented.  76% of the Collaborative group implemented the bundle vs 64% for the Tool Kit group, this difference was not statistically significant (p=.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9D63-4605-4628-8F9A-D61EFCFC9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7240"/>
            <a:ext cx="4572000" cy="3429000"/>
          </a:xfrm>
          <a:prstGeom prst="rect">
            <a:avLst/>
          </a:prstGeom>
          <a:ln w="0">
            <a:noFill/>
          </a:ln>
        </p:spPr>
      </p:sp>
      <p:sp>
        <p:nvSpPr>
          <p:cNvPr id="182"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ative data from the teleconference Collaborative Meetings.  Challenges presented by physicians were resistance to BSI/VAP recommended practices, private physicians did not have incentive to become involved in hospital practices, and resistance to standardize.  Solutions shared by the Collaborative groups, including strategies for physician buy in, improving leadership in the ICU, and creating new order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4520-516B-455E-B75A-74A2840A2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A949-0DA3-4ED6-A70B-11ED70D51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ative data from the teleconference Collaborative Meetings.  Challenges presented by staff were time commitment, empowerment, and resistance to change.   Solutions shared by the Collaborative groups, including enlist of champions, storyboards to illustrate staff roles, and accoun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CC31-1960-452D-A277-1E6E2A305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7240"/>
            <a:ext cx="4572000" cy="3429000"/>
          </a:xfrm>
          <a:prstGeom prst="rect">
            <a:avLst/>
          </a:prstGeom>
          <a:ln w="0">
            <a:noFill/>
          </a:ln>
        </p:spPr>
      </p:sp>
      <p:sp>
        <p:nvSpPr>
          <p:cNvPr id="18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ative data from the teleconference Collaborative Meetings.  Data collection, measurement and using quality improvement methods were challenges cited by the participants.  The data and method tool kits were in response to the needs of the Collaborative, including strategies design of new informatics nursing documentation, embedding checklists as clinical and data collection tools, standardizing implementation of NNIS definitions (numerators and denominators), and tracking and monitoring processes and out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948F-9047-4D72-8D76-D5029C75E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7240"/>
            <a:ext cx="4572000" cy="3429000"/>
          </a:xfrm>
          <a:prstGeom prst="rect">
            <a:avLst/>
          </a:prstGeom>
          <a:ln w="0">
            <a:noFill/>
          </a:ln>
        </p:spPr>
      </p:sp>
      <p:sp>
        <p:nvSpPr>
          <p:cNvPr id="191"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ing this study across the federation of HCA hospitals pointed out the “real world” variation in care delivery across the health care system.  We found that ICUs vary in their patient populations and hospital staffing, in models of care delivery, in use of informatics, and in deployment of quality improvem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AA57-E8AE-4404-8FB9-14556272E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7240"/>
            <a:ext cx="4572000" cy="3429000"/>
          </a:xfrm>
          <a:prstGeom prst="rect">
            <a:avLst/>
          </a:prstGeom>
          <a:ln w="0">
            <a:noFill/>
          </a:ln>
        </p:spPr>
      </p:sp>
      <p:sp>
        <p:nvSpPr>
          <p:cNvPr id="194"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virtually all the ICUs and Infection Control Personnel report using the NNIS definitions for BSI and VAP, there were significant issues in the implementation of data collection.  One of the accomplishments of the initiative was standardization of measurement and mandatory reporting of hospital acquired infection dat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B6D5-A512-43A8-9CAD-F3740391D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variation in Safety Climate across the HCA hospital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23BF-FB68-48F0-A85A-CCC0FA55D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7240"/>
            <a:ext cx="4572000" cy="3429000"/>
          </a:xfrm>
          <a:prstGeom prst="rect">
            <a:avLst/>
          </a:prstGeom>
          <a:ln w="0">
            <a:noFill/>
          </a:ln>
        </p:spPr>
      </p:sp>
      <p:sp>
        <p:nvSpPr>
          <p:cNvPr id="20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81B7-168A-415A-8520-1D21457FB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4C03-F2EC-400C-9361-6EECDA815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2DA0-761E-49C2-BB34-077BF239A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EDD6-8C9A-4EA8-88B9-C76B08299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2A3B-480D-41EB-810B-F31CA7AC6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hospitals were those with adult or pediatric ICUs.  The HCA hospitals are located primarily in the south and western regions of the U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E1A4-F3C5-4F99-ABB1-B30F451D8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hospitals were randomized.  31 into the Collaborative Group and 30 into the Tool Kit Group, one hospital was sold, leaving 29 in the Tool Kit Group.  Both groups had core support with intranet Web access to tools.  The Collaborative Group formed a virtual network connected by telecommunications and listserv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ABB5-548F-4748-8EBA-13FEB2CEA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D716-B9C2-48EB-B9E9-E2CCCEAA3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t is the project home page on the HCA Atlas web site showing access to web seminars, tool kit, reference material, and Collaborative notes and present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E4FB-65C0-4D22-BC9D-EBFDA4FEE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I and VAP were based on the CDC National Nosocomial Infections Surveillance definitions.  Administrative data were abstracted quarterly from the HCA data warehouse.  The SAQ is a 30-item survey used to measure ICU safety climate.  We used instruments from the RAND ICICE study on IHI Breakthrough Collaboratives to measure organizational culture and teamwork.  The Survey of Effective Microsystem Characteristics was modified for organizational assessment of quality improvement.  A follow-up post-initiative survey was conducted on quality improvement implementation and use of tool k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D2BC1-BCCA-4A41-9134-F44168CB4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B7DA2-B18B-4028-82C7-81599CBFD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2256F-9DBB-452E-B875-6FB2FBC88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93D6B-0DB2-41D0-9F62-A4ADE4929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6E56-F68C-4DE2-BA24-7110B0E42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05681-4F62-4B31-A352-562193E71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CE00-E047-4BAE-9C87-C86BEA3D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D449-3FFD-449B-B00E-C73263692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66E2-CD72-4D0E-A6DF-C1CA1B76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35CD6-8535-42AC-824D-3E725724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9E1C-7A12-4562-9072-753AA296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9EAC-E8D8-4210-AC99-1EE56FE32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2EF8-5E05-464A-82FB-1C552C672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kgrnd3"/>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afe Critical Care </a:t>
            </a:r>
            <a:br>
              <a:rPr sz="4400"/>
            </a:br>
            <a:r>
              <a:rPr b="1" lang="en-US" sz="4400" spc="-1" strike="noStrike">
                <a:solidFill>
                  <a:srgbClr val="000000"/>
                </a:solidFill>
                <a:latin typeface="Arial"/>
              </a:rPr>
              <a:t>Initiativ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240" y="2743200"/>
            <a:ext cx="6629400" cy="3200400"/>
          </a:xfrm>
          <a:prstGeom prst="rect">
            <a:avLst/>
          </a:prstGeom>
          <a:noFill/>
          <a:ln w="0">
            <a:noFill/>
          </a:ln>
        </p:spPr>
        <p:txBody>
          <a:bodyPr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HCA-Vanderbil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Improvement Projec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Healthcare Associated Infec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nerships in Implementing Patient Safety (PIP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ed by AHRQ</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d.speroff@vanderbilt.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ults:  Characteristics of HCA ICUs</a:t>
            </a:r>
            <a:endParaRPr b="0" lang="en-US" sz="4800" spc="-1" strike="noStrike">
              <a:solidFill>
                <a:srgbClr val="000000"/>
              </a:solidFill>
              <a:latin typeface="Arial"/>
            </a:endParaRPr>
          </a:p>
        </p:txBody>
      </p:sp>
      <p:sp>
        <p:nvSpPr>
          <p:cNvPr id="80" name="PlaceHolder 2"/>
          <p:cNvSpPr>
            <a:spLocks noGrp="1"/>
          </p:cNvSpPr>
          <p:nvPr>
            <p:ph/>
          </p:nvPr>
        </p:nvSpPr>
        <p:spPr>
          <a:xfrm>
            <a:off x="456840" y="1676520"/>
            <a:ext cx="807732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0% have &lt; 20 ICU b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5% are medical-surgical-coronary ICU, 20% medical-surgic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5% have physician medical director, 95% have a nurse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7% intensivist required, 36% intensivist optional, 37% no intensiv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7% have pharmacist r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5% have daily, integrated interdisciplinary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Baseline</a:t>
            </a:r>
            <a:endParaRPr b="0" lang="en-US" sz="4000" spc="-1" strike="noStrike">
              <a:solidFill>
                <a:srgbClr val="000000"/>
              </a:solidFill>
              <a:latin typeface="Arial"/>
            </a:endParaRPr>
          </a:p>
        </p:txBody>
      </p:sp>
      <p:graphicFrame>
        <p:nvGraphicFramePr>
          <p:cNvPr id="82" name=""/>
          <p:cNvGraphicFramePr/>
          <p:nvPr/>
        </p:nvGraphicFramePr>
        <p:xfrm>
          <a:off x="457200" y="685800"/>
          <a:ext cx="8229600" cy="5913360"/>
        </p:xfrm>
        <a:graphic>
          <a:graphicData uri="http://schemas.openxmlformats.org/drawingml/2006/table">
            <a:tbl>
              <a:tblPr/>
              <a:tblGrid>
                <a:gridCol w="2847960"/>
                <a:gridCol w="2181240"/>
                <a:gridCol w="2036880"/>
                <a:gridCol w="1163520"/>
              </a:tblGrid>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aseline Characteristic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llaborative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 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ool Ki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 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valu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HI Campaig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spital Vol median (IQ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20 (1499,38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16 (1242,33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CU Volume median (IQ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5</a:t>
                      </a:r>
                      <a:r>
                        <a:rPr b="0" lang="en-US" sz="1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337,9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78 (244,10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CU LOS median (IQ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6 (1978,58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28 (1645,67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CU Mortality  %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 (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1% (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dicare/Medicaid %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4% (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4% (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mer.Dept Admit %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2% (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7% (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male % (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9.7% (5.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3% (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arge weight mean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58 (10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95 (1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Q: mean (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60 (.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67 (.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SI &amp; VAP Projec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SI Rate per 1000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3 (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4 (5.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P Rate per 1000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4 (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7 (5.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SI Results</a:t>
            </a:r>
            <a:br>
              <a:rPr sz="4000"/>
            </a:br>
            <a:r>
              <a:rPr b="0" lang="en-US" sz="3200" spc="-1" strike="noStrike">
                <a:solidFill>
                  <a:srgbClr val="000000"/>
                </a:solidFill>
                <a:latin typeface="Arial"/>
              </a:rPr>
              <a:t>Relative Risk = 1.14 </a:t>
            </a:r>
            <a:br>
              <a:rPr sz="3200"/>
            </a:br>
            <a:r>
              <a:rPr b="0" lang="en-US" sz="3200" spc="-1" strike="noStrike">
                <a:solidFill>
                  <a:srgbClr val="000000"/>
                </a:solidFill>
                <a:latin typeface="Arial"/>
              </a:rPr>
              <a:t>(95% CI 0.93, 1.40), p = .20 </a:t>
            </a:r>
            <a:endParaRPr b="0" lang="en-US" sz="3200" spc="-1" strike="noStrike">
              <a:solidFill>
                <a:srgbClr val="000000"/>
              </a:solidFill>
              <a:latin typeface="Arial"/>
            </a:endParaRPr>
          </a:p>
        </p:txBody>
      </p:sp>
      <p:pic>
        <p:nvPicPr>
          <p:cNvPr id="84" name="Picture 4" descr="Slide2"/>
          <p:cNvPicPr/>
          <p:nvPr/>
        </p:nvPicPr>
        <p:blipFill>
          <a:blip r:embed="rId1"/>
          <a:stretch/>
        </p:blipFill>
        <p:spPr>
          <a:xfrm>
            <a:off x="1523880" y="1828800"/>
            <a:ext cx="6477120" cy="48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P Results</a:t>
            </a:r>
            <a:br>
              <a:rPr sz="4000"/>
            </a:br>
            <a:r>
              <a:rPr b="0" lang="en-US" sz="4000" spc="-1" strike="noStrike">
                <a:solidFill>
                  <a:srgbClr val="000000"/>
                </a:solidFill>
                <a:latin typeface="Arial"/>
              </a:rPr>
              <a:t>Relative Risk = 1.28 </a:t>
            </a:r>
            <a:br>
              <a:rPr sz="4000"/>
            </a:br>
            <a:r>
              <a:rPr b="0" lang="en-US" sz="4000" spc="-1" strike="noStrike">
                <a:solidFill>
                  <a:srgbClr val="000000"/>
                </a:solidFill>
                <a:latin typeface="Arial"/>
              </a:rPr>
              <a:t>95% CI (1.03, 1.57), p = .023 </a:t>
            </a:r>
            <a:endParaRPr b="0" lang="en-US" sz="4000" spc="-1" strike="noStrike">
              <a:solidFill>
                <a:srgbClr val="000000"/>
              </a:solidFill>
              <a:latin typeface="Arial"/>
            </a:endParaRPr>
          </a:p>
        </p:txBody>
      </p:sp>
      <p:pic>
        <p:nvPicPr>
          <p:cNvPr id="86" name="Picture 4" descr="Slide3"/>
          <p:cNvPicPr/>
          <p:nvPr/>
        </p:nvPicPr>
        <p:blipFill>
          <a:blip r:embed="rId1"/>
          <a:stretch/>
        </p:blipFill>
        <p:spPr>
          <a:xfrm>
            <a:off x="1371600" y="1790640"/>
            <a:ext cx="6477120" cy="486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fe Critical Care:  QI Interventions</a:t>
            </a:r>
            <a:endParaRPr b="0" lang="en-US" sz="4000" spc="-1" strike="noStrike">
              <a:solidFill>
                <a:srgbClr val="000000"/>
              </a:solidFill>
              <a:latin typeface="Arial"/>
            </a:endParaRPr>
          </a:p>
        </p:txBody>
      </p:sp>
      <p:sp>
        <p:nvSpPr>
          <p:cNvPr id="88" name="PlaceHolder 2"/>
          <p:cNvSpPr>
            <a:spLocks noGrp="1"/>
          </p:cNvSpPr>
          <p:nvPr>
            <p:ph/>
          </p:nvPr>
        </p:nvSpPr>
        <p:spPr>
          <a:xfrm>
            <a:off x="456840" y="761760"/>
            <a:ext cx="4040280" cy="563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ion of bundles for patient ca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disciplinary team roun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ing form/checkl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 nurses to encourage physician compli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champ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 empowered to stop procedure if break in sterile f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list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t changes &amp; c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list in k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of Practice revi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 protoco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48320" y="762120"/>
            <a:ext cx="403992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 gel dispenser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wash campaig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erformance and practices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s &amp; surveillance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between standard audits and peer group observati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reviews of BSI and VA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bundle complianc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report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ICU newsletter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staff feedback</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cast Seminars</a:t>
            </a:r>
            <a:endParaRPr b="0" lang="en-US" sz="4400" spc="-1" strike="noStrike">
              <a:solidFill>
                <a:srgbClr val="000000"/>
              </a:solidFill>
              <a:latin typeface="Arial"/>
            </a:endParaRPr>
          </a:p>
        </p:txBody>
      </p:sp>
      <p:pic>
        <p:nvPicPr>
          <p:cNvPr id="91" name="Picture 5" descr="Slide4"/>
          <p:cNvPicPr/>
          <p:nvPr/>
        </p:nvPicPr>
        <p:blipFill>
          <a:blip r:embed="rId1"/>
          <a:stretch/>
        </p:blipFill>
        <p:spPr>
          <a:xfrm>
            <a:off x="1676520" y="1295280"/>
            <a:ext cx="6019560" cy="4510080"/>
          </a:xfrm>
          <a:prstGeom prst="rect">
            <a:avLst/>
          </a:prstGeom>
          <a:ln w="0">
            <a:noFill/>
          </a:ln>
        </p:spPr>
      </p:pic>
      <p:sp>
        <p:nvSpPr>
          <p:cNvPr id="92" name="Text Box 8"/>
          <p:cNvSpPr/>
          <p:nvPr/>
        </p:nvSpPr>
        <p:spPr>
          <a:xfrm>
            <a:off x="215640" y="5791320"/>
            <a:ext cx="8686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Group participated in more data topic seminars (52% vs 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ated them as useful (78% vs 5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Tools</a:t>
            </a:r>
            <a:endParaRPr b="0" lang="en-US" sz="4400" spc="-1" strike="noStrike">
              <a:solidFill>
                <a:srgbClr val="000000"/>
              </a:solidFill>
              <a:latin typeface="Arial"/>
            </a:endParaRPr>
          </a:p>
        </p:txBody>
      </p:sp>
      <p:pic>
        <p:nvPicPr>
          <p:cNvPr id="94" name="Picture 5" descr="Tool usefulness"/>
          <p:cNvPicPr/>
          <p:nvPr/>
        </p:nvPicPr>
        <p:blipFill>
          <a:blip r:embed="rId1"/>
          <a:stretch/>
        </p:blipFill>
        <p:spPr>
          <a:xfrm>
            <a:off x="1371600" y="1236600"/>
            <a:ext cx="6019920" cy="4529160"/>
          </a:xfrm>
          <a:prstGeom prst="rect">
            <a:avLst/>
          </a:prstGeom>
          <a:ln w="0">
            <a:noFill/>
          </a:ln>
        </p:spPr>
      </p:pic>
      <p:sp>
        <p:nvSpPr>
          <p:cNvPr id="95" name="Text Box 6"/>
          <p:cNvSpPr/>
          <p:nvPr/>
        </p:nvSpPr>
        <p:spPr>
          <a:xfrm>
            <a:off x="217800" y="5791320"/>
            <a:ext cx="8681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eater proportion of the Collaborative Group accessed the BSI and VA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accessed the SPC methods tools, and found the tools use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SI Bundle Process</a:t>
            </a:r>
            <a:endParaRPr b="0" lang="en-US" sz="4400" spc="-1" strike="noStrike">
              <a:solidFill>
                <a:srgbClr val="000000"/>
              </a:solidFill>
              <a:latin typeface="Arial"/>
            </a:endParaRPr>
          </a:p>
        </p:txBody>
      </p:sp>
      <p:pic>
        <p:nvPicPr>
          <p:cNvPr id="97" name="Picture 5" descr="Slide6"/>
          <p:cNvPicPr/>
          <p:nvPr/>
        </p:nvPicPr>
        <p:blipFill>
          <a:blip r:embed="rId1"/>
          <a:stretch/>
        </p:blipFill>
        <p:spPr>
          <a:xfrm>
            <a:off x="1143000" y="1295280"/>
            <a:ext cx="6705720" cy="4496040"/>
          </a:xfrm>
          <a:prstGeom prst="rect">
            <a:avLst/>
          </a:prstGeom>
          <a:ln w="0">
            <a:noFill/>
          </a:ln>
        </p:spPr>
      </p:pic>
      <p:sp>
        <p:nvSpPr>
          <p:cNvPr id="98" name="Text Box 7"/>
          <p:cNvSpPr/>
          <p:nvPr/>
        </p:nvSpPr>
        <p:spPr>
          <a:xfrm>
            <a:off x="677160" y="5867280"/>
            <a:ext cx="745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 of the Collaborative Group implemented all components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VC Bundle compare to 56% of the Tool Kit Group (p=.02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P Bundle Process</a:t>
            </a:r>
            <a:endParaRPr b="0" lang="en-US" sz="4400" spc="-1" strike="noStrike">
              <a:solidFill>
                <a:srgbClr val="000000"/>
              </a:solidFill>
              <a:latin typeface="Arial"/>
            </a:endParaRPr>
          </a:p>
        </p:txBody>
      </p:sp>
      <p:pic>
        <p:nvPicPr>
          <p:cNvPr id="100" name="Picture 5" descr="Slide7"/>
          <p:cNvPicPr/>
          <p:nvPr/>
        </p:nvPicPr>
        <p:blipFill>
          <a:blip r:embed="rId1"/>
          <a:stretch/>
        </p:blipFill>
        <p:spPr>
          <a:xfrm>
            <a:off x="1600200" y="1523880"/>
            <a:ext cx="5334120" cy="4000680"/>
          </a:xfrm>
          <a:prstGeom prst="rect">
            <a:avLst/>
          </a:prstGeom>
          <a:ln w="0">
            <a:noFill/>
          </a:ln>
        </p:spPr>
      </p:pic>
      <p:sp>
        <p:nvSpPr>
          <p:cNvPr id="101" name="Text Box 6"/>
          <p:cNvSpPr/>
          <p:nvPr/>
        </p:nvSpPr>
        <p:spPr>
          <a:xfrm>
            <a:off x="677520" y="5867280"/>
            <a:ext cx="7393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of the Collaborative Group implemented all components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VC Bundle compare to 64% of the Tool Kit Group (p=.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ve Qualitative Results:  </a:t>
            </a:r>
            <a:br>
              <a:rPr sz="4000"/>
            </a:br>
            <a:r>
              <a:rPr b="0" lang="en-US" sz="4000" spc="-1" strike="noStrike">
                <a:solidFill>
                  <a:srgbClr val="000000"/>
                </a:solidFill>
                <a:latin typeface="Arial"/>
              </a:rPr>
              <a:t>Challenges - Physicians</a:t>
            </a:r>
            <a:endParaRPr b="0" lang="en-US" sz="4000" spc="-1" strike="noStrike">
              <a:solidFill>
                <a:srgbClr val="000000"/>
              </a:solidFill>
              <a:latin typeface="Arial"/>
            </a:endParaRPr>
          </a:p>
        </p:txBody>
      </p:sp>
      <p:sp>
        <p:nvSpPr>
          <p:cNvPr id="103"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of barri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of checkli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te of inse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ivate MDs,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to change vendors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PlaceHolder 3"/>
          <p:cNvSpPr>
            <a:spLocks noGrp="1"/>
          </p:cNvSpPr>
          <p:nvPr>
            <p:ph/>
          </p:nvPr>
        </p:nvSpPr>
        <p:spPr>
          <a:xfrm>
            <a:off x="4646160" y="1600200"/>
            <a:ext cx="4040280" cy="45259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 buy in, approval from MEC</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Physician champ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ist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empowermen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involvement in case review</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order se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 Critical Care Team</a:t>
            </a:r>
            <a:endParaRPr b="0" lang="en-US" sz="4400" spc="-1" strike="noStrike">
              <a:solidFill>
                <a:srgbClr val="000000"/>
              </a:solidFill>
              <a:latin typeface="Arial"/>
            </a:endParaRPr>
          </a:p>
        </p:txBody>
      </p:sp>
      <p:sp>
        <p:nvSpPr>
          <p:cNvPr id="52" name="PlaceHolder 2"/>
          <p:cNvSpPr>
            <a:spLocks noGrp="1"/>
          </p:cNvSpPr>
          <p:nvPr>
            <p:ph/>
          </p:nvPr>
        </p:nvSpPr>
        <p:spPr>
          <a:xfrm>
            <a:off x="228240" y="1066680"/>
            <a:ext cx="40338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nderbilt</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d Sperof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ert Ditt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y Deshpan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Wesley E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 Fr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ert Greev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rley Li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uel K Nwos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R. Talbo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Wal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thew B. Weing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419720" y="1066680"/>
            <a:ext cx="396216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pital Corp of America</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rie Brew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yley Burg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e Englebr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ve Horn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k Hous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ne Jam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an Littlet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sy McFadd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ve Mo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 Reisch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ri Teje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 Willi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ve Qualitative Results</a:t>
            </a:r>
            <a:br>
              <a:rPr sz="4000"/>
            </a:br>
            <a:r>
              <a:rPr b="0" lang="en-US" sz="4000" spc="-1" strike="noStrike">
                <a:solidFill>
                  <a:srgbClr val="000000"/>
                </a:solidFill>
                <a:latin typeface="Arial"/>
              </a:rPr>
              <a:t>Challenges - Staff</a:t>
            </a:r>
            <a:endParaRPr b="0" lang="en-US" sz="4000" spc="-1" strike="noStrike">
              <a:solidFill>
                <a:srgbClr val="000000"/>
              </a:solidFill>
              <a:latin typeface="Arial"/>
            </a:endParaRPr>
          </a:p>
        </p:txBody>
      </p:sp>
      <p:sp>
        <p:nvSpPr>
          <p:cNvPr id="106"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to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to change in behavior </a:t>
            </a:r>
            <a:endParaRPr b="0" lang="en-US" sz="2800" spc="-1" strike="noStrike">
              <a:solidFill>
                <a:srgbClr val="000000"/>
              </a:solidFill>
              <a:latin typeface="Arial"/>
            </a:endParaRPr>
          </a:p>
        </p:txBody>
      </p:sp>
      <p:sp>
        <p:nvSpPr>
          <p:cNvPr id="107" name="PlaceHolder 3"/>
          <p:cNvSpPr>
            <a:spLocks noGrp="1"/>
          </p:cNvSpPr>
          <p:nvPr>
            <p:ph/>
          </p:nvPr>
        </p:nvSpPr>
        <p:spPr>
          <a:xfrm>
            <a:off x="4646160" y="1600200"/>
            <a:ext cx="4040280" cy="45259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lis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r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board with examples so staff could conceptualize their rol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ing each other accountable is painful at tim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ve Qualitative Results</a:t>
            </a:r>
            <a:br>
              <a:rPr sz="4000"/>
            </a:br>
            <a:r>
              <a:rPr b="0" lang="en-US" sz="4000" spc="-1" strike="noStrike">
                <a:solidFill>
                  <a:srgbClr val="000000"/>
                </a:solidFill>
                <a:latin typeface="Arial"/>
              </a:rPr>
              <a:t>Challenges - Data</a:t>
            </a:r>
            <a:endParaRPr b="0" lang="en-US" sz="4000" spc="-1" strike="noStrike">
              <a:solidFill>
                <a:srgbClr val="000000"/>
              </a:solidFill>
              <a:latin typeface="Arial"/>
            </a:endParaRPr>
          </a:p>
        </p:txBody>
      </p:sp>
      <p:sp>
        <p:nvSpPr>
          <p:cNvPr id="109"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data</a:t>
            </a:r>
            <a:endParaRPr b="0" lang="en-US" sz="2800" spc="-1" strike="noStrike">
              <a:solidFill>
                <a:srgbClr val="000000"/>
              </a:solidFill>
              <a:latin typeface="Arial"/>
            </a:endParaRPr>
          </a:p>
        </p:txBody>
      </p:sp>
      <p:sp>
        <p:nvSpPr>
          <p:cNvPr id="110" name="PlaceHolder 3"/>
          <p:cNvSpPr>
            <a:spLocks noGrp="1"/>
          </p:cNvSpPr>
          <p:nvPr>
            <p:ph/>
          </p:nvPr>
        </p:nvSpPr>
        <p:spPr>
          <a:xfrm>
            <a:off x="464616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tech/PCM documentation of protoc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from Surveys</a:t>
            </a:r>
            <a:endParaRPr b="0" lang="en-US" sz="4400" spc="-1" strike="noStrike">
              <a:solidFill>
                <a:srgbClr val="000000"/>
              </a:solidFill>
              <a:latin typeface="Arial"/>
            </a:endParaRPr>
          </a:p>
        </p:txBody>
      </p:sp>
      <p:sp>
        <p:nvSpPr>
          <p:cNvPr id="112" name="PlaceHolder 2"/>
          <p:cNvSpPr>
            <a:spLocks noGrp="1"/>
          </p:cNvSpPr>
          <p:nvPr>
            <p:ph/>
          </p:nvPr>
        </p:nvSpPr>
        <p:spPr>
          <a:xfrm>
            <a:off x="380880" y="121932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U Staffing is variabl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CA ICUs are multipurpose </a:t>
            </a:r>
            <a:endParaRPr b="0" lang="en-US" sz="2400" spc="-1" strike="noStrike">
              <a:solidFill>
                <a:srgbClr val="000000"/>
              </a:solidFill>
              <a:latin typeface="Arial"/>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diversity requires task and workload diversity </a:t>
            </a:r>
            <a:endParaRPr b="0" lang="en-US" sz="2400" spc="-1" strike="noStrike">
              <a:solidFill>
                <a:srgbClr val="000000"/>
              </a:solidFill>
              <a:latin typeface="Arial"/>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e demands on education and training requirements</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ists available in 63% of HCA ICUs but with variable models of care delivery</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is nearly split between paper and computer</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bility in the extent of ICU participation in quality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s from Surveys</a:t>
            </a:r>
            <a:endParaRPr b="0" lang="en-US" sz="4000" spc="-1" strike="noStrike">
              <a:solidFill>
                <a:srgbClr val="000000"/>
              </a:solidFill>
              <a:latin typeface="Arial"/>
            </a:endParaRPr>
          </a:p>
        </p:txBody>
      </p:sp>
      <p:sp>
        <p:nvSpPr>
          <p:cNvPr id="114" name="PlaceHolder 2"/>
          <p:cNvSpPr>
            <a:spLocks noGrp="1"/>
          </p:cNvSpPr>
          <p:nvPr>
            <p:ph/>
          </p:nvPr>
        </p:nvSpPr>
        <p:spPr>
          <a:xfrm>
            <a:off x="457200" y="685800"/>
            <a:ext cx="8229600" cy="6019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the NNIS definitions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for BSI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 for VAP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iculty obtaining IC denominator data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 for BSI rates </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hospitals reported having months where BSI rates could not be reported due to incomplete denominator report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for VAP rates </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hospitals reported having months where VAP rates could not be reported due to incomplete denominator reporting.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use Infection Control software for surveillanc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Group 2"/>
          <p:cNvGrpSpPr/>
          <p:nvPr/>
        </p:nvGrpSpPr>
        <p:grpSpPr>
          <a:xfrm>
            <a:off x="685800" y="1142640"/>
            <a:ext cx="8341920" cy="5181480"/>
            <a:chOff x="685800" y="1142640"/>
            <a:chExt cx="8341920" cy="5181480"/>
          </a:xfrm>
        </p:grpSpPr>
        <p:pic>
          <p:nvPicPr>
            <p:cNvPr id="116" name="Picture 3" descr=""/>
            <p:cNvPicPr/>
            <p:nvPr/>
          </p:nvPicPr>
          <p:blipFill>
            <a:blip r:embed="rId1"/>
            <a:stretch/>
          </p:blipFill>
          <p:spPr>
            <a:xfrm rot="16200000">
              <a:off x="2265840" y="-437400"/>
              <a:ext cx="5181480" cy="8341920"/>
            </a:xfrm>
            <a:prstGeom prst="rect">
              <a:avLst/>
            </a:prstGeom>
            <a:ln w="0">
              <a:noFill/>
            </a:ln>
          </p:spPr>
        </p:pic>
        <p:sp>
          <p:nvSpPr>
            <p:cNvPr id="117" name="Rectangle 4"/>
            <p:cNvSpPr/>
            <p:nvPr/>
          </p:nvSpPr>
          <p:spPr>
            <a:xfrm rot="16200000">
              <a:off x="3617280" y="5602680"/>
              <a:ext cx="1143000" cy="147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AutoShape 5"/>
          <p:cNvSpPr/>
          <p:nvPr/>
        </p:nvSpPr>
        <p:spPr>
          <a:xfrm rot="16200000">
            <a:off x="838080" y="762120"/>
            <a:ext cx="457200" cy="533160"/>
          </a:xfrm>
          <a:custGeom>
            <a:avLst/>
            <a:gdLst>
              <a:gd name="textAreaLeft" fmla="*/ 188280 w 457200"/>
              <a:gd name="textAreaRight" fmla="*/ 268920 w 45720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Q Results</a:t>
            </a:r>
            <a:br>
              <a:rPr sz="4000"/>
            </a:br>
            <a:r>
              <a:rPr b="0" lang="en-US" sz="4000" spc="-1" strike="noStrike">
                <a:solidFill>
                  <a:srgbClr val="000000"/>
                </a:solidFill>
                <a:latin typeface="Arial"/>
              </a:rPr>
              <a:t>Variation in Safety Cli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Q Survey: findings</a:t>
            </a:r>
            <a:endParaRPr b="0" lang="en-US" sz="4400" spc="-1" strike="noStrike">
              <a:solidFill>
                <a:srgbClr val="000000"/>
              </a:solidFill>
              <a:latin typeface="Arial"/>
            </a:endParaRPr>
          </a:p>
        </p:txBody>
      </p:sp>
      <p:sp>
        <p:nvSpPr>
          <p:cNvPr id="121" name="PlaceHolder 2"/>
          <p:cNvSpPr>
            <a:spLocks noGrp="1"/>
          </p:cNvSpPr>
          <p:nvPr>
            <p:ph/>
          </p:nvPr>
        </p:nvSpPr>
        <p:spPr>
          <a:xfrm>
            <a:off x="457200" y="83808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Safety Climate is positively correlated with QI Measurement  </a:t>
            </a:r>
            <a:r>
              <a:rPr b="0" lang="en-US" sz="2800" spc="-1" strike="noStrike">
                <a:solidFill>
                  <a:srgbClr val="000000"/>
                </a:solidFill>
                <a:latin typeface="Arial"/>
              </a:rPr>
              <a:t>	</a:t>
            </a:r>
            <a:r>
              <a:rPr b="0" lang="en-US" sz="2800" spc="-1" strike="noStrike">
                <a:solidFill>
                  <a:srgbClr val="000000"/>
                </a:solidFill>
                <a:latin typeface="Arial"/>
              </a:rPr>
              <a:t>r = .39</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Q and Hospital Siz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Climate and QI support varies with hospital siz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hospitals show more positive safety climat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hospitals show need for administrative support in resources and measurement.</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hospitals give more empowerment to the team.</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 teams provided with resources and training by the administration have more positive perceptions of safety cli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3" name="PlaceHolder 2"/>
          <p:cNvSpPr>
            <a:spLocks noGrp="1"/>
          </p:cNvSpPr>
          <p:nvPr>
            <p:ph/>
          </p:nvPr>
        </p:nvSpPr>
        <p:spPr>
          <a:xfrm>
            <a:off x="457200" y="914040"/>
            <a:ext cx="8229600" cy="56386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utcomes such as hospital acquired infections is complicated and time consum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re was a trend for improvement and better outcomes for the Collaborative group, there was appreciable variability and the pattern of results varied over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ifferences were associated with the Tool Kit group participating in fewer educational opportunities and making less use of Tool Kit elements than the Collaborative grou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borative group paid greater attention to the methodological seminars and measurement too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ites engaged in these resources they found the information and tools useful and sustained their 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borative group used more improvement strategies and more complete implementation of BSI and VAP evidence-based interven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a:t>
            </a:r>
            <a:endParaRPr b="0" lang="en-US" sz="4000" spc="-1" strike="noStrike">
              <a:solidFill>
                <a:srgbClr val="000000"/>
              </a:solidFill>
              <a:latin typeface="Arial"/>
            </a:endParaRPr>
          </a:p>
        </p:txBody>
      </p:sp>
      <p:sp>
        <p:nvSpPr>
          <p:cNvPr id="125"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al world” studies bring to the surface the variation across hospitals and ICU settings.  Whereas clinical, methodological, and informatics tools (Tool Kits) offer standardized core support, the solutions and approaches for tool, quality improvement, and patient safety implementation remain context dependent.  A Collaborative seems to provide a social network that reinforces personal effort despite resistance and workload pressures, shares and facilitates problem solving, and fosters accountability for behavioral change; in such a way that the participant can tailor it all to their hom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reliminary results support the ability of a participatory collaborative and support tools to decrease the incidence of catheter-related blood stream infections and ventilator-associated pneumonia in a diverse population of IC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ms of Safe Critical Care</a:t>
            </a:r>
            <a:endParaRPr b="0" lang="en-US" sz="4000" spc="-1" strike="noStrike">
              <a:solidFill>
                <a:srgbClr val="000000"/>
              </a:solidFill>
              <a:latin typeface="Arial"/>
            </a:endParaRPr>
          </a:p>
        </p:txBody>
      </p:sp>
      <p:sp>
        <p:nvSpPr>
          <p:cNvPr id="55" name="PlaceHolder 2"/>
          <p:cNvSpPr>
            <a:spLocks noGrp="1"/>
          </p:cNvSpPr>
          <p:nvPr>
            <p:ph/>
          </p:nvPr>
        </p:nvSpPr>
        <p:spPr>
          <a:xfrm>
            <a:off x="457200" y="1447920"/>
            <a:ext cx="8229600" cy="50292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catheter-related blood stream infections (BSI) and ventilator-associated pneumonia (VAP) in the IC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mplement a campaign for Improving Critical Care (Blood-Stream Infections and Ventilator-Associated Pneumonia) as part of the IHI 100,000 Lives Campaig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ms of Safe Critical Ca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pare a Collaborative approach to a Local Hospital Quality Improvement approach for implementing  an improvement initiative.</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amine the organizational and provider factors that contribute toward and enable successful performance improv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a:t>
            </a:r>
            <a:endParaRPr b="0" lang="en-US" sz="4400" spc="-1" strike="noStrike">
              <a:solidFill>
                <a:srgbClr val="000000"/>
              </a:solidFill>
              <a:latin typeface="Arial"/>
            </a:endParaRPr>
          </a:p>
        </p:txBody>
      </p:sp>
      <p:sp>
        <p:nvSpPr>
          <p:cNvPr id="59"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Corporation of America (HC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2 Medical and Surgical Ce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0% suburban and 32% urb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ruited 61 Hospitals</a:t>
            </a:r>
            <a:endParaRPr b="0" lang="en-US" sz="2800" spc="-1" strike="noStrike">
              <a:solidFill>
                <a:srgbClr val="000000"/>
              </a:solidFill>
              <a:latin typeface="Arial"/>
            </a:endParaRPr>
          </a:p>
        </p:txBody>
      </p:sp>
      <p:grpSp>
        <p:nvGrpSpPr>
          <p:cNvPr id="60" name="Group 4"/>
          <p:cNvGrpSpPr/>
          <p:nvPr/>
        </p:nvGrpSpPr>
        <p:grpSpPr>
          <a:xfrm>
            <a:off x="1066680" y="3124080"/>
            <a:ext cx="6858000" cy="3357720"/>
            <a:chOff x="1066680" y="3124080"/>
            <a:chExt cx="6858000" cy="3357720"/>
          </a:xfrm>
        </p:grpSpPr>
        <p:sp>
          <p:nvSpPr>
            <p:cNvPr id="61" name="AutoShape 5"/>
            <p:cNvSpPr/>
            <p:nvPr/>
          </p:nvSpPr>
          <p:spPr>
            <a:xfrm>
              <a:off x="1066680" y="3124080"/>
              <a:ext cx="6858000" cy="3357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6" descr=""/>
            <p:cNvPicPr/>
            <p:nvPr/>
          </p:nvPicPr>
          <p:blipFill>
            <a:blip r:embed="rId1"/>
            <a:stretch/>
          </p:blipFill>
          <p:spPr>
            <a:xfrm>
              <a:off x="1066680" y="3124080"/>
              <a:ext cx="6858000" cy="3357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514600"/>
            <a:ext cx="4038480" cy="40687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Vanderbilt Toolki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 core development of Meditech to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reports from surveys and data coll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Critical Care Project Atlas Site</a:t>
            </a:r>
            <a:endParaRPr b="0" lang="en-US" sz="2000" spc="-1" strike="noStrike">
              <a:solidFill>
                <a:srgbClr val="000000"/>
              </a:solidFill>
              <a:latin typeface="Arial"/>
            </a:endParaRPr>
          </a:p>
        </p:txBody>
      </p:sp>
      <p:sp>
        <p:nvSpPr>
          <p:cNvPr id="64" name="PlaceHolder 2"/>
          <p:cNvSpPr>
            <a:spLocks noGrp="1"/>
          </p:cNvSpPr>
          <p:nvPr>
            <p:ph/>
          </p:nvPr>
        </p:nvSpPr>
        <p:spPr>
          <a:xfrm>
            <a:off x="4648320" y="2514240"/>
            <a:ext cx="4038480" cy="43434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Vanderbilt Toolkit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 core development of Meditech t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reports from surveys and data colle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Critical Care Project Atlas Sit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commun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expe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teleconference meetings</a:t>
            </a:r>
            <a:endParaRPr b="0" lang="en-US" sz="2000" spc="-1" strike="noStrike">
              <a:solidFill>
                <a:srgbClr val="000000"/>
              </a:solidFill>
              <a:latin typeface="Arial"/>
            </a:endParaRPr>
          </a:p>
        </p:txBody>
      </p:sp>
      <p:grpSp>
        <p:nvGrpSpPr>
          <p:cNvPr id="65" name="Group 4"/>
          <p:cNvGrpSpPr/>
          <p:nvPr/>
        </p:nvGrpSpPr>
        <p:grpSpPr>
          <a:xfrm>
            <a:off x="762120" y="685800"/>
            <a:ext cx="7390800" cy="1676520"/>
            <a:chOff x="762120" y="685800"/>
            <a:chExt cx="7390800" cy="1676520"/>
          </a:xfrm>
        </p:grpSpPr>
        <p:sp>
          <p:nvSpPr>
            <p:cNvPr id="66" name="Oval 5"/>
            <p:cNvSpPr/>
            <p:nvPr/>
          </p:nvSpPr>
          <p:spPr>
            <a:xfrm>
              <a:off x="762120" y="685800"/>
              <a:ext cx="2666520" cy="1676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6"/>
            <p:cNvSpPr/>
            <p:nvPr/>
          </p:nvSpPr>
          <p:spPr>
            <a:xfrm>
              <a:off x="5486040" y="685800"/>
              <a:ext cx="2666880" cy="1676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1066680" y="1143000"/>
              <a:ext cx="1980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kit Group: Local Hospital Initiative</a:t>
              </a:r>
              <a:endParaRPr b="0" lang="en-US" sz="2000" spc="-1" strike="noStrike">
                <a:solidFill>
                  <a:srgbClr val="000000"/>
                </a:solidFill>
                <a:latin typeface="Arial"/>
              </a:endParaRPr>
            </a:p>
          </p:txBody>
        </p:sp>
        <p:sp>
          <p:nvSpPr>
            <p:cNvPr id="69" name="Text Box 8"/>
            <p:cNvSpPr/>
            <p:nvPr/>
          </p:nvSpPr>
          <p:spPr>
            <a:xfrm>
              <a:off x="5714640" y="1219320"/>
              <a:ext cx="2209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Group</a:t>
              </a:r>
              <a:endParaRPr b="0" lang="en-US" sz="2000" spc="-1" strike="noStrike">
                <a:solidFill>
                  <a:srgbClr val="000000"/>
                </a:solidFill>
                <a:latin typeface="Arial"/>
              </a:endParaRPr>
            </a:p>
          </p:txBody>
        </p:sp>
        <p:sp>
          <p:nvSpPr>
            <p:cNvPr id="70" name="Text Box 9"/>
            <p:cNvSpPr/>
            <p:nvPr/>
          </p:nvSpPr>
          <p:spPr>
            <a:xfrm>
              <a:off x="3885840" y="14479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ized</a:t>
              </a:r>
              <a:endParaRPr b="0" lang="en-US" sz="1400" spc="-1" strike="noStrike">
                <a:solidFill>
                  <a:srgbClr val="000000"/>
                </a:solidFill>
                <a:latin typeface="Arial"/>
              </a:endParaRPr>
            </a:p>
          </p:txBody>
        </p:sp>
        <p:sp>
          <p:nvSpPr>
            <p:cNvPr id="71" name="Line 10"/>
            <p:cNvSpPr/>
            <p:nvPr/>
          </p:nvSpPr>
          <p:spPr>
            <a:xfrm>
              <a:off x="5105160" y="1600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1"/>
            <p:cNvSpPr/>
            <p:nvPr/>
          </p:nvSpPr>
          <p:spPr>
            <a:xfrm flipH="1">
              <a:off x="3504960" y="1600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 Box 12"/>
          <p:cNvSpPr/>
          <p:nvPr/>
        </p:nvSpPr>
        <p:spPr>
          <a:xfrm>
            <a:off x="838080" y="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hods: RCT Desig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Tool Kit </a:t>
            </a:r>
            <a:br>
              <a:rPr sz="4000"/>
            </a:br>
            <a:r>
              <a:rPr b="0" lang="en-US" sz="4000" spc="-1" strike="noStrike">
                <a:solidFill>
                  <a:srgbClr val="000000"/>
                </a:solidFill>
                <a:latin typeface="Arial"/>
              </a:rPr>
              <a:t>HCA Intranet-Atlas Site</a:t>
            </a:r>
            <a:br>
              <a:rPr sz="4000"/>
            </a:br>
            <a:r>
              <a:rPr b="1" lang="en-US" sz="4000" spc="-1" strike="noStrike">
                <a:solidFill>
                  <a:srgbClr val="99cc00"/>
                </a:solidFill>
                <a:latin typeface="Arial"/>
              </a:rPr>
              <a:t>Keyword: Safe Critical C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ng Education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 Tool K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P Tool K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etr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Q/Fact sheet: Quick lin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I/PDSA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Control Chart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0"/>
            <a:ext cx="9144000" cy="739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Measures</a:t>
            </a:r>
            <a:endParaRPr b="0" lang="en-US" sz="44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Outcomes: BSI and VAP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Attitude Questionnaire: ICU safety cl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of ICU Practices and Quality Improvement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Project Evaluation Surve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15:47:23Z</dcterms:created>
  <dc:creator>Ted Speroff</dc:creator>
  <dc:description/>
  <dc:language>en-US</dc:language>
  <cp:lastModifiedBy>william.hyde</cp:lastModifiedBy>
  <dcterms:modified xsi:type="dcterms:W3CDTF">2009-01-02T15:11:18Z</dcterms:modified>
  <cp:revision>29</cp:revision>
  <dc:subject/>
  <dc:title>Aim</dc:title>
</cp:coreProperties>
</file>