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3B1-A2A4-4973-8CE1-363DD614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A18-4A92-4993-B994-8AE29F8B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DCF-3469-48F0-A296-615D98DD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E6A3-61A2-4CBB-8A73-CB7A555E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660A-3D8D-4938-9DF7-DDD8F480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42920"/>
            <a:ext cx="747576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50A-6D90-4B5C-BCA1-4BB19993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56E0-BD5E-4AB4-9252-BA4CEFE3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206-7A3A-48FE-A6C0-B547696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FB8-4B24-465C-B790-6C5D3BE1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B1FE-19EF-4B92-85C3-E39C1C05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D1F-25E0-479A-8037-8CE06F84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E55-9EC5-4D43-A26B-F99ED01E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42920"/>
            <a:ext cx="747576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19920" y="6477120"/>
            <a:ext cx="290664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0" bIns="0" anchor="b">
            <a:no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34520" y="6553080"/>
            <a:ext cx="46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9A7E9982-0487-41D1-ABB8-786F20C8EA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071720"/>
            <a:ext cx="72565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8991720" cy="683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9172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8209080" y="6445080"/>
            <a:ext cx="193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878600" y="6369120"/>
            <a:ext cx="1481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31981B1C-F2C2-4D28-B0CA-44A45D7A68C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44792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1437"/>
              </a:spcBef>
              <a:buClr>
                <a:srgbClr val="005b4c"/>
              </a:buClr>
              <a:buSzPct val="120000"/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188"/>
              </a:spcBef>
              <a:buClr>
                <a:srgbClr val="005b4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188"/>
              </a:spcBef>
              <a:buClr>
                <a:srgbClr val="005b4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071720"/>
            <a:ext cx="725652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209080" y="6445080"/>
            <a:ext cx="193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878600" y="6369120"/>
            <a:ext cx="1481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marL="324000" indent="-3240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43E59057-04FC-4AB4-B5F9-A245B99AC6B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0"/>
            <a:ext cx="380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23880" y="380880"/>
            <a:ext cx="7323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 from th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HRQ Hospital Surve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Patient Safety Cul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ann Sorra, Ph.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HRQ Annual Conference 2008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oting Quality…Partnering for Chang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thesda, M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sta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50 Research Blvd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ckville, MD 208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joannsorra@westat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1-294-393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tient Safety Grade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723924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of Events Reported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041480"/>
            <a:ext cx="73152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ults by Hospital Characteristic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990720"/>
            <a:ext cx="73915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er hospitals (49 beds or fewer) scored highest on all dimensions of safety cul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est hospitals (6 – 24 beds) 21% more positive 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andoffs &amp; Transi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an largest hospitals (400+ bed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% positive vs. 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differences teaching vs. non-teach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vernment hospitals scored higher than non-govt 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andoffs &amp; Tran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work Across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ults by Work Area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990720"/>
            <a:ext cx="73915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abilitation scored highest on 9 of 12 dimensions of safety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differences by work area/un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verall perceptions of patient safe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% positiv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hab 76% vs. ICU &amp; Medicine 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atient safety gr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% “Excellent” or “Very good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hab 82% vs. Emergency &amp; Medicine 62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Us had highest % error reporting (68%) vs. Anesthesiology &amp; Rehab (4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sults by Staff Position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990720"/>
            <a:ext cx="7315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ministration/Mgm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red highest on 11 of 12 dimensions of safety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ient safety 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% “Excellent” or “Very good”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dmin/Mgmt 82% vs. Registered Nurse/LVN/LPN 6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mber of events re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ported 1 or more events in past 12 mon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harmacists 78% vs. Unit assts/clerks/secretaries 2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343080"/>
                <a:tab algn="l" pos="63504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irect patient contact 53% vs. No direct contact 3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8 Trending Hospital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time between surveys 14 month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change on dimensions was +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in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 of trending hospitals had increase +5% on Patient Safety Gr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% of trending hospitals had +5% 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erceptions of patient safe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&amp; number of events rep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punitive response to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gest decre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% of trending hospitals had -5% on Staff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tions Taken by Trending Hospital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838080"/>
            <a:ext cx="73152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survey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% shared with staff; 62% with board of directors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Aft>
                <a:spcPts val="1375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4% with physician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9% had implemented more than 1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9% or more hospitals 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policies or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 safety walkarou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BAR commun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Aft>
                <a:spcPts val="1375"/>
              </a:spcAft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ituation-background-assessment- recommend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early patient safety fai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 safety bulletin boards &amp; newslet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 cause analy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0000" y="142920"/>
            <a:ext cx="762768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uture Activiti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762120"/>
            <a:ext cx="73915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edical Office and Nursing Home surveys on patient safety cul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development steps as HS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ed in 202 medical offices &amp; 40 nursing ho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kit materials similar to HSO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y Administration User’s Guid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2860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Comparative Results from Pilot Tes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2860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SzPct val="50000"/>
              <a:buFont typeface="Arial"/>
              <a:buChar char="»"/>
              <a:tabLst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Excel Data Entry &amp; Reporting Too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28600">
              <a:lnSpc>
                <a:spcPct val="100000"/>
              </a:lnSpc>
              <a:buClr>
                <a:srgbClr val="000000"/>
              </a:buClr>
              <a:buSzPct val="50000"/>
              <a:buFont typeface="Arial"/>
              <a:buChar char="»"/>
              <a:tabLst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Survey Feedback Templat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Aft>
                <a:spcPts val="125"/>
              </a:spcAft>
              <a:buNone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6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databases in 20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ntary data sub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spcAft>
                <a:spcPts val="150"/>
              </a:spcAft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comparative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ong-term AHRQ Support for SOP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990720"/>
            <a:ext cx="73152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/>
          </a:bodyPr>
          <a:p>
            <a:pPr lvl="1" marL="571680" indent="-114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914400"/>
            <a:ext cx="7315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anchor="t">
            <a:normAutofit fontScale="98000"/>
          </a:bodyPr>
          <a:p>
            <a:pPr marL="223920" indent="-223920">
              <a:lnSpc>
                <a:spcPct val="100000"/>
              </a:lnSpc>
              <a:spcAft>
                <a:spcPts val="1500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will support all 3 surveys for next 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, in-person SOPS User Group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119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with CAHPS User Group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119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119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4-5, 2008 in Scottsdale 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1196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10 in Baltimore 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technical assistance &amp; national conferenc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S use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685800"/>
                <a:tab algn="l" pos="9144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information about interventions being implementing to address areas for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national HSOPS User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99840" y="914400"/>
            <a:ext cx="71629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tional Hospital SOPS comparative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countries participating in the World Health Organization’s (WHO) High 5s Patient Safety Initi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www.who.int/patientsafety/solutions/high5s/en/index.ht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2240" indent="0">
              <a:lnSpc>
                <a:spcPct val="100000"/>
              </a:lnSpc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2240" indent="-29196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, Canada, Germany, the Netherlands, New Zealand, the United Kingdom, and the U.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00000"/>
              </a:lnSpc>
              <a:buNone/>
              <a:tabLst>
                <a:tab algn="l" pos="4572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00200" y="9903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results from the AHRQ Hospital Survey    on Patient Safety Cultu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future activities and long-term AHRQ support for the Surveys on Patient Safety (SOP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national HSOPS User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4 countrie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Australi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Malt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Bahrai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Netherlands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Belgiu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Norwa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Brazi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audi Arabia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Canad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cotlan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Denmark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erbi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El Salvad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pai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Franc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weden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German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Switzerlan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Greece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Taiwan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Ireland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Turkey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 Ital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- United Kingdo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tabasesOnSafetyCulture@ahrq.hhs.g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fetyCultureSurveys@ahrq.hhs.go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5960" y="15228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00200" y="761760"/>
            <a:ext cx="73915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spital Survey on Patient Safety Culture           (HSOPS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veloped by Westat, funded by AHRQ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rvey development process: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literature &amp; existing surve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hospital sta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key areas of safety cultu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survey items &amp; pretes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tained input from researchers &amp; stakehol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tested in 21 hospitals with 1,437 respond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457200"/>
                <a:tab algn="l" pos="571680"/>
                <a:tab algn="l" pos="685800"/>
                <a:tab algn="l" pos="800280"/>
                <a:tab algn="l" pos="914400"/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al survey released November 2004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3427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028880"/>
                <a:tab algn="l" pos="114300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.ahrq.gov/qual/hospcul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SOPS Patient Safety Culture Dimensions 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91440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70000"/>
              </a:lnSpc>
              <a:spcBef>
                <a:spcPts val="1250"/>
              </a:spcBef>
              <a:spcAft>
                <a:spcPts val="1250"/>
              </a:spcAft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 items assess 12 dimensions of patient safety cul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Communication openne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Feedback &amp; communication about err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Frequency of event report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Handoffs &amp; transi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Management support for patient safe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Nonpunitive response to err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Organizational learning--continuous improveme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Overall perceptions of patient safe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Staffing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Supv/mgr expectations &amp; actions promoting patient safe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Teamwork across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Teamwork within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196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safety “grade” (Excellent to Poo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events reported in past 12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SOPS Comparative Database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91440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RQ has funded an HSOPS comparative databa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(2007 &amp; 2008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ahrq.gov/qual/hospsurvey08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0"/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of survey results in efforts to establish, improve and maintain a culture of patient safet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ssessment and Lear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in patient safety improvement process (rather than basis for determining punitive actions or external judgment of hospital performanc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buNone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34308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upplemental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o help hospitals identify strengths and areas with potential for patient safety culture improv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2008 HSOPS Comparative Database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914400"/>
            <a:ext cx="7086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9 U.S. hospitals, 160,176 responden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# respondents per hospital = 309 staf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dminist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hospital response rate = 54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ork Areas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ger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% (14,327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%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areas/no specific are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C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log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enc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%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17748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>
              <a:lnSpc>
                <a:spcPct val="100000"/>
              </a:lnSpc>
              <a:buNone/>
              <a:tabLst>
                <a:tab algn="l" pos="52056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42920"/>
            <a:ext cx="747576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ff Positions &amp; Patient Contact</a:t>
            </a:r>
            <a:endParaRPr b="1" i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6% (55,119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ia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KG, Lab, Radiology, et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11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, administr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ians, PAs, NP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5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mac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2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buNone/>
              <a:tabLst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7% had direct interaction with pati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762120"/>
            <a:ext cx="769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6192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ospital Strengths &amp; Areas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480" rIns="96480" tIns="-48240" bIns="-48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1B6-3E2F-42B9-AE4A-6A7DE1814D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15:30:42Z</dcterms:created>
  <dc:creator>SORRA_J</dc:creator>
  <dc:description/>
  <dc:language>en-US</dc:language>
  <cp:lastModifiedBy>Joann Sorra</cp:lastModifiedBy>
  <cp:lastPrinted>2002-08-15T18:44:16Z</cp:lastPrinted>
  <dcterms:modified xsi:type="dcterms:W3CDTF">2008-09-09T15:54:40Z</dcterms:modified>
  <cp:revision>554</cp:revision>
  <dc:subject/>
  <dc:title>No Slide Title</dc:title>
</cp:coreProperties>
</file>