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FEA-F2E3-4F2B-9EE7-167E2DE6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0B1-D053-420F-98B7-891F31E1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221-797D-404A-BFDC-6AA662CF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FFD-8D71-4E90-845D-84CDE69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877-BA5F-4A39-B7E1-87ECB7A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16B-0227-4790-9180-5012499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599-5DC3-4610-B748-CA282BFA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D8A-4A0D-4359-9F6D-F76A465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67A-D206-4CD2-9748-B1972B3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E11-0897-4B54-BE56-A4F9B60F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2D1-908C-44D1-960F-0AD89EB7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13A-3E64-42D9-AEEE-AF98C04A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9920" y="6477120"/>
            <a:ext cx="29066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b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553080"/>
            <a:ext cx="46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3E486439-4F8B-482E-8DA6-41D1DF3628F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899172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917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B2398E9-D0B4-4D67-B605-D4391C3361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1437"/>
              </a:spcBef>
              <a:buClr>
                <a:srgbClr val="005b4c"/>
              </a:buClr>
              <a:buSzPct val="120000"/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45F4C19-A089-4FB1-A169-83CEF3DE2C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3880" y="380880"/>
            <a:ext cx="732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from th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HRQ Hospital Surve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atient Safety Cul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ann Sorra, Ph.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HRQ Annual Conference 2008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ting Quality…Partnering for 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thesda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50 Research Blvd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ckville, MD 208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oannsorra@westa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1-294-39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7239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of Events Reported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041480"/>
            <a:ext cx="73152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Hospital Characteristic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990720"/>
            <a:ext cx="73915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r hospitals (49 beds or fewer) scored highest on all dimensions of safety cul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st hospitals (6 – 24 beds) 21% more positive 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andoffs &amp; Transi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n largest hospitals (400+ be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% positive vs.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differences teaching vs. non-tea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hospitals scored higher than non-govt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offs &amp;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work Acro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Work Area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990720"/>
            <a:ext cx="73915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abilitation scored highest on 9 of 12 dimensions of safety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differences by work area/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verall perceptions of patient safe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% posit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 76% vs. ICU &amp; Medicine 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% “Excellent” or “Very good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 82% vs. Emergency &amp; Medicine 62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Us had highest % error reporting (68%) vs. Anesthesiology &amp; Rehab (4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Staff Position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990720"/>
            <a:ext cx="7315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ministration/Mgm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d highest on 11 of 12 dimensions of safety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% “Excellent” or “Very good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min/Mgmt 82% vs. Registered Nurse/LVN/LPN 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ber of events re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ported 1 or more events in past 12 mon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armacists 78% vs. Unit assts/clerks/secretaries 2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rect patient contact 53% vs. No direct contact 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8 Trending Hospital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between surveys 14 mon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hange on dimensions was +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in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rending hospitals had increase +5% on Patient Safety 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% of trending hospitals had +5% 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ceptions of patient safe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&amp; number of events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punitive response to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% of trending hospitals had -5% on Staff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ions Taken by Trending Hospital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urve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% shared with staff; 62% with board of directors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4% with physicia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% had implemented more than 1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% or more hospitals 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policies or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fety walkarou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AR commun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tuation-background-assessment- recommend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ly patient safety fai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fety bulletin boards &amp; newslet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cause analy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0000" y="142920"/>
            <a:ext cx="762768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 Activiti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76212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dical Office and Nursing Home surveys on patient safety cul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development steps as HS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ed in 202 medical offices &amp; 40 nursing h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kit materials similar to HSO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 Administration User’s Gui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Comparative Results from Pilot Te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 Data Entry &amp; Reporting Too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Survey Feedback Templa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Aft>
                <a:spcPts val="125"/>
              </a:spcAft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databases in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data sub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comparativ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ng-term AHRQ Support for SO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990720"/>
            <a:ext cx="7315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914400"/>
            <a:ext cx="7315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 fontScale="98000"/>
          </a:bodyPr>
          <a:p>
            <a:pPr marL="223920" indent="-2239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will support all 3 surveys for next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, in-person SOPS User Group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with CAHPS User Group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4-5, 2008 in Scottsdale 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 in Baltimore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echnical assistance &amp; national conferenc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S us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 about interventions being implementing to address 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tional HSOPS User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Hospital SOPS comparative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untries participating in the World Health Organization’s (WHO) High 5s Patient Safety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who.int/patientsafety/solutions/high5s/en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0">
              <a:lnSpc>
                <a:spcPct val="100000"/>
              </a:lnSpc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9196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, Canada, Germany, the Netherlands, New Zealand, the United Kingdom, and the U.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9903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results from the AHRQ Hospital Survey    on Patient Safety Cul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future activities and long-term AHRQ support for the Surveys on Patient Safety (SOP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tional HSOPS User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 countr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Australi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Malt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ahra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Netherland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elgiu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Norwa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razi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audi Arabia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anad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cotla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Denmar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erbi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El Salvad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pa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Fra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we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German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witzerla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Greec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Taiwan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relan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Tur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tal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United Kingdo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basesOnSafetyCulture@ahrq.hhs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fetyCultureSurveys@ahrq.hhs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5960" y="15228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00200" y="7617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spital Survey on Patient Safety Culture           (HSOP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veloped by Westat, funded by AHRQ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rvey development proces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literature &amp; existing surve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hospital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key areas of safety cult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survey items &amp; pret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ed input from researchers &amp; stakehol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tested in 21 hospitals with 1,437 respon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survey released November 200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ahrq.gov/qual/hospcul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OPS Patient Safety Culture Dimensions 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items assess 12 dimensions of patient safety cul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Communication openn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Feedback &amp; communication about err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Frequency of event repor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Handoffs &amp; transi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Management support for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Nonpunitive response to err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Organizational learning--continuous improv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Overall perceptions of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Staff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Supv/mgr expectations &amp; actions promoting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Teamwork across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Teamwork within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“grade” (Excellent to Po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vents reported in past 12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OPS Comparative Databas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9144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has funded an HSOPS comparative datab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(2007 &amp;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ahrq.gov/qual/hospsurvey08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of survey results in efforts to establish, improve and maintain a culture of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essment and Lear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in patient safety improvement process (rather than basis for determining punitive actions or external judgment of hospital performanc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pplemental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o help hospitals identify strengths and areas with potential for patient safety culture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008 HSOPS Comparative Databas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9 U.S. hospitals, 160,176 respond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# respondents per hospital = 309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dminis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spital response rate = 54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 Area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% (14,327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%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areas/no specific are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log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enc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ff Positions &amp; Patient Contact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% (55,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ia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KG, Lab, Radiology, et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1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, administ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, PAs, N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% had direct interaction with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spital Strengths &amp; Area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C93-3F80-4B25-B6A0-67FA2FFC4F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5:30:42Z</dcterms:created>
  <dc:creator>SORRA_J</dc:creator>
  <dc:description/>
  <dc:language>en-US</dc:language>
  <cp:lastModifiedBy>Joann Sorra</cp:lastModifiedBy>
  <cp:lastPrinted>2002-08-15T18:44:16Z</cp:lastPrinted>
  <dcterms:modified xsi:type="dcterms:W3CDTF">2008-09-09T15:54:40Z</dcterms:modified>
  <cp:revision>554</cp:revision>
  <dc:subject/>
  <dc:title>No Slide Title</dc:title>
</cp:coreProperties>
</file>