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5B35-C0BC-4C83-9569-FEED66F1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190A-F4A2-4867-AEC3-0B89447D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95A-C713-4506-8D5E-ED0C6875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DEE-2EAF-4145-8342-48120F26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AE06-E3D8-4A67-865F-48BDD254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259A-E036-470E-8A9B-3E260866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1572-F6B3-4022-A8C2-4ED2D1CF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FC64-1B80-43C2-A0A8-43ED117E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B113-BA37-45DB-9652-647857ED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4C9A-ED01-45A2-A8DB-F44C3153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46D6-ADA9-4E16-8AB8-EE9D327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BC9-E502-4CC3-AB11-3EB936E5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1941-F968-4DBB-9A7C-B0130711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C2A1-6A6B-4A6D-94C4-ABB50A71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82AF-F2FA-4316-965A-D2FD624A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3AC9-AA05-489E-AAB2-EE7B38A6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9C79-27EC-460C-A9D3-E01064D0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18E-A475-4C2B-88C1-AC7D56E9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14D-F43E-4F27-B142-AC1B45DD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2BB-D008-4B8C-957A-087C58F8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D967-8207-4BA1-8494-F1887DD1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59B-3B63-497E-BA16-C4F47D6C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035-0D80-4F38-BA23-9582B57D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9A1-B734-437D-9A80-E4A4420C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B63C-A293-4CA9-9D31-90FCAFB000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264B-A9C0-412F-B18A-E519059CD2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What makes a difference in the outcomes of QI participation?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hoshanna Sofaer, Dr.P.H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hool of Public Affai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ruch Colle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o chose to participate and why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e HHA perspective, decision-makers wanted to lower their rate, get access to high level expertise, tools individual support, education and opportunities to network with peers in their own state and bey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performers often already had a strong orientation to improvement, at least within the leadership and/or those more directly involved with 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in both groups were already trying to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072-CACE-4BBE-9DA1-2B860671A3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size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design, we chose a range of sizes in both grou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 issue of small size was more likely to be cited by both QIOs and HHAs as a reason for difficulti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ng recru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ying in th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ing able to change the outcome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C96-9113-45C0-AE3A-96AA0500B9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size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rger HHAs much more likely to have staff assigned to and with experience in quality measurement and improv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all agencies much more vulnerable to losing staff or dealing with staff turnover/short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all agencies also seem to have more difficulty raising issues of re-hospitalization with M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3C1-5297-407B-A875-071F5BDDB0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ownership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hospital-affiliated or hospital-owned agencies were clearly sensitive to the hospital’s desire to admit patients and also discharge them as soon as they coul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it does not appear that hospital ownership was an insuperable barrier to making progress in agencies with strong leadership commitment to the pro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621-A162-45D1-B521-01344DEF690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patient mix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arently yes – small agencies with a high proportion of long-term patients believe that “readmissions are random” and “inevitabl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don’t believe a “discharge based” ACH rate is appropriate as a meas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A2D-5BDF-4A79-9243-221381B039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process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agencies who didn’t move their ACH rate did make enormous progress in instituting key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raises two issu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ne year enough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we looking at the “right” processes (e.g. is the problem somewhere other than the HHA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B08-EEFA-4651-A8BF-E8DCBEE62C5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es leadership support matte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most all those we interviewed “felt” supported by leadership; several QIOs noted that those without leadership support were more likely to drop out; agencies with high level leadership involvement appeared to make this whole process a higher prio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“followership” may be just as importan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FC9-3B22-4363-ADA1-30B8243D020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ish interview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duct a site vis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plete analys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isseminate “final” find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401-0776-4D2C-8BF4-BFAA561127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urpose of the research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4EB-9029-424F-90CB-89593CDF08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 of the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dentify factors that may make a difference in the results of participation of home health agencies (HHAs) in quality improvemen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pecifically, look at variations across HHAs that participated in Wave 2 of the ReACH pro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01A-53AD-406E-A299-03E8AA53D9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 of the rese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dentify the elements of the ReACH approach which appear to have made a difference in achieving changes in re-hospitalization rates at the local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B38-98D8-4693-A097-3A0C88F950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ReACH project had extensive data on key outcome and process measures for all HHAs, including changes over time in th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 rate for their entire pop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H rate for their “target populatio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tes of performing risk assessments on 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tes of “front-loading” visits for high risk pati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93D3-F309-45A8-B21E-3863A210B5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e ordered the agencies by performance on the two major outcomes for purposes of sampl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rating in the context of OMB constraints, our strategy was to purposively select nine agencies to intervie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ve high performer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 low perform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C51-D044-4BE9-B823-6A8D2963BA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e varied agencies in each performance group by size, ownership and reg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e interviewed key staff at QIOs in the states where HHAs were located who participated at all in Wave 2 of ReACH prior  to interviews with HHA staff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91F-023D-483C-BA41-D2BE6D3036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conducted semi-structured, open ended interviews with the person in either the QIO or the HHA who was most directly involved in the proje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have completed all QIO interviews and 7 of 9 HHA intervie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 present here a preliminary analysis of these interviews, focusing on some but not all issues of intere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7E84-2088-4531-BEAD-0CAA6F27A8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o chose to participate and why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om the QIO perspective, a major driver was that the re-hospitalization rate was a metric they were required to move by C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led them to focus recruitment on agencies with high rates and to some extent larger agenc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many also wanted to influence as many HHAs as possible if they thought they could and would improve; a few just asked everyo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HRQ ANNUAL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9BB-3EFD-457B-B064-DB9BB722AE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0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22:15:31Z</dcterms:created>
  <dc:creator>School of Public Affairs</dc:creator>
  <dc:description/>
  <dc:language>en-US</dc:language>
  <cp:lastModifiedBy>School of Public Affairs</cp:lastModifiedBy>
  <dcterms:modified xsi:type="dcterms:W3CDTF">2008-09-09T23:03:20Z</dcterms:modified>
  <cp:revision>6</cp:revision>
  <dc:subject/>
  <dc:title>What makes a difference in the outcomes of participation in QI?</dc:title>
</cp:coreProperties>
</file>