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735-6D7E-4F11-A28E-1E32C750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9CC-A9BF-430E-B355-4F3DBD23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653E-5A24-47EB-B020-9C332CE2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D66C-52BD-44CD-B850-83EF0C6D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A529-0DDF-4731-9026-66DC4D65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C9BA-280D-4067-A373-724883B9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D83C-2E99-42B6-A2D7-0A18C537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D56B-A3C6-4D9D-A4D5-9FB44FC8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837F-A4BC-4F4C-A51E-63F4DC02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2E61-583E-4C2A-BD00-89E14FCD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6D84-4C9E-4505-8B8C-6E71182F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0C5-5A81-4A56-9DE5-347BC741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150E-6A32-413E-B6A0-97E977C7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495D-97A0-4ECF-B615-E4ABEDE6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C0C3-9636-4AFF-BEBB-595EDEDD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EE4E-42A3-4F19-A1FB-926ED696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327D-F600-43FE-AB28-EE529A88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219-D60C-41D1-8707-05D12F61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D31-221B-484D-8989-9501AF46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6B5-8F1B-4338-B1C5-760DB367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C927-2C08-4908-BA97-1359D0B4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5D6F-59D3-4A1D-875A-7494D98E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246-A605-44A3-95F5-BA630825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E46-E2A5-4A7E-8801-4967D299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195E-F314-4391-9839-4745034254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7178-A538-4A89-B525-270169CF94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Times New Roman"/>
              </a:rPr>
              <a:t>What makes a difference in the outcomes of QI participation? 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hoshanna Sofaer, Dr.P.H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chool of Public Affai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ruch Colle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o chose to participate and why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the HHA perspective, decision-makers wanted to lower their rate, get access to high level expertise, tools individual support, education and opportunities to network with peers in their own state and bey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performers often already had a strong orientation to improvement, at least within the leadership and/or those more directly involved with R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in both groups were already trying to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507-3826-4698-8877-3D64962182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es size matte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y design, we chose a range of sizes in both grou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the issue of small size was more likely to be cited by both QIOs and HHAs as a reason for difficultie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ing recru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ing in th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ing able to change the outcome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0EF-22BD-44E6-962D-E34E373ED2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es size matte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rger HHAs much more likely to have staff assigned to and with experience in quality measurement and improv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mall agencies much more vulnerable to losing staff or dealing with staff turnover/shorta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mall agencies also seem to have more difficulty raising issues of re-hospitalization with M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BB62-D6CE-41DA-B1B9-F731E2DDCA9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es ownership matte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hospital-affiliated or hospital-owned agencies were clearly sensitive to the hospital’s desire to admit patients and also discharge them as soon as they coul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it does not appear that hospital ownership was an insuperable barrier to making progress in agencies with strong leadership commitment to the pro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177-CD7B-499E-B33D-7B9E7E9E27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es patient mix matte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arently yes – small agencies with a high proportion of long-term patients believe that “readmissions are random” and “inevitabl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y don’t believe a “discharge based” ACH rate is appropriate as a meas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4BB2-CEBB-4CF1-9AEA-1A5B5DA6C0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es process matte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agencies who didn’t move their ACH rate did make enormous progress in instituting key proces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raises two issue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one year enough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we looking at the “right” processes (e.g. is the problem somewhere other than the HHA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E15-F9B3-4F1B-AB85-57A52C90DE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es leadership support matte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most all those we interviewed “felt” supported by leadership; several QIOs noted that those without leadership support were more likely to drop out; agencies with high level leadership involvement appeared to make this whole process a higher prior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“followership” may be just as important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CD0-07C7-4065-A549-833A9702270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nish interview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duct a site vis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mplete analysi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sseminate “final” finding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48E-4750-4403-84AE-3875C82FEB6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urpose of the researc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eliminary finding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B5B-666C-46A3-AD1C-12CCD569A6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rpose of the re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dentify factors that may make a difference in the results of participation of home health agencies (HHAs) in quality improv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pecifically, look at variations across HHAs that participated in Wave 2 of the ReACH pro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FB67-6D53-475A-99E9-5DA1197347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rpose of the re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dentify the elements of the ReACH approach which appear to have made a difference in achieving changes in re-hospitalization rates at the local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867-8C3C-425C-963B-0AFF189B36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ReACH project had extensive data on key outcome and process measures for all HHAs, including changes over time in th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H rate for their entire popul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H rate for their “target population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tes of performing risk assessments on pati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tes of “front-loading” visits for high risk pati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5008-91E6-4422-B484-DF88AF7F69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e ordered the agencies by performance on the two major outcomes for purposes of sampl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perating in the context of OMB constraints, our strategy was to purposively select nine agencies to interview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ve high performer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 low perform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A8EB-A604-4F90-AA99-E4C9EF9C73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e varied agencies in each performance group by size, ownership and reg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e interviewed key staff at QIOs in the states where HHAs were located who participated at all in Wave 2 of ReACH prior  to interviews with HHA staff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423E-CEB8-4236-AD21-C44B914194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 conducted semi-structured, open ended interviews with the person in either the QIO or the HHA who was most directly involved in the proje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 have completed all QIO interviews and 7 of 9 HHA interview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 present here a preliminary analysis of these interviews, focusing on some but not all issues of intere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FB9-8DD7-40A4-BAD0-CE96A666B1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o chose to participate and why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om the QIO perspective, a major driver was that the re-hospitalization rate was a metric they were required to move by C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led them to focus recruitment on agencies with high rates and to some extent larger agenc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many also wanted to influence as many HHAs as possible if they thought they could and would improve; a few just asked everyo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4CF-996A-47DA-B212-B62EBE42A76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2:15:31Z</dcterms:created>
  <dc:creator>School of Public Affairs</dc:creator>
  <dc:description/>
  <dc:language>en-US</dc:language>
  <cp:lastModifiedBy>School of Public Affairs</cp:lastModifiedBy>
  <dcterms:modified xsi:type="dcterms:W3CDTF">2008-09-09T23:03:20Z</dcterms:modified>
  <cp:revision>6</cp:revision>
  <dc:subject/>
  <dc:title>What makes a difference in the outcomes of participation in QI?</dc:title>
</cp:coreProperties>
</file>