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F2B-3719-43B4-A983-180FAAFB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7A2-9BED-4F04-881F-72CC403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B63-DAAD-4105-91EA-4681609C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F30-665C-4D5B-9DC7-B35CBEC4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5524-DB14-4C2A-B2A2-415F0F10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B2E-7847-485A-B532-A4E4E2F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40F0-E635-4A28-A01E-B81AC055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9F6-1D7F-4037-AB0D-8B0626F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05C6-9146-4774-ADA2-3BB2B310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586-C8F1-4102-B3D4-4D98E84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548A-DD4B-4A1A-B3F0-621078E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CDE-FC3D-40CA-A748-6B4FB71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C53-90DA-42AA-9256-F3F26AD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887F-5CD2-43CD-9457-5B76F05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0D9-BAF4-4FE4-9BEA-6DFF7F24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F2B4-2AF4-4F3E-AC17-8D8C341C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86E-BA6C-466B-A699-E9B3ED14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BD6-479B-4ABA-80DC-52992E2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34B-4AF7-4608-8556-4E43B241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510-124A-4D1F-82C9-0946FD1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9A9-9E61-4E7D-9E92-BCBE02AB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9DB-266B-4380-8A88-0260291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8A4-51AE-48C7-9FBB-11E69F4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89A-3894-4AE5-A8E5-37E71C2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58F-442F-4FF7-8ABA-9B257A8635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6858000" y="6345360"/>
          <a:ext cx="228600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345360"/>
                    <a:ext cx="22860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1452-3FE9-463B-B32B-1B230C966D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earch Training for QI and Patient Safe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434340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ureen A. Smith, MD PhD MP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or, AHRQ T32 in QI and Patient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ulty Director, Health Innovatio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ociate Professor, University of Wisconsin-Mad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ges of Training</a:t>
            </a:r>
            <a:br>
              <a:rPr sz="4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rainees should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age end users in questio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research skills in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results to multiple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e in QI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257800" y="1295280"/>
          <a:ext cx="38862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95280"/>
                    <a:ext cx="3886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verarching Model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ealth Innovation Program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295280"/>
          <a:ext cx="374004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37400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1295280"/>
          <a:ext cx="3759480" cy="502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295280"/>
                    <a:ext cx="3759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78200" y="1901880"/>
          <a:ext cx="252072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8200" y="1901880"/>
                    <a:ext cx="252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99040" y="1903320"/>
          <a:ext cx="2606760" cy="116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99040" y="1903320"/>
                    <a:ext cx="26067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940280" y="4416480"/>
          <a:ext cx="2490840" cy="115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40280" y="4416480"/>
                    <a:ext cx="2490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30520" y="4403880"/>
          <a:ext cx="273024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30520" y="4403880"/>
                    <a:ext cx="273024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09680" y="5735520"/>
          <a:ext cx="2151360" cy="97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5735520"/>
                    <a:ext cx="21513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657600" y="6307200"/>
          <a:ext cx="2322360" cy="47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6307200"/>
                    <a:ext cx="2322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105520" y="5734080"/>
          <a:ext cx="2265120" cy="97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5734080"/>
                    <a:ext cx="22651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80773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aeaea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rainees engage end us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organizational prio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on local QI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partners - Physician practice plan, 2 insurers, 2 hospi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betes, primary care redesign, CA scre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 users in question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op in participatory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" y="0"/>
          <a:ext cx="24987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24987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(2) Trainees learn skil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rigorous metho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s in standard &amp; “newer” de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ment &amp; quasi-experi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rupted time series, cluster RCT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ercer, et al. 2007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s in advanced statistical techniqu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organizational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op in qualita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647040" y="0"/>
          <a:ext cx="249696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7040" y="0"/>
                    <a:ext cx="24969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83059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(3) Trainees present resul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research results us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use OR &amp; 95% CI in 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I - use horizontal bars with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to multiple aud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research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end user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I staff, leadership, and clin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69000" y="0"/>
          <a:ext cx="24750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9000" y="0"/>
                    <a:ext cx="2475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(4) Trainees participate in Q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QI and system redesign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– Quality and Patient 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physicians &amp; 2 industrial engine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s engineering model of rede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 in QI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local small QI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harge communication, CVD risk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39600"/>
          <a:ext cx="2583000" cy="11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600"/>
                    <a:ext cx="2583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ges of Training</a:t>
            </a:r>
            <a:br>
              <a:rPr sz="4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rainees have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d end users in question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research skills in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to multiple aud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d in QI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c</cp:lastModifiedBy>
  <cp:lastPrinted>2003-01-21T20:19:23Z</cp:lastPrinted>
  <dcterms:modified xsi:type="dcterms:W3CDTF">2008-10-02T19:22:21Z</dcterms:modified>
  <cp:revision>185</cp:revision>
  <dc:subject/>
  <dc:title>AHRQ Slide Template 2004</dc:title>
</cp:coreProperties>
</file>