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EA8-AB97-4A81-87BE-A462C164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889-E6D5-47CA-81BD-6016B696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F55-A1D6-4D10-88EA-57EC7417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F15-34D4-492B-9755-C97C1E3B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6767-1A07-4029-B956-9DF23988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C937-588A-448B-B841-AB2A9949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3291-6361-48D8-A638-51AFCF10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528B-8858-49B2-B106-5B4A33E5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2A6E-1A8F-475E-ADA9-7F553022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ABC6-09CD-462F-A4CE-26F73595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DE2D-A8FC-43DF-92AE-2B419F6A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A4E-37CA-45C8-8EC8-365451CE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9D5F-4A25-4DEB-A526-F4D4AEC4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F51D-99A7-4D74-8EC5-0049486A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B5AA-FEFC-416B-9934-DD437055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C4A7-CB80-4513-B98E-66F29EE9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C4C6-2666-423E-85F2-DB9BBDB5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F21-1354-4B9C-A823-8CC27D45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137-B157-4BD8-959E-6CA9802F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FBA-F73F-4370-8CA4-8C04F2A2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C79-19FC-472A-8A0C-272EFCC7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0AD-7BCF-4EBD-8D4A-6334BD1D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FF9-DF7B-4432-A03E-B272B8EE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AE3-04D1-4F77-B213-BEED4E38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4DCD-2F8E-46D9-9BE5-60BDD149C6E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" name=""/>
          <p:cNvGraphicFramePr/>
          <p:nvPr/>
        </p:nvGraphicFramePr>
        <p:xfrm>
          <a:off x="6858000" y="6345360"/>
          <a:ext cx="2286000" cy="51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345360"/>
                    <a:ext cx="228600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EAB1-6E73-4090-BBBB-AB83234953A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2096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Research Training for QI and Patient Safet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320" y="4343400"/>
            <a:ext cx="7620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ureen A. Smith, MD PhD MP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or, AHRQ T32 in QI and Patient Safe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ulty Director, Health Innovation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ociate Professor, University of Wisconsin-Madi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ages of Training</a:t>
            </a:r>
            <a:br>
              <a:rPr sz="44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rainees should…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age end users in question develo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research skills in con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 results to multiple audi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icipate in QI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5257800" y="1295280"/>
          <a:ext cx="38862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295280"/>
                    <a:ext cx="38862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Overarching Model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Health Innovation Program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1295280"/>
          <a:ext cx="374004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95280"/>
                    <a:ext cx="37400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2666880" y="1295280"/>
          <a:ext cx="3759480" cy="502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1295280"/>
                    <a:ext cx="37594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978200" y="1901880"/>
          <a:ext cx="2520720" cy="116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8200" y="1901880"/>
                    <a:ext cx="252072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5099040" y="1903320"/>
          <a:ext cx="2606760" cy="116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99040" y="1903320"/>
                    <a:ext cx="260676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940280" y="4416480"/>
          <a:ext cx="2490840" cy="115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40280" y="4416480"/>
                    <a:ext cx="249084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30520" y="4403880"/>
          <a:ext cx="2730240" cy="116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30520" y="4403880"/>
                    <a:ext cx="2730240" cy="11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09680" y="5735520"/>
          <a:ext cx="2151360" cy="97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9680" y="5735520"/>
                    <a:ext cx="215136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657600" y="6307200"/>
          <a:ext cx="2322360" cy="474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57600" y="6307200"/>
                    <a:ext cx="23223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105520" y="5734080"/>
          <a:ext cx="2265120" cy="971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05520" y="5734080"/>
                    <a:ext cx="22651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80773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eaeaea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rainees engage end user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stand organizational prior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 on local QI committ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partners - Physician practice plan, 2 insurers, 2 hospi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betes, primary care redesign, CA scree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e users in question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shop in participatory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240" y="0"/>
          <a:ext cx="249876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0"/>
                    <a:ext cx="24987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54380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(2) Trainees learn skil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 rigorous metho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s in standard &amp; “newer” desig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eriment &amp; quasi-experi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30200" indent="-443160">
              <a:spcBef>
                <a:spcPts val="349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rupted time series, cluster RCT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(Mercer, et al. 2007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s in advanced statistical techniqu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 organizational contex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shop in qualitative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647040" y="0"/>
          <a:ext cx="249696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7040" y="0"/>
                    <a:ext cx="249696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914400"/>
            <a:ext cx="83059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(3) Trainees present result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research results use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- use OR &amp; 95% CI in t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I - use horizontal bars with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 to multiple audi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research audi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cal end user audi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I staff, leadership, and clinic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669000" y="0"/>
          <a:ext cx="247500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9000" y="0"/>
                    <a:ext cx="247500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838080"/>
            <a:ext cx="75438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(4) Trainees participate in QI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 QI and system redesign ski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se – Quality and Patient Saf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16520" indent="-4388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physicians &amp; 2 industrial enginee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16520" indent="-4388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s engineering model of redes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ipate in QI 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-51192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local small QI gr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16520" indent="-4388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harge communication, CVD risk f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50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39600"/>
          <a:ext cx="2583000" cy="11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9600"/>
                    <a:ext cx="2583000" cy="11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ages of Training</a:t>
            </a:r>
            <a:br>
              <a:rPr sz="44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rainees have…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ed end users in question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35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ed research skills in cont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ed to multiple audi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ipated in QI impl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rac</cp:lastModifiedBy>
  <cp:lastPrinted>2003-01-21T20:19:23Z</cp:lastPrinted>
  <dcterms:modified xsi:type="dcterms:W3CDTF">2008-10-02T19:22:21Z</dcterms:modified>
  <cp:revision>185</cp:revision>
  <dc:subject/>
  <dc:title>AHRQ Slide Template 2004</dc:title>
</cp:coreProperties>
</file>