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erences in Access to Care for Asian and White Adul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rile Sing, Ph.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lness/Perceived Ne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-rated gener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mental health (Mental Component Summ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chronic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460000" y="624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timation Metho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nadjusted differences in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justed differences (multivariate logistic regress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ginal effects estimated by method of recycled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 errors estimated using balanced repeated repl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9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ginal effects o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ess to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factors have the greatest marginal effects on improving access to c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disposing cond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and without acculturation varia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abling re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ceived n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control varia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43440" y="6157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Unadjus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if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60000" y="624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cess to Car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ults Age 18+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1066680"/>
          <a:ext cx="86454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6454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8672040" y="6310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819520"/>
            <a:ext cx="83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0199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(**)  Significantly different from White at 0.05 (0.01) level or be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rce:  MEPS 2002 – 2005, adults eligible for access sup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culturation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migran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4920" y="1066680"/>
          <a:ext cx="86454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6454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672040" y="6310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2743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60199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(**)  Significantly different from White at 0.05 (0.01) level or be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rce:  MEPS 2002 – 2005, Adults eligible for Access Supplemen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18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94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culturation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glish Langu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066680"/>
          <a:ext cx="86454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6454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672040" y="6310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1219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199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(**)  Significantly different from White at 0.05 (0.01) level or be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rce:  MEPS 2002 – 2005, Adults eligible for Access Supplemen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18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actors Associated with Access to C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60000" y="624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associated with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ual Source of Ca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al eff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an  - 0.039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0.019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abl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dispo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immigrant &lt; 5 yrs in U.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urance status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immigrant 5 - 14 yrs in U.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Difficulty w/ Englis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sus Reg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Asian * Difficulty w/Englis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y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ceived ne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chronic cond.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g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rated health                          marital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itu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ar 2004 -  Year 2005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:  MEPS 2002 -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67840" y="605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ic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Asians face significant linguistic and cultural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 25% of Asians live in linguistically isolated households (Census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 63% of Asians are immigrants (Census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sian American subgroups are at greater risk than non-Hispanic Whites for certain diseases, such as diabetes, stomach and liver cancer, hepatitis B, and tubercu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86800" y="58672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associated with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fice Visit(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al eff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an  - 0.077*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0.015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abl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dispo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immigrant &lt; 5 yrs in U.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urance status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Difficulty w/ Englis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sus Reg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48ca2"/>
                </a:solidFill>
                <a:latin typeface="Arial"/>
              </a:rPr>
              <a:t>education</a:t>
            </a: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8691"/>
                </a:solidFill>
                <a:latin typeface="Arial"/>
              </a:rPr>
              <a:t>Active MDs/ 1000 pop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family 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ceived ne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gend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chronic cond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marital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rated general health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attitu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8691"/>
                </a:solidFill>
                <a:latin typeface="Arial"/>
              </a:rPr>
              <a:t>self-rated mental heal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ar 2004 +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:  MEPS 2002 -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67840" y="605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stimated Marginal Effec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60000" y="624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rginal Effects 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cess to Ca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Unadjusted           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Usual Source of Care         Office Visit(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.811  (0.004)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0.784 (0.003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.701  (0.013)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0.630 (0.011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Difference       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           -0.110 **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        - 0.154 *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Adjusted differences:  Marginal effects controlling fo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Usual Source of Care         Office Visit(s)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edisposing (w/o acculturation)  - 0.115 **       - 0.143 *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Predisposing (w/ acculturation)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- 0.055 **</a:t>
            </a:r>
            <a:r>
              <a:rPr b="1" lang="en-US" sz="2100" spc="-1" strike="noStrike">
                <a:solidFill>
                  <a:srgbClr val="f48ca2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0.102 *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nabling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0.078 **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- 0.123 *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erceived need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0.068 **      </a:t>
            </a:r>
            <a:r>
              <a:rPr b="1" lang="en-US" sz="2100" spc="-1" strike="noStrike">
                <a:solidFill>
                  <a:srgbClr val="8cf4ea"/>
                </a:solidFill>
                <a:latin typeface="Arial"/>
              </a:rPr>
              <a:t> - 0.098 *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ll variables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0.039 **        - 0.077 *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19760" y="6234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an adults were less likely than Whites to have a usual source of care or an office visit, after controlling for predisposing and enabling characteristics and perceived ne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eatest Marginal Effects on Access to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spo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Enabl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/ acculturation                           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ual Source of C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ffice Vis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67840" y="605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licy Relev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ndings suggest areas to focus on for improving access to care for Asian adul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lating general medical information and Medicaid applications into Asian languages may improve access to care for some A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ng  providers about differences in culture and disease incidence for Asians compared with non-Hispanic Wh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67840" y="605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earch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estimate adjusted differences in access to care between non-Hispanic White and Asia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identify factors that have the greatest marginal effects on improving access to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601992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ious Resear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y et al. (2008).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Variation:  Disparities in Health Care Quality Between Asian and White Medicare Beneficiari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tiades and Wu (2008)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Factors Affecting Physician Visits in Chinese and Chinese Immigrant Sampl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yder et al. (2000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Access to Medical Care Reported by Asians and Pacific Islanders in a West Coast Physician Group Associ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 (2007)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ional Healthcare Disparities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3452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Desig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are from the Medical Expenditure Panel Survey (MEPS) &amp; Area Resource File, 2002 - 200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S contains a nationally representative sample of households in the U.S. civilian, non-institutionalized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ample includes non-Hispanic adults age 18 and old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3,779 Asians and 52,498 Wh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ersen typology of access to care is u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utcome variables are bin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 source of care (excluding emergency ro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least one office visit during past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3452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Access to Car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37440" y="598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35960" y="6172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ersen Typology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rol variab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s depend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Aft>
                <a:spcPts val="22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disposin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Aft>
                <a:spcPts val="22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abl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Aft>
                <a:spcPts val="22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llness level or perceived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disposing Characterist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ogra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sex, marital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a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cul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fficulty speaking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linguistically isolated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migrant &lt; 5 years in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migrant 5 – 14 years in U.S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come illness without medical profes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willing to tak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uses seat be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abling Re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-rural (using Metropolitan Statistical Are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sus Region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non-federal MDs/ 1,000 population (coun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Federally Qualified Health Centers (coun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Asian population in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09-01-06T19:47:03Z</dcterms:modified>
  <cp:revision>785</cp:revision>
  <dc:subject/>
  <dc:title>AHRQ Slide Template 2004</dc:title>
</cp:coreProperties>
</file>