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30F5-5F26-4348-8CD0-7802D26D8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FB2-B9CE-4180-BB48-D1AD5A26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72F-D60B-41FC-92E2-446EED2A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388-D673-4E86-BAC8-19477A48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2A5-FEB2-4EF4-9CCB-937ADCB8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3C7-8D78-4B18-BA4B-C1765770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5B4-6A36-48DD-B549-99CA6BAB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24B-DA79-48DB-BC00-4BD1BA3A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461-D4B8-4DDE-A97D-DC51F7D9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24D-986C-4D6C-AB00-531196BE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FA2-C182-4180-BB99-B4B928E6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604-255A-4F31-A507-590EB8E4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272-B10E-4B1F-A1EA-3BD1B135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FBD7-D159-49DC-8D17-4D7FD3541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095880" cy="29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1932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gruti Shukla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l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457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an Mateo Medical Center                Main Campus Primary Care Cli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00200"/>
            <a:ext cx="678168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00200"/>
            <a:ext cx="678168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35268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Engravers MT"/>
              </a:rPr>
              <a:t>Questions?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228600"/>
            <a:ext cx="71629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an Mateo Medical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Main Campus Primary Care Clin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523880"/>
            <a:ext cx="678204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1523880"/>
            <a:ext cx="678168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4800600"/>
            <a:ext cx="87631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11 San Mateo County Clinics,  FQ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9 Physicians = 6 FTE,  Approx. 20,000 visits/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Patient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55627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71600" y="182880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762120"/>
            <a:ext cx="8229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ronic Care Model – Past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133720"/>
            <a:ext cx="830592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One Provider Team in SNI Collaborative in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Introduction of CDEMS Reg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hronic Disease Manag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Improvements in Clinical and Process  Meas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Success working as a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82880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2520" y="57150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9528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52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TOOLKIT INTERVEN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752480"/>
            <a:ext cx="78483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Introduced by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Random division of providers into Intervention and Contro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Formation of MD-MA-Clerk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Jointly set goals – 10 parameters 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Data transfer for all Diabetic patients into C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129528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62520" y="57150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6858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AJOR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COMPLISHMENTS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752480"/>
            <a:ext cx="784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Working together as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CDEMS data sheet used as the Progress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Chronic disease education at eac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Monthly group visits for all provide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Some Population Management ( No labs 1 y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Improvements seen in both process &amp; outcom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6858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eflections:  What worked well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9810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752480"/>
            <a:ext cx="784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Experience of our pioneer team with CD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Formal structure, timelines, repor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Coach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Weekly meetings -  time allocation for brainstorming and repor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Toolkit refer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Targeted Interventions:  Pneumo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6858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eflections:  Challenges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9810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752480"/>
            <a:ext cx="78487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Time commitment for data input, reports, and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Integration of CDM into usual work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Significant amount of front-end work prior to seeing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Active communication with staff not invol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Sustaining and spreading successful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Interpretation of the variation seen in the MD’s data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685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Next Steps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9810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752480"/>
            <a:ext cx="784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Establish patient care teams for all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Identify all clinic patients with DM and populate CDEMS 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Further develop role of MA, Clerk, and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Monthly group visits for all provi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Add Pharmacist and LSW into the clin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Continue to monitor and discuss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2:25:41Z</dcterms:created>
  <dc:creator>ecruz</dc:creator>
  <dc:description/>
  <dc:language>en-US</dc:language>
  <cp:lastModifiedBy>bcambridge</cp:lastModifiedBy>
  <dcterms:modified xsi:type="dcterms:W3CDTF">2008-10-17T15:05:43Z</dcterms:modified>
  <cp:revision>145</cp:revision>
  <dc:subject/>
  <dc:title>PowerPoint Presentation</dc:title>
</cp:coreProperties>
</file>