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3D41-F676-4775-AC38-C1F69B2BF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28E-00CE-4DC6-BB6E-14047A5E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B341-4247-4E1B-A0BE-47581E49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874-6EEC-427A-8EF8-C2FDF179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E62-289E-4614-8E80-987C9052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3314-1870-4306-971E-7DF616AF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0C5-AB2C-4F61-9BE2-F87B8F85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4DA5-EFC1-400C-8980-6D6B042F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A96-03C9-4446-9943-348BE6F5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110-ED88-485E-9B6A-EF78375D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912-CD8E-4763-BDA2-C1EAACA6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50F-F1EB-4449-9275-3FB0101A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72D3-A532-486C-B0C8-675891F3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E97B-7DE6-417D-BAE5-3ED5F6154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838080"/>
            <a:ext cx="6095880" cy="2968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1932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gruti Shukla, MD, 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al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 9,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457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an Mateo Medical Center                Main Campus Primary Care Cli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600200"/>
            <a:ext cx="678168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00200"/>
            <a:ext cx="6781680" cy="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3352680"/>
            <a:ext cx="701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Engravers MT"/>
              </a:rPr>
              <a:t>Questions?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228600"/>
            <a:ext cx="716292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an Mateo Medical Ce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Main Campus Primary Care Clin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523880"/>
            <a:ext cx="678204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1523880"/>
            <a:ext cx="6781680" cy="0"/>
          </a:xfrm>
          <a:prstGeom prst="line">
            <a:avLst/>
          </a:prstGeom>
          <a:ln w="3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4800600"/>
            <a:ext cx="87631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11 San Mateo County Clinics,  FQ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9 Physicians = 6 FTE,  Approx. 20,000 visits/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Patient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55627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71600" y="1828800"/>
            <a:ext cx="594360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762120"/>
            <a:ext cx="8229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hronic Care Model – Past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133720"/>
            <a:ext cx="830592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One Provider Team in SNI Collaborative in 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Introduction of CDEMS Regist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Chronic Disease Manag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Improvements in Clinical and Process  Meas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600" spc="-1" strike="noStrike">
                <a:solidFill>
                  <a:srgbClr val="000099"/>
                </a:solidFill>
                <a:latin typeface="Times New Roman"/>
              </a:rPr>
              <a:t>Success working as a tea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1828800"/>
            <a:ext cx="5943600" cy="0"/>
          </a:xfrm>
          <a:prstGeom prst="line">
            <a:avLst/>
          </a:prstGeom>
          <a:ln w="3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62520" y="571500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295280"/>
            <a:ext cx="594360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3352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TOOLKIT INTERVEN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752480"/>
            <a:ext cx="78483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Introduced by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Random division of providers into Intervention and Contro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Formation of MD-MA-Clerk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Jointly set goals – 10 parameters 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Data transfer for all Diabetic patients into CD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1295280"/>
            <a:ext cx="5943600" cy="0"/>
          </a:xfrm>
          <a:prstGeom prst="line">
            <a:avLst/>
          </a:prstGeom>
          <a:ln w="3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62520" y="571500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8080" y="6858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AJOR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</a:rPr>
              <a:t>CCOMPLISHMENTS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3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9810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752480"/>
            <a:ext cx="7848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Working together as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CDEMS data sheet used as the Progress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Chronic disease education at each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Monthly group visits for all provide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Some Population Management ( No labs 1 y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Improvements seen in both process &amp; outcom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6858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Reflections:  What worked well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3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9810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752480"/>
            <a:ext cx="7848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Experience of our pioneer team with CD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Formal structure, timelines, repor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Coach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Weekly meetings -  time allocation for brainstorming and repor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Toolkit refere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Targeted Interventions:  Pneumov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6858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Reflections:  Challenges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3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19810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752480"/>
            <a:ext cx="78487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Time commitment for data input, reports, and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Integration of CDM into usual work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Significant amount of front-end work prior to seeing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Active communication with staff not invol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Sustaining and spreading successful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Interpretation of the variation seen in the MD’s data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100000">
              <a:srgbClr val="75b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6858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Next Steps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10152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1523880"/>
            <a:ext cx="5943600" cy="0"/>
          </a:xfrm>
          <a:prstGeom prst="line">
            <a:avLst/>
          </a:prstGeom>
          <a:ln w="3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9810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752480"/>
            <a:ext cx="7848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Establish patient care teams for all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Identify all clinic patients with DM and populate CDEMS Regi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Further develop role of MA, Clerk, and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Monthly group visits for all provi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Add Pharmacist and LSW into the clin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Book Antiqua"/>
              </a:rPr>
              <a:t>Continue to monitor and discuss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0" b="8808"/>
          <a:stretch/>
        </p:blipFill>
        <p:spPr>
          <a:xfrm>
            <a:off x="7620120" y="6019920"/>
            <a:ext cx="1295280" cy="57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2:25:41Z</dcterms:created>
  <dc:creator>ecruz</dc:creator>
  <dc:description/>
  <dc:language>en-US</dc:language>
  <cp:lastModifiedBy>bcambridge</cp:lastModifiedBy>
  <dcterms:modified xsi:type="dcterms:W3CDTF">2008-10-17T15:05:43Z</dcterms:modified>
  <cp:revision>145</cp:revision>
  <dc:subject/>
  <dc:title>PowerPoint Presentation</dc:title>
</cp:coreProperties>
</file>