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41C-F00C-4550-B189-4FAB68F6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47E-B097-402F-80FB-CED4B604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881-80C8-4610-A463-F411B50D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AF6-F1E8-40F6-9359-3B348EDB6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5E76-61DF-4EC8-8275-7DF418A9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CF96-7CB1-48E9-9347-E5A0DBD1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FB11-555F-4681-BBC4-B0AC3BCF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DACE-A061-4357-9FDE-BA67EBB9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DC73-4F68-476C-A4A3-2B3272DD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C544-6BFD-4BB9-9B20-9BC39853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CDF3-94B7-4C07-A9EF-35F25678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7B6-219A-424A-90E9-1D822FE6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92AD-8FE7-419C-B933-CB82DE00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4D6B-C01C-4E2F-B274-EEAC08D0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169E-AFBD-4F37-85FD-18B8BC24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86BC-0BAB-4F89-9762-0C2ACA0B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2E62-8EC1-4E03-8A76-8A10A761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D46-4DE0-428C-95D4-8AFF4C0D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484F-2663-4594-AF69-FC6B80E1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91F-C4B3-4361-93C8-0807F206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436-1F3E-4E7E-BB30-F7D32FCC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F23-544B-4CC9-A03D-3451ADC4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439-2D9D-45BA-86D3-50DF2BF1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D1B1-5DCF-4167-A787-E5D96D62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8D33-CD8C-47F7-9CC9-8B23B7BB8E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3557-6220-4B00-8621-01E7979E2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ff00"/>
              </a:buClr>
              <a:buSzPct val="6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SzPct val="6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0570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n-Time Pressure Ulcer Healing in Long Term Care </a:t>
            </a:r>
            <a:endParaRPr b="1" lang="en-US" sz="40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120" y="3657240"/>
            <a:ext cx="79930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k 4: Patient Safety – Improving Quality of Care in Nursing Homes and Long-Term Care Sett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tember 10,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ed 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obhan Sharkey, MB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7357-FAF3-4167-AF5B-E198F251B74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ng Clinical Repor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: QI Monito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pressure ulcers were treated this month on nursing Unit A? Unit B? Unit C? Unit 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ulcers were Stage I? Stage II? Stage III? Stage IV? Unstagea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ulcers heal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ulcers developed in-house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many ulcers were treated for &gt; 20 day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nursing unit has the most ulcers of 30 day or longer dura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1752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questions will the report answer for clinicians?     For 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91A-D2D6-43AD-AEF0-208B5776DA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ng Clinical Reports:  Example Stagnant Ulcer Repor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251460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pose statement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 information on ulcers that remain unhealed &gt; 20 days:  potential reasons for delayed healing, total number of treatments for each ulcer, if the treatment has not changed in 14 day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ormation from users detailed into HIT requireme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 list of residents with pressure ulcers treated for more than 20 days and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) ulcer surface area is unimproved for two consecutive wound assessments, or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) ulcer has worsened since last assessm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linical information is captured by 2 sources: i) CNA daily documentation ii) nurse documentation of wound assessment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ather input from multiple facilities and translate into HIT requirements.  For examp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2E3-AD3A-4483-B32A-0D1B7096064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28600"/>
            <a:ext cx="3657600" cy="24382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79912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2057400"/>
            <a:ext cx="237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Healing Repor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65200" y="5154480"/>
            <a:ext cx="27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andardized Wound </a:t>
            </a:r>
            <a:r>
              <a:rPr b="0" lang="en-US" sz="2200" spc="-1" strike="noStrike">
                <a:solidFill>
                  <a:srgbClr val="ffa7a7"/>
                </a:solidFill>
                <a:latin typeface="Arial"/>
                <a:ea typeface="Arial"/>
              </a:rPr>
              <a:t>Assessme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 document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5257800"/>
            <a:ext cx="128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QI Tea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Picture of person using digital pen tool"/>
          <p:cNvPicPr/>
          <p:nvPr/>
        </p:nvPicPr>
        <p:blipFill>
          <a:blip r:embed="rId1"/>
          <a:stretch/>
        </p:blipFill>
        <p:spPr>
          <a:xfrm>
            <a:off x="490680" y="304920"/>
            <a:ext cx="787320" cy="129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Picture of computer with peripheral card unit"/>
          <p:cNvPicPr/>
          <p:nvPr/>
        </p:nvPicPr>
        <p:blipFill>
          <a:blip r:embed="rId2"/>
          <a:stretch/>
        </p:blipFill>
        <p:spPr>
          <a:xfrm>
            <a:off x="1371600" y="304920"/>
            <a:ext cx="1693800" cy="1304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71560" y="2057400"/>
            <a:ext cx="25909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cess timely inform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6248520"/>
            <a:ext cx="29210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olidate docu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5791320"/>
            <a:ext cx="3048120" cy="58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ont-line team members use reports in daily 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Image of Standard CNA Documentation"/>
          <p:cNvPicPr/>
          <p:nvPr/>
        </p:nvPicPr>
        <p:blipFill>
          <a:blip r:embed="rId3"/>
          <a:stretch/>
        </p:blipFill>
        <p:spPr>
          <a:xfrm>
            <a:off x="1600200" y="317340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Prevention Reports picture of two people reviewing computer image"/>
          <p:cNvPicPr/>
          <p:nvPr/>
        </p:nvPicPr>
        <p:blipFill>
          <a:blip r:embed="rId4"/>
          <a:stretch/>
        </p:blipFill>
        <p:spPr>
          <a:xfrm>
            <a:off x="4495680" y="2133720"/>
            <a:ext cx="1762200" cy="117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8120" y="3048120"/>
            <a:ext cx="1218960" cy="68580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3581280"/>
            <a:ext cx="4748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6434280" y="4114800"/>
            <a:ext cx="1152360" cy="114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324480" y="2514600"/>
            <a:ext cx="2590920" cy="95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onitor prog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dentify residents for re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1523880"/>
            <a:ext cx="311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Information Technolo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600200"/>
            <a:ext cx="10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246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3962520"/>
            <a:ext cx="1981080" cy="838080"/>
          </a:xfrm>
          <a:prstGeom prst="rec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4114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-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n-Tim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U Heal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5181480"/>
            <a:ext cx="1371600" cy="38124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0909-7E56-42A0-B58A-986B2B17040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acility Implementation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 standardized assessment facility-w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rm in-service strate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rm completeness and accuracy:  participate in documentation audit with clinical expe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ordinate with project facilitators to confirm HIT vendor meeting requir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age multiple disciplines, including rehab, dieticians, quality improvement te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lish plan to use reports:  link with workf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4E2-6B6B-4654-8406-25A96577226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eedback on Documentatio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eteness and Accuracy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ssing 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omplete due to hospitalization, resident refu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ge II and 100% wound covered (epithelializ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rses are documenting Stg II and 100% covered for intact blister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stageable &amp; no necrotic tiss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urses are documenting this when deep tissue injury (DTI) is suspec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ed or closed?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facility policies specify that Stage III and IV ulcers are documented as closed until nurse determines completely healed (2-8 weeks after close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240-AAD8-4ACA-B470-F452B405EA1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gage Clinicians</a:t>
            </a:r>
            <a:br>
              <a:rPr sz="3600"/>
            </a:b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Preliminar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Feedbac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2971800"/>
          <a:ext cx="7993080" cy="287028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l St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stagea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609480" y="20574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7524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lcers in database as of August, 2008:       Total of 538 ulc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C9C-8814-4770-BDEF-EC9ED0A3600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gage Clinicians</a:t>
            </a:r>
            <a:br>
              <a:rPr sz="3600"/>
            </a:b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Preliminary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Feedbac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76520" y="2879640"/>
          <a:ext cx="525780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79640"/>
                    <a:ext cx="525780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209680" y="24382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% Healed:  Initial Stage II Ulc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624852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:  5 facilities with more than 30 initial stage II ulc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600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w does % healed vary across facilities?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E41-4290-4489-9412-4BAD363EBE5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e of Reports Linked to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und Management Workflo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880" y="2895480"/>
          <a:ext cx="805032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05032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5335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is responsible for wound assessments, measurements, and treatment pla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2A3-D6B2-43A1-889E-12BD787CEE7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80880" y="2895480"/>
          <a:ext cx="8050320" cy="29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050320" cy="29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3352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you have a dedicated wound tea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e of Reports Linked to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und Management Workflo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8FB9-B72D-45F6-B785-C6784A34954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xt Step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ablish plan to use repo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reports with existing and new proc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gage multiple disciplines, including rehab, dieticians, quality improvement t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1EC-AFC5-41D9-BC51-3300FD08590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n-Time PrU Healing Objec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76240" indent="-812880">
              <a:spcBef>
                <a:spcPts val="6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velop standardized pressure ulcer assessment documenta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876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76240" indent="-812880">
              <a:spcBef>
                <a:spcPts val="6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velop new reports to support clinical decision making related to pressure ulcer treatment &amp; heal day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876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76240" indent="-812880">
              <a:spcBef>
                <a:spcPts val="6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ranslate data elements and clinical reports to HIT requireme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876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76240" indent="-8128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nalyze data to determine treatments that are associated with better outcomes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76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76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1E4-4A42-494E-979B-3070B23B746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ticipa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risk PrU quality measure &gt;8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of 25 skilled nursing facil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143000" y="2971800"/>
          <a:ext cx="7315200" cy="3122640"/>
        </p:xfrm>
        <a:graphic>
          <a:graphicData uri="http://schemas.openxmlformats.org/drawingml/2006/table">
            <a:tbl>
              <a:tblPr/>
              <a:tblGrid>
                <a:gridCol w="2438640"/>
                <a:gridCol w="2438280"/>
                <a:gridCol w="2438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 – 1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Z, NC, W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5 – 22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Y, NJ, 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-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7E4C-3FC7-4BE2-A65D-A69EFF8CE14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br>
              <a:rPr sz="36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ssure ulcer healing–a measure of qualit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S’ ultimate goal - use pressure ulcer healing rates as a publicly reported measure of nursing home qual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ate over how to define ‘healing.’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definition in MDS 2.0 is reduction of ulcer stag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-coding’ stage as the measure of pressure ulcer improvement/healing has been shown to be inadequate (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ller, 1994; Berlowitz et al, 199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S plans to include a revised measure of pressure ulcer healing in MDS 3.0.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BED1-817A-439A-9280-FD746E37E3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ckground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easily accessible decision support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standardized set of data elements to document weekly skin assessments and treat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standardized measure of healing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SH tool is promoted to measure hea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arch suggests that area (length x width) is a more realistic and feasible measure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isting decision support tools consume large amounts of staff time AND do not assist wound nurses and front-line clinicians to monitor resident and pressure ulcer status and provide treatment based on best practic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FB8-1E47-4890-AFD2-B00C7014C57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jor Task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Define standardize data element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related to wound and skin assessment and PrU treatments.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Trial by actual users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Develop prototype documentation forms for wound nurse.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Define clinical decision making reports.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Design, test, and refine reports for clinical decision making related to PrU healing. 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Establish functional requirements for HIT.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ff"/>
                </a:solidFill>
                <a:uFillTx/>
                <a:latin typeface="Arial"/>
              </a:rPr>
              <a:t>Collaborate with caregivers to implemen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new processes of care:  documentation, use of clinical decision making reports.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F68-98E7-4240-BDF8-08D348CA624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ized Data Elements: Wound Assess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3919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lcer Dimen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und Ed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mi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neling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rotic Tissue Ty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rotic Tissue Amou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inage/ Exudate Ty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inage/ Exudate Amou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 Wound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 Wound Edem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i Wound Indu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nul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pithelial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8360" y="1752120"/>
            <a:ext cx="3849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at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junctive Therap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ven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l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 up Ulcer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Visualization Ulcer St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ent Dispos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CEF-8150-410C-AA47-38E4A5296E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873000" y="0"/>
          <a:ext cx="7585200" cy="929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0"/>
                    <a:ext cx="7585200" cy="92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1F29-5779-4546-94BE-01EF9D781D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U Healing Repor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itial Defin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w and Existing Pressure Ulcer Repor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splays list of residents with new and existing ulcers that are being treat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gnant or Worsening Ulcers Repor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Displays list of residents with ulcers that have either not improved or worsened during previous 14 day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ssure Ulcer QI Monitoring Report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Tracks pressure ulcer statistics by ulcer stage and occurrence by nursing station; tracks ulcers &gt; 30 day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tailed Report of Pressure Ulcer Wound Assessment and Treatment Information.</a:t>
            </a:r>
            <a:r>
              <a:rPr b="0" lang="en-US" sz="2400" spc="-1" strike="noStrike">
                <a:solidFill>
                  <a:srgbClr val="ffa7a7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 displays longitudinal view over time (4 weeks) by resident for ulcers &gt; 30 day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0E7-2EA7-4D84-86D0-F8871021FF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22:39:16Z</dcterms:created>
  <dc:creator>Susan D. Horn, Ph.D.</dc:creator>
  <dc:description/>
  <dc:language>en-US</dc:language>
  <cp:lastModifiedBy>Siobhan Sharkey</cp:lastModifiedBy>
  <cp:lastPrinted>2000-09-06T19:30:46Z</cp:lastPrinted>
  <dcterms:modified xsi:type="dcterms:W3CDTF">2008-09-10T02:53:03Z</dcterms:modified>
  <cp:revision>300</cp:revision>
  <dc:subject/>
  <dc:title>No Slide Title</dc:title>
</cp:coreProperties>
</file>