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287-89BB-4A50-884A-0EBBCBF7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A7F-1C0E-4497-B2AA-C196BE79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03E-C7E3-4DA0-85BA-23A7BD26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FAE-85BA-4771-BB32-39C59857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707E-B2D2-4852-9593-653C00B4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C6E4-274E-478E-8298-39111D84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C461-5B10-4EC4-8EEF-BA17BB8F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A945-4944-44E9-BEA8-85D50705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BF89-D200-4347-8375-1345A756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7E12-2178-4C04-98D5-22588A0E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17A6-6B85-4896-91A8-7B856301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52A-7ED8-473C-8E0B-EE93B3B7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A123-224A-405F-8B02-7D0B17F7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354E-9BDF-4B0A-92DA-E9F531AE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62A4-CC95-4653-9471-5C5F3D0A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7686-6727-48E1-AB69-0E0494AE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7478-0904-4971-8B2D-C5FC4975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B3D-48F9-4A78-A138-58C598FF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ADF-C23C-4B38-BA0A-1295C3A9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1E5-84DB-418A-B9EE-6176B3BD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E2E-C2B7-4316-904E-1E93E0F7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618-151F-4B83-AAA3-D66ECBB8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500-C72A-43DC-B31B-F8E4D6B0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7FE-31E9-474E-BB0F-8050E5F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C2B8-0285-4F07-90AF-38D2923F5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96B3-24FE-49B5-B818-9C7A0FD98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n-Time Pressure Ulcer Healing in Long Term Care </a:t>
            </a:r>
            <a:endParaRPr b="1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3657240"/>
            <a:ext cx="79930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k 4: Patient Safety – Improving Quality of Care in Nursing Homes and Long-Term Care Set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ember 10,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obhan Sharkey, MB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CD00-EE0F-4641-8538-66E6AEB4EE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ng Clinical Repor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: QI Monito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pressure ulcers were treated this month on nursing Unit A? Unit B? Unit C? Unit 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ulcers were Stage I? Stage II? Stage III? Stage IV? Unstagea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ulcers heal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ulcers developed in-house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ulcers were treated for &gt; 20 day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nursing unit has the most ulcers of 30 day or longer dura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752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questions will the report answer for clinicians?     For 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77A-FD2E-4B43-A5E1-8E21CD6C10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ng Clinical Reports:  Example Stagnant Ulcer Repor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pose statement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information on ulcers that remain unhealed &gt; 20 days:  potential reasons for delayed healing, total number of treatments for each ulcer, if the treatment has not changed in 14 day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from users detailed into HIT requireme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list of residents with pressure ulcers treated for more than 20 days and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) ulcer surface area is unimproved for two consecutive wound assessments, o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) ulcer has worsened since last assessm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linical information is captured by 2 sources: i) CNA daily documentation ii) nurse documentation of wound assessment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ther input from multiple facilities and translate into HIT requirements.  For 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334-D0E7-45DC-B974-E956E77405F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28600"/>
            <a:ext cx="3657600" cy="24382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79912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057400"/>
            <a:ext cx="23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Healing Repor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65200" y="5154480"/>
            <a:ext cx="27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andardized Wound </a:t>
            </a:r>
            <a:r>
              <a:rPr b="0" lang="en-US" sz="2200" spc="-1" strike="noStrike">
                <a:solidFill>
                  <a:srgbClr val="ffa7a7"/>
                </a:solidFill>
                <a:latin typeface="Arial"/>
                <a:ea typeface="Arial"/>
              </a:rPr>
              <a:t>Assessm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documen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5257800"/>
            <a:ext cx="128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QI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Picture of person using digital pen tool"/>
          <p:cNvPicPr/>
          <p:nvPr/>
        </p:nvPicPr>
        <p:blipFill>
          <a:blip r:embed="rId1"/>
          <a:stretch/>
        </p:blipFill>
        <p:spPr>
          <a:xfrm>
            <a:off x="490680" y="304920"/>
            <a:ext cx="78732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Picture of computer with peripheral card unit"/>
          <p:cNvPicPr/>
          <p:nvPr/>
        </p:nvPicPr>
        <p:blipFill>
          <a:blip r:embed="rId2"/>
          <a:stretch/>
        </p:blipFill>
        <p:spPr>
          <a:xfrm>
            <a:off x="1371600" y="304920"/>
            <a:ext cx="1693800" cy="1304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71560" y="2057400"/>
            <a:ext cx="25909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ess timely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6248520"/>
            <a:ext cx="29210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olidate docu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5791320"/>
            <a:ext cx="304812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ont-line team members use reports in daily 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Image of Standard CNA Documentation"/>
          <p:cNvPicPr/>
          <p:nvPr/>
        </p:nvPicPr>
        <p:blipFill>
          <a:blip r:embed="rId3"/>
          <a:stretch/>
        </p:blipFill>
        <p:spPr>
          <a:xfrm>
            <a:off x="1600200" y="3173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Prevention Reports picture of two people reviewing computer image"/>
          <p:cNvPicPr/>
          <p:nvPr/>
        </p:nvPicPr>
        <p:blipFill>
          <a:blip r:embed="rId4"/>
          <a:stretch/>
        </p:blipFill>
        <p:spPr>
          <a:xfrm>
            <a:off x="4495680" y="2133720"/>
            <a:ext cx="1762200" cy="117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8120" y="3048120"/>
            <a:ext cx="1218960" cy="68580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3581280"/>
            <a:ext cx="474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6434280" y="411480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324480" y="2514600"/>
            <a:ext cx="2590920" cy="95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nitor prog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dentify residents for re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523880"/>
            <a:ext cx="311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nformation Techn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60020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3962520"/>
            <a:ext cx="1981080" cy="83808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n-Tim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U Hea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5181480"/>
            <a:ext cx="1371600" cy="38124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B8F-EB96-4160-8386-C711CD572B2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cility Implementation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 standardized assessment facility-w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rm in-service strate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rm completeness and accuracy:  participate in documentation audit with clinical expe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 with project facilitators to confirm HIT vendor meeting requir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age multiple disciplines, including rehab, dieticians, quality improvement te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 plan to use reports:  link with workf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E6E-3469-4042-A08D-C4C0B046854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eedback on Documentatio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eteness and Accuracy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sing 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omplete due to hospitalization, resident refu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ge II and 100% wound covered (epithelializ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rses are documenting Stg II and 100% covered for intact blister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stageable &amp; no necrotic tiss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rses are documenting this when deep tissue injury (DTI) is suspec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ed or closed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facility policies specify that Stage III and IV ulcers are documented as closed until nurse determines completely healed (2-8 weeks after clos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C57-0838-4FFD-9811-441B819D8AD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gage Clinicians</a:t>
            </a:r>
            <a:br>
              <a:rPr sz="3600"/>
            </a:b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Preliminar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Feedbac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2971800"/>
          <a:ext cx="7993080" cy="287028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l St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stage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609480" y="20574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752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lcers in database as of August, 2008:       Total of 538 ul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D8B-8C8F-469F-BE20-C28420ACAA2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gage Clinicians</a:t>
            </a:r>
            <a:br>
              <a:rPr sz="3600"/>
            </a:b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Preliminar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Feedbac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76520" y="2879640"/>
          <a:ext cx="525780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79640"/>
                    <a:ext cx="525780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209680" y="24382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Healed:  Initial Stage II Ulc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62485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:  5 facilities with more than 30 initial stage II ulc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w does % healed vary across facilities?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32D-EEDB-4944-B479-86043E6A274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e of Reports Linked to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und Management Workflo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2895480"/>
          <a:ext cx="805032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05032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5335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is responsible for wound assessments, measurements, and treatment pla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7AF-A3CD-4FC9-82D8-A86EF464A58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80880" y="2895480"/>
          <a:ext cx="805032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05032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3352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you have a dedicated wound tea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e of Reports Linked to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und Management Workflo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E78-811A-45F3-B80B-10D2BCD6FA7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ablish plan to use repo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reports with existing and new proc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age multiple disciplines, including rehab, dieticians, quality improvement t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803-8BB1-4A22-8916-F2CCAE33AF1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n-Time PrU Healing Objec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76240" indent="-812880">
              <a:spcBef>
                <a:spcPts val="6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velop standardized pressure ulcer assessment document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876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76240" indent="-812880">
              <a:spcBef>
                <a:spcPts val="6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velop new reports to support clinical decision making related to pressure ulcer treatment &amp; heal day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876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76240" indent="-812880">
              <a:spcBef>
                <a:spcPts val="6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ranslate data elements and clinical reports to HIT requireme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876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76240" indent="-8128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alyze data to determine treatments that are associated with better outcomes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76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B2A-ADF4-457D-A4B9-8DD68AC565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ticipa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risk PrU quality measure &gt;8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of 25 skilled nursing facil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43000" y="2971800"/>
          <a:ext cx="7315200" cy="3122640"/>
        </p:xfrm>
        <a:graphic>
          <a:graphicData uri="http://schemas.openxmlformats.org/drawingml/2006/table">
            <a:tbl>
              <a:tblPr/>
              <a:tblGrid>
                <a:gridCol w="2438640"/>
                <a:gridCol w="2438280"/>
                <a:gridCol w="2438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 – 1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, NC, W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 – 2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Y, NJ, 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-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669-5D5B-410A-9316-137383826A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br>
              <a:rPr sz="36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ssure ulcer healing–a measure of qualit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S’ ultimate goal - use pressure ulcer healing rates as a publicly reported measure of nursing home qual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ate over how to define ‘healing.’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finition in MDS 2.0 is reduction of ulcer stag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-coding’ stage as the measure of pressure ulcer improvement/healing has been shown to be inadequate (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ller, 1994; Berlowitz et al, 199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S plans to include a revised measure of pressure ulcer healing in MDS 3.0.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C90-EFFE-4286-A000-18DF855A30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easily accessible decision support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standardized set of data elements to document weekly skin assessments and treat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standardized measure of healing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SH tool is promoted to measure he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arch suggests that area (length x width) is a more realistic and feasible measure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isting decision support tools consume large amounts of staff time AND do not assist wound nurses and front-line clinicians to monitor resident and pressure ulcer status and provide treatment based on best practi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AC0-BCE2-4A21-8279-E207D421400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jor Task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Define standardize data element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related to wound and skin assessment and PrU treatments.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Trial by actual users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Develop prototype documentation forms for wound nurse.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Define clinical decision making reports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Design, test, and refine reports for clinical decision making related to PrU healing. 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Establish functional requirements for HIT.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Collaborate with caregivers to implemen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new processes of care:  documentation, use of clinical decision making reports.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D87-4B58-47CD-B192-D8644822C7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ized Data Elements: Wound Assess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19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lcer Dimen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und Ed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mi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rotic Tissue Ty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rotic Tissue Amou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inage/ Exudate Ty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inage/ Exudate Amou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 Wound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 Wound Edem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 Wound Indu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n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pithelial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8360" y="1752120"/>
            <a:ext cx="3849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at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junctive Therap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ven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up Ulcer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Visualization Ulcer St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ent Dispos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00C-5E2F-4CEC-AEE4-64A54FF3C3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873000" y="0"/>
          <a:ext cx="75852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0"/>
                    <a:ext cx="75852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9C8-3AF9-4710-A427-258321B4B9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U Healing Repor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itial Defin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w and Existing Pressure Ulcer Repor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splays list of residents with new and existing ulcers that are being tre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gnant or Worsening Ulcers Repor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Displays list of residents with ulcers that have either not improved or worsened during previous 14 day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ssure Ulcer QI Monitoring Repor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racks pressure ulcer statistics by ulcer stage and occurrence by nursing station; tracks ulcers &gt; 30 day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tailed Report of Pressure Ulcer Wound Assessment and Treatment Information.</a:t>
            </a:r>
            <a:r>
              <a:rPr b="0" lang="en-US" sz="2400" spc="-1" strike="noStrike">
                <a:solidFill>
                  <a:srgbClr val="ffa7a7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 displays longitudinal view over time (4 weeks) by resident for ulcers &gt; 30 day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5D2-9534-47C0-9B18-7CE515BAE45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22:39:16Z</dcterms:created>
  <dc:creator>Susan D. Horn, Ph.D.</dc:creator>
  <dc:description/>
  <dc:language>en-US</dc:language>
  <cp:lastModifiedBy>Siobhan Sharkey</cp:lastModifiedBy>
  <cp:lastPrinted>2000-09-06T19:30:46Z</cp:lastPrinted>
  <dcterms:modified xsi:type="dcterms:W3CDTF">2008-09-10T02:53:03Z</dcterms:modified>
  <cp:revision>300</cp:revision>
  <dc:subject/>
  <dc:title>No Slide Title</dc:title>
</cp:coreProperties>
</file>