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"/>
            <p:cNvSpPr/>
            <p:nvPr/>
          </p:nvSpPr>
          <p:spPr>
            <a:xfrm>
              <a:off x="8021520" y="6294240"/>
              <a:ext cx="27036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9200" y="6219720"/>
              <a:ext cx="31500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12360" y="6312600"/>
              <a:ext cx="11304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86080" y="6355800"/>
              <a:ext cx="11664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94640" y="6514920"/>
              <a:ext cx="12528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85040" y="6294240"/>
              <a:ext cx="2527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1520" y="6449760"/>
              <a:ext cx="18756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28400" y="6275880"/>
              <a:ext cx="2876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808760" y="5986440"/>
            <a:ext cx="90828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" name=""/>
          <p:cNvGraphicFramePr/>
          <p:nvPr/>
        </p:nvGraphicFramePr>
        <p:xfrm>
          <a:off x="33480" y="76320"/>
          <a:ext cx="122400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" y="76320"/>
                    <a:ext cx="12240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26000" y="5703840"/>
            <a:ext cx="1590120" cy="848880"/>
            <a:chOff x="3726000" y="5703840"/>
            <a:chExt cx="1590120" cy="848880"/>
          </a:xfrm>
        </p:grpSpPr>
        <p:grpSp>
          <p:nvGrpSpPr>
            <p:cNvPr id="55" name=""/>
            <p:cNvGrpSpPr/>
            <p:nvPr/>
          </p:nvGrpSpPr>
          <p:grpSpPr>
            <a:xfrm>
              <a:off x="3735000" y="5717160"/>
              <a:ext cx="1581120" cy="835560"/>
              <a:chOff x="3735000" y="5717160"/>
              <a:chExt cx="1581120" cy="835560"/>
            </a:xfrm>
          </p:grpSpPr>
          <p:sp>
            <p:nvSpPr>
              <p:cNvPr id="56" name=""/>
              <p:cNvSpPr/>
              <p:nvPr/>
            </p:nvSpPr>
            <p:spPr>
              <a:xfrm>
                <a:off x="3886560" y="5717160"/>
                <a:ext cx="125352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186080" y="6143760"/>
                <a:ext cx="37368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83600" y="6040800"/>
                <a:ext cx="43524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98080" y="616968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861000" y="6229440"/>
                <a:ext cx="16164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35000" y="644976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51120" y="6143760"/>
                <a:ext cx="34956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56920" y="635976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886640" y="6117840"/>
                <a:ext cx="39816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3877920" y="5703840"/>
              <a:ext cx="125280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726000" y="6027480"/>
              <a:ext cx="1581480" cy="511200"/>
              <a:chOff x="3726000" y="6027480"/>
              <a:chExt cx="1581480" cy="511200"/>
            </a:xfrm>
          </p:grpSpPr>
          <p:sp>
            <p:nvSpPr>
              <p:cNvPr id="67" name=""/>
              <p:cNvSpPr/>
              <p:nvPr/>
            </p:nvSpPr>
            <p:spPr>
              <a:xfrm>
                <a:off x="4177800" y="6130800"/>
                <a:ext cx="37332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773880" y="6027480"/>
                <a:ext cx="43524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88720" y="615600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852360" y="6215760"/>
                <a:ext cx="16092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726000" y="6435720"/>
                <a:ext cx="172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542120" y="6130800"/>
                <a:ext cx="34920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48280" y="634572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878000" y="6105240"/>
                <a:ext cx="39744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6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3505320" y="195120"/>
          <a:ext cx="2133360" cy="20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5120"/>
                    <a:ext cx="213336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quity in the Finance and Delivery of Health Care in the United Stat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150560" y="3428640"/>
            <a:ext cx="64357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M. Sel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mmary Measur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 = 2*(area btw 4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˚ and Loren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akwani = Con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PAY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- Con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gressive” if K&lt;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nance Equity: Summary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ve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= -0.0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regressive than in the p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-0.1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8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-0.1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more concentrated, 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even more concentr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public sh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s Regressive, but Large Burdens for Low-Income Famil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nancing Equity: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regressive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s a bit tri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rising share of personal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shares of income paid by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quity in Delive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ly-accepted approa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“needs” with linear reg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pproach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tro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weigh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ze distribution of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, sex, SAH, conditions, dis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rve dist of other vari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ce/ethn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 cover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Medical Car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Total Expenditur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132876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876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Medical Car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Total Expenditur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1328760"/>
          <a:ext cx="9144000" cy="55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8760"/>
                    <a:ext cx="914400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livery Equity: 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usted for needs, use rises with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ar and non/semi-parametric approaches yield very similar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results for office visit cou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:  Other measures of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ges vs expendi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use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ing less regres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(probably growing) share of income for bottom dec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tilted toward persons in higher dec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results using new and conventional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health care in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16 percent of GDP ($2.4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public/privat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x-financed (Medicaid, VA, safety n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al insurance (Medicare &amp; W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I (partially subsidized) &amp; non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gt;40M without cove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ompensated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equity studies for 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gstaff et al. (1987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tschalk &amp; Wolfe (1980/81 da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equity in fin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of income paid by bottom dec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ity ind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 equity in deli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parametric standardization for ne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led 2002&amp;2003 M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ian noninstitutio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igned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2 NHEA (Selden &amp; Sing, 200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okings-Urban (highest income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PS-IC (employer premiu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BER TAX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, St, Local budgetary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ublic/Private Mix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828800"/>
          <a:ext cx="53341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53341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715000" y="1828800"/>
          <a:ext cx="322884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828800"/>
                    <a:ext cx="3228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15120" y="51814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/o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800" y="525780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/ Subsi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tribution of Income and Payments by Type, 200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1317600"/>
          <a:ext cx="914400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0"/>
                    <a:ext cx="914400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3/29/04</dc:description>
  <cp:keywords/>
  <dc:language>en-US</dc:language>
  <cp:lastModifiedBy>rac</cp:lastModifiedBy>
  <cp:lastPrinted>2003-01-21T20:19:23Z</cp:lastPrinted>
  <dcterms:modified xsi:type="dcterms:W3CDTF">2008-10-02T18:35:07Z</dcterms:modified>
  <cp:revision>145</cp:revision>
  <dc:subject/>
  <dc:title>AHRQ Slide Template</dc:title>
</cp:coreProperties>
</file>