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2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ADC-7CE2-40BE-8C87-E07E9B6CF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F83-F9F7-469B-AAB4-7FA5155C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1886-E542-49CC-8BF0-DEA0F8996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270E-3E74-49DE-B856-494313DD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630720"/>
            <a:ext cx="8153280" cy="13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04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69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630720"/>
            <a:ext cx="8153280" cy="13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304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6400800"/>
            <a:ext cx="31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5CDBD5-78D1-40A6-891C-D7E1C045B0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89880" y="6311880"/>
            <a:ext cx="138888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476440"/>
            <a:ext cx="73915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93840" y="585720"/>
            <a:ext cx="27874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17316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11556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5544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55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55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7200" y="2007720"/>
            <a:ext cx="76406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arency in the Use of Propensity Score Metho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080880"/>
            <a:ext cx="9144000" cy="23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D. Seeger, PharmD, Dr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ef Scientist, i3 Drug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junct Assistant Professor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40" y="5929200"/>
            <a:ext cx="889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anks to: Alec Walker, Tobias Kurth, Jeanne Loughlin, Mona E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ex 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961920"/>
            <a:ext cx="488160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320" y="29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of Temazepam Relative to Zopic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7560" y="1106640"/>
            <a:ext cx="3916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-stratum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um-specific effect estimates as well as pooled est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evaluation of potential for effect measur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5080" y="1308240"/>
            <a:ext cx="86868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can be perform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utomated case-control matching programs where the matching range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available match based on the propensit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dy matching techniq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www2.sas.com.proceedings/sugi26/p214-26.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28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ing on the Propensity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3504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 Bef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0280" y="692280"/>
            <a:ext cx="8083440" cy="615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82680" y="21276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ance Achieved by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360" y="60660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2680" y="21276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 by 2X2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6480" y="979560"/>
            <a:ext cx="9156960" cy="58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42960" y="2000160"/>
          <a:ext cx="6097680" cy="40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2960" y="2000160"/>
                    <a:ext cx="6097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82680" y="608040"/>
            <a:ext cx="8685000" cy="556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29400" y="109872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% (7%-4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2720" y="33526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n Non-Init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6960" y="44197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n Init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0600" y="63738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s of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1311120" y="322416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72960" y="1764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 Outcome (After Mat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5520" y="11905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=0.69 (0.52-0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ression Adjustment with Propensity Sc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000" y="1079640"/>
            <a:ext cx="85122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adjust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y participants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 two-step approach (exposure and 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 compared to including all covariates into the model, since degrees of freedom are g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ssumes the underlying association between the score and the outcome is modeled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1640" y="2260440"/>
                <a:ext cx="578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i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o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3629160"/>
            <a:ext cx="4495680" cy="32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584520"/>
            <a:ext cx="4559400" cy="3273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59040" y="2914560"/>
            <a:ext cx="1241280" cy="824040"/>
          </a:xfrm>
          <a:prstGeom prst="downArrowCallout">
            <a:avLst>
              <a:gd name="adj1" fmla="val 37662"/>
              <a:gd name="adj2" fmla="val 37658"/>
              <a:gd name="adj3" fmla="val 16667"/>
              <a:gd name="adj4" fmla="val 66667"/>
            </a:avLst>
          </a:prstGeom>
          <a:solidFill>
            <a:srgbClr val="ef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38720" y="2914560"/>
            <a:ext cx="1241640" cy="824040"/>
          </a:xfrm>
          <a:prstGeom prst="downArrowCallout">
            <a:avLst>
              <a:gd name="adj1" fmla="val 37673"/>
              <a:gd name="adj2" fmla="val 37669"/>
              <a:gd name="adj3" fmla="val 16667"/>
              <a:gd name="adj4" fmla="val 66667"/>
            </a:avLst>
          </a:prstGeom>
          <a:solidFill>
            <a:srgbClr val="ef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35280" y="-1440"/>
            <a:ext cx="4559040" cy="327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60560" y="213192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/ê(X), in tre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/(1- ê(X)), in un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04160" y="211464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 in 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ê(X)/(1-ê(X)) in un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713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8240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Analysis – Wh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976320"/>
            <a:ext cx="9144000" cy="552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25520" y="641844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anks to S. Schneewei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5160" y="4943520"/>
            <a:ext cx="3162240" cy="1462680"/>
            <a:chOff x="65160" y="4943520"/>
            <a:chExt cx="3162240" cy="1462680"/>
          </a:xfrm>
        </p:grpSpPr>
        <p:sp>
          <p:nvSpPr>
            <p:cNvPr id="93" name=""/>
            <p:cNvSpPr/>
            <p:nvPr/>
          </p:nvSpPr>
          <p:spPr>
            <a:xfrm rot="5400000">
              <a:off x="1495440" y="3513240"/>
              <a:ext cx="301680" cy="3162240"/>
            </a:xfrm>
            <a:custGeom>
              <a:avLst/>
              <a:gdLst>
                <a:gd name="textAreaLeft" fmla="*/ 0 w 301680"/>
                <a:gd name="textAreaRight" fmla="*/ 108720 w 301680"/>
                <a:gd name="textAreaTop" fmla="*/ 82440 h 3162240"/>
                <a:gd name="textAreaBottom" fmla="*/ 3079800 h 31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cd2c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7360" y="5214960"/>
              <a:ext cx="1981080" cy="119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d2c30"/>
                  </a:solidFill>
                  <a:latin typeface="Arial"/>
                </a:rPr>
                <a:t>Amenable to Propensity Techniq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13200" y="0"/>
            <a:ext cx="6107040" cy="680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5440" y="235440"/>
            <a:ext cx="259884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lin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16120" y="392040"/>
            <a:ext cx="7626240" cy="6456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280" y="113400"/>
            <a:ext cx="8072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4280" y="735120"/>
            <a:ext cx="8001000" cy="5611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1400" y="14760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Divergent Result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4720" y="6291360"/>
            <a:ext cx="6392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th T, et al. Am J Epidemiol 2006;163:262-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3520"/>
            <a:ext cx="8305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Unmeasured Confound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sity, Smoking,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19320" y="998640"/>
            <a:ext cx="6629400" cy="524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85800" y="429840"/>
            <a:ext cx="77724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ounting for Variables had Littl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520" y="1020600"/>
            <a:ext cx="87552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nsity score can be useful for addressing confounding (by ind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rich model of exposure to b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ous when number of people with a study outcome is small relative to number of exposed persons and number of potential confounder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effects (particularly adverse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elect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build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990520" y="2862000"/>
            <a:ext cx="323532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0000"/>
              </a:lnSpc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-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7960" y="46944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.Seeger@i3DrugSafe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8240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0840" y="971640"/>
            <a:ext cx="84582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matching when comparing 2 treat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drug user with give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comparator with identica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ale, age 45, smoker, with HT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7120" y="2998800"/>
            <a:ext cx="81536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f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ge (10 categories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ex (2 categories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ior diagnoses (5 @ 2 categori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ior drug therapy (5 @ 2 categori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eceding cost of care (5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102,400 potential match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5920" y="880920"/>
            <a:ext cx="839124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 subject will receive therapy vs compa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confounding by components of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lnSpc>
                <a:spcPct val="90000"/>
              </a:lnSpc>
              <a:spcBef>
                <a:spcPts val="451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characteristics that favor one therapy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" y="468000"/>
            <a:ext cx="8610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Collapses Exposure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7480" y="2558880"/>
          <a:ext cx="5900760" cy="42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7480" y="2558880"/>
                    <a:ext cx="59007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760" y="971640"/>
            <a:ext cx="5562720" cy="502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380880"/>
            <a:ext cx="75819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Propensity Scores Always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9480" y="1047600"/>
            <a:ext cx="348912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8 events per covariate leads to unbiased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propensity score favored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ore persons exposed to drug of interest than study 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richer model (more predictors) of exposure than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hypoth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601992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peda S, et al. Am J Epidemiol 2003;158:280-287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9644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 Propensity S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7480" y="991800"/>
            <a:ext cx="885204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reatment from baseline covariates with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of predi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priori (what characteristics are used to prescrib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 (what differentiates initiato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(what patterns of healthcare predict initiation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of propensit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ble and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Restri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43120" y="1035000"/>
            <a:ext cx="7457760" cy="559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3800" y="6568920"/>
            <a:ext cx="43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rmer T, et al. J Clin Epidemiol 2006;59:437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Restri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47480"/>
            <a:ext cx="8426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serious adverse events from error (name conf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aryl (glimepiride an oral hypoglycem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inyl (galantamine for Alzheimer’s diseas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,816 people with AD diagnosis (14,626 Reminyl dispens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6 Amaryl recip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maryl recipients in the lowest decile of the propensity sc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with a single dispensing of Amaryl or no diabetes diagn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ith no diabetes-related claims across entire claim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cord review suggested no err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nsity score restriction may be used as a screening method to identify unusual patterns of healthcare for closer scrut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medication dispen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requires additional data, which could be obtained through medical record revi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0760" y="609588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-statistic = 0.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320" y="339840"/>
            <a:ext cx="909936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00080" y="469440"/>
            <a:ext cx="6894720" cy="34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Distribution and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20:33:43Z</dcterms:created>
  <dc:creator>T 3</dc:creator>
  <dc:description/>
  <dc:language>en-US</dc:language>
  <cp:lastModifiedBy>rac</cp:lastModifiedBy>
  <dcterms:modified xsi:type="dcterms:W3CDTF">2008-10-02T14:19:25Z</dcterms:modified>
  <cp:revision>556</cp:revision>
  <dc:subject/>
  <dc:title>presentation title goes here</dc:title>
</cp:coreProperties>
</file>