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png" ContentType="image/png"/>
  <Override PartName="/ppt/media/image2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CF8D-8FA7-4752-9E29-D5792065B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510E-FD83-4DA0-9D32-8A8942FE0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E70E-98F5-45D7-960E-E844B73AB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6521-0561-4401-B0F9-FDE9E65EC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68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04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692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04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692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520" y="630720"/>
            <a:ext cx="8153280" cy="13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168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168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040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46920" y="144792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040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46920" y="3995280"/>
            <a:ext cx="2625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630720"/>
            <a:ext cx="8153280" cy="13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680" y="399528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532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30720"/>
            <a:ext cx="8153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174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74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3040" indent="-228600">
              <a:spcBef>
                <a:spcPts val="174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6120" indent="-228600">
              <a:spcBef>
                <a:spcPts val="174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1612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1612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1360" y="6400800"/>
            <a:ext cx="31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304FBF5-9E2D-41CD-A1A3-6ED905D6CF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589880" y="6311880"/>
            <a:ext cx="138888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476440"/>
            <a:ext cx="739152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93840" y="585720"/>
            <a:ext cx="2787480" cy="731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173160" algn="ctr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115560" algn="ctr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55440" algn="ctr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55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55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7200" y="2007720"/>
            <a:ext cx="764064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arency in the Use of Propensity Score Method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080880"/>
            <a:ext cx="9144000" cy="23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ohn D. Seeger, PharmD, Dr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ef Scientist, i3 Drug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junct Assistant Professor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tember 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40" y="5929200"/>
            <a:ext cx="889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anks to: Alec Walker, Tobias Kurth, Jeanne Loughlin, Mona E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lex C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8600" y="961920"/>
            <a:ext cx="4881600" cy="5486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320" y="299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 of Temazepam Relative to Zopicl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7560" y="1106640"/>
            <a:ext cx="3916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-stratum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um-specific effect estimates as well as pooled est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evaluation of potential for effect measure mod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5080" y="1308240"/>
            <a:ext cx="86868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 can be perform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automated case-control matching programs where the matching range is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est available match based on the propensity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dy matching techniq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www2.sas.com.proceedings/sugi26/p214-26.p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5228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ching on the Propensity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635040"/>
            <a:ext cx="9144000" cy="558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9684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62120" y="304920"/>
            <a:ext cx="7543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acteristics Before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0280" y="692280"/>
            <a:ext cx="8083440" cy="615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82680" y="21276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lance Achieved by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360" y="60660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2680" y="21276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alysis by 2X2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6480" y="979560"/>
            <a:ext cx="9156960" cy="584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42960" y="2000160"/>
          <a:ext cx="6097680" cy="40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2960" y="2000160"/>
                    <a:ext cx="609768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382680" y="608040"/>
            <a:ext cx="8685000" cy="5564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629400" y="1098720"/>
            <a:ext cx="23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% (7%-4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02720" y="335268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n Non-Initi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6960" y="441972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n Initi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0600" y="637380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hs of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-1311120" y="3224160"/>
            <a:ext cx="30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ulativ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72960" y="17640"/>
            <a:ext cx="50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 Outcome (After Matc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5520" y="119052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=0.69 (0.52-0.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0880" y="1522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ression Adjustment with Propensity Sc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000" y="1079640"/>
            <a:ext cx="85122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adjust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udy participants ar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a two-step approach (exposure and out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wer compared to including all covariates into the model, since degrees of freedom are g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ssumes the underlying association between the score and the outcome is modeled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01640" y="2260440"/>
                <a:ext cx="578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it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o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8320" y="3629160"/>
            <a:ext cx="4495680" cy="3228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0" y="3584520"/>
            <a:ext cx="4559400" cy="3273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59040" y="2914560"/>
            <a:ext cx="1241280" cy="824040"/>
          </a:xfrm>
          <a:prstGeom prst="downArrowCallout">
            <a:avLst>
              <a:gd name="adj1" fmla="val 37662"/>
              <a:gd name="adj2" fmla="val 37658"/>
              <a:gd name="adj3" fmla="val 16667"/>
              <a:gd name="adj4" fmla="val 66667"/>
            </a:avLst>
          </a:prstGeom>
          <a:solidFill>
            <a:srgbClr val="eff3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38720" y="2914560"/>
            <a:ext cx="1241640" cy="824040"/>
          </a:xfrm>
          <a:prstGeom prst="downArrowCallout">
            <a:avLst>
              <a:gd name="adj1" fmla="val 37673"/>
              <a:gd name="adj2" fmla="val 37669"/>
              <a:gd name="adj3" fmla="val 16667"/>
              <a:gd name="adj4" fmla="val 66667"/>
            </a:avLst>
          </a:prstGeom>
          <a:solidFill>
            <a:srgbClr val="eff3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35280" y="-1440"/>
            <a:ext cx="4559040" cy="3273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160560" y="213192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/ê(X), in tre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/(1- ê(X)), in unt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04160" y="2114640"/>
            <a:ext cx="32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 in t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(ê(X)/(1-ê(X)) in unt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360" y="17136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8240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nsity Score Analysis – Whe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976320"/>
            <a:ext cx="9144000" cy="552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25520" y="641844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anks to S. Schneewei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5160" y="4943520"/>
            <a:ext cx="3162240" cy="1462680"/>
            <a:chOff x="65160" y="4943520"/>
            <a:chExt cx="3162240" cy="1462680"/>
          </a:xfrm>
        </p:grpSpPr>
        <p:sp>
          <p:nvSpPr>
            <p:cNvPr id="93" name=""/>
            <p:cNvSpPr/>
            <p:nvPr/>
          </p:nvSpPr>
          <p:spPr>
            <a:xfrm rot="5400000">
              <a:off x="1495440" y="3513240"/>
              <a:ext cx="301680" cy="3162240"/>
            </a:xfrm>
            <a:custGeom>
              <a:avLst/>
              <a:gdLst>
                <a:gd name="textAreaLeft" fmla="*/ 0 w 301680"/>
                <a:gd name="textAreaRight" fmla="*/ 108720 w 301680"/>
                <a:gd name="textAreaTop" fmla="*/ 82440 h 3162240"/>
                <a:gd name="textAreaBottom" fmla="*/ 3079800 h 316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cd2c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7360" y="5214960"/>
              <a:ext cx="1981080" cy="1191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d2c30"/>
                  </a:solidFill>
                  <a:latin typeface="Arial"/>
                </a:rPr>
                <a:t>Amenable to Propensity Techniq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13200" y="0"/>
            <a:ext cx="6107040" cy="6804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5440" y="235440"/>
            <a:ext cx="259884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lin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16120" y="392040"/>
            <a:ext cx="7626240" cy="6456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44280" y="113400"/>
            <a:ext cx="8072280" cy="2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hort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84280" y="735120"/>
            <a:ext cx="8001000" cy="5611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71400" y="147600"/>
            <a:ext cx="69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Divergent Results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4720" y="6291360"/>
            <a:ext cx="63928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urth T, et al. Am J Epidemiol 2006;163:262-7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53520"/>
            <a:ext cx="83059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bout Unmeasured Confound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sity, Smoking,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9144000" cy="46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219320" y="998640"/>
            <a:ext cx="6629400" cy="524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85800" y="429840"/>
            <a:ext cx="77724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ounting for Variables had Little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58212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520" y="1020600"/>
            <a:ext cx="87552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nsity score can be useful for addressing confounding (by ind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rich model of exposure to be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ous when number of people with a study outcome is small relative to number of exposed persons and number of potential confounders is l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effects (particularly adverse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ranspar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electing propensity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building propensity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propensity s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990520" y="2862000"/>
            <a:ext cx="323532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0">
              <a:lnSpc>
                <a:spcPct val="80000"/>
              </a:lnSpc>
              <a:spcBef>
                <a:spcPts val="4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-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07960" y="46944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.Seeger@i3DrugSafet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8240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iv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0840" y="971640"/>
            <a:ext cx="845820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matching when comparing 2 treat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drug user with given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a comparator with identica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Male, age 45, smoker, with HT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7120" y="2998800"/>
            <a:ext cx="815364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798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ing fai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ge (10 categories)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ex (2 categories)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rior diagnoses (5 @ 2 categories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rior drug therapy (5 @ 2 categories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receding cost of care (5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102,400 potential match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5920" y="880920"/>
            <a:ext cx="839124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: subject will receive therapy vs compa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confounding by components of the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lnSpc>
                <a:spcPct val="90000"/>
              </a:lnSpc>
              <a:spcBef>
                <a:spcPts val="451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 characteristics that favor one therapy over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90000"/>
              </a:lnSpc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lnSpc>
                <a:spcPct val="90000"/>
              </a:lnSpc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lnSpc>
                <a:spcPct val="90000"/>
              </a:lnSpc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lnSpc>
                <a:spcPct val="90000"/>
              </a:lnSpc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lnSpc>
                <a:spcPct val="90000"/>
              </a:lnSpc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lnSpc>
                <a:spcPct val="90000"/>
              </a:lnSpc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" y="468000"/>
            <a:ext cx="8610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nsity Score Collapses Exposure Predi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57480" y="2558880"/>
          <a:ext cx="5900760" cy="423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7480" y="2558880"/>
                    <a:ext cx="590076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3760" y="971640"/>
            <a:ext cx="5562720" cy="502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380880"/>
            <a:ext cx="758196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uld Propensity Scores Always b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59480" y="1047600"/>
            <a:ext cx="348912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han 8 events per covariate leads to unbiased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propensity score favored w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ore persons exposed to drug of interest than study outco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749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richer model (more predictors) of exposure than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hypoth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1360" y="6019920"/>
            <a:ext cx="609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peda S, et al. Am J Epidemiol 2003;158:280-287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9644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 Propensity Sc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7480" y="991800"/>
            <a:ext cx="885204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treatment from baseline covariates with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on of predi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-priori (what characteristics are used to prescrib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 (what differentiates initiator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(what patterns of healthcare predict initiation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2100"/>
              </a:spcBef>
              <a:buClr>
                <a:srgbClr val="cd2c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ficients of propensity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601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ble and In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58212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nsity Score Restri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43120" y="1035000"/>
            <a:ext cx="7457760" cy="559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03800" y="6568920"/>
            <a:ext cx="43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rmer T, et al. J Clin Epidemiol 2006;59:437-4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582120"/>
            <a:ext cx="81532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nsity Score Restri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47480"/>
            <a:ext cx="842616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for serious adverse events from error (name confu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aryl (glimepiride an oral hypoglycem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inyl (galantamine for Alzheimer’s diseas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,816 people with AD diagnosis (14,626 Reminyl dispens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6 Amaryl recip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Amaryl recipients in the lowest decile of the propensity sco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 with a single dispensing of Amaryl or no diabetes diagno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with no diabetes-related claims across entire claim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l record review suggested no err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nsity score restriction may be used as a screening method to identify unusual patterns of healthcare for closer scruti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e medication dispen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400"/>
              </a:spcBef>
              <a:buClr>
                <a:srgbClr val="cd2c3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85480">
              <a:spcBef>
                <a:spcPts val="499"/>
              </a:spcBef>
              <a:buClr>
                <a:srgbClr val="cd2c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ation requires additional data, which could be obtained through medical record revie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0760" y="609588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-statistic = 0.7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320" y="339840"/>
            <a:ext cx="9099360" cy="6172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00080" y="469440"/>
            <a:ext cx="6894720" cy="34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nsity Score Distribution and St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20:33:43Z</dcterms:created>
  <dc:creator>T 3</dc:creator>
  <dc:description/>
  <dc:language>en-US</dc:language>
  <cp:lastModifiedBy>rac</cp:lastModifiedBy>
  <dcterms:modified xsi:type="dcterms:W3CDTF">2008-10-02T14:19:25Z</dcterms:modified>
  <cp:revision>556</cp:revision>
  <dc:subject/>
  <dc:title>presentation title goes here</dc:title>
</cp:coreProperties>
</file>