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6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8" name=""/>
          <p:cNvGraphicFramePr/>
          <p:nvPr/>
        </p:nvGraphicFramePr>
        <p:xfrm>
          <a:off x="990720" y="380880"/>
          <a:ext cx="71643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43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81952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rdiovascular Consortium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ffective Health Care Program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50560" y="3962520"/>
            <a:ext cx="643572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4114800"/>
            <a:ext cx="8229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t Sedrakyan, MD, Ph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er for Outcomes &amp; Evidence, AHR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ardiovascular consortium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ting new evidenc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 direction with Main emphasis on using national registries and their linkages in comparative effectiveness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1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role of National Clinical Registries in the Cycle of Evidence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ational registry based study to evaluate effectiveness of Drug Eluting Stents and optimal length of anticoagulation thera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onal registry based study of effectiveness of cardiac valve impl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local registry or claims based 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 of previous contributing studies 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effectivehealthcare.ahrq.gov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ur plan for to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CABG vs PCI: Evidence in evolu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essor Mark Hlat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ford Un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Clinical Registries in the Cycle of Evi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essor Eric Peter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ke Un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Questions to presenters and discu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152280"/>
            <a:ext cx="669780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eart Disease is No. 1 Killer of Wome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5943600"/>
            <a:ext cx="7993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Men Too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34210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272360" cy="72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Arial"/>
              </a:rPr>
              <a:t>Age Adjusted Death Rates in USA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626160" cy="4495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063880" y="2181240"/>
            <a:ext cx="5337000" cy="977760"/>
          </a:xfrm>
          <a:custGeom>
            <a:avLst/>
            <a:gdLst/>
            <a:ahLst/>
            <a:rect l="l" t="t" r="r" b="b"/>
            <a:pathLst>
              <a:path w="3362" h="616">
                <a:moveTo>
                  <a:pt x="0" y="0"/>
                </a:moveTo>
                <a:cubicBezTo>
                  <a:pt x="49" y="15"/>
                  <a:pt x="65" y="19"/>
                  <a:pt x="120" y="23"/>
                </a:cubicBezTo>
                <a:cubicBezTo>
                  <a:pt x="148" y="54"/>
                  <a:pt x="195" y="54"/>
                  <a:pt x="234" y="57"/>
                </a:cubicBezTo>
                <a:cubicBezTo>
                  <a:pt x="273" y="65"/>
                  <a:pt x="309" y="78"/>
                  <a:pt x="348" y="86"/>
                </a:cubicBezTo>
                <a:cubicBezTo>
                  <a:pt x="401" y="97"/>
                  <a:pt x="454" y="101"/>
                  <a:pt x="508" y="109"/>
                </a:cubicBezTo>
                <a:cubicBezTo>
                  <a:pt x="527" y="121"/>
                  <a:pt x="533" y="127"/>
                  <a:pt x="559" y="132"/>
                </a:cubicBezTo>
                <a:cubicBezTo>
                  <a:pt x="589" y="138"/>
                  <a:pt x="650" y="143"/>
                  <a:pt x="650" y="143"/>
                </a:cubicBezTo>
                <a:cubicBezTo>
                  <a:pt x="716" y="165"/>
                  <a:pt x="785" y="151"/>
                  <a:pt x="850" y="132"/>
                </a:cubicBezTo>
                <a:cubicBezTo>
                  <a:pt x="909" y="135"/>
                  <a:pt x="949" y="139"/>
                  <a:pt x="1004" y="149"/>
                </a:cubicBezTo>
                <a:cubicBezTo>
                  <a:pt x="1034" y="154"/>
                  <a:pt x="1060" y="169"/>
                  <a:pt x="1090" y="172"/>
                </a:cubicBezTo>
                <a:cubicBezTo>
                  <a:pt x="1238" y="189"/>
                  <a:pt x="1391" y="197"/>
                  <a:pt x="1540" y="206"/>
                </a:cubicBezTo>
                <a:cubicBezTo>
                  <a:pt x="1632" y="218"/>
                  <a:pt x="1722" y="238"/>
                  <a:pt x="1814" y="246"/>
                </a:cubicBezTo>
                <a:cubicBezTo>
                  <a:pt x="1847" y="256"/>
                  <a:pt x="1879" y="285"/>
                  <a:pt x="1916" y="286"/>
                </a:cubicBezTo>
                <a:cubicBezTo>
                  <a:pt x="1964" y="288"/>
                  <a:pt x="2011" y="289"/>
                  <a:pt x="2059" y="291"/>
                </a:cubicBezTo>
                <a:cubicBezTo>
                  <a:pt x="2082" y="299"/>
                  <a:pt x="2104" y="329"/>
                  <a:pt x="2127" y="331"/>
                </a:cubicBezTo>
                <a:cubicBezTo>
                  <a:pt x="2210" y="339"/>
                  <a:pt x="2294" y="338"/>
                  <a:pt x="2378" y="343"/>
                </a:cubicBezTo>
                <a:cubicBezTo>
                  <a:pt x="2422" y="353"/>
                  <a:pt x="2471" y="364"/>
                  <a:pt x="2515" y="377"/>
                </a:cubicBezTo>
                <a:cubicBezTo>
                  <a:pt x="2527" y="381"/>
                  <a:pt x="2537" y="391"/>
                  <a:pt x="2550" y="394"/>
                </a:cubicBezTo>
                <a:cubicBezTo>
                  <a:pt x="2572" y="398"/>
                  <a:pt x="2595" y="398"/>
                  <a:pt x="2618" y="400"/>
                </a:cubicBezTo>
                <a:cubicBezTo>
                  <a:pt x="2681" y="418"/>
                  <a:pt x="2747" y="419"/>
                  <a:pt x="2812" y="422"/>
                </a:cubicBezTo>
                <a:cubicBezTo>
                  <a:pt x="2829" y="441"/>
                  <a:pt x="2818" y="434"/>
                  <a:pt x="2852" y="440"/>
                </a:cubicBezTo>
                <a:cubicBezTo>
                  <a:pt x="2873" y="444"/>
                  <a:pt x="2914" y="451"/>
                  <a:pt x="2914" y="451"/>
                </a:cubicBezTo>
                <a:cubicBezTo>
                  <a:pt x="2960" y="469"/>
                  <a:pt x="3009" y="478"/>
                  <a:pt x="3057" y="491"/>
                </a:cubicBezTo>
                <a:cubicBezTo>
                  <a:pt x="3110" y="505"/>
                  <a:pt x="3156" y="528"/>
                  <a:pt x="3211" y="536"/>
                </a:cubicBezTo>
                <a:cubicBezTo>
                  <a:pt x="3215" y="543"/>
                  <a:pt x="3224" y="562"/>
                  <a:pt x="3234" y="565"/>
                </a:cubicBezTo>
                <a:cubicBezTo>
                  <a:pt x="3250" y="571"/>
                  <a:pt x="3285" y="576"/>
                  <a:pt x="3285" y="576"/>
                </a:cubicBezTo>
                <a:cubicBezTo>
                  <a:pt x="3306" y="590"/>
                  <a:pt x="3324" y="594"/>
                  <a:pt x="3348" y="599"/>
                </a:cubicBezTo>
                <a:cubicBezTo>
                  <a:pt x="3362" y="614"/>
                  <a:pt x="3359" y="616"/>
                  <a:pt x="3359" y="599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08160" y="5645160"/>
            <a:ext cx="28728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56320" y="6248520"/>
            <a:ext cx="559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National NIH 2007, chartbook on morbidity and morta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0866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eart Disease Death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34400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15328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152280"/>
            <a:ext cx="7696080" cy="8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ffective Health Care Progra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1523880"/>
            <a:ext cx="8221680" cy="1076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gress authorized AHRQ (section 1013 of MMA) to conduct research to improve the quality, effectiveness, and efficiency of Medicare and Medicaid program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3276720"/>
            <a:ext cx="7535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65120" indent="-465120">
              <a:lnSpc>
                <a:spcPct val="120000"/>
              </a:lnSpc>
              <a:spcBef>
                <a:spcPts val="2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2895480"/>
            <a:ext cx="792504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vidence synthesis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EPC progra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1600" indent="-5277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parent process of systematically reviewing and synthesizing evidence on treatment effectiven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1600" indent="-5277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ying relevant knowledge ga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vidence generatio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DECIDE and CER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1600" indent="-5277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 of new scientific knowledge to address knowledge ga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vidence translatio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Eisenberg Center)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1600" indent="-5277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unication of scientific information in plain language to policymakers, patients, and provid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250120" y="5985000"/>
            <a:ext cx="54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58C2-2143-4FEA-BB0B-5FB1198ACF55}" type="slidenum">
              <a:rPr b="1" lang="en-US" sz="2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7010280" cy="5391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905120" y="5335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ffective Healthcare Progr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ifecycle of CV initiativ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19520" y="14479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1600200"/>
            <a:ext cx="27432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V topic solicitation (public inpu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1600200"/>
            <a:ext cx="34290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V topic generation           ( work with stakehold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33720" y="2590920"/>
            <a:ext cx="335268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V topic Nominated             ( work with stakehold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3505320"/>
            <a:ext cx="304812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 enough information work with stakehol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3505320"/>
            <a:ext cx="281952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ough information evaluate if all EHC criteria are m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0" y="4800600"/>
            <a:ext cx="20574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HC Criteria are not m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4800600"/>
            <a:ext cx="4038840" cy="177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ed to generate new evidence (use DECIDE, CERT, oth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min/Claims based stud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      Registry (linked) based study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data coll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4800600"/>
            <a:ext cx="2286000" cy="177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ed evidence review (use EP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l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mparativ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chnical brie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0" idx="3"/>
          </p:cNvCxnSpPr>
          <p:nvPr/>
        </p:nvCxnSpPr>
        <p:spPr>
          <a:xfrm>
            <a:off x="3733560" y="1957320"/>
            <a:ext cx="153000" cy="558000"/>
          </a:xfrm>
          <a:prstGeom prst="bent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1" idx="1"/>
          </p:cNvCxnSpPr>
          <p:nvPr/>
        </p:nvCxnSpPr>
        <p:spPr>
          <a:xfrm flipV="1" rot="10800000">
            <a:off x="3961800" y="1956960"/>
            <a:ext cx="153000" cy="558000"/>
          </a:xfrm>
          <a:prstGeom prst="bent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2" idx="2"/>
            <a:endCxn id="114" idx="0"/>
          </p:cNvCxnSpPr>
          <p:nvPr/>
        </p:nvCxnSpPr>
        <p:spPr>
          <a:xfrm flipH="1" rot="16200000">
            <a:off x="3767040" y="3347640"/>
            <a:ext cx="200880" cy="115200"/>
          </a:xfrm>
          <a:prstGeom prst="bentConnector3">
            <a:avLst>
              <a:gd name="adj1" fmla="val 4991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2" idx="3"/>
            <a:endCxn id="113" idx="1"/>
          </p:cNvCxnSpPr>
          <p:nvPr/>
        </p:nvCxnSpPr>
        <p:spPr>
          <a:xfrm>
            <a:off x="5486400" y="2947680"/>
            <a:ext cx="381600" cy="1067400"/>
          </a:xfrm>
          <a:prstGeom prst="bentConnector3">
            <a:avLst>
              <a:gd name="adj1" fmla="val 49952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3" idx="1"/>
            <a:endCxn id="114" idx="3"/>
          </p:cNvCxnSpPr>
          <p:nvPr/>
        </p:nvCxnSpPr>
        <p:spPr>
          <a:xfrm flipH="1">
            <a:off x="5333400" y="4014360"/>
            <a:ext cx="533880" cy="10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/>
          <p:nvPr/>
        </p:nvCxnSpPr>
        <p:spPr>
          <a:xfrm rot="5400000">
            <a:off x="2051640" y="3357720"/>
            <a:ext cx="277200" cy="2553120"/>
          </a:xfrm>
          <a:prstGeom prst="bentConnector3">
            <a:avLst>
              <a:gd name="adj1" fmla="val 49934"/>
            </a:avLst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/>
          <p:nvPr/>
        </p:nvCxnSpPr>
        <p:spPr>
          <a:xfrm flipH="1" rot="16200000">
            <a:off x="5805360" y="3109680"/>
            <a:ext cx="277200" cy="3048480"/>
          </a:xfrm>
          <a:prstGeom prst="bentConnector3">
            <a:avLst>
              <a:gd name="adj1" fmla="val 49934"/>
            </a:avLst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3886200" y="457200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7315200" cy="13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ardiovascular consortium: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Comparative Effectiveness Reviews (CER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orm decision makers and identify the gaps in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le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mparative Effectiveness of PCI and CABG for C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R of Management Strategies for Renal Artery Steno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R of ACEIs and ARBs for Hyperten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prog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R of Combinations of Lipid-Modifying Ag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R of Medical Therapies with or without ACEs or ARBs for Stable C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ffectiveness and Off-label Use of Recombinant Factor VI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ffectiveness of Radiofrequency Catheter Ablation (RFA) for Atrial Fibril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chnical Brief: Percutaneous Heart Val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6/24/04</dc:description>
  <cp:keywords/>
  <dc:language>en-US</dc:language>
  <cp:lastModifiedBy>DHHS</cp:lastModifiedBy>
  <cp:lastPrinted>2003-01-21T20:19:23Z</cp:lastPrinted>
  <dcterms:modified xsi:type="dcterms:W3CDTF">2009-01-06T18:13:44Z</dcterms:modified>
  <cp:revision>271</cp:revision>
  <dc:subject/>
  <dc:title>AHRQ Slide Template 2004</dc:title>
</cp:coreProperties>
</file>