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C525-73BB-432D-BEF3-B62C63E1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D32-0408-449C-B05E-A519D81D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5D4-1138-474C-B78E-0451AE88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7F9-A8CE-47D7-BF35-ED7410B6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55E83-8DF8-46E1-B82B-395F2D0A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ACEB5-543B-4A31-9E24-B5BF0527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F406A-B00E-458D-9095-281354E0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10450-CEEE-4F55-8229-2456E410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C53B3-CA6C-4FCD-898C-2C2D8DBA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5F448-086E-4A79-86EA-A7480247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8CC8B-CE10-466A-9D8A-F47DD996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3A1-944E-4A5A-87E7-BA6A0B7A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773C3-C96E-4441-B2E5-50B57A5E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62FC0-BE6E-42B0-A1E4-029961BB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46DB0-0B93-4D9C-8BAB-8DACB681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10152-50DC-4A4F-BD0B-7D5D25AC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1C3DD-3B3F-4AC7-A887-9F2EF3B2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606-A3A8-4883-8AFF-1120F621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B6E-784C-4F4F-8707-2DC3CA8F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CD0-7339-40B5-B456-7D840C32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715E-2384-4E5A-B06C-B29B55E7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68F6-79E6-4706-83B1-2559D3C9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8F3-48D1-4A9E-841F-A5CAE898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C7B-F0AE-47B6-B3E5-5BDD625C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C694-7C53-4FE6-B3F5-1C1563CB5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2814-1368-47FF-B084-CFBB0A1F8F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municating about NSAIDs Risk: Racial/Ethnic Dispar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ke Schoen, Ph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of C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AB School of Medic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jor finding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2% African-American patients; 68% wh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 patients almost twice as likely to report diabe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ficant SES differences; AA patients more likely to report income &lt;$20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SAIDs risk and awareness finding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A patients less likely to report risk associated with OTC NSAIDs (13/2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A patients less likely to report risk associated with Rx NSAIDs (31/5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A patients less likely to report communication with physician about risk (38/5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A less likely to take GI prophylaxis (31/5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mitations of stu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oss-sect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data patient self-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se format limited to Y/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ephone interviews lengthy (fatigue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fic NSAIDs info and dose inf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SAIDs use not corrobor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sample not generalizab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mmary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ps or disparities may exist despite study limi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ps might be targeted by new C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ians overwhelmed with little time, competing dem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behavioral science hel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ground – recent transplant from N. Indiana; school psychology training; university administration; outreach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havior is important and influenced by many variables; including the environment which can be powerful (e.g., prisons and other institu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AB factoi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ed in 1930’s as University Alabama extension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st employer in Birmingham &amp;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than 18,00 students; 31% minorities and 60% w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ked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ationally for diversity of student popul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AB CERTs (DSM)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ducational activ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-in-Progress For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idemiology Book Chapter revi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iting Professor and Special Seminar Se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-Doctoral Fellowsh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products (e.g., websi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tient-Doctor commun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cal interview or encounter is a core clinical sk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0,000 – 160,000 career interviews performed by physic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lity of patient care related to quality of P-P 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tors think, feel and behave to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acial/Ethnic Disparities in NSAIDs Risk Awareness, Communic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hel Fry, Midge Ray, et. a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hritis Care and Rese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ember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ckground: NSAI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only prescribed medication class to treat inflammatory, arthritic, and musculoskeletal condi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quently lead to adverse effects (A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spitalizations, deaths, $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ial disparities exist, but what about with NSAIDs risk and communic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udy design and metho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8 physician practices in Alab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ed pati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5 years or o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ently taking Rx NSA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 = 404 participan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73% participation rat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ft card for completing 1 hour phone int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rview 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C NSAIDs risk awareness (Y or 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x NSAIDs risk awareness  (Y or 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tor-patient communications abou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(Y or 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avoiding behavi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taking GI prophylaxis (Y on 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graphics, health, education, insurance 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9:11:13Z</dcterms:created>
  <dc:creator>mschoen</dc:creator>
  <dc:description/>
  <dc:language>en-US</dc:language>
  <cp:lastModifiedBy>1_Mary</cp:lastModifiedBy>
  <dcterms:modified xsi:type="dcterms:W3CDTF">2009-01-01T23:55:40Z</dcterms:modified>
  <cp:revision>8</cp:revision>
  <dc:subject/>
  <dc:title>Communicating about NSAIDs Risk</dc:title>
</cp:coreProperties>
</file>