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F8F-1E50-48A5-8B0C-FFFFECDD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BC4-13C0-48EE-802E-AE7BDFED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3AF-5FD8-4A7E-9304-A3106C3C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529B-9E5B-4E0E-ACE5-D855B929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20E29-56C5-43F6-B372-D62040FD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A6EC8-0002-43A4-86F4-5CE34BBC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72EC8-B7F1-46C2-B361-56DC2758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E20A2-24E1-4CFF-807A-F4515A37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642E3-D7D6-4274-8E82-28F4C706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80DE5-9723-4F32-A07E-8C15BEB6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823F1-07B4-4979-84B9-F3018392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946-CD61-437D-9C92-DACBA0D9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CA410-D799-4F11-B69D-ABE070AE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5C61E-4F9A-4442-AF65-2B839B7B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5AB40-B5A7-4481-AE5F-4487C0D3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66832-4B3D-4D0E-8576-BAC08DB5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5EA94-DF64-476E-923D-E1A585F1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3AB8-8469-4990-B123-067364A9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566-DB2C-40D0-BA12-368C2B6F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BC3-90A5-4BE7-9DAD-69517F52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7FEC-C3B0-46BF-B2D5-4DFBFBDA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3CF2-BDC3-42C5-8339-9AE56A1B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93C-03A9-496A-BE7D-E58EB532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684-799A-401A-BCCF-83499827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DB07-B91E-4DA2-972B-2A8CEBCC3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027F-7EE1-4550-94F0-F0F53F8C43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municating about NSAIDs Risk: Racial/Ethnic Dispar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ke Schoen, Ph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of C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AB School of Medic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jor finding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2% African-American patients; 68% wh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A patients almost twice as likely to report diabe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ficant SES differences; AA patients more likely to report income &lt;$20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SAIDs risk and awareness finding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A patients less likely to report risk associated with OTC NSAIDs (13/2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A patients less likely to report risk associated with Rx NSAIDs (31/5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A patients less likely to report communication with physician about risk (38/5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A less likely to take GI prophylaxis (31/5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mitations of stu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oss-sect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data patient self-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ponse format limited to Y/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ephone interviews lengthy (fatigue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fic NSAIDs info and dose inf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SAIDs use not corrobor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sample not generalizab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mmary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ps or disparities may exist despite study limi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ps might be targeted by new C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ians overwhelmed with little time, competing dem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behavioral science help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kground – recent transplant from N. Indiana; school psychology training; university administration; outreach progr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havior is important and influenced by many variables; including the environment which can be powerful (e.g., prisons and other institu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AB factoi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ed in 1930’s as University Alabama extension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gest employer in Birmingham &amp; st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than 18,00 students; 31% minorities and 60% w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ked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ationally for diversity of student popul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AB CERTs (DSM)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ducational activ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-in-Progress For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pidemiology Book Chapter revie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siting Professor and Special Seminar Se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-Doctoral Fellowshi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products (e.g., websi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tient-Doctor commun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cal interview or encounter is a core clinical sk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0,000 – 160,000 career interviews performed by physic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lity of patient care related to quality of P-P 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ctors think, feel and behave to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acial/Ethnic Disparities in NSAIDs Risk Awareness, Communic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hel Fry, Midge Ray, et. a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hritis Care and Resea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ember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ckground: NSAI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only prescribed medication class to treat inflammatory, arthritic, and musculoskeletal condi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quently lead to adverse effects (A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spitalizations, deaths, $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ial disparities exist, but what about with NSAIDs risk and communic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udy design and metho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8 physician practices in Alab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ed pati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5 years or ol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ently taking Rx NSA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 = 404 participan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73% participation rat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ft card for completing 1 hour phone inter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erview ques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C NSAIDs risk awareness (Y or 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x NSAIDs risk awareness  (Y or 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ctor-patient communications abou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k (Y or 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k avoiding behavio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taking GI prophylaxis (Y on 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graphics, health, education, insurance st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9:11:13Z</dcterms:created>
  <dc:creator>mschoen</dc:creator>
  <dc:description/>
  <dc:language>en-US</dc:language>
  <cp:lastModifiedBy>1_Mary</cp:lastModifiedBy>
  <dcterms:modified xsi:type="dcterms:W3CDTF">2009-01-01T23:55:40Z</dcterms:modified>
  <cp:revision>8</cp:revision>
  <dc:subject/>
  <dc:title>Communicating about NSAIDs Risk</dc:title>
</cp:coreProperties>
</file>