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CE672-6852-4047-9F72-9D9F652DA9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E6F2A-695D-4CC2-9E13-7A665A75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893F5-BB6A-40D7-83A2-8ED0D53C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A46A2-6FBA-4E6A-811A-0A8FD364BA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DCC6C-684F-49F1-98E3-0E49C33A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021DF-FE44-4454-817B-49DB8BC4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08581-E623-4930-B233-25A0B55E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DD4F1-EE8D-4810-9E91-0DB49333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09508-48C8-400B-98D9-8648EEEA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490F7-DADF-4ABF-9A6A-906B3A4C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72E79-2636-49F4-9D4A-ECABD734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83018-30E0-4F72-93A9-45EAE6DF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30B9C-4CEA-45BE-B6D1-C0ECB96A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FBCBF-6B19-4B34-9E1F-F8BE5E3C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0C6F2-0C30-4DD7-A2D7-528970F1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2F481-79B1-4EF8-AE01-22AE0B077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26468-AA16-4990-AAA8-85FABE12E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839F2-3A06-47E1-B9BB-ED8CDC6A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58E53-953B-4A81-B9C7-B0FB218A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01F9B-35FF-43E1-A539-488EE1E1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90EDA-0438-4429-AD7D-A7BE3293B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84E69-AC3F-4090-A8B4-77113992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4C512-3D65-4DD3-8EB4-F13E0E12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5B290-5D36-4367-B8E6-75EB4BE6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4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4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DFBA-6D8D-4BB8-B7C1-CEECFBC4C8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CA46-F580-4F53-AC1C-424E699963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0560" y="1045800"/>
            <a:ext cx="810288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ensitivity Analysis for Residual Confounding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99920" y="3213000"/>
            <a:ext cx="7543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bastian Schneeweiss MD, ScD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sion of Pharmacoepidemiology and Pharmacoeconomic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 of Medicine, Harvard Medical School,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24080" y="3876840"/>
            <a:ext cx="1447920" cy="961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788000" y="387684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D1E8B-C7F4-482B-AA7C-B88516F63F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Bias by residual confounding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63600" y="1407960"/>
          <a:ext cx="8416800" cy="512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1407960"/>
                    <a:ext cx="8416800" cy="51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1" name=""/>
          <p:cNvGrpSpPr/>
          <p:nvPr/>
        </p:nvGrpSpPr>
        <p:grpSpPr>
          <a:xfrm>
            <a:off x="3341520" y="3560760"/>
            <a:ext cx="1098720" cy="2077920"/>
            <a:chOff x="3341520" y="3560760"/>
            <a:chExt cx="1098720" cy="2077920"/>
          </a:xfrm>
        </p:grpSpPr>
        <p:sp>
          <p:nvSpPr>
            <p:cNvPr id="152" name=""/>
            <p:cNvSpPr/>
            <p:nvPr/>
          </p:nvSpPr>
          <p:spPr>
            <a:xfrm>
              <a:off x="3341520" y="3560760"/>
              <a:ext cx="1086120" cy="88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40240" y="4451400"/>
              <a:ext cx="0" cy="11872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518920" y="4086360"/>
            <a:ext cx="2581560" cy="1288800"/>
            <a:chOff x="2518920" y="4086360"/>
            <a:chExt cx="2581560" cy="1288800"/>
          </a:xfrm>
        </p:grpSpPr>
        <p:sp>
          <p:nvSpPr>
            <p:cNvPr id="155" name=""/>
            <p:cNvSpPr/>
            <p:nvPr/>
          </p:nvSpPr>
          <p:spPr>
            <a:xfrm flipV="1">
              <a:off x="2536920" y="4086360"/>
              <a:ext cx="2563560" cy="28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518920" y="4368960"/>
              <a:ext cx="1800" cy="10062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438F1-182C-4555-A745-961EC438AB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803160" y="339840"/>
          <a:ext cx="6956640" cy="669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339840"/>
                    <a:ext cx="6956640" cy="66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 rot="19386000">
            <a:off x="6218280" y="4394160"/>
            <a:ext cx="2581200" cy="5814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rugepi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8D833-F1DE-4A32-8DCD-23C6581298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Pros and cons of “</a:t>
            </a:r>
            <a:r>
              <a:rPr b="0" lang="en-US" sz="3000" spc="-1" strike="noStrike">
                <a:solidFill>
                  <a:srgbClr val="333399"/>
                </a:solidFill>
                <a:latin typeface="Arial Black"/>
              </a:rPr>
              <a:t>Array approach</a:t>
            </a: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Very easy to perform using Exc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Very informative to explore confounding with little prior knowledge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t usually does not really provide an answer to a specific research ques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4 parameters can vary -&gt; in a 3-D plot 2 parameter have to be kept constan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optical impression can be manipulated by choosing different ranges for the ax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5B53C-CA5C-47FB-8707-29184019CF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ame example, different parameter range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52320" y="1500120"/>
          <a:ext cx="7696440" cy="485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1500120"/>
                    <a:ext cx="769644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6797D-92D6-4831-A693-AB3F7D6673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Conclusion of “</a:t>
            </a:r>
            <a:r>
              <a:rPr b="0" lang="en-US" sz="3000" spc="-1" strike="noStrike">
                <a:solidFill>
                  <a:srgbClr val="333399"/>
                </a:solidFill>
                <a:latin typeface="Arial Black"/>
              </a:rPr>
              <a:t>Array Approach</a:t>
            </a: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Great tool but you need to be honest to yourself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r all but one tool that I present today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ing conditional independence of 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given the exposure statu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violated than residual bias may be overestima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757520" y="573408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ug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84680" y="5734080"/>
            <a:ext cx="17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44760" y="6045120"/>
            <a:ext cx="241452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33800" y="6222960"/>
            <a:ext cx="93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62360" y="4592520"/>
            <a:ext cx="1175040" cy="114156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232080" y="4575240"/>
            <a:ext cx="1131840" cy="115884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44720" y="4921200"/>
            <a:ext cx="1015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OR</a:t>
            </a:r>
            <a:r>
              <a:rPr b="1" lang="en-US" sz="1800" spc="-1" strike="noStrike" baseline="-25000">
                <a:solidFill>
                  <a:srgbClr val="ff6600"/>
                </a:solidFill>
                <a:latin typeface="Arial"/>
              </a:rPr>
              <a:t>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42040" y="4921200"/>
            <a:ext cx="1527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RR</a:t>
            </a:r>
            <a:r>
              <a:rPr b="1" lang="en-US" sz="1800" spc="-1" strike="noStrike" baseline="-25000">
                <a:solidFill>
                  <a:srgbClr val="0000cc"/>
                </a:solidFill>
                <a:latin typeface="Arial"/>
              </a:rPr>
              <a:t>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59160" y="4376880"/>
            <a:ext cx="50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62400" y="4883040"/>
            <a:ext cx="50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297240" y="5144760"/>
            <a:ext cx="1042920" cy="74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86480" y="5200560"/>
            <a:ext cx="944280" cy="677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94160" y="3241800"/>
            <a:ext cx="34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nan, Robins: Biometrics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432320" y="4667400"/>
            <a:ext cx="469800" cy="337320"/>
            <a:chOff x="4432320" y="4667400"/>
            <a:chExt cx="469800" cy="337320"/>
          </a:xfrm>
        </p:grpSpPr>
        <p:sp>
          <p:nvSpPr>
            <p:cNvPr id="181" name=""/>
            <p:cNvSpPr/>
            <p:nvPr/>
          </p:nvSpPr>
          <p:spPr>
            <a:xfrm>
              <a:off x="4457880" y="4699080"/>
              <a:ext cx="0" cy="26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32320" y="4667400"/>
              <a:ext cx="46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D777C-3C51-4758-8B0C-B3C699C7CF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More advanced technique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ouldn’t it be more interesting to know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stro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imbalanc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 a confounder have to be in order to fully explain the observed finding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1959120" y="4119480"/>
            <a:ext cx="98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RR</a:t>
            </a:r>
            <a:r>
              <a:rPr b="1" lang="en-US" sz="1800" spc="-1" strike="noStrike" baseline="-25000">
                <a:solidFill>
                  <a:srgbClr val="0000cc"/>
                </a:solidFill>
                <a:latin typeface="Arial"/>
              </a:rPr>
              <a:t>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44920" y="4118040"/>
            <a:ext cx="1015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OR</a:t>
            </a:r>
            <a:r>
              <a:rPr b="1" lang="en-US" sz="1800" spc="-1" strike="noStrike" baseline="-25000">
                <a:solidFill>
                  <a:srgbClr val="ff6600"/>
                </a:solidFill>
                <a:latin typeface="Arial"/>
              </a:rPr>
              <a:t>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265480" y="2712960"/>
            <a:ext cx="0" cy="1309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871800" y="2752560"/>
            <a:ext cx="0" cy="1309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62092-80B7-470F-B5CC-83349DDC76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483000" y="0"/>
            <a:ext cx="589428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950160" y="0"/>
            <a:ext cx="893520" cy="149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92120" y="0"/>
            <a:ext cx="121932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4160" y="396720"/>
            <a:ext cx="3504960" cy="32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aty et al: JAGS 1999;47:7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CB use and acute M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iss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there any unmeasured factors that may lead to a preferred prescribing of CCB to people at higher risk for AMI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27480" y="817560"/>
            <a:ext cx="88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OR</a:t>
            </a:r>
            <a:r>
              <a:rPr b="1" lang="en-US" sz="1800" spc="-1" strike="noStrike" baseline="-25000">
                <a:solidFill>
                  <a:srgbClr val="ff6600"/>
                </a:solidFill>
                <a:latin typeface="Arial"/>
              </a:rPr>
              <a:t>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24320" y="-152280"/>
            <a:ext cx="1057320" cy="1360440"/>
          </a:xfrm>
          <a:custGeom>
            <a:avLst/>
            <a:gdLst/>
            <a:ahLst/>
            <a:rect l="l" t="t" r="r" b="b"/>
            <a:pathLst>
              <a:path w="666" h="857">
                <a:moveTo>
                  <a:pt x="0" y="0"/>
                </a:moveTo>
                <a:lnTo>
                  <a:pt x="26" y="857"/>
                </a:lnTo>
                <a:lnTo>
                  <a:pt x="666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12200" y="0"/>
            <a:ext cx="1827000" cy="153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28120" y="3643200"/>
            <a:ext cx="98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RR</a:t>
            </a:r>
            <a:r>
              <a:rPr b="1" lang="en-US" sz="1800" spc="-1" strike="noStrike" baseline="-25000">
                <a:solidFill>
                  <a:srgbClr val="0000cc"/>
                </a:solidFill>
                <a:latin typeface="Arial"/>
              </a:rPr>
              <a:t>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94240" y="451152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79960" y="5608800"/>
            <a:ext cx="44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05800" y="1225440"/>
            <a:ext cx="1438200" cy="365400"/>
          </a:xfrm>
          <a:prstGeom prst="borderCallout2">
            <a:avLst>
              <a:gd name="adj1" fmla="val 18750"/>
              <a:gd name="adj2" fmla="val -8333"/>
              <a:gd name="adj3" fmla="val 31305"/>
              <a:gd name="adj4" fmla="val -25055"/>
              <a:gd name="adj5" fmla="val 351740"/>
              <a:gd name="adj6" fmla="val -6887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R = 1.5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05800" y="1978200"/>
            <a:ext cx="1438200" cy="365040"/>
          </a:xfrm>
          <a:prstGeom prst="borderCallout2">
            <a:avLst>
              <a:gd name="adj1" fmla="val 18750"/>
              <a:gd name="adj2" fmla="val -8333"/>
              <a:gd name="adj3" fmla="val 31305"/>
              <a:gd name="adj4" fmla="val -25717"/>
              <a:gd name="adj5" fmla="val 260000"/>
              <a:gd name="adj6" fmla="val -7097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R = 1.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4BF1E-D4FF-4757-B399-F5E7FAFE3C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488880" y="603360"/>
          <a:ext cx="9291600" cy="400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603360"/>
                    <a:ext cx="9291600" cy="40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 rot="19386000">
            <a:off x="5789520" y="5308560"/>
            <a:ext cx="2581200" cy="5814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rugepi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50818-C902-4614-B295-CF1F8FB366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Caution!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saty et al. concluded that it is unlikely that an unmeasured confounder of that magnitude exis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owever, the randomized trial ALLHAT showed no association between CCB use and AM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lternative explanations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J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sidual confounding may be larger than anticipated from individual unmeasured confound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an issue of residual confounding but other biases, e.g. control selec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E4807-6A2E-4458-8F75-8EF5367F51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Pros and cons of “</a:t>
            </a:r>
            <a:r>
              <a:rPr b="0" lang="en-US" sz="3000" spc="-1" strike="noStrike">
                <a:solidFill>
                  <a:srgbClr val="333399"/>
                </a:solidFill>
                <a:latin typeface="Arial Black"/>
              </a:rPr>
              <a:t>Rule Out Approach</a:t>
            </a: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Very easy to perform using Excel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eaningful and easy to communicate interpreta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tudy-specific interpreta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till assuming conditional independence of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and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ule Out” lacks any quantitative assessment of potential confounders that are unmeasure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30C85-9213-4140-9E4C-B1BE5843E9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Outline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82760" y="1343160"/>
            <a:ext cx="81784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5360" indent="-495360">
              <a:spcBef>
                <a:spcPts val="64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sidual Confounding and what we can do about i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5360" indent="-495360">
              <a:spcBef>
                <a:spcPts val="64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mple sensitivity analysis: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0000cc"/>
                </a:solidFill>
                <a:latin typeface="Tahoma"/>
              </a:rPr>
              <a:t>Array Approach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5360" indent="-495360">
              <a:spcBef>
                <a:spcPts val="64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tudy-specific analysis: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0000cc"/>
                </a:solidFill>
                <a:latin typeface="Tahoma"/>
              </a:rPr>
              <a:t>Rule Out Approach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5360" indent="-495360">
              <a:spcBef>
                <a:spcPts val="64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Using additional information: </a:t>
            </a:r>
            <a:r>
              <a:rPr b="0" lang="en-US" sz="2600" spc="-1" strike="noStrike">
                <a:solidFill>
                  <a:srgbClr val="0000cc"/>
                </a:solidFill>
                <a:latin typeface="Tahoma"/>
              </a:rPr>
              <a:t>External Adjustmen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197F4-69A2-482B-B6E1-99116193B7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External Adjustmen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e step beyond sensitivity analy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Using additional information not available in the main stud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ften survey informa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97724-B301-44D5-AE1C-FE021AE339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trategies to </a:t>
            </a:r>
            <a:r>
              <a:rPr b="0" lang="en-US" sz="3000" spc="-1" strike="noStrike">
                <a:solidFill>
                  <a:srgbClr val="5e574e"/>
                </a:solidFill>
                <a:latin typeface="Arial Black"/>
              </a:rPr>
              <a:t>Adjust</a:t>
            </a: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 residual con-founding using external information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urvey information in a representative sample can be used to quantify the imbalance of risk factor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that are not measured in claim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among exposure groups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association of such risk factors with the outcome can be assess from the medical literature (RCTs, observational studies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3565440" y="5191200"/>
            <a:ext cx="4857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elentga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 al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DS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chneeweiss et al: Epidemiology, 2004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646C9-C2CB-4576-B3A5-E2FCA179D6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n our example: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"/>
          <p:cNvSpPr/>
          <p:nvPr/>
        </p:nvSpPr>
        <p:spPr>
          <a:xfrm>
            <a:off x="1198440" y="41911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fecox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64000" y="4191120"/>
            <a:ext cx="170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ute 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25720" y="4552920"/>
            <a:ext cx="2317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676680" y="4759200"/>
            <a:ext cx="895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2440" y="2222640"/>
            <a:ext cx="1778040" cy="863640"/>
          </a:xfrm>
          <a:prstGeom prst="wedgeRectCallout">
            <a:avLst>
              <a:gd name="adj1" fmla="val 49106"/>
              <a:gd name="adj2" fmla="val 7738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Survey data in a subs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45120" y="2463840"/>
            <a:ext cx="1765440" cy="635040"/>
          </a:xfrm>
          <a:prstGeom prst="wedgeRectCallout">
            <a:avLst>
              <a:gd name="adj1" fmla="val -64569"/>
              <a:gd name="adj2" fmla="val 9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medical liter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381400" y="1635120"/>
            <a:ext cx="4182840" cy="2556000"/>
            <a:chOff x="2381400" y="1635120"/>
            <a:chExt cx="4182840" cy="2556000"/>
          </a:xfrm>
        </p:grpSpPr>
        <p:sp>
          <p:nvSpPr>
            <p:cNvPr id="221" name=""/>
            <p:cNvSpPr/>
            <p:nvPr/>
          </p:nvSpPr>
          <p:spPr>
            <a:xfrm>
              <a:off x="4359240" y="2860560"/>
              <a:ext cx="1127160" cy="13305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803680" y="2841480"/>
              <a:ext cx="1087200" cy="13496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81400" y="3244680"/>
              <a:ext cx="976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OR</a:t>
              </a:r>
              <a:r>
                <a:rPr b="1" lang="en-US" sz="1800" spc="-1" strike="noStrike" baseline="-25000">
                  <a:solidFill>
                    <a:srgbClr val="ff6600"/>
                  </a:solidFill>
                  <a:latin typeface="Arial"/>
                </a:rPr>
                <a:t>E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00480" y="3244680"/>
              <a:ext cx="1463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RR</a:t>
              </a:r>
              <a:r>
                <a:rPr b="1" lang="en-US" sz="1800" spc="-1" strike="noStrike" baseline="-25000">
                  <a:solidFill>
                    <a:srgbClr val="0000cc"/>
                  </a:solidFill>
                  <a:latin typeface="Arial"/>
                </a:rPr>
                <a:t>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83080" y="1635120"/>
              <a:ext cx="1147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[smoking,aspirin, BMI, etc.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22560" y="2610000"/>
              <a:ext cx="487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924360" y="3198960"/>
            <a:ext cx="48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874960" y="3444480"/>
            <a:ext cx="1077840" cy="933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17840" y="3535200"/>
            <a:ext cx="966960" cy="824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AEABA-FE75-41F1-84E6-B48E43A0D4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More contrast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55640" y="878040"/>
          <a:ext cx="7631280" cy="568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878040"/>
                    <a:ext cx="7631280" cy="56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3022560" y="2273400"/>
            <a:ext cx="952560" cy="262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62240" y="5702400"/>
            <a:ext cx="584280" cy="355680"/>
          </a:xfrm>
          <a:prstGeom prst="ellipse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CEEEC-7191-4759-9DD1-8FCB419307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ensitivity of Bias as a Function of a Misspecified R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 Black"/>
              </a:rPr>
              <a:t>CD</a:t>
            </a: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 :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244800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06600" y="1685880"/>
          <a:ext cx="7024680" cy="475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1685880"/>
                    <a:ext cx="702468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419040" y="1498680"/>
            <a:ext cx="44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esity (BMI &gt;=30 vs. BMI&lt;3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A48B1-AD50-4B96-B426-1FEBDE04F56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ensitivity towards a misspecified R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 Black"/>
              </a:rPr>
              <a:t>CO</a:t>
            </a: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 from the literature: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419040" y="1498680"/>
            <a:ext cx="34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C aspirin use (y/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3360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79600" y="1895400"/>
          <a:ext cx="7032600" cy="466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1895400"/>
                    <a:ext cx="7032600" cy="46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ABF80-7729-4F9C-97CB-21C06EA5BE4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887400" y="311040"/>
          <a:ext cx="6478560" cy="642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7400" y="311040"/>
                    <a:ext cx="6478560" cy="64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 rot="19386000">
            <a:off x="6218280" y="4394160"/>
            <a:ext cx="2581200" cy="5814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rugepi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F05D5-94D6-4D68-B373-5263A8F4957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Limitation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47840" y="1204920"/>
            <a:ext cx="8178480" cy="52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is limited to 5 potential confound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lab values, physical activity, blood pressure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about the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unknow unknowns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assess the bias we assume an exposure–disease association of 1 (null hypothesis)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ore the truth is away from the null the more bias in our bias estim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ever the less relevant unmeasured confounders beco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lidity depends on representativenes of sampling with regard to the unmeasured confound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e could not consider the joint distribution of confound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imited to a binary wor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1D631-D54E-4209-AB14-961C49E8D60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olving the Main Limitation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53520" y="1217520"/>
            <a:ext cx="817884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eed a metho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addresses the joint distribution of several unmeasured confound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can handle binary, ordinal or normally distributed unmeasured confound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in et al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Biometrics 1998)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handle a single unmeasured covariate of any distrib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can handle only 1 covari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turmer, Schneeweiss et al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m J Epidemiol 2004)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pensity score calibr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handle multiple unmeasured covariates of any distrib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82B8B-9850-4CE2-A846-047E7F41EC5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nsitivity analyses for residual confounding are underutilized although they are technically easy to perfor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cel program for download (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drugepi.org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real challenge is the interpretation of your finding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s is all summarized in Schneeweiss PDS 2007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534DA-1EFF-4964-B972-FCF02AC1C91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Unmeasured (residual) Confounding: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3583080" y="1635120"/>
            <a:ext cx="1147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smoking,healthy lifestyle, etc.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98440" y="4191120"/>
            <a:ext cx="17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ug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64000" y="4191120"/>
            <a:ext cx="170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25720" y="4552920"/>
            <a:ext cx="2317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76680" y="4759200"/>
            <a:ext cx="895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59240" y="2860560"/>
            <a:ext cx="1127160" cy="133056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803680" y="2841480"/>
            <a:ext cx="1087200" cy="134964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81400" y="3244680"/>
            <a:ext cx="976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OR</a:t>
            </a:r>
            <a:r>
              <a:rPr b="1" lang="en-US" sz="1800" spc="-1" strike="noStrike" baseline="-25000">
                <a:solidFill>
                  <a:srgbClr val="ff6600"/>
                </a:solidFill>
                <a:latin typeface="Arial"/>
              </a:rPr>
              <a:t>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0480" y="3244680"/>
            <a:ext cx="1463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RR</a:t>
            </a:r>
            <a:r>
              <a:rPr b="1" lang="en-US" sz="1800" spc="-1" strike="noStrike" baseline="-25000">
                <a:solidFill>
                  <a:srgbClr val="0000cc"/>
                </a:solidFill>
                <a:latin typeface="Arial"/>
              </a:rPr>
              <a:t>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22560" y="2610000"/>
            <a:ext cx="48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24360" y="3198960"/>
            <a:ext cx="48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874960" y="3444480"/>
            <a:ext cx="1077840" cy="933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17840" y="3535200"/>
            <a:ext cx="966960" cy="824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0A5F5-349E-49E7-A647-592D638578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Unmeasured Confounding in Claims Data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2760" y="1568520"/>
            <a:ext cx="817848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atabase studies are criticized for their inability to measure clinical and life-style parameters that ar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potential confounder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in many pharmacoepi studi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TC drug u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M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nical parameters: Lab values, blood pressure, X-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hysical functioning, ADL (activities of daily livin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gnitive statu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D8023-FA45-4224-98A3-91E58A2685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trategies to </a:t>
            </a:r>
            <a:r>
              <a:rPr b="0" lang="en-US" sz="3000" spc="-1" strike="noStrike">
                <a:solidFill>
                  <a:srgbClr val="5e574e"/>
                </a:solidFill>
                <a:latin typeface="Arial Black"/>
              </a:rPr>
              <a:t>Minimize</a:t>
            </a: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 Residual Confounding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hoice of comparison group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ternative drug use that have the same perceived effectiveness and safe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tiple comparison group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rossover designs (CCO, CTCO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nstrumental Variable estima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igh dimensional proxy adjustmen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9267A-D67E-4D5A-876D-203E1C2DE8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trategies to </a:t>
            </a:r>
            <a:r>
              <a:rPr b="0" lang="en-US" sz="3000" spc="-1" strike="noStrike">
                <a:solidFill>
                  <a:srgbClr val="5e574e"/>
                </a:solidFill>
                <a:latin typeface="Arial Black"/>
              </a:rPr>
              <a:t>Discuss</a:t>
            </a: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 Residual Confounding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33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Qualitative discussions of potential bia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nsitivity analysi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 is often seen as the ‘last line of defense’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) SA to explore the strength of an association as a function of the strength of the unmeasured confoun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) Answers the question “How strong must a confounder be to fully explain the observed association”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veral examples in Occupational Epi but also for claims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3475080" y="5425920"/>
            <a:ext cx="4857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reenland 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t al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 Arch Occup Env Health 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ang PS et al: J Am Geriatr Soc 200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225BD-1085-4C90-8785-C7F5A25815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79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Dealing with confounding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65833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neeweiss, PDS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59200" y="1081080"/>
            <a:ext cx="181584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ou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562040" y="1484280"/>
            <a:ext cx="4584240" cy="1291680"/>
            <a:chOff x="1562040" y="1484280"/>
            <a:chExt cx="4584240" cy="1291680"/>
          </a:xfrm>
        </p:grpSpPr>
        <p:grpSp>
          <p:nvGrpSpPr>
            <p:cNvPr id="112" name=""/>
            <p:cNvGrpSpPr/>
            <p:nvPr/>
          </p:nvGrpSpPr>
          <p:grpSpPr>
            <a:xfrm>
              <a:off x="1562040" y="2182680"/>
              <a:ext cx="4584240" cy="593280"/>
              <a:chOff x="1562040" y="2182680"/>
              <a:chExt cx="4584240" cy="593280"/>
            </a:xfrm>
          </p:grpSpPr>
          <p:sp>
            <p:nvSpPr>
              <p:cNvPr id="113" name=""/>
              <p:cNvSpPr/>
              <p:nvPr/>
            </p:nvSpPr>
            <p:spPr>
              <a:xfrm>
                <a:off x="4330440" y="2182680"/>
                <a:ext cx="1815840" cy="580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Unmeasured Confounder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562040" y="2195280"/>
                <a:ext cx="1815840" cy="580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easured Confounder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 flipH="1">
              <a:off x="2463840" y="1496880"/>
              <a:ext cx="1371600" cy="69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35440" y="1484280"/>
              <a:ext cx="134604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19040" y="2792520"/>
            <a:ext cx="1993680" cy="1876320"/>
            <a:chOff x="419040" y="2792520"/>
            <a:chExt cx="1993680" cy="1876320"/>
          </a:xfrm>
        </p:grpSpPr>
        <p:sp>
          <p:nvSpPr>
            <p:cNvPr id="118" name=""/>
            <p:cNvSpPr/>
            <p:nvPr/>
          </p:nvSpPr>
          <p:spPr>
            <a:xfrm>
              <a:off x="482760" y="3453120"/>
              <a:ext cx="1168200" cy="33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9040" y="3961080"/>
              <a:ext cx="13464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tri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t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1053720" y="2792520"/>
              <a:ext cx="1359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019240" y="2792520"/>
            <a:ext cx="1752840" cy="2233800"/>
            <a:chOff x="2019240" y="2792520"/>
            <a:chExt cx="1752840" cy="2233800"/>
          </a:xfrm>
        </p:grpSpPr>
        <p:sp>
          <p:nvSpPr>
            <p:cNvPr id="122" name=""/>
            <p:cNvSpPr/>
            <p:nvPr/>
          </p:nvSpPr>
          <p:spPr>
            <a:xfrm>
              <a:off x="2070000" y="3452760"/>
              <a:ext cx="1206720" cy="33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19240" y="3948120"/>
              <a:ext cx="17528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ndard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ra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re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13080" y="2792520"/>
              <a:ext cx="266760" cy="66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962520" y="2795760"/>
            <a:ext cx="1866960" cy="2691000"/>
            <a:chOff x="3962520" y="2795760"/>
            <a:chExt cx="1866960" cy="2691000"/>
          </a:xfrm>
        </p:grpSpPr>
        <p:sp>
          <p:nvSpPr>
            <p:cNvPr id="126" name=""/>
            <p:cNvSpPr/>
            <p:nvPr/>
          </p:nvSpPr>
          <p:spPr>
            <a:xfrm>
              <a:off x="4013280" y="3430440"/>
              <a:ext cx="1816200" cy="82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measured, but measurable in substud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62520" y="4408560"/>
              <a:ext cx="175248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-stage samp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xt. adjust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mpu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4927680" y="2795760"/>
              <a:ext cx="31752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232240" y="2779560"/>
            <a:ext cx="3911760" cy="3713400"/>
            <a:chOff x="5232240" y="2779560"/>
            <a:chExt cx="3911760" cy="3713400"/>
          </a:xfrm>
        </p:grpSpPr>
        <p:sp>
          <p:nvSpPr>
            <p:cNvPr id="130" name=""/>
            <p:cNvSpPr/>
            <p:nvPr/>
          </p:nvSpPr>
          <p:spPr>
            <a:xfrm>
              <a:off x="6235560" y="3427560"/>
              <a:ext cx="1816200" cy="33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measur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58080" y="4227480"/>
              <a:ext cx="1168200" cy="33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45320" y="4227480"/>
              <a:ext cx="1206720" cy="33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81760" y="4697280"/>
              <a:ext cx="1447920" cy="11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ross-o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tive comparator (restriction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07160" y="4684680"/>
              <a:ext cx="1536840" cy="18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strumental var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xy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sitivity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32240" y="2779560"/>
              <a:ext cx="181620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6667200" y="3782880"/>
              <a:ext cx="44460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99200" y="3782880"/>
              <a:ext cx="10922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914400" y="5040360"/>
            <a:ext cx="181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ensity 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31840" y="5408640"/>
            <a:ext cx="187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ginal Structural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23280" y="5916600"/>
            <a:ext cx="1447560" cy="5335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86E07-34A5-4633-B32D-7707531AE6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A simple sensitivity analysi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apparent RR is a function of the adjusted RR times ‘the imbalance of the unobserved confounder’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fter solving for RR we can plug in values for the prevalence and strength of the confounder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190600" y="2935440"/>
                <a:ext cx="4300560" cy="98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R</m:t>
                    </m:r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77208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603520" y="5076720"/>
                <a:ext cx="3352680" cy="14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RR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D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D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54FF2-4777-43B5-A6C7-E3C0E4F415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A made-up example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ssociation between TNF-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blocking agents and NH lymphoma in RA patien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’s assume an observed RR of 2.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’s assume 50% of RA patients have a more progressive immunologic disease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that more progressive disease is more likely to lead to NH lymphom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’s now vary the imbalance of the hypothetical unobserved confoun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6153A-27A1-4049-97E5-2816C3F503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24T09:14:30Z</dcterms:created>
  <dc:creator>Harvard Med School</dc:creator>
  <dc:description/>
  <cp:keywords/>
  <dc:language>en-US</dc:language>
  <cp:lastModifiedBy>rac</cp:lastModifiedBy>
  <cp:lastPrinted>2000-09-17T17:42:48Z</cp:lastPrinted>
  <dcterms:modified xsi:type="dcterms:W3CDTF">2008-10-02T16:09:30Z</dcterms:modified>
  <cp:revision>249</cp:revision>
  <dc:subject/>
  <dc:title>Comorbidity Scores</dc:title>
</cp:coreProperties>
</file>