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B18DB-A4DB-40B4-9482-C59FF83EFD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22822-97B9-4548-8493-FABAF84E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D6271-BAC6-4E68-B892-FB9A305C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1D9B4-2085-4611-8692-88AF389F72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D75EB-D9A8-4767-BBDB-4EC6398C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D31FED-8A1E-4232-92C1-0615BE56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E4A1C-674B-493B-8C60-357BC7B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9DA96-3F2F-4F27-BDEE-BC5568DA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DB19F-3F9F-44FE-8B72-944C11CA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E9806-F42F-4981-AE31-9A4ED182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3C3DC-782A-47EB-933E-73C643FF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BF91-7AB1-41A8-AEFF-E08C945D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E76EE-1E11-4D64-830A-07F6F1C9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BD37A-4FAD-4B08-AAB7-E9EADC8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B15D8-664E-4284-868A-64B3766D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56AA1-55CA-4955-B24E-77A2C0AD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0E1DF-466A-4D91-BFA4-9F11B515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58F8-DA71-4532-9F15-A6EC746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1543-F153-49B2-8691-7ECBC4F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BFBCA-BD0A-473F-B60D-884E2812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D662A-F306-45C7-9C60-BD659832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B8C9-3052-4003-A57E-7C067494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7D2B-C34A-4972-A549-E21F3DA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A11F-A27D-4C8F-9BB5-87B39A80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4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E7DB-DB32-4AC1-BF69-2380A3BDBA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55B2-6891-4E6A-9214-9AAC7FFA58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0560" y="1045800"/>
            <a:ext cx="810288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Analysis for Residual Confounding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99920" y="3213000"/>
            <a:ext cx="7543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stian Schneeweiss MD, ScD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Pharmacoepidemiology and Pharmacoeconomic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Medicine, Harvard Medical School,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24080" y="3876840"/>
            <a:ext cx="1447920" cy="961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88000" y="3876840"/>
            <a:ext cx="9903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73A37-98CA-4BCD-88FB-A25916E507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Bias by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63600" y="1407960"/>
          <a:ext cx="8416800" cy="51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1407960"/>
                    <a:ext cx="841680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" name=""/>
          <p:cNvGrpSpPr/>
          <p:nvPr/>
        </p:nvGrpSpPr>
        <p:grpSpPr>
          <a:xfrm>
            <a:off x="3341520" y="3560760"/>
            <a:ext cx="1098720" cy="2077920"/>
            <a:chOff x="3341520" y="3560760"/>
            <a:chExt cx="1098720" cy="2077920"/>
          </a:xfrm>
        </p:grpSpPr>
        <p:sp>
          <p:nvSpPr>
            <p:cNvPr id="152" name=""/>
            <p:cNvSpPr/>
            <p:nvPr/>
          </p:nvSpPr>
          <p:spPr>
            <a:xfrm>
              <a:off x="3341520" y="3560760"/>
              <a:ext cx="1086120" cy="88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40240" y="4451400"/>
              <a:ext cx="0" cy="1187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18920" y="4086360"/>
            <a:ext cx="2581560" cy="1288800"/>
            <a:chOff x="2518920" y="4086360"/>
            <a:chExt cx="2581560" cy="1288800"/>
          </a:xfrm>
        </p:grpSpPr>
        <p:sp>
          <p:nvSpPr>
            <p:cNvPr id="155" name=""/>
            <p:cNvSpPr/>
            <p:nvPr/>
          </p:nvSpPr>
          <p:spPr>
            <a:xfrm flipV="1">
              <a:off x="2536920" y="4086360"/>
              <a:ext cx="25635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518920" y="4368960"/>
              <a:ext cx="1800" cy="1006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56DA9-DCD0-46C7-AA82-9D13C8B525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803160" y="339840"/>
          <a:ext cx="6956640" cy="66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339840"/>
                    <a:ext cx="695664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rot="19386000">
            <a:off x="6218280" y="43941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A781-B42B-4300-9F20-F836B1847D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s and cons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Array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easy to perform using Exc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informative to explore confounding with little prior knowledge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t usually does not really provide an answer to a specific research ques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4 parameters can vary -&gt; in a 3-D plot 2 parameter have to be kept consta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optical impression can be manipulated by choosing different ranges for the ax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D6F6A-2201-4F2A-B094-E90503C585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ame example, different parameter rang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52320" y="1500120"/>
          <a:ext cx="769644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500120"/>
                    <a:ext cx="769644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87CE7-7062-42AF-8920-1B5EBEFAEC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onclusion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Array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reat tool but you need to be honest to yoursel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r all but one tool that I present today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conditional independence of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n the exposure sta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violated than residual bias may be overestim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757520" y="57340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4680" y="5734080"/>
            <a:ext cx="17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44760" y="6045120"/>
            <a:ext cx="24145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33800" y="6222960"/>
            <a:ext cx="93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62360" y="4592520"/>
            <a:ext cx="1175040" cy="1141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232080" y="4575240"/>
            <a:ext cx="1131840" cy="11588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4720" y="4921200"/>
            <a:ext cx="101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42040" y="4921200"/>
            <a:ext cx="1527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59160" y="4376880"/>
            <a:ext cx="509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2400" y="4883040"/>
            <a:ext cx="50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97240" y="5144760"/>
            <a:ext cx="1042920" cy="749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86480" y="5200560"/>
            <a:ext cx="944280" cy="677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4160" y="3241800"/>
            <a:ext cx="34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nan, Robins: Biometrics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432320" y="4667400"/>
            <a:ext cx="469800" cy="337320"/>
            <a:chOff x="4432320" y="4667400"/>
            <a:chExt cx="469800" cy="337320"/>
          </a:xfrm>
        </p:grpSpPr>
        <p:sp>
          <p:nvSpPr>
            <p:cNvPr id="181" name=""/>
            <p:cNvSpPr/>
            <p:nvPr/>
          </p:nvSpPr>
          <p:spPr>
            <a:xfrm>
              <a:off x="4457880" y="4699080"/>
              <a:ext cx="0" cy="26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32320" y="4667400"/>
              <a:ext cx="46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B461-B2E7-4DE2-9F2C-CF1B87B79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ore advanced technique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Wouldn’t it be more interesting to kn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stro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mbalanc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a confounder have to be in order to fully explain the observed finding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1959120" y="4119480"/>
            <a:ext cx="9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44920" y="4118040"/>
            <a:ext cx="101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265480" y="2712960"/>
            <a:ext cx="0" cy="13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71800" y="2752560"/>
            <a:ext cx="0" cy="13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D00D-8FB3-41C2-A7D7-62EEE1FEF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483000" y="0"/>
            <a:ext cx="58942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950160" y="0"/>
            <a:ext cx="893520" cy="149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92120" y="0"/>
            <a:ext cx="121932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4160" y="396720"/>
            <a:ext cx="3504960" cy="32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aty et al: JAGS 1999;47: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CB use and acute M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ss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unmeasured factors that may lead to a preferred prescribing of CCB to people at higher risk for AM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27480" y="817560"/>
            <a:ext cx="88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24320" y="-152280"/>
            <a:ext cx="1057320" cy="1360440"/>
          </a:xfrm>
          <a:custGeom>
            <a:avLst/>
            <a:gdLst/>
            <a:ahLst/>
            <a:rect l="l" t="t" r="r" b="b"/>
            <a:pathLst>
              <a:path w="666" h="857">
                <a:moveTo>
                  <a:pt x="0" y="0"/>
                </a:moveTo>
                <a:lnTo>
                  <a:pt x="26" y="857"/>
                </a:lnTo>
                <a:lnTo>
                  <a:pt x="666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12200" y="0"/>
            <a:ext cx="1827000" cy="153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28120" y="3643200"/>
            <a:ext cx="98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4240" y="45115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9960" y="5608800"/>
            <a:ext cx="44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05800" y="1225440"/>
            <a:ext cx="1438200" cy="365400"/>
          </a:xfrm>
          <a:prstGeom prst="borderCallout2">
            <a:avLst>
              <a:gd name="adj1" fmla="val 18750"/>
              <a:gd name="adj2" fmla="val -8333"/>
              <a:gd name="adj3" fmla="val 31305"/>
              <a:gd name="adj4" fmla="val -25055"/>
              <a:gd name="adj5" fmla="val 351740"/>
              <a:gd name="adj6" fmla="val -6887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 = 1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05800" y="1978200"/>
            <a:ext cx="1438200" cy="365040"/>
          </a:xfrm>
          <a:prstGeom prst="borderCallout2">
            <a:avLst>
              <a:gd name="adj1" fmla="val 18750"/>
              <a:gd name="adj2" fmla="val -8333"/>
              <a:gd name="adj3" fmla="val 31305"/>
              <a:gd name="adj4" fmla="val -25717"/>
              <a:gd name="adj5" fmla="val 260000"/>
              <a:gd name="adj6" fmla="val -7097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 = 1.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38A3B-2118-4B34-B136-9387C82CE2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488880" y="603360"/>
          <a:ext cx="9291600" cy="40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603360"/>
                    <a:ext cx="92916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 rot="19386000">
            <a:off x="5789520" y="53085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B0DF0-397A-4335-9DE0-CDBA83581D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Caution!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saty et al. concluded that it is unlikely that an unmeasured confounder of that magnitude exis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wever, the randomized trial ALLHAT showed no association between CCB use and AM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lternative explanation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J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sidual confounding may be larger than anticipated from individual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an issue of residual confounding but other biases, e.g. control selec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E4A4-81CF-4C2B-8180-7C53CE834F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Pros and cons of “</a:t>
            </a:r>
            <a:r>
              <a:rPr b="0" lang="en-US" sz="3000" spc="-1" strike="noStrike">
                <a:solidFill>
                  <a:srgbClr val="333399"/>
                </a:solidFill>
                <a:latin typeface="Arial Black"/>
              </a:rPr>
              <a:t>Rule Out Approach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y easy to perform using Excel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eaningful and easy to communicate interpre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dy-specific interpre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ill assuming conditional independence of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and C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le Out” lacks any quantitative assessment of potential confounders that are unmeasur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2BD6-83A2-4A69-AB97-C5F9E9DFB3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Outline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82760" y="1343160"/>
            <a:ext cx="81784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sidual Confounding and what we can do about i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mple sensitivity analysis: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Array Appro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dy-specific analysis: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Rule Out Approa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spcBef>
                <a:spcPts val="64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ing additional information: </a:t>
            </a:r>
            <a:r>
              <a:rPr b="0" lang="en-US" sz="2600" spc="-1" strike="noStrike">
                <a:solidFill>
                  <a:srgbClr val="0000cc"/>
                </a:solidFill>
                <a:latin typeface="Tahoma"/>
              </a:rPr>
              <a:t>External Adjust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CE981-0B97-43F3-947D-DC7FDA56F8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xternal Adjustment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e step beyond sensitivity analy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ing additional information not available in the main stu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ften survey inform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F005-95D6-4A3A-9397-C30E25C495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Adjust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-founding using external information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urvey information in a representative sample can be used to quantify the imbalance of risk factor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that are not measured in claim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among exposure group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association of such risk factors with the outcome can be assess from the medical literature (RCTs, observational studies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565440" y="5191200"/>
            <a:ext cx="485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lentga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DS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neeweiss et al: Epidemiology, 200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B98F-7303-46F0-894A-7BB43687C4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In our example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1198440" y="41911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fecox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64000" y="4191120"/>
            <a:ext cx="17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ute 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25720" y="4552920"/>
            <a:ext cx="2317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76680" y="4759200"/>
            <a:ext cx="89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440" y="2222640"/>
            <a:ext cx="1778040" cy="863640"/>
          </a:xfrm>
          <a:prstGeom prst="wedgeRectCallout">
            <a:avLst>
              <a:gd name="adj1" fmla="val 49106"/>
              <a:gd name="adj2" fmla="val 7738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Survey data in a subs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45120" y="2463840"/>
            <a:ext cx="1765440" cy="635040"/>
          </a:xfrm>
          <a:prstGeom prst="wedgeRectCallout">
            <a:avLst>
              <a:gd name="adj1" fmla="val -64569"/>
              <a:gd name="adj2" fmla="val 9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m medical lit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381400" y="1635120"/>
            <a:ext cx="4182840" cy="2556000"/>
            <a:chOff x="2381400" y="1635120"/>
            <a:chExt cx="4182840" cy="2556000"/>
          </a:xfrm>
        </p:grpSpPr>
        <p:sp>
          <p:nvSpPr>
            <p:cNvPr id="221" name=""/>
            <p:cNvSpPr/>
            <p:nvPr/>
          </p:nvSpPr>
          <p:spPr>
            <a:xfrm>
              <a:off x="4359240" y="2860560"/>
              <a:ext cx="1127160" cy="133056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803680" y="2841480"/>
              <a:ext cx="1087200" cy="13496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81400" y="3244680"/>
              <a:ext cx="976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Arial"/>
                </a:rPr>
                <a:t>OR</a:t>
              </a:r>
              <a:r>
                <a:rPr b="1" lang="en-US" sz="1800" spc="-1" strike="noStrike" baseline="-25000">
                  <a:solidFill>
                    <a:srgbClr val="ff6600"/>
                  </a:solidFill>
                  <a:latin typeface="Arial"/>
                </a:rPr>
                <a:t>E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0480" y="3244680"/>
              <a:ext cx="14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RR</a:t>
              </a:r>
              <a:r>
                <a:rPr b="1" lang="en-US" sz="1800" spc="-1" strike="noStrike" baseline="-25000">
                  <a:solidFill>
                    <a:srgbClr val="0000cc"/>
                  </a:solidFill>
                  <a:latin typeface="Arial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3080" y="1635120"/>
              <a:ext cx="114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[smoking,aspirin, BMI, etc.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22560" y="2610000"/>
              <a:ext cx="487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924360" y="319896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874960" y="3444480"/>
            <a:ext cx="1077840" cy="933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17840" y="3535200"/>
            <a:ext cx="966960" cy="82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F0912-9BC0-455E-ACE1-8744D902A4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More contrast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55640" y="878040"/>
          <a:ext cx="7631280" cy="56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78040"/>
                    <a:ext cx="7631280" cy="56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3022560" y="2273400"/>
            <a:ext cx="9525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62240" y="5702400"/>
            <a:ext cx="584280" cy="3556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92B7-AC3D-442D-90F1-FD062C6C6A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of Bias as a Function of a Misspecified R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 Black"/>
              </a:rPr>
              <a:t>CD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2448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06600" y="1685880"/>
          <a:ext cx="7024680" cy="475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685880"/>
                    <a:ext cx="702468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19040" y="1498680"/>
            <a:ext cx="44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esity (BMI &gt;=30 vs. BMI&lt;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B5F4-6833-4DED-9593-CA62B47EB3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ensitivity towards a misspecified R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 Black"/>
              </a:rPr>
              <a:t>CO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from the literature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19040" y="1498680"/>
            <a:ext cx="34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C aspirin use (y/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360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79600" y="1895400"/>
          <a:ext cx="7032600" cy="466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1895400"/>
                    <a:ext cx="7032600" cy="46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D6516-D4F7-4A8C-913B-3600940A99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887400" y="311040"/>
          <a:ext cx="6478560" cy="642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7400" y="311040"/>
                    <a:ext cx="647856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rot="19386000">
            <a:off x="6218280" y="4394160"/>
            <a:ext cx="2581200" cy="5814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rugep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E2B4-6988-446C-B846-C27947147E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7840" y="1204920"/>
            <a:ext cx="817848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s limited to 5 potential confound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lab values, physical activity, blood pressure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bout the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unknow unknowns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ssess the bias we assume an exposure–disease association of 1 (null hypothesis)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ore the truth is away from the null the more bias in our bias estim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ever the less relevant unmeasured confounders beco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idity depends on representativenes of sampling with regard to the unmeasured confound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e could not consider the joint distribution of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mited to a binary wor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D5ED5-7B69-4B63-9BFD-68C54635830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olving the Main Limitation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3520" y="1217520"/>
            <a:ext cx="81788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eed a meth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addresses the joint distribution of several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handle binary, ordinal or normally distributed unmeasured confound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 et al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iometrics 1998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handle a single unmeasured covariate of any 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can handle only 1 covari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turmer, Schneeweiss et 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m J Epidemiol 2004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nsity score calibr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handle multiple unmeasured covariates of any 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16A47-FC8E-4E86-BBF1-1008D483AFB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nsitivity analyses for residual confounding are underutilized although they are technically easy to perfor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cel program for download (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drugepi.org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real challenge is the interpretation of your finding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s is all summarized in Schneeweiss PDS 2007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E022-54B6-4BC4-9343-198735AB46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nmeasured (residual) Confounding: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3583080" y="1635120"/>
            <a:ext cx="114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moking,healthy lifestyle, etc.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8440" y="419112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ug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4191120"/>
            <a:ext cx="170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5720" y="4552920"/>
            <a:ext cx="2317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76680" y="4759200"/>
            <a:ext cx="89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9240" y="2860560"/>
            <a:ext cx="1127160" cy="133056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03680" y="2841480"/>
            <a:ext cx="1087200" cy="1349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81400" y="3244680"/>
            <a:ext cx="97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OR</a:t>
            </a:r>
            <a:r>
              <a:rPr b="1" lang="en-US" sz="1800" spc="-1" strike="noStrike" baseline="-25000">
                <a:solidFill>
                  <a:srgbClr val="ff6600"/>
                </a:solidFill>
                <a:latin typeface="Arial"/>
              </a:rPr>
              <a:t>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3244680"/>
            <a:ext cx="146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R</a:t>
            </a:r>
            <a:r>
              <a:rPr b="1" lang="en-US" sz="1800" spc="-1" strike="noStrike" baseline="-25000">
                <a:solidFill>
                  <a:srgbClr val="0000cc"/>
                </a:solidFill>
                <a:latin typeface="Arial"/>
              </a:rPr>
              <a:t>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22560" y="261000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3198960"/>
            <a:ext cx="4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874960" y="3444480"/>
            <a:ext cx="1077840" cy="933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7840" y="3535200"/>
            <a:ext cx="966960" cy="82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FA65-D7B7-4797-9A89-8DE0FB7746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Unmeasured Confounding in Claims Data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1568520"/>
            <a:ext cx="81784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atabase studies are criticized for their inability to measure clinical and life-style parameters that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potential confounders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in many pharmacoepi studi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C drug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M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nical parameters: Lab values, blood pressure, X-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ysical functioning, ADL (activities of daily liv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gnitive stat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7C89-5732-4C60-8932-40D9D070EA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Minimize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hoice of comparison grou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ive drug use that have the same perceived effectiveness and safe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ple comparison grou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rossover designs (CCO, CTCO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strumental Variable estim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igh dimensional proxy adjustmen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A443-5CE5-40C8-B7A0-A95D2C1C54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Strategies to </a:t>
            </a:r>
            <a:r>
              <a:rPr b="0" lang="en-US" sz="3000" spc="-1" strike="noStrike">
                <a:solidFill>
                  <a:srgbClr val="5e574e"/>
                </a:solidFill>
                <a:latin typeface="Arial Black"/>
              </a:rPr>
              <a:t>Discuss</a:t>
            </a: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 Residual Confounding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ative discussions of potential bia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nsitivity analysi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 is often seen as the ‘last line of defense’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) SA to explore the strength of an association as a function of the strength of the unmeasured confou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) Answers the question “How strong must a confounder be to fully explain the observed association”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veral examples in Occupational Epi but also for claims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475080" y="5425920"/>
            <a:ext cx="4857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land 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t al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t Arch Occup Env Health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ng PS et al: J Am Geriatr Soc 200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1F54-3C2A-4265-9F83-D94947ECBE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79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Black"/>
              </a:rPr>
              <a:t>Dealing with confounding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6583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neeweiss, PDS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59200" y="1081080"/>
            <a:ext cx="181584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o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2040" y="1484280"/>
            <a:ext cx="4584240" cy="1291680"/>
            <a:chOff x="1562040" y="1484280"/>
            <a:chExt cx="4584240" cy="1291680"/>
          </a:xfrm>
        </p:grpSpPr>
        <p:grpSp>
          <p:nvGrpSpPr>
            <p:cNvPr id="112" name=""/>
            <p:cNvGrpSpPr/>
            <p:nvPr/>
          </p:nvGrpSpPr>
          <p:grpSpPr>
            <a:xfrm>
              <a:off x="1562040" y="2182680"/>
              <a:ext cx="4584240" cy="593280"/>
              <a:chOff x="1562040" y="2182680"/>
              <a:chExt cx="4584240" cy="593280"/>
            </a:xfrm>
          </p:grpSpPr>
          <p:sp>
            <p:nvSpPr>
              <p:cNvPr id="113" name=""/>
              <p:cNvSpPr/>
              <p:nvPr/>
            </p:nvSpPr>
            <p:spPr>
              <a:xfrm>
                <a:off x="4330440" y="2182680"/>
                <a:ext cx="1815840" cy="580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Unmeasured Confound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562040" y="2195280"/>
                <a:ext cx="1815840" cy="580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easured Confound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 flipH="1">
              <a:off x="2463840" y="1496880"/>
              <a:ext cx="137160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35440" y="1484280"/>
              <a:ext cx="13460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9040" y="2792520"/>
            <a:ext cx="1993680" cy="1876320"/>
            <a:chOff x="419040" y="2792520"/>
            <a:chExt cx="1993680" cy="1876320"/>
          </a:xfrm>
        </p:grpSpPr>
        <p:sp>
          <p:nvSpPr>
            <p:cNvPr id="118" name=""/>
            <p:cNvSpPr/>
            <p:nvPr/>
          </p:nvSpPr>
          <p:spPr>
            <a:xfrm>
              <a:off x="482760" y="3453120"/>
              <a:ext cx="1168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40" y="3961080"/>
              <a:ext cx="13464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tri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053720" y="2792520"/>
              <a:ext cx="135900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019240" y="2792520"/>
            <a:ext cx="1752840" cy="2233800"/>
            <a:chOff x="2019240" y="2792520"/>
            <a:chExt cx="1752840" cy="2233800"/>
          </a:xfrm>
        </p:grpSpPr>
        <p:sp>
          <p:nvSpPr>
            <p:cNvPr id="122" name=""/>
            <p:cNvSpPr/>
            <p:nvPr/>
          </p:nvSpPr>
          <p:spPr>
            <a:xfrm>
              <a:off x="2070000" y="3452760"/>
              <a:ext cx="12067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19240" y="3948120"/>
              <a:ext cx="17528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ndard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a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r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3080" y="2792520"/>
              <a:ext cx="26676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962520" y="2795760"/>
            <a:ext cx="1866960" cy="2691000"/>
            <a:chOff x="3962520" y="2795760"/>
            <a:chExt cx="1866960" cy="2691000"/>
          </a:xfrm>
        </p:grpSpPr>
        <p:sp>
          <p:nvSpPr>
            <p:cNvPr id="126" name=""/>
            <p:cNvSpPr/>
            <p:nvPr/>
          </p:nvSpPr>
          <p:spPr>
            <a:xfrm>
              <a:off x="4013280" y="3430440"/>
              <a:ext cx="181620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measured, but measurable in substud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62520" y="4408560"/>
              <a:ext cx="175248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-stage samp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. adjust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u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927680" y="2795760"/>
              <a:ext cx="31752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32240" y="2779560"/>
            <a:ext cx="3911760" cy="3713400"/>
            <a:chOff x="5232240" y="2779560"/>
            <a:chExt cx="3911760" cy="3713400"/>
          </a:xfrm>
        </p:grpSpPr>
        <p:sp>
          <p:nvSpPr>
            <p:cNvPr id="130" name=""/>
            <p:cNvSpPr/>
            <p:nvPr/>
          </p:nvSpPr>
          <p:spPr>
            <a:xfrm>
              <a:off x="6235560" y="3427560"/>
              <a:ext cx="1816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measur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58080" y="4227480"/>
              <a:ext cx="116820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45320" y="4227480"/>
              <a:ext cx="12067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81760" y="4697280"/>
              <a:ext cx="144792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ross-o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ctive comparator (restriction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07160" y="4684680"/>
              <a:ext cx="153684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rumental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xy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sitivity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32240" y="2779560"/>
              <a:ext cx="181620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6667200" y="3782880"/>
              <a:ext cx="4446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9200" y="3782880"/>
              <a:ext cx="1092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914400" y="5040360"/>
            <a:ext cx="181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nsity 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31840" y="5408640"/>
            <a:ext cx="187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Structural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5916600"/>
            <a:ext cx="1447560" cy="533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6528-8B7C-4820-BCA6-46FFF4FCEA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 simple sensitivity analysis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apparent RR is a function of the adjusted RR times ‘the imbalance of the unobserved confounder’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fter solving for RR we can plug in values for the prevalence and strength of the confounder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190600" y="2935440"/>
                <a:ext cx="430056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D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7720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603520" y="5076720"/>
                <a:ext cx="335268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D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F086-5A60-4A61-A32C-0140C921EF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A made-up example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ssociation between TNF-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locking agents and NH lymphoma in RA patien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assume an observed RR of 2.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assume 50% of RA patients have a more progressive immunologic diseas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that more progressive disease is more likely to lead to NH lympho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’s now vary the imbalance of the hypothetical unobserved confoun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8C9C-CA91-4DC8-95ED-34AC2C28C1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4T09:14:30Z</dcterms:created>
  <dc:creator>Harvard Med School</dc:creator>
  <dc:description/>
  <cp:keywords/>
  <dc:language>en-US</dc:language>
  <cp:lastModifiedBy>rac</cp:lastModifiedBy>
  <cp:lastPrinted>2000-09-17T17:42:48Z</cp:lastPrinted>
  <dcterms:modified xsi:type="dcterms:W3CDTF">2008-10-02T16:09:30Z</dcterms:modified>
  <cp:revision>249</cp:revision>
  <dc:subject/>
  <dc:title>Comorbidity Scores</dc:title>
</cp:coreProperties>
</file>