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0197D-1ADA-4012-B956-7578B9B44B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55840" y="34308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C7214-5431-4990-94F7-134FA19396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55840" y="34308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50CAA-5D93-4C09-A91D-7907BCACC3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55840" y="34308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1D8E3-320F-4017-ADD8-C5E7CBC35D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81170-9746-4A3A-9782-F45FAD3BD28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55840" y="34308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AF32F-B2AB-4FAE-A864-AAFE416D0B2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55840" y="34308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ECBC5-C2B9-49D2-9A46-DFC10D3F159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55840" y="34308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21F63-7F6C-4D60-A5C6-49A284C7474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55840" y="34308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92F3A-2FFB-49DB-AC21-66EC75FD6EF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455840" y="34308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30067-918E-46BE-AB3A-D6B6C825C65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55840" y="34308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69BF7-F762-4FDD-8353-869BDC88E7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55840" y="34308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74660-7095-40F1-BC4B-D69904819A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55840" y="34308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4CA05-DF94-4F6E-BBD6-592AD84A3CA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55840" y="34308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6A731-2475-461A-9F97-9CB2490EB6C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55840" y="34308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A59ED-2D1A-41A8-9EF1-3139B6394E2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55840" y="34308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E6D76-3651-4C66-9A73-5F102DBA519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55840" y="34308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19687-0CA8-44DC-AD76-4F37309379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55840" y="34308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DECE4-BA53-4017-A529-011F7F5437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55840" y="34308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86AD8-430E-40C6-B804-10C44D52CE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55840" y="34308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EA628-E8EB-4C99-BE7A-2D5B6DAA4C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55840" y="34308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EE333-9BB8-4572-AE6D-5B42FB63D8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55840" y="34308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491A2-8B4E-4347-8555-8753504790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55840" y="34308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00C06-69C6-4044-872D-424CE6AA8F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55840" y="34308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37E88-EC60-49A1-9DE2-25DBA73B52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55840" y="34308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7000"/>
          </a:bodyPr>
          <a:p>
            <a:pPr marL="264960" indent="-26496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56200" indent="-226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20800" indent="-199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015920" indent="-12996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211400" indent="-12996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211400" indent="-12996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211400" indent="-12996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Group 93"/>
          <p:cNvGrpSpPr/>
          <p:nvPr/>
        </p:nvGrpSpPr>
        <p:grpSpPr>
          <a:xfrm>
            <a:off x="0" y="1352520"/>
            <a:ext cx="7986240" cy="19080"/>
            <a:chOff x="0" y="1352520"/>
            <a:chExt cx="7986240" cy="19080"/>
          </a:xfrm>
        </p:grpSpPr>
        <p:sp>
          <p:nvSpPr>
            <p:cNvPr id="3" name="Line 94"/>
            <p:cNvSpPr/>
            <p:nvPr/>
          </p:nvSpPr>
          <p:spPr>
            <a:xfrm>
              <a:off x="6840" y="1371600"/>
              <a:ext cx="797940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Line 95"/>
            <p:cNvSpPr/>
            <p:nvPr/>
          </p:nvSpPr>
          <p:spPr>
            <a:xfrm>
              <a:off x="0" y="1352520"/>
              <a:ext cx="797940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" name="Picture 111" descr="HHS"/>
          <p:cNvPicPr/>
          <p:nvPr/>
        </p:nvPicPr>
        <p:blipFill>
          <a:blip r:embed="rId2"/>
          <a:stretch/>
        </p:blipFill>
        <p:spPr>
          <a:xfrm>
            <a:off x="76320" y="76320"/>
            <a:ext cx="1218960" cy="119844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66294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56EBE-82B1-41A9-B102-7B87DC01FA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101"/>
          <p:cNvGrpSpPr/>
          <p:nvPr/>
        </p:nvGrpSpPr>
        <p:grpSpPr>
          <a:xfrm>
            <a:off x="0" y="4705200"/>
            <a:ext cx="7986240" cy="19080"/>
            <a:chOff x="0" y="4705200"/>
            <a:chExt cx="7986240" cy="19080"/>
          </a:xfrm>
        </p:grpSpPr>
        <p:sp>
          <p:nvSpPr>
            <p:cNvPr id="44" name="Line 102"/>
            <p:cNvSpPr/>
            <p:nvPr/>
          </p:nvSpPr>
          <p:spPr>
            <a:xfrm>
              <a:off x="6840" y="4724280"/>
              <a:ext cx="797940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Line 103"/>
            <p:cNvSpPr/>
            <p:nvPr/>
          </p:nvSpPr>
          <p:spPr>
            <a:xfrm>
              <a:off x="0" y="4705200"/>
              <a:ext cx="797940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6" name="Picture 113" descr="HHS"/>
          <p:cNvPicPr/>
          <p:nvPr/>
        </p:nvPicPr>
        <p:blipFill>
          <a:blip r:embed="rId2"/>
          <a:stretch/>
        </p:blipFill>
        <p:spPr>
          <a:xfrm>
            <a:off x="76320" y="76320"/>
            <a:ext cx="1600200" cy="15732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55840" y="34308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7000"/>
          </a:bodyPr>
          <a:p>
            <a:pPr marL="264960" indent="-26496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56200" indent="-226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20800" indent="-199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015920" indent="-12996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211400" indent="-12996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211400" indent="-12996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211400" indent="-12996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9B13E-C768-49A5-8D3E-39AA1A1A82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33523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onfidentiality,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atient Safety Work Product, and PSOs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he Proposed Rule Implementing the Patient Safety and Quality Improvement Act of 200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2133720" y="5091120"/>
            <a:ext cx="4952880" cy="9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HRQ Annual Conferenc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ptember 8, 20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12"/>
          <p:cNvSpPr/>
          <p:nvPr/>
        </p:nvSpPr>
        <p:spPr>
          <a:xfrm>
            <a:off x="662940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72F03-5834-427F-89A8-7DC5D80AC3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55840" y="34308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nfidentialit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975"/>
              </a:spcBef>
              <a:spcAft>
                <a:spcPts val="975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statute provides federal confidentiality and privilege protections to patient safety work product (PSWP) and specifies when disclosures are permitt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0">
              <a:lnSpc>
                <a:spcPct val="90000"/>
              </a:lnSpc>
              <a:spcBef>
                <a:spcPts val="638"/>
              </a:spcBef>
              <a:spcAft>
                <a:spcPts val="638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lnSpc>
                <a:spcPct val="90000"/>
              </a:lnSpc>
              <a:spcBef>
                <a:spcPts val="975"/>
              </a:spcBef>
              <a:spcAft>
                <a:spcPts val="975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nfidentiality and privilege protections continue after disclosure, with limited excep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0">
              <a:lnSpc>
                <a:spcPct val="90000"/>
              </a:lnSpc>
              <a:spcBef>
                <a:spcPts val="638"/>
              </a:spcBef>
              <a:spcAft>
                <a:spcPts val="638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lnSpc>
                <a:spcPct val="90000"/>
              </a:lnSpc>
              <a:spcBef>
                <a:spcPts val="975"/>
              </a:spcBef>
              <a:spcAft>
                <a:spcPts val="975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SWP may contain protected health information (PHI) requiring covered providers to also comply with the HIPAA Privacy Rule requiremen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12"/>
          <p:cNvSpPr/>
          <p:nvPr/>
        </p:nvSpPr>
        <p:spPr>
          <a:xfrm>
            <a:off x="662940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A4448-60B0-4724-9921-E77A3EA786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55840" y="34308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nfidentiality Disclosure Permissio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381240"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ivilege and Confidentiality Excep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1240" indent="-381240">
              <a:lnSpc>
                <a:spcPct val="90000"/>
              </a:lnSpc>
              <a:spcBef>
                <a:spcPts val="1749"/>
              </a:spcBef>
              <a:spcAft>
                <a:spcPts val="104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use in a criminal procee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1240" indent="-381240">
              <a:lnSpc>
                <a:spcPct val="90000"/>
              </a:lnSpc>
              <a:spcBef>
                <a:spcPts val="1749"/>
              </a:spcBef>
              <a:spcAft>
                <a:spcPts val="104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obtain equitable relief for repor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1240" indent="-381240">
              <a:lnSpc>
                <a:spcPct val="90000"/>
              </a:lnSpc>
              <a:spcBef>
                <a:spcPts val="1749"/>
              </a:spcBef>
              <a:spcAft>
                <a:spcPts val="104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authorized by identified provi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1240" indent="-381240">
              <a:lnSpc>
                <a:spcPct val="90000"/>
              </a:lnSpc>
              <a:spcBef>
                <a:spcPts val="1749"/>
              </a:spcBef>
              <a:spcAft>
                <a:spcPts val="104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identifiable PSW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12"/>
          <p:cNvSpPr/>
          <p:nvPr/>
        </p:nvSpPr>
        <p:spPr>
          <a:xfrm>
            <a:off x="662940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10147-BA91-41F7-B6C9-7674BC0802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55840" y="34308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nfidentiality Disclosure Permissions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cont’d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3000"/>
          </a:bodyPr>
          <a:p>
            <a:pPr marL="292680"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nfidentiality Only Excep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2680" indent="-292680">
              <a:lnSpc>
                <a:spcPct val="90000"/>
              </a:lnSpc>
              <a:spcBef>
                <a:spcPts val="1100"/>
              </a:spcBef>
              <a:spcAft>
                <a:spcPts val="825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r Patient Safety Activities (PSA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92680" indent="-292680">
              <a:lnSpc>
                <a:spcPct val="90000"/>
              </a:lnSpc>
              <a:spcBef>
                <a:spcPts val="1100"/>
              </a:spcBef>
              <a:spcAft>
                <a:spcPts val="825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r researc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92680" indent="-292680">
              <a:lnSpc>
                <a:spcPct val="90000"/>
              </a:lnSpc>
              <a:spcBef>
                <a:spcPts val="1100"/>
              </a:spcBef>
              <a:spcAft>
                <a:spcPts val="825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o the FDA (regarding regulated product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92680" indent="-292680">
              <a:lnSpc>
                <a:spcPct val="90000"/>
              </a:lnSpc>
              <a:spcBef>
                <a:spcPts val="1100"/>
              </a:spcBef>
              <a:spcAft>
                <a:spcPts val="825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oluntary disclosure to an accrediting bod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92680" indent="-292680">
              <a:lnSpc>
                <a:spcPct val="90000"/>
              </a:lnSpc>
              <a:spcBef>
                <a:spcPts val="1100"/>
              </a:spcBef>
              <a:spcAft>
                <a:spcPts val="825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r business operations as determined by the Secretar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92680" indent="-292680">
              <a:lnSpc>
                <a:spcPct val="90000"/>
              </a:lnSpc>
              <a:spcBef>
                <a:spcPts val="1100"/>
              </a:spcBef>
              <a:spcAft>
                <a:spcPts val="825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r criminal law enforcement purposes (voluntary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92680" indent="-292680">
              <a:lnSpc>
                <a:spcPct val="90000"/>
              </a:lnSpc>
              <a:spcBef>
                <a:spcPts val="1100"/>
              </a:spcBef>
              <a:spcAft>
                <a:spcPts val="825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SWP that does not include the assessment of quality of care or describe or pertain to actions / failures to act by an identifiable provid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112"/>
          <p:cNvSpPr/>
          <p:nvPr/>
        </p:nvSpPr>
        <p:spPr>
          <a:xfrm>
            <a:off x="662940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97AC5-AA68-4654-B4A7-D31052504C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55840" y="34308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atient Safety Activities Disclosur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5000"/>
          </a:bodyPr>
          <a:p>
            <a:pPr marL="348840" indent="-348840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e disclosure permission facilitates open, unfettered communication about patient safety events between providers and PS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8840" indent="-348840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ows for aggregation of PSWP to identify patterns and trends and to facilitate creation of meaningful nonidentifiable PSWP for a national network of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8840" indent="-348840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rs control the extent of disclosures they make to PSOs (and may be able, by contract, to limit redisclosures),  which should ameliorate concerns by providers of wide-spread and uncontrolled dissemination of PSW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12"/>
          <p:cNvSpPr/>
          <p:nvPr/>
        </p:nvSpPr>
        <p:spPr>
          <a:xfrm>
            <a:off x="662940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2A7A2-389C-4C4A-BF4B-11389E0733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55840" y="34308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nforcemen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ong event-driven (complaints and compliance reviews) enforcement program coupled with voluntary compli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rs and PSOs have own incentives to not disclose impermissibly – which align with enforcement goals and may keep the potential enforcement workload 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forcement discretion to make appropriate response to situations presented by these new program requir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duce complexity of enforcement program by basing enforcement regulations on standards familiar to the provider community – the HIPAA Enforcement Ru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12"/>
          <p:cNvSpPr/>
          <p:nvPr/>
        </p:nvSpPr>
        <p:spPr>
          <a:xfrm>
            <a:off x="662940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7C1CF-71C8-496E-886A-9F34268A33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5840" y="34308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nforcement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cont’d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indent="0">
              <a:lnSpc>
                <a:spcPct val="90000"/>
              </a:lnSpc>
              <a:spcBef>
                <a:spcPts val="1375"/>
              </a:spcBef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ff00"/>
                </a:solidFill>
                <a:uFillTx/>
                <a:latin typeface="Arial"/>
              </a:rPr>
              <a:t>Penalty for Violation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: A person who discloses identifiable PSWP in knowing or reckless violation of the confidentiality protections is subject to a civil money penalty (CMP) of up to $10,000 per ac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375"/>
              </a:spcBef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ff00"/>
                </a:solidFill>
                <a:uFillTx/>
                <a:latin typeface="Arial"/>
              </a:rPr>
              <a:t>Disclosures by Agents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: Principals are liable for an agent’s violation acting within the scope of the agenc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375"/>
              </a:spcBef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ff00"/>
                </a:solidFill>
                <a:uFillTx/>
                <a:latin typeface="Arial"/>
              </a:rPr>
              <a:t>Prohibition on Dual Penalties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: CMPs may not be imposed under both the Patient Safety Act and HIPAA for a single ac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375"/>
              </a:spcBef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ff00"/>
                </a:solidFill>
                <a:uFillTx/>
                <a:latin typeface="Arial"/>
              </a:rPr>
              <a:t>OCR Access to PSWP for Enforcement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: PSWP must be disclosed to HHS for compliance and enforcement purpos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12"/>
          <p:cNvSpPr/>
          <p:nvPr/>
        </p:nvSpPr>
        <p:spPr>
          <a:xfrm>
            <a:off x="662940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2EEC3-A90F-48E5-AAD7-4E0979DBDD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55840" y="34308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esentation Organiz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1904760"/>
            <a:ext cx="7993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ient Safety Act: A Brief Overview       – Larry Patt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82720" indent="0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identiality Protections and their Enforcement – Verne Rink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nfidentiality Protections: Provider Considerations – Larry Patt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12"/>
          <p:cNvSpPr/>
          <p:nvPr/>
        </p:nvSpPr>
        <p:spPr>
          <a:xfrm>
            <a:off x="662940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17E10-DECB-421A-8D8B-6A7D41D5CD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55480" y="343080"/>
            <a:ext cx="74595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nfidentiality Protections: Provider Consideratio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3000"/>
          </a:bodyPr>
          <a:p>
            <a:pPr marL="339480" indent="-339480">
              <a:lnSpc>
                <a:spcPct val="90000"/>
              </a:lnSpc>
              <a:spcBef>
                <a:spcPts val="975"/>
              </a:spcBef>
              <a:spcAft>
                <a:spcPts val="975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Patient Safety Act’s confidentiality protections have the potential to significantly expand provider-based patient safety initiativ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75"/>
              </a:spcBef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75"/>
              </a:spcBef>
              <a:spcAft>
                <a:spcPts val="975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posed rule would give a provider great flexibility on how to operate and develop a patient safety evaluation system to meet its need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75"/>
              </a:spcBef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75"/>
              </a:spcBef>
              <a:spcAft>
                <a:spcPts val="975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t providers need to take into account other elements of the statu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12"/>
          <p:cNvSpPr/>
          <p:nvPr/>
        </p:nvSpPr>
        <p:spPr>
          <a:xfrm>
            <a:off x="662940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76CD8-6387-4A6B-98D7-0AE6AE869F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55480" y="343080"/>
            <a:ext cx="74595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nfidentiality Protections: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rovider Consideratio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1000"/>
          </a:bodyPr>
          <a:p>
            <a:pPr marL="330120" indent="-330120">
              <a:lnSpc>
                <a:spcPct val="90000"/>
              </a:lnSpc>
              <a:spcBef>
                <a:spcPts val="975"/>
              </a:spcBef>
              <a:spcAft>
                <a:spcPts val="975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atute requires providers to continue to meet external reporting requirements – with information that is not PSW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90000"/>
              </a:lnSpc>
              <a:spcBef>
                <a:spcPts val="975"/>
              </a:spcBef>
              <a:spcAft>
                <a:spcPts val="975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ivilege protections not only limit access of others to your PSWP but limit your ability to use PSWP in civil, criminal, administrative, or disciplinary proceedings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90000"/>
              </a:lnSpc>
              <a:spcBef>
                <a:spcPts val="975"/>
              </a:spcBef>
              <a:spcAft>
                <a:spcPts val="975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atute prohibits a provider from taking an adverse action against an individual based on the fact that the individual reported information in good fait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90000"/>
              </a:lnSpc>
              <a:spcBef>
                <a:spcPts val="975"/>
              </a:spcBef>
              <a:spcAft>
                <a:spcPts val="975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atute seeks to foster a “culture of safety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12"/>
          <p:cNvSpPr/>
          <p:nvPr/>
        </p:nvSpPr>
        <p:spPr>
          <a:xfrm>
            <a:off x="662940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DAA58-A0B7-4256-BB1F-796B0652ED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55480" y="343080"/>
            <a:ext cx="74595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nfidentiality Protections: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rovider Consideratio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marL="362520" indent="0">
              <a:lnSpc>
                <a:spcPct val="90000"/>
              </a:lnSpc>
              <a:spcBef>
                <a:spcPts val="975"/>
              </a:spcBef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 provider needs to carefully consider what information is appropriate to protect and what information should not be protect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62520" indent="0">
              <a:lnSpc>
                <a:spcPct val="90000"/>
              </a:lnSpc>
              <a:spcBef>
                <a:spcPts val="975"/>
              </a:spcBef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r example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62520" indent="-362520">
              <a:lnSpc>
                <a:spcPct val="90000"/>
              </a:lnSpc>
              <a:spcBef>
                <a:spcPts val="975"/>
              </a:spcBef>
              <a:spcAft>
                <a:spcPts val="975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s this information needed to meet external reporting, accountability requirements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62520" indent="-362520">
              <a:lnSpc>
                <a:spcPct val="90000"/>
              </a:lnSpc>
              <a:spcBef>
                <a:spcPts val="975"/>
              </a:spcBef>
              <a:spcAft>
                <a:spcPts val="975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ill this information be needed to justify a disciplinary decision if challenged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12"/>
          <p:cNvSpPr/>
          <p:nvPr/>
        </p:nvSpPr>
        <p:spPr>
          <a:xfrm>
            <a:off x="662940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2F4FD-B240-4EE3-A99B-90B608D619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55840" y="34308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esentation Organiz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7993080" cy="32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lvl="3" marL="1354680" indent="0">
              <a:lnSpc>
                <a:spcPct val="90000"/>
              </a:lnSpc>
              <a:spcBef>
                <a:spcPts val="675"/>
              </a:spcBef>
              <a:spcAft>
                <a:spcPts val="675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3160" indent="-35316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atient Safety Act: A Brief Overview       – Larry Patt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354680" indent="0">
              <a:lnSpc>
                <a:spcPct val="90000"/>
              </a:lnSpc>
              <a:spcBef>
                <a:spcPts val="675"/>
              </a:spcBef>
              <a:spcAft>
                <a:spcPts val="675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3160" indent="-35316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identiality Protections and their Enforcement – Verne Rink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3160" indent="-35316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identiality Protections: Provider Considerations – Larry Patt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112"/>
          <p:cNvSpPr/>
          <p:nvPr/>
        </p:nvSpPr>
        <p:spPr>
          <a:xfrm>
            <a:off x="662940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C8766-9080-4722-9351-891EE294E5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55480" y="343080"/>
            <a:ext cx="74595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nfidentiality Protections: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rovider Consideratio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5000"/>
          </a:bodyPr>
          <a:p>
            <a:pPr marL="348840" indent="0">
              <a:lnSpc>
                <a:spcPct val="90000"/>
              </a:lnSpc>
              <a:spcBef>
                <a:spcPts val="975"/>
              </a:spcBef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en PSWP is held by an entity, the proposed rule would not hold entities liable for uses of PSWP within the legal entity (note: component PSOs cannot share PSWP with rest of its parent organization except under certain circumstance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8840" indent="0">
              <a:lnSpc>
                <a:spcPct val="90000"/>
              </a:lnSpc>
              <a:spcBef>
                <a:spcPts val="975"/>
              </a:spcBef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s permits free flow of PSWP to those who need access within the provider 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8840" indent="0">
              <a:lnSpc>
                <a:spcPct val="90000"/>
              </a:lnSpc>
              <a:spcBef>
                <a:spcPts val="975"/>
              </a:spcBef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t any holder of PSWP – including a provider’s employees – can make disclosures of PSWP in conformity with the rule, without incurring a penalty under the r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8840" indent="0">
              <a:lnSpc>
                <a:spcPct val="90000"/>
              </a:lnSpc>
              <a:spcBef>
                <a:spcPts val="975"/>
              </a:spcBef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12"/>
          <p:cNvSpPr/>
          <p:nvPr/>
        </p:nvSpPr>
        <p:spPr>
          <a:xfrm>
            <a:off x="662940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7B9C7-0C38-47DC-A51F-F6A9AF9132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55480" y="343080"/>
            <a:ext cx="74595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nfidentiality Protections: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rovider Consideratio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5000"/>
          </a:bodyPr>
          <a:p>
            <a:pPr marL="348840" indent="0">
              <a:lnSpc>
                <a:spcPct val="90000"/>
              </a:lnSpc>
              <a:spcBef>
                <a:spcPts val="975"/>
              </a:spcBef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8840" indent="-348840">
              <a:lnSpc>
                <a:spcPct val="90000"/>
              </a:lnSpc>
              <a:spcBef>
                <a:spcPts val="975"/>
              </a:spcBef>
              <a:spcAft>
                <a:spcPts val="975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ill your workforce be confident that PSWP will not influence privilege, disciplinary or similar decisions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8840" indent="-348840">
              <a:lnSpc>
                <a:spcPct val="90000"/>
              </a:lnSpc>
              <a:spcBef>
                <a:spcPts val="975"/>
              </a:spcBef>
              <a:spcAft>
                <a:spcPts val="975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ssues to consider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8840" indent="0">
              <a:lnSpc>
                <a:spcPct val="90000"/>
              </a:lnSpc>
              <a:spcBef>
                <a:spcPts val="975"/>
              </a:spcBef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 Separateness of PSWP from these other administrative process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8840" indent="0">
              <a:lnSpc>
                <a:spcPct val="90000"/>
              </a:lnSpc>
              <a:spcBef>
                <a:spcPts val="975"/>
              </a:spcBef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 Extent to which personnel participate in both review of PSWP and these other administrative process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112"/>
          <p:cNvSpPr/>
          <p:nvPr/>
        </p:nvSpPr>
        <p:spPr>
          <a:xfrm>
            <a:off x="662940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0C939-E5FB-462A-A4A3-2EC547AA8C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55480" y="343080"/>
            <a:ext cx="74595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nfidentiality Protections: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 Final Reminder About HIPAA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3000"/>
          </a:bodyPr>
          <a:p>
            <a:pPr marL="339480" indent="0">
              <a:lnSpc>
                <a:spcPct val="90000"/>
              </a:lnSpc>
              <a:spcBef>
                <a:spcPts val="975"/>
              </a:spcBef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f a provider is a covered entity as well as a holder of PSWP, it is NEVER sufficient to disclose  information by simply looking at either HIPAA or the Patient Safety Act statute and rul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75"/>
              </a:spcBef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75"/>
              </a:spcBef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 disclosure can only be made if it complies with BOTH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75"/>
              </a:spcBef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75"/>
              </a:spcBef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s has implications for informal case discussions that take place outside the legal entity of the provid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55840" y="34308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hat is the Problem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marL="344160" indent="-344160">
              <a:lnSpc>
                <a:spcPct val="95000"/>
              </a:lnSpc>
              <a:spcBef>
                <a:spcPts val="1049"/>
              </a:spcBef>
              <a:spcAft>
                <a:spcPts val="104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viders fear that patient safety analyses  could be used against them in court (malpractice) or in disciplinary proceed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4160" indent="-344160">
              <a:lnSpc>
                <a:spcPct val="95000"/>
              </a:lnSpc>
              <a:spcBef>
                <a:spcPts val="1049"/>
              </a:spcBef>
              <a:spcAft>
                <a:spcPts val="104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te peer review laws seldom permit large providers to undertake system-wide analy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4160" indent="-344160">
              <a:lnSpc>
                <a:spcPct val="95000"/>
              </a:lnSpc>
              <a:spcBef>
                <a:spcPts val="1049"/>
              </a:spcBef>
              <a:spcAft>
                <a:spcPts val="104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ability to aggregate data undercuts efforts to improve patient safety; only by looking at large numbers of events can patterns of “system” failures be identifi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55840" y="34308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he Solution in the Ac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0010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lvl="1" marL="357840" indent="-357840">
              <a:lnSpc>
                <a:spcPct val="95000"/>
              </a:lnSpc>
              <a:spcBef>
                <a:spcPts val="975"/>
              </a:spcBef>
              <a:spcAft>
                <a:spcPts val="975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uthorizes creation of Patient Safety Organizations  (PSOs) -- entities with expertise in identifying, analyzing, correcting and preventing risks/harms to patient safe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7840" indent="-357840">
              <a:lnSpc>
                <a:spcPct val="95000"/>
              </a:lnSpc>
              <a:spcBef>
                <a:spcPts val="975"/>
              </a:spcBef>
              <a:spcAft>
                <a:spcPts val="975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rovides Federal confidentiality protections for these analyses and significantly limits their use in criminal, civil, and/or administrative proceeding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7840" indent="-357840">
              <a:lnSpc>
                <a:spcPct val="95000"/>
              </a:lnSpc>
              <a:spcBef>
                <a:spcPts val="975"/>
              </a:spcBef>
              <a:spcAft>
                <a:spcPts val="975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Requires PSOs to work with more than 1 provider to encourage PSOs to aggregate data across multiple provid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12"/>
          <p:cNvSpPr/>
          <p:nvPr/>
        </p:nvSpPr>
        <p:spPr>
          <a:xfrm>
            <a:off x="662940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3CD30-19BE-48D2-84F8-FA1B751746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55840" y="34308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atient Safety Act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HHS Division of Authorit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9930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HRQ: Patient Safety Organiz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bpart B: Authority to implement PSO certification, listing, and revocation proced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CR: Confidentiality Prot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bparts C and D: Establishment of confidentiality protections and process for enforcement; authority extends to all holders of patient safety work produ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bpart A definitions are critical for understanding Subparts B, C, and 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12"/>
          <p:cNvSpPr/>
          <p:nvPr/>
        </p:nvSpPr>
        <p:spPr>
          <a:xfrm>
            <a:off x="662940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435B9-4FD5-4801-9EE2-3C9D264712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55840" y="34308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atient Safety Act: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Key Concep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9930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atient Safety Work Produ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-- Term used by the statute to describe the class of information that is privileged and confidential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atient Safety Evaluation Syste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“means the collection, management, or analysis of information for reporting to or by a PSO.”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12"/>
          <p:cNvSpPr/>
          <p:nvPr/>
        </p:nvSpPr>
        <p:spPr>
          <a:xfrm>
            <a:off x="662940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F72D6-533B-4B0C-BA92-90A54DB7AA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55840" y="34308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esentation Organiz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7993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ient Safety Act: A Brief Overview       – Larry Patt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82720" indent="0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nfidentiality Protections and their Enforcement – Verne Rink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identiality Protections: Provider Considerations – Larry Patt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12"/>
          <p:cNvSpPr/>
          <p:nvPr/>
        </p:nvSpPr>
        <p:spPr>
          <a:xfrm>
            <a:off x="662940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31EC8-8EEE-43E2-B40A-44F982DC0D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55480" y="343080"/>
            <a:ext cx="74595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nfidentiality: OCR Approach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marL="344160" indent="-344160">
              <a:lnSpc>
                <a:spcPct val="90000"/>
              </a:lnSpc>
              <a:spcBef>
                <a:spcPts val="975"/>
              </a:spcBef>
              <a:spcAft>
                <a:spcPts val="975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nsure strong protection of PSWP to encourage robust provider participation in reporting of medical errors, while not impeding needed communication and sharing of information/PSWP to achieve patient safety goa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319040" indent="0">
              <a:lnSpc>
                <a:spcPct val="90000"/>
              </a:lnSpc>
              <a:spcBef>
                <a:spcPts val="638"/>
              </a:spcBef>
              <a:spcAft>
                <a:spcPts val="638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4160" indent="-344160">
              <a:lnSpc>
                <a:spcPct val="90000"/>
              </a:lnSpc>
              <a:spcBef>
                <a:spcPts val="975"/>
              </a:spcBef>
              <a:spcAft>
                <a:spcPts val="975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ximize provider discretion to disclose or not, allowing providers to establish stricter requiremen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319040" indent="0">
              <a:lnSpc>
                <a:spcPct val="90000"/>
              </a:lnSpc>
              <a:spcBef>
                <a:spcPts val="638"/>
              </a:spcBef>
              <a:spcAft>
                <a:spcPts val="638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4160" indent="-344160">
              <a:lnSpc>
                <a:spcPct val="90000"/>
              </a:lnSpc>
              <a:spcBef>
                <a:spcPts val="975"/>
              </a:spcBef>
              <a:spcAft>
                <a:spcPts val="975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nimize complexity or disparity with HIPAA Privacy R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12"/>
          <p:cNvSpPr/>
          <p:nvPr/>
        </p:nvSpPr>
        <p:spPr>
          <a:xfrm>
            <a:off x="662940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F9455-30DD-467C-9759-A715E5C1CF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55840" y="34308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atient Safety Work Produc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marL="462960" indent="-4629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SWP is any dat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7680" indent="-347400">
              <a:lnSpc>
                <a:spcPct val="90000"/>
              </a:lnSpc>
              <a:spcBef>
                <a:spcPts val="825"/>
              </a:spcBef>
              <a:spcAft>
                <a:spcPts val="825"/>
              </a:spcAft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veloped by a provider and reported to a PS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87680" indent="-347400">
              <a:lnSpc>
                <a:spcPct val="90000"/>
              </a:lnSpc>
              <a:spcBef>
                <a:spcPts val="825"/>
              </a:spcBef>
              <a:spcAft>
                <a:spcPts val="825"/>
              </a:spcAft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veloped by a PSO for the conduct of patient safety activities, o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87680" indent="-347400">
              <a:lnSpc>
                <a:spcPct val="90000"/>
              </a:lnSpc>
              <a:spcBef>
                <a:spcPts val="825"/>
              </a:spcBef>
              <a:spcAft>
                <a:spcPts val="825"/>
              </a:spcAft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at identifies or constitutes deliberations of or the fact of reporting pursuant to a patient safety evaluation syste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2960" indent="-4629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iginal provider records (e.g., medical, billing) are not PSW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2960" indent="-4629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identifiable PSWP is not confidential or privileg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7T15:35:07Z</dcterms:created>
  <dc:creator>Louis.Altarescu</dc:creator>
  <dc:description>For presentation on 4Mar08 at the AMA.</dc:description>
  <dc:language>en-US</dc:language>
  <cp:lastModifiedBy>DHHS</cp:lastModifiedBy>
  <cp:lastPrinted>2008-09-08T06:19:10Z</cp:lastPrinted>
  <dcterms:modified xsi:type="dcterms:W3CDTF">2009-01-06T16:02:20Z</dcterms:modified>
  <cp:revision>57</cp:revision>
  <dc:subject/>
  <dc:title>The Notice of Proposed Rulemaking (NPRM)</dc:title>
</cp:coreProperties>
</file>