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6F635-A01B-4DF4-B1ED-199F97DCF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13953-69F1-43E2-B422-E0B8C4697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3D44-7396-4268-B89D-4973CCD29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FA54-532D-4517-93E3-AA9AE0C9E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16F8-2B6D-471B-9D36-EB57E3F93B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49C9-3CB1-46EC-8A33-7C550BFCB1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C6D41-6388-4F43-B00A-EAD9664FB7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B9CBB-A06C-4011-B733-CCF88C6E65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A226-AAAC-464F-99E8-051302B0EA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55840" y="34308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C69F1-156E-4705-B544-5FCEDDD31F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8F3D-0B83-4D54-AEDA-DE2D023A9D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21310-3FFB-478B-A3A8-765EBF37C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629B7-4D07-40DD-B208-F91F2FEDFE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00E96-39C0-430E-B8EC-19D998AF3B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B8462-6C4F-4D24-A815-992D85CD5E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65C8-2B84-4F49-8DB7-BD7A4A6424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00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67616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1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00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3188880"/>
            <a:ext cx="25736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50C8-92F6-4C62-A205-D6843D3492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7D55-CC48-4F36-A005-F2C71B2D11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4CC6-4A73-4FAF-A781-F10FAE777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8512-B1F0-475F-AA71-35F663420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55840" y="343080"/>
            <a:ext cx="66974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F276-DE45-4E40-87E8-B81B127F8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0EFF-E440-4D12-8E17-AC387F46F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18888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3FE5-34BB-4DC5-817D-5E82048F1A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1676160"/>
            <a:ext cx="390060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188880"/>
            <a:ext cx="79930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5E64-D621-47E3-938C-7492006B2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4960" indent="-264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6200" indent="-226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0800" indent="-199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1592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93"/>
          <p:cNvGrpSpPr/>
          <p:nvPr/>
        </p:nvGrpSpPr>
        <p:grpSpPr>
          <a:xfrm>
            <a:off x="0" y="1352520"/>
            <a:ext cx="7986240" cy="19080"/>
            <a:chOff x="0" y="1352520"/>
            <a:chExt cx="7986240" cy="19080"/>
          </a:xfrm>
        </p:grpSpPr>
        <p:sp>
          <p:nvSpPr>
            <p:cNvPr id="3" name="Line 94"/>
            <p:cNvSpPr/>
            <p:nvPr/>
          </p:nvSpPr>
          <p:spPr>
            <a:xfrm>
              <a:off x="6840" y="137160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Line 95"/>
            <p:cNvSpPr/>
            <p:nvPr/>
          </p:nvSpPr>
          <p:spPr>
            <a:xfrm>
              <a:off x="0" y="135252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111" descr="HHS"/>
          <p:cNvPicPr/>
          <p:nvPr/>
        </p:nvPicPr>
        <p:blipFill>
          <a:blip r:embed="rId2"/>
          <a:stretch/>
        </p:blipFill>
        <p:spPr>
          <a:xfrm>
            <a:off x="76320" y="76320"/>
            <a:ext cx="1218960" cy="119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66294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B74F-7A27-4167-ABEC-279CB49E2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1"/>
          <p:cNvGrpSpPr/>
          <p:nvPr/>
        </p:nvGrpSpPr>
        <p:grpSpPr>
          <a:xfrm>
            <a:off x="0" y="4705200"/>
            <a:ext cx="7986240" cy="19080"/>
            <a:chOff x="0" y="4705200"/>
            <a:chExt cx="7986240" cy="19080"/>
          </a:xfrm>
        </p:grpSpPr>
        <p:sp>
          <p:nvSpPr>
            <p:cNvPr id="44" name="Line 102"/>
            <p:cNvSpPr/>
            <p:nvPr/>
          </p:nvSpPr>
          <p:spPr>
            <a:xfrm>
              <a:off x="6840" y="4724280"/>
              <a:ext cx="79794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Line 103"/>
            <p:cNvSpPr/>
            <p:nvPr/>
          </p:nvSpPr>
          <p:spPr>
            <a:xfrm>
              <a:off x="0" y="4705200"/>
              <a:ext cx="79794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" name="Picture 113" descr="HHS"/>
          <p:cNvPicPr/>
          <p:nvPr/>
        </p:nvPicPr>
        <p:blipFill>
          <a:blip r:embed="rId2"/>
          <a:stretch/>
        </p:blipFill>
        <p:spPr>
          <a:xfrm>
            <a:off x="76320" y="76320"/>
            <a:ext cx="1600200" cy="1573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64960" indent="-264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6200" indent="-226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20800" indent="-199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1592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211400" indent="-129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3BFD-BBCF-4C76-8AA7-CBA1CE2897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3523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fidentiality,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tient Safety Work Product, and PSO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roposed Rule Implementing the Patient Safety and Quality Improvement Act of 20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133720" y="5091120"/>
            <a:ext cx="4952880" cy="9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 Annual Conferen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8,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ACDD-9753-49E9-A546-D9473E427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idential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statute provides federal confidentiality and privilege protections to patient safety work product (PSWP) and specifies when disclosures are permit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0">
              <a:lnSpc>
                <a:spcPct val="90000"/>
              </a:lnSpc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dentiality and privilege protections continue after disclosure, with limited excep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0">
              <a:lnSpc>
                <a:spcPct val="90000"/>
              </a:lnSpc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SWP may contain protected health information (PHI) requiring covered providers to also comply with the HIPAA Privacy Rule requir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56FE-0C5E-4891-8EAE-A4882E766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Disclosure Permiss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812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vilege and Confidentiality Exce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use in a criminal proc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btain equitable relief for re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uthorized by identified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1240" indent="-38124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identifiable PS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5B9D-55A1-4447-80DD-ED5425872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Disclosure Permission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’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3000"/>
          </a:bodyPr>
          <a:p>
            <a:pPr marL="2926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fidentiality Only 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Patient Safety Activities (PSA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resear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the FDA (regarding regulated product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oluntary disclosure to an accrediting bod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business operations as determined by the Secreta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criminal law enforcement purposes (voluntar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2680" indent="-292680">
              <a:lnSpc>
                <a:spcPct val="90000"/>
              </a:lnSpc>
              <a:spcBef>
                <a:spcPts val="1100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SWP that does not include the assessment of quality of care or describe or pertain to actions / failures to act by an identifiable provi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C38F-2F83-4A05-9D4E-826BE3C6A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tient Safety Activities Disclos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-34884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e disclosure permission facilitates open, unfettered communication about patient safety events between providers and P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for aggregation of PSWP to identify patterns and trends and to facilitate creation of meaningful nonidentifiable PSWP for a national network of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control the extent of disclosures they make to PSOs (and may be able, by contract, to limit redisclosures),  which should ameliorate concerns by providers of wide-spread and uncontrolled dissemination of PSW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B7E8-DD52-478E-BAF2-DDFA309B8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forc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 event-driven (complaints and compliance reviews) enforcement program coupled with voluntary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nd PSOs have own incentives to not disclose impermissibly – which align with enforcement goals and may keep the potential enforcement workload 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forcement discretion to make appropriate response to situations presented by these new program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440" indent="-3254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ce complexity of enforcement program by basing enforcement regulations on standards familiar to the provider community – the HIPAA Enforcement R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6221-DE5F-4BBD-B23A-9930B6DC8D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nforcemen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cont’d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Penalty for Violatio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A person who discloses identifiable PSWP in knowing or reckless violation of the confidentiality protections is subject to a civil money penalty (CMP) of up to $10,000 per 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Disclosures by Agen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Principals are liable for an agent’s violation acting within the scope of the agen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Prohibition on Dual Penalti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CMPs may not be imposed under both the Patient Safety Act and HIPAA for a single 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00"/>
                </a:solidFill>
                <a:uFillTx/>
                <a:latin typeface="Arial"/>
              </a:rPr>
              <a:t>OCR Access to PSWP for Enforcem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PSWP must be disclosed to HHS for compliance and enforcement purp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3EB3-BF4B-433A-82D5-3C8B773E76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Safety Act: A Brief Overview      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tiality Protections and their Enforcement – Verne Ri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fidentiality Protections: Provider Consid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7084-B99A-4DD5-A748-62708A714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Provider Consider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atient Safety Act’s confidentiality protections have the potential to significantly expand provider-based patient safety initiati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posed rule would give a provider great flexibility on how to operate and develop a patient safety evaluation system to meet its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providers need to take into account other elements of the statu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405A-8390-45FA-B7D5-579C65773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r Consider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330120" indent="-3301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ute requires providers to continue to meet external reporting requirements – with information that is not PSW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vilege protections not only limit access of others to your PSWP but limit your ability to use PSWP in civil, criminal, administrative, or disciplinary proceeding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ute prohibits a provider from taking an adverse action against an individual based on the fact that the individual reported information in good fai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0120" indent="-3301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ute seeks to foster a “culture of safety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EDA3-2A4F-43B4-96EB-62EB88F30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r Consider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6252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provider needs to carefully consider what information is appropriate to protect and what information should not be protec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252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2520" indent="-3625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this information needed to meet external reporting, accountability requirement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62520" indent="-36252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ll this information be needed to justify a disciplinary decision if challeng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8C64-2C0E-4AA6-87C9-307F6C7EB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799308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lvl="3" marL="1354680" indent="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tient Safety Act: A Brief Overview      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54680" indent="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tiality Protections and their Enforcement – Verne Ri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tiality Protections: Provider Consid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610F-059A-4A7C-87DF-6BCB754E7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r Consider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n PSWP is held by an entity, the proposed rule would not hold entities liable for uses of PSWP within the legal entity (note: component PSOs cannot share PSWP with rest of its parent organization except under certain circumstanc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permits free flow of PSWP to those who need access within the provider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any holder of PSWP – including a provider’s employees – can make disclosures of PSWP in conformity with the rule, without incurring a penalty under the r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4305-8CD6-40A6-87AD-A66661302F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vider Considera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ll your workforce be confident that PSWP will not influence privilege, disciplinary or similar decision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-34884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sues to consider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Separateness of PSWP from these other administrative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884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Extent to which personnel participate in both review of PSWP and these other administrative proce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E1FC-DA6A-413D-B2AD-F7872238C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 Final Reminder About HIPAA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a provider is a covered entity as well as a holder of PSWP, it is NEVER sufficient to disclose  information by simply looking at either HIPAA or the Patient Safety Act statute and ru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disclosure can only be made if it complies with BO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s has implications for informal case discussions that take place outside the legal entity of the provi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the Problem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rs fear that patient safety analyses  could be used against them in court (malpractice) or in disciplinary procee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e peer review laws seldom permit large providers to undertake system-wide analy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ability to aggregate data undercuts efforts to improve patient safety; only by looking at large numbers of events can patterns of “system” failures be iden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Solution in the Ac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lvl="1" marL="357840" indent="-357840">
              <a:lnSpc>
                <a:spcPct val="95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thorizes creation of Patient Safety Organizations  (PSOs) -- entities with expertise in identifying, analyzing, correcting and preventing risks/harms to patient safe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5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vides Federal confidentiality protections for these analyses and significantly limits their use in criminal, civil, and/or administrative proceed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5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ires PSOs to work with more than 1 provider to encourage PSOs to aggregate data across multiple provid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8BA7-9BEE-4D61-AC0B-1BA229884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Act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HS Division of Author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93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HRQ: Patient Safety Organ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part B: Authority to implement PSO certification, listing, and revocation proced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CR: Confidentiality Prot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parts C and D: Establishment of confidentiality protections and process for enforcement; authority extends to all holders of patient safety work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part A definitions are critical for understanding Subparts B, C, and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A8B7-F0FB-45D3-BAD4-CD0133879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Act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ey Concep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93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tient Safety Work Produ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-- Term used by the statute to describe the class of information that is privileged and confidential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tient Safety Evaluation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means the collection, management, or analysis of information for reporting to or by a PSO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E10B-39C7-4FC0-8DF8-F75A5FA38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993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 Safety Act: A Brief Overview      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fidentiality Protections and their Enforcement – Verne Rin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identiality Protections: Provider Consid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3CEC-97C1-42DB-B776-DC4171257B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5480" y="343080"/>
            <a:ext cx="74595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: OCR Approach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nsure strong protection of PSWP to encourage robust provider participation in reporting of medical errors, while not impeding needed communication and sharing of information/PSWP to achieve patient safety go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ximize provider discretion to disclose or not, allowing providers to establish stricter requir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nimize complexity or disparity with HIPAA Privacy R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12"/>
          <p:cNvSpPr/>
          <p:nvPr/>
        </p:nvSpPr>
        <p:spPr>
          <a:xfrm>
            <a:off x="662940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A950-C816-4675-8790-E95506A0C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55840" y="343080"/>
            <a:ext cx="66974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tient Safety Work Produc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99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462960" indent="-462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SWP is any d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474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by a provider and reported to a P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474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by a PSO for the conduct of patient safety activities, 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7680" indent="-34740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at identifies or constitutes deliberations of or the fact of reporting pursuant to a patient safety evaluation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provider records (e.g., medical, billing) are not PS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2960" indent="-462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identifiable PSWP is not confidential or privile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5:35:07Z</dcterms:created>
  <dc:creator>Louis.Altarescu</dc:creator>
  <dc:description>For presentation on 4Mar08 at the AMA.</dc:description>
  <dc:language>en-US</dc:language>
  <cp:lastModifiedBy>DHHS</cp:lastModifiedBy>
  <cp:lastPrinted>2008-09-08T06:19:10Z</cp:lastPrinted>
  <dcterms:modified xsi:type="dcterms:W3CDTF">2009-01-06T16:02:20Z</dcterms:modified>
  <cp:revision>57</cp:revision>
  <dc:subject/>
  <dc:title>The Notice of Proposed Rulemaking (NPRM)</dc:title>
</cp:coreProperties>
</file>