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546D-3D62-45F4-8E9E-790955196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B472-A4AB-4C6C-B9BD-B18ACA771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5B46-924A-4B64-9400-C2ABF0CDF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2092-4B33-4442-8284-B0CE508AB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68C4-9400-4944-92BE-C4FF148C1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8517-1DA6-49D2-9FA2-5EE1F14E5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97C8-675B-4D83-8670-DDA370208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DBFC-EEC2-45FB-ABBB-C8D5B55F7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ABCA-0104-4195-9C79-0445C4ADB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C6DC-27D7-4372-B401-8CE045770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1CD1-6DCE-4C23-9B59-5521F1F21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3C04-7BA6-4F55-84C1-7B044B94C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A51E-EDCD-4079-9875-A9D68A094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527D-5B05-4403-A58F-87813E94A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CC89-6501-4AD5-8AA9-BFFC2E962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1B58-D547-4F93-8D41-4A99CCA4A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D6A8-E007-4FFF-9F43-36D1EF37B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BAAA-8A7C-4101-98A0-2258462E3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802D-F46B-4212-A583-FE925B964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3D5-E229-4410-AA15-EEDC10F8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CDB-1A4B-492C-8E18-4F4A4399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57D-021D-40CC-B683-615FC25F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DF2-E261-4F8D-B102-FDB09520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FDD-95BF-47B9-9037-271EA33C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FB0-7221-419B-8945-1C059ABA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3BE-296C-4EDA-AD18-844B0E92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32E-2A58-4162-9E53-887E9366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CCA-8D30-44BF-A1A8-B92D00F2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EB9-EDB7-4C07-A34C-E43A393B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53E-7BAE-41BD-8240-8CE88F29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F14-8791-4477-B6A1-D9792CC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E737-F4B6-4006-942D-2E194FD97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51818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‘July Phenomenon’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Obstetr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DrSimpson"/>
          <p:cNvPicPr/>
          <p:nvPr/>
        </p:nvPicPr>
        <p:blipFill>
          <a:blip r:embed="rId2"/>
          <a:stretch/>
        </p:blipFill>
        <p:spPr>
          <a:xfrm>
            <a:off x="0" y="3276720"/>
            <a:ext cx="2971800" cy="1858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obgynbanner"/>
          <p:cNvPicPr/>
          <p:nvPr/>
        </p:nvPicPr>
        <p:blipFill>
          <a:blip r:embed="rId3"/>
          <a:stretch/>
        </p:blipFill>
        <p:spPr>
          <a:xfrm>
            <a:off x="1549440" y="5867280"/>
            <a:ext cx="7594560" cy="99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4190040" y="3276720"/>
            <a:ext cx="377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ni Banerjee Ratan,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istant Clinical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t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Agency for Healthcare Research Quality"/>
          <p:cNvPicPr/>
          <p:nvPr/>
        </p:nvPicPr>
        <p:blipFill>
          <a:blip r:embed="rId4"/>
          <a:stretch/>
        </p:blipFill>
        <p:spPr>
          <a:xfrm>
            <a:off x="3124080" y="5105520"/>
            <a:ext cx="6019920" cy="73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3276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EDICAL EDUCATION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bstetrics &amp; Gynec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lumbia University College of Physicians &amp; Surge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York Presbyterian Hos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cal Student Clerk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idency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llowship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OTIVATING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914400" y="2286000"/>
            <a:ext cx="7238880" cy="457200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1828800" y="2362320"/>
            <a:ext cx="701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I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ducation is an integral p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 the tripartite miss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partment of Obstetrics and Gynecology, along with patient care and research. As a world leader in women’s health care, our mission is to provide the finest comprehensive training for future practitioners in our specialty by using the latest knowledg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novative research and to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o the community at larg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ighest quality of patient care.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Greeting New Doctors"/>
          <p:cNvPicPr/>
          <p:nvPr/>
        </p:nvPicPr>
        <p:blipFill>
          <a:blip r:embed="rId2"/>
          <a:stretch/>
        </p:blipFill>
        <p:spPr>
          <a:xfrm>
            <a:off x="1676520" y="2514600"/>
            <a:ext cx="5943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OTIVATING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uc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fes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A medical practitioner holding a newborn baby Photo (lv0027014a)"/>
          <p:cNvPicPr/>
          <p:nvPr/>
        </p:nvPicPr>
        <p:blipFill>
          <a:blip r:embed="rId2"/>
          <a:stretch/>
        </p:blipFill>
        <p:spPr>
          <a:xfrm>
            <a:off x="7315200" y="44197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Pregnant Woman Getting an Ultrasound Photo (42-17334061)"/>
          <p:cNvPicPr/>
          <p:nvPr/>
        </p:nvPicPr>
        <p:blipFill>
          <a:blip r:embed="rId3"/>
          <a:stretch/>
        </p:blipFill>
        <p:spPr>
          <a:xfrm>
            <a:off x="7662960" y="1981080"/>
            <a:ext cx="1481040" cy="2229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Newborn footprints Photo (ks9498)"/>
          <p:cNvPicPr/>
          <p:nvPr/>
        </p:nvPicPr>
        <p:blipFill>
          <a:blip r:embed="rId4"/>
          <a:stretch/>
        </p:blipFill>
        <p:spPr>
          <a:xfrm>
            <a:off x="6172200" y="28195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DrSimpson"/>
          <p:cNvPicPr/>
          <p:nvPr/>
        </p:nvPicPr>
        <p:blipFill>
          <a:blip r:embed="rId5"/>
          <a:stretch/>
        </p:blipFill>
        <p:spPr>
          <a:xfrm>
            <a:off x="0" y="4713120"/>
            <a:ext cx="3429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Kira Easter 2008"/>
          <p:cNvPicPr/>
          <p:nvPr/>
        </p:nvPicPr>
        <p:blipFill>
          <a:blip r:embed="rId2"/>
          <a:stretch/>
        </p:blipFill>
        <p:spPr>
          <a:xfrm>
            <a:off x="7315200" y="39625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2433600" y="1523880"/>
            <a:ext cx="4043520" cy="533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990720" y="1295280"/>
            <a:ext cx="5790960" cy="5562720"/>
          </a:xfrm>
          <a:prstGeom prst="rect">
            <a:avLst/>
          </a:prstGeom>
          <a:ln w="0">
            <a:noFill/>
          </a:ln>
        </p:spPr>
      </p:pic>
      <p:sp>
        <p:nvSpPr>
          <p:cNvPr id="85" name="Oval 7"/>
          <p:cNvSpPr/>
          <p:nvPr/>
        </p:nvSpPr>
        <p:spPr>
          <a:xfrm>
            <a:off x="914400" y="5486400"/>
            <a:ext cx="495288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354440" y="342900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gust 8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357680" y="6400800"/>
            <a:ext cx="16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ly 28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3" descr="Arjun Easter 2008"/>
          <p:cNvPicPr/>
          <p:nvPr/>
        </p:nvPicPr>
        <p:blipFill>
          <a:blip r:embed="rId5"/>
          <a:stretch/>
        </p:blipFill>
        <p:spPr>
          <a:xfrm>
            <a:off x="7315200" y="1295280"/>
            <a:ext cx="1828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determine whether operator-dependent  obstetric complications  occur at higher rates in July at teaching hospitals using a large, nationwide sample of deliv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obtained from the Healthcare Cost and Utilization Project Nationwide Inpatient Sample (HCUP-NIS) from 1998-20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rgest all-payer inpatient care database in 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resentative sample of discharges from non-Federal, acute care hospitals 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base includes patient information coded at time of discharge, including age, race, primary expected payer and up to 15 diagnosis codes and procedure ICD-9 c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ngleton deliveries and singleton livebirth admissions among Medicaid patients at teaching hospitals with Ob/Gyn residents working on Labor &amp; Delivery were ident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dicaid patient group most likely to be cared for by resi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comes for various complications for these patients in July were compared to those occurring in the months from August to Ju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17 hospitals variably sampled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jority were urban hospitals with &gt; 500 b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95480" y="3276720"/>
            <a:ext cx="38862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differences in baseline maternal demo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2057400" y="3352680"/>
            <a:ext cx="51814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2770200" y="2209680"/>
            <a:ext cx="3645000" cy="4648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7052400" y="6130800"/>
            <a:ext cx="154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July 2, 19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y Arthur Ge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“July Phenomenon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6,546 patients delivered in the month of Ju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72,584 patients delivered from August to J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Average of 24,780 deliveries per mon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significant difference in the rates of any co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esarean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cuum or forceps-associated vaginal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rethral or bladder inj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and fourth degree lac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und co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stpartum hemorrhage and trans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oulder dysto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rioamnion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esthesia 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1600200" y="3262320"/>
            <a:ext cx="6095880" cy="3319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914400" y="2057400"/>
            <a:ext cx="69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change in rates of birth asphyxia or brach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exus injury during summer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…It’s Safe to Deliver in Ju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difference in obstetric complications between women delivered at teaching hospitals in the month of July as compared to women delivered during other months of the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n sampling technique of NIS and large sample size, our cohort is likely an accurate representation of current state of practice of obstetrics at teaching hospitals in the 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t-hoc power calculation showed that the study was well powered to detect even subtle differences in clinical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supervision at the start of the academic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vious study investigating teaching hospitals found those with highest attending-to-resident ratios had less of a July phenomenon with regard to length of stay and risk-adjusted mort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medical students cartoons, medical students cartoon, medical students picture, medical students pictures, medical students image, medical students images, medical students illustration, medical students illustrations"/>
          <p:cNvPicPr/>
          <p:nvPr/>
        </p:nvPicPr>
        <p:blipFill>
          <a:blip r:embed="rId2"/>
          <a:stretch/>
        </p:blipFill>
        <p:spPr>
          <a:xfrm>
            <a:off x="1752480" y="1828800"/>
            <a:ext cx="60199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ANK YOU</a:t>
            </a:r>
            <a:br>
              <a:rPr sz="3200"/>
            </a:br>
            <a:br>
              <a:rPr sz="2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2"/>
          <a:stretch/>
        </p:blipFill>
        <p:spPr>
          <a:xfrm>
            <a:off x="2362320" y="3124080"/>
            <a:ext cx="43434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590560" cy="2590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3276720" y="4038480"/>
            <a:ext cx="2590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July Phenomenon in Medicin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academic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interns begin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erior health care is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novice physic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6629400" y="2514600"/>
            <a:ext cx="2514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219320" y="1563840"/>
            <a:ext cx="6858000" cy="5294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1676520"/>
            <a:ext cx="4419720" cy="518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4419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2"/>
          <a:srcRect l="0" t="18521" r="0" b="3701"/>
          <a:stretch/>
        </p:blipFill>
        <p:spPr>
          <a:xfrm>
            <a:off x="380880" y="1676520"/>
            <a:ext cx="8534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There a July Phenomenon in Obstetric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2"/>
          <a:stretch/>
        </p:blipFill>
        <p:spPr>
          <a:xfrm>
            <a:off x="2057400" y="3036960"/>
            <a:ext cx="52578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OTIVATING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44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uc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Photo 4"/>
          <p:cNvPicPr/>
          <p:nvPr/>
        </p:nvPicPr>
        <p:blipFill>
          <a:blip r:embed="rId2"/>
          <a:stretch/>
        </p:blipFill>
        <p:spPr>
          <a:xfrm>
            <a:off x="2286000" y="3505320"/>
            <a:ext cx="441972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overhead"/>
          <p:cNvPicPr/>
          <p:nvPr/>
        </p:nvPicPr>
        <p:blipFill>
          <a:blip r:embed="rId2"/>
          <a:stretch/>
        </p:blipFill>
        <p:spPr>
          <a:xfrm>
            <a:off x="0" y="1298520"/>
            <a:ext cx="9144000" cy="5276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9:22:44Z</dcterms:created>
  <dc:creator>Trial User</dc:creator>
  <dc:description/>
  <dc:language>en-US</dc:language>
  <cp:lastModifiedBy>DHHS</cp:lastModifiedBy>
  <cp:lastPrinted>2005-12-01T15:47:10Z</cp:lastPrinted>
  <dcterms:modified xsi:type="dcterms:W3CDTF">2009-01-30T19:32:51Z</dcterms:modified>
  <cp:revision>85</cp:revision>
  <dc:subject/>
  <dc:title>PowerPoint Presentation</dc:title>
</cp:coreProperties>
</file>