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6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12FD-22AF-4046-AE67-D1C2A4124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A3BC-C725-47C2-B10D-EB59B03AB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9B31-F24A-400E-81A4-2D7274781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ACAB-5644-4661-99FB-6B8BB94C9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39DE-4280-400C-955D-31E3A0DCF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7CAE-ABF3-45AC-98C3-13E5BA647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890C-A864-49F7-B988-95F75A04F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5001-B86A-4A86-90A4-813D213D4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C3BC-E255-4229-A398-FDCB7CBAE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F710-C062-4A43-B574-9DBB87F98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85F7-497F-4C46-888F-75543545D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ADAA-2D96-44B3-9B05-FEE085164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051D-DD72-4EB5-A177-5DF775333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0522-A660-4049-8CC5-C9FADB152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06B5-9264-4D9C-BBF2-D328C4AC5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662A-C664-4B1C-815B-8D650A2C6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0A42-7672-4779-98CB-598D65A4C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0AD4-D870-4171-A1DD-2D4771C1D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1E42-4518-4842-9C04-9F8C0451E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AFD-24DC-4E6E-A9D4-3F2A25DA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40F-479E-43DD-BFE5-DE9EB13C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65D1-53A6-47DA-880A-4CB3B68B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0556-402D-45BC-A5D7-640B9674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B1E-2A30-4169-B143-DD5D3A35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B8AB-A0F7-4C27-89FC-A63731B0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4959-6CFC-4EAA-9EB9-05512985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A90-4913-4C9B-BA3D-7B8C5B07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96C6-9700-49AF-A880-C91BD89D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0BDA-13CA-4E74-97CB-EE0733C9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748-BD91-4755-A6FF-0B9C6C72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1D8-40F5-4F54-AF34-7895FD1F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EBE4-6392-49DC-9DC3-17E6C94EA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518184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‘July Phenomenon’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Obstetric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DrSimpson"/>
          <p:cNvPicPr/>
          <p:nvPr/>
        </p:nvPicPr>
        <p:blipFill>
          <a:blip r:embed="rId2"/>
          <a:stretch/>
        </p:blipFill>
        <p:spPr>
          <a:xfrm>
            <a:off x="0" y="3276720"/>
            <a:ext cx="2971800" cy="1858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obgynbanner"/>
          <p:cNvPicPr/>
          <p:nvPr/>
        </p:nvPicPr>
        <p:blipFill>
          <a:blip r:embed="rId3"/>
          <a:stretch/>
        </p:blipFill>
        <p:spPr>
          <a:xfrm>
            <a:off x="1549440" y="5867280"/>
            <a:ext cx="7594560" cy="990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4190040" y="3276720"/>
            <a:ext cx="377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ni Banerjee Ratan,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istant Clinical 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ptember 10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Agency for Healthcare Research Quality"/>
          <p:cNvPicPr/>
          <p:nvPr/>
        </p:nvPicPr>
        <p:blipFill>
          <a:blip r:embed="rId4"/>
          <a:stretch/>
        </p:blipFill>
        <p:spPr>
          <a:xfrm>
            <a:off x="3124080" y="5105520"/>
            <a:ext cx="6019920" cy="733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0" descr=""/>
          <p:cNvPicPr/>
          <p:nvPr/>
        </p:nvPicPr>
        <p:blipFill>
          <a:blip r:embed="rId5"/>
          <a:stretch/>
        </p:blipFill>
        <p:spPr>
          <a:xfrm>
            <a:off x="5867280" y="838080"/>
            <a:ext cx="32767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MEDICAL EDUCATION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Obstetrics &amp; Gynec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2743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lumbia University College of Physicians &amp; Surge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York Presbyterian Hos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dical Student Clerk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idency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ellowship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MOTIVATING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914400" y="2286000"/>
            <a:ext cx="7238880" cy="457200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1828800" y="2362320"/>
            <a:ext cx="701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I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ducation is an integral p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f the tripartite mission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epartment of Obstetrics and Gynecology, along with patient care and research. As a world leader in women’s health care, our mission is to provide the finest comprehensive training for future practitioners in our specialty by using the latest knowledg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novative research and to pro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o the community at larg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ighest quality of patient care.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Greeting New Doctors"/>
          <p:cNvPicPr/>
          <p:nvPr/>
        </p:nvPicPr>
        <p:blipFill>
          <a:blip r:embed="rId2"/>
          <a:stretch/>
        </p:blipFill>
        <p:spPr>
          <a:xfrm>
            <a:off x="1676520" y="2514600"/>
            <a:ext cx="5943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MOTIVATING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440" y="2438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duc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fes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A medical practitioner holding a newborn baby Photo (lv0027014a)"/>
          <p:cNvPicPr/>
          <p:nvPr/>
        </p:nvPicPr>
        <p:blipFill>
          <a:blip r:embed="rId2"/>
          <a:stretch/>
        </p:blipFill>
        <p:spPr>
          <a:xfrm>
            <a:off x="7315200" y="441972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Pregnant Woman Getting an Ultrasound Photo (42-17334061)"/>
          <p:cNvPicPr/>
          <p:nvPr/>
        </p:nvPicPr>
        <p:blipFill>
          <a:blip r:embed="rId3"/>
          <a:stretch/>
        </p:blipFill>
        <p:spPr>
          <a:xfrm>
            <a:off x="7662960" y="1981080"/>
            <a:ext cx="1481040" cy="2229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Newborn footprints Photo (ks9498)"/>
          <p:cNvPicPr/>
          <p:nvPr/>
        </p:nvPicPr>
        <p:blipFill>
          <a:blip r:embed="rId4"/>
          <a:stretch/>
        </p:blipFill>
        <p:spPr>
          <a:xfrm>
            <a:off x="6172200" y="2819520"/>
            <a:ext cx="1569960" cy="2361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DrSimpson"/>
          <p:cNvPicPr/>
          <p:nvPr/>
        </p:nvPicPr>
        <p:blipFill>
          <a:blip r:embed="rId5"/>
          <a:stretch/>
        </p:blipFill>
        <p:spPr>
          <a:xfrm>
            <a:off x="0" y="4713120"/>
            <a:ext cx="342900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Kira Easter 2008"/>
          <p:cNvPicPr/>
          <p:nvPr/>
        </p:nvPicPr>
        <p:blipFill>
          <a:blip r:embed="rId2"/>
          <a:stretch/>
        </p:blipFill>
        <p:spPr>
          <a:xfrm>
            <a:off x="7315200" y="396252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3"/>
          <a:stretch/>
        </p:blipFill>
        <p:spPr>
          <a:xfrm>
            <a:off x="2433600" y="1523880"/>
            <a:ext cx="4043520" cy="5334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990720" y="1295280"/>
            <a:ext cx="5790960" cy="5562720"/>
          </a:xfrm>
          <a:prstGeom prst="rect">
            <a:avLst/>
          </a:prstGeom>
          <a:ln w="0">
            <a:noFill/>
          </a:ln>
        </p:spPr>
      </p:pic>
      <p:sp>
        <p:nvSpPr>
          <p:cNvPr id="85" name="Oval 7"/>
          <p:cNvSpPr/>
          <p:nvPr/>
        </p:nvSpPr>
        <p:spPr>
          <a:xfrm>
            <a:off x="914400" y="5486400"/>
            <a:ext cx="495288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354440" y="342900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gust 8,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7357680" y="6400800"/>
            <a:ext cx="168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uly 28,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3" descr="Arjun Easter 2008"/>
          <p:cNvPicPr/>
          <p:nvPr/>
        </p:nvPicPr>
        <p:blipFill>
          <a:blip r:embed="rId5"/>
          <a:stretch/>
        </p:blipFill>
        <p:spPr>
          <a:xfrm>
            <a:off x="7315200" y="1295280"/>
            <a:ext cx="1828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UDY OBJ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25146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determine whether operator-dependent  obstetric complications  occur at higher rates in July at teaching hospitals using a large, nationwide sample of delive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UDY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228564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 obtained from the Healthcare Cost and Utilization Project Nationwide Inpatient Sample (HCUP-NIS) from 1998-200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rgest all-payer inpatient care database in 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presentative sample of discharges from non-Federal, acute care hospitals 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base includes patient information coded at time of discharge, including age, race, primary expected payer and up to 15 diagnosis codes and procedure ICD-9 c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UDY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228564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ngleton deliveries and singleton livebirth admissions among Medicaid patients at teaching hospitals with Ob/Gyn residents working on Labor &amp; Delivery were ident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dicaid patient group most likely to be cared for by resi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utcomes for various complications for these patients in July were compared to those occurring in the months from August to Ju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UDY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228564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17 hospitals variably sampled each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jority were urban hospitals with &gt; 500 b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95480" y="3276720"/>
            <a:ext cx="388620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UDY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22856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differences in baseline maternal demo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2057400" y="3352680"/>
            <a:ext cx="51814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2770200" y="2209680"/>
            <a:ext cx="3645000" cy="4648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7052400" y="6130800"/>
            <a:ext cx="154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July 2, 19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y Arthur Ge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“July Phenomenon”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UDY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6,546 patients delivered in the month of Ju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72,584 patients delivered from August to J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Average of 24,780 deliveries per mon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significant difference in the rates of any com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esarean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acuum or forceps-associated vaginal 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rethral or bladder inj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and fourth degree lac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und com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stpartum hemorrhage and trans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houlder dysto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orioamnioni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esthesia 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UDY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1600200" y="3262320"/>
            <a:ext cx="6095880" cy="3319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914400" y="2057400"/>
            <a:ext cx="697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change in rates of birth asphyxia or brach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exus injury during summer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br>
              <a:rPr sz="36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…It’s Safe to Deliver in Jul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2361960"/>
            <a:ext cx="7010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 difference in obstetric complications between women delivered at teaching hospitals in the month of July as compared to women delivered during other months of the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n sampling technique of NIS and large sample size, our cohort is likely an accurate representation of current state of practice of obstetrics at teaching hospitals in the 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t-hoc power calculation showed that the study was well powered to detect even subtle differences in clinical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560" y="228600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ed supervision at the start of the academic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vious study investigating teaching hospitals found those with highest attending-to-resident ratios had less of a July phenomenon with regard to length of stay and risk-adjusted mort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medical students cartoons, medical students cartoon, medical students picture, medical students pictures, medical students image, medical students images, medical students illustration, medical students illustrations"/>
          <p:cNvPicPr/>
          <p:nvPr/>
        </p:nvPicPr>
        <p:blipFill>
          <a:blip r:embed="rId2"/>
          <a:stretch/>
        </p:blipFill>
        <p:spPr>
          <a:xfrm>
            <a:off x="1752480" y="1828800"/>
            <a:ext cx="60199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HANK YOU</a:t>
            </a:r>
            <a:br>
              <a:rPr sz="3200"/>
            </a:br>
            <a:br>
              <a:rPr sz="20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2" descr=""/>
          <p:cNvPicPr/>
          <p:nvPr/>
        </p:nvPicPr>
        <p:blipFill>
          <a:blip r:embed="rId2"/>
          <a:stretch/>
        </p:blipFill>
        <p:spPr>
          <a:xfrm>
            <a:off x="2362320" y="3124080"/>
            <a:ext cx="43434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3276720" y="1447920"/>
            <a:ext cx="2590560" cy="2590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3276720" y="4038480"/>
            <a:ext cx="2590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July Phenomenon in Medicin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academic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interns begin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ferior health care is pro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y novice physic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6629400" y="2514600"/>
            <a:ext cx="2514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1219320" y="1563840"/>
            <a:ext cx="6858000" cy="5294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0" y="1676520"/>
            <a:ext cx="4419720" cy="5181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4419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2"/>
          <a:srcRect l="0" t="18521" r="0" b="3701"/>
          <a:stretch/>
        </p:blipFill>
        <p:spPr>
          <a:xfrm>
            <a:off x="380880" y="1676520"/>
            <a:ext cx="8534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There a July Phenomenon in Obstetric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2"/>
          <a:stretch/>
        </p:blipFill>
        <p:spPr>
          <a:xfrm>
            <a:off x="2057400" y="3036960"/>
            <a:ext cx="52578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MOTIVATING F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440" y="24382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duc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Photo 4"/>
          <p:cNvPicPr/>
          <p:nvPr/>
        </p:nvPicPr>
        <p:blipFill>
          <a:blip r:embed="rId2"/>
          <a:stretch/>
        </p:blipFill>
        <p:spPr>
          <a:xfrm>
            <a:off x="2286000" y="3505320"/>
            <a:ext cx="441972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overhead"/>
          <p:cNvPicPr/>
          <p:nvPr/>
        </p:nvPicPr>
        <p:blipFill>
          <a:blip r:embed="rId2"/>
          <a:stretch/>
        </p:blipFill>
        <p:spPr>
          <a:xfrm>
            <a:off x="0" y="1298520"/>
            <a:ext cx="9144000" cy="52768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9:22:44Z</dcterms:created>
  <dc:creator>Trial User</dc:creator>
  <dc:description/>
  <dc:language>en-US</dc:language>
  <cp:lastModifiedBy>DHHS</cp:lastModifiedBy>
  <cp:lastPrinted>2005-12-01T15:47:10Z</cp:lastPrinted>
  <dcterms:modified xsi:type="dcterms:W3CDTF">2009-01-30T19:32:51Z</dcterms:modified>
  <cp:revision>85</cp:revision>
  <dc:subject/>
  <dc:title>PowerPoint Presentation</dc:title>
</cp:coreProperties>
</file>