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809880"/>
            <a:ext cx="9144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8098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38098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114300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80988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380988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3809880"/>
            <a:ext cx="2944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8098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380988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1143000"/>
            <a:ext cx="4462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809880"/>
            <a:ext cx="9144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866880"/>
            <a:ext cx="9142560" cy="152280"/>
            <a:chOff x="0" y="86688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86688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2700a6"/>
                </a:gs>
                <a:gs pos="50000">
                  <a:srgbClr val="3900f0"/>
                </a:gs>
                <a:gs pos="100000">
                  <a:srgbClr val="2700a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981360"/>
              <a:ext cx="9142560" cy="37800"/>
            </a:xfrm>
            <a:prstGeom prst="rect">
              <a:avLst/>
            </a:prstGeom>
            <a:gradFill rotWithShape="0">
              <a:gsLst>
                <a:gs pos="0">
                  <a:srgbClr val="007600"/>
                </a:gs>
                <a:gs pos="50000">
                  <a:srgbClr val="00aa00"/>
                </a:gs>
                <a:gs pos="100000">
                  <a:srgbClr val="007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29600" y="6324480"/>
            <a:ext cx="838080" cy="55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320" y="6586560"/>
            <a:ext cx="2438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8 Michael Pine and Associate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1240" y="762120"/>
            <a:ext cx="737820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Screening Administrativ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To Assess the Accu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Of Present-on-Admission Co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Michael Pine, M.D., M.B.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Michael Pine and Associate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Chicago, Illin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773-643-1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pine@ao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7040" y="257040"/>
            <a:ext cx="8629920" cy="6343920"/>
          </a:xfrm>
          <a:prstGeom prst="rect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sk-Adjusted Post-Op Lengths of St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 Rates of Prolonged LOS in Uncomplicated Cas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 Predictive Equations for Routine Post-Op L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 Observed Minus Predicted Post-Op L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ll Live Discharges at Each Hospita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XmR Control Charts of OBS minus PRED 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Outliers with Prolonged Post-Op L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 Process Until No Further Outliers Identifi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 Upper Bound at Median Outlier Rate for All Hospita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peat Process Using Only Uncomplicated Cas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 Outlier Rates for Each Hospit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Hospitals with Rates Greater Than Upper Bou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sk-Adjusted Post-Op Lengths of Stay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ve Discharges with and without Reported Compl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81160" y="1209600"/>
          <a:ext cx="8524800" cy="507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209600"/>
                    <a:ext cx="852480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sk-Adjusted Post-Op Lengths of Stay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ve Discharges without Reported Complica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1160" y="1225440"/>
          <a:ext cx="85248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1225440"/>
                    <a:ext cx="85248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cations in Obstetrical Admi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es Usually Present on Admi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Diagnosis Groups (e.g., multiple gestation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448,242 Code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.19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ospital-Acqui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Digit Codes Incompatible with Inpatient Delive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37,125 Inpatient Deliver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Digit = “0” or “3” or “4” i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0.27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atient Post-Partum Com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4,669 Cases with Obstetrical Fifth Digit = “2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Diagnosis Coded As Hospital-Acquired i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6.5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itial Analyses of Hospital Cod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6 Hospitals Screened with One or More Measur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 Hospitals Have More Than 10% Unknow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es Almost Always Present on Admi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s Than 2% of Diagnoses Hospital-Acqui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2280" y="3657600"/>
          <a:ext cx="8839440" cy="2590920"/>
        </p:xfrm>
        <a:graphic>
          <a:graphicData uri="http://schemas.openxmlformats.org/drawingml/2006/table">
            <a:tbl>
              <a:tblPr/>
              <a:tblGrid>
                <a:gridCol w="3124440"/>
                <a:gridCol w="2400120"/>
                <a:gridCol w="331488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Hospi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Meeting Criter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-Risk Condi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1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ive Surg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9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atient Deli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5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pital Coding for High-Risk Condi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Diagnoses with Acute Compon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pital-Acquired Rate Greater Than 2%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reater Than Twice Rate for Chronic Cod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45 Hospital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1.7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t Crite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es Frequently Hospital-Acqui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pital-Acquired Rate Greater Than 15% for Category B Diagnos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ate Monotonically Decreasing from Category A to Category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81 Hospital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3.4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t Crite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pital Mortality Rates for High-Risk Condi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 Predicted Mortality R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rect Standardization within Each Categ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d on Rates for Diagnoses Present on Admi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ds Ratio of Observed to Predicted Mortality R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er Than 1.60 for All Diagnos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ater Than 1.30 for All Diagnos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Greater Than 1.60 for Diagnoses in Categories A and 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84 Hospital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2.6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t Crite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pital Coding for Elective Surgical Admi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es Frequently Hospital-Acquired Com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pital-Acquired Rate Greater Than 65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75 Hospital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1.1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t Criter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Diagnoses with Acute Compon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e 2 Standard Deviation Lower Bounds for Hospital-Acquired R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spital-Acquired Rate Greater Than 12%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reater Than Three Times Rate for Chronic Cod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er Bound Greater Than Twice Rate for Chronic Cod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93 Hospital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6.8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t Criteri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longed Risk-Adjusted Post-Op Length of St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an Outlier Rate for All Live Discharges = 5.36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er Rates for Uncomplicated Cases Less Than Upper Boun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1.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78 Hospit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8.4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64 Reference Hospit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1.9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14 Remaining Hospit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pital Coding for Obstetrical Admi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es Usually Present on Admi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pital-Acquired Rate Less Than 3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34 Hospital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3.4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t Criter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Digit Codes Incompatible with Inpatient Delive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s Than 0.5% of Obstetrical Codes Incompatib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34 Hospital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7.3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t Criter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es with Inpatient Post-Partum Com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s Than 20% without Hospital-Acquired Diagno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23 Hospital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1.5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Met Criter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ionale for Development of POA Scree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mental Database and Selection of Cas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ription and Aggregate Performance of 12 Scree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aluation of Coding By Individual Hospit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utation of Composite Scores for Hospit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osite Hospital Scor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 of Points Assigned to Each Meas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nge from 1 to N with N = 4, 5, 8, or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 Only for 204 Hospitals with Adequate Da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e Measure Only When Volume Criteria 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Hospital, Comput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tal of Points Scored for Each Meas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ximum and Minimum Possible Poi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Each Measure, Compute Average of Points Sco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ain Final Adjusted Hospital Scores By Interpolation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l Adjusted Hospital Sco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187280"/>
          <a:ext cx="9139320" cy="4984920"/>
        </p:xfrm>
        <a:graphic>
          <a:graphicData uri="http://schemas.openxmlformats.org/drawingml/2006/table">
            <a:tbl>
              <a:tblPr/>
              <a:tblGrid>
                <a:gridCol w="1360440"/>
                <a:gridCol w="1555920"/>
                <a:gridCol w="1555560"/>
                <a:gridCol w="1555920"/>
                <a:gridCol w="1555560"/>
                <a:gridCol w="1555920"/>
              </a:tblGrid>
              <a:tr h="111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im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im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 Sc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usted Score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8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86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2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58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reening and Improvement of POA Cod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19320" y="1082520"/>
            <a:ext cx="6781680" cy="5782680"/>
            <a:chOff x="1219320" y="1082520"/>
            <a:chExt cx="6781680" cy="5782680"/>
          </a:xfrm>
        </p:grpSpPr>
        <p:sp>
          <p:nvSpPr>
            <p:cNvPr id="92" name=""/>
            <p:cNvSpPr/>
            <p:nvPr/>
          </p:nvSpPr>
          <p:spPr>
            <a:xfrm>
              <a:off x="2133720" y="1330200"/>
              <a:ext cx="4944960" cy="50151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86200" y="1082520"/>
              <a:ext cx="152388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OA Scree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22720" y="5675400"/>
              <a:ext cx="2949480" cy="118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dentification of Opportunities for Improv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05640" y="2362320"/>
              <a:ext cx="2295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formance Eval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72200" y="4202280"/>
              <a:ext cx="160020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9320" y="2362320"/>
              <a:ext cx="2295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rvention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 Proc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9320" y="4191120"/>
              <a:ext cx="229392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lan fo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mprov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38960" y="2154240"/>
              <a:ext cx="223920" cy="25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056360" y="3951360"/>
              <a:ext cx="23760" cy="357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68520" y="5672160"/>
              <a:ext cx="228600" cy="21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2376000" y="4938480"/>
              <a:ext cx="11916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173320" y="3085920"/>
              <a:ext cx="65160" cy="323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3657600" y="1371240"/>
              <a:ext cx="30492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nale for Development of POA Scree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A Code Identifies Hospital-Acquired Com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ortant in Computing Rates of Adverse Outcom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ortant in Risk-Adjusting Performance Measur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urate Coding Requires Expertise and Team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ccurate Cod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fects Assessments of Clinical Qu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fects Reimburse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t Reviews to Detect Coding Errors Are Expensi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ll-Designed Screens Can Detect Problems Efficientl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mental Databa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w York State SPARCS Data from 2003 through 200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8,388,179 Discharges from 246 Hospita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condary Diagnosis Codes Have POA Modifi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” = Present on Admiss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” = Hospital-Acqui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” = Status on Admission Unknow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lection of Cases for Screen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-Risk Conditions By Principal Diagno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3 Categories (e.g., septicemia, respiratory failur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ality = 9.2%; 70% of Deaths; 22% of Discharg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ive Admissions for Selected Surgical Procedur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Procedures (e.g., hysterectomy, knee replacemen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cipal Diagnosis Consistent with Proced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on During First 2 Days of Hospital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atient Childbirth By Diagnosis or Procedure Cod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gnoses Almost Always Present on Admis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1 Diagnosis Groups (e.g., malignancy, osteoporo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zed for Each of the 3 Sets of Cases Screen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Data for Each Set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3124080"/>
          <a:ext cx="9144000" cy="2971800"/>
        </p:xfrm>
        <a:graphic>
          <a:graphicData uri="http://schemas.openxmlformats.org/drawingml/2006/table">
            <a:tbl>
              <a:tblPr/>
              <a:tblGrid>
                <a:gridCol w="3048120"/>
                <a:gridCol w="2031840"/>
                <a:gridCol w="2032200"/>
                <a:gridCol w="2031840"/>
              </a:tblGrid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Co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pat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Unknow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-Risk Condi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06,0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.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ive Surg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8,8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0.6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atient Childbir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.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cations in High-Risk Condi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Diagnoses with and without Acute Compon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 Pairs (e.g., hernia with and without obstruction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s At Which Coded As Hospital-Acqui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nic without Acute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.06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1,612,079 Diagno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nic with Acute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.34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222,641 Diagno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es Frequently Hospital-Acquired (e.g., anuria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Categories Based on Frequency Hospital-Acqui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 Diagnosis Groups in Category A; 59 in B; 54 in C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 A -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63.5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172,472 Codes Hospital-Acquir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 B -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4.7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469,970 Codes Hospital-Acquir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 C -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4.8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772,049 Codes Hospital-Acquir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tality with Hospital-Acquired Compl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ly for High-Risk Condi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ality Greater When Diagnosis Hospital-Acqui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Categories Based on Ratio of Mortality R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6 Diagnosis Groups in Category A; 54 in B; 64 in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gregate Data for Each Category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3962520"/>
          <a:ext cx="9139320" cy="2209680"/>
        </p:xfrm>
        <a:graphic>
          <a:graphicData uri="http://schemas.openxmlformats.org/drawingml/2006/table">
            <a:tbl>
              <a:tblPr/>
              <a:tblGrid>
                <a:gridCol w="1447920"/>
                <a:gridCol w="1600200"/>
                <a:gridCol w="1371600"/>
                <a:gridCol w="1600200"/>
                <a:gridCol w="1371600"/>
                <a:gridCol w="17478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POA D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D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Hosp D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D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ds Rat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,8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4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7,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8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35,8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,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cations in Elective Surgical Admi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es Frequently Hospital-Acquired Compl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 Diagnosis Groups (e.g., septicemia, shock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138,655 Codes,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8.3%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ospital-Acqui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onic Diagnoses with and without Acute Componen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1 Pairs (e.g., asthma with and without exacerbation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s At Which Coded As Hospital-Acquire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nic without Acute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0.39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187,453 Diagno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nic with Acute: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8.72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%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2,174 Diagno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0:05:27Z</dcterms:created>
  <dc:creator>Michael Pine</dc:creator>
  <dc:description/>
  <dc:language>en-US</dc:language>
  <cp:lastModifiedBy>rac</cp:lastModifiedBy>
  <dcterms:modified xsi:type="dcterms:W3CDTF">2008-10-02T19:24:01Z</dcterms:modified>
  <cp:revision>88</cp:revision>
  <dc:subject/>
  <dc:title>Slide 1</dc:title>
</cp:coreProperties>
</file>