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D63B7-33AF-45C0-9894-1578CCA01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B71BB-2D68-4A4C-86ED-5EDCCB8CE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1626C-3652-4FDB-83D6-CE5F7EABA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41368-1389-4281-A35C-819D6BF74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06B78F-F7F5-41E8-8C78-D72AA0D3A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B6D7B-38FA-4560-9248-B4D9EB153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5CF10-2A93-476E-875C-7944ED200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4611D-D98C-49D2-9804-DA30D4C35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C1504-7F75-4956-9ED6-0DE8A82F4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95B76-D6FB-46CF-B213-B589382EE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AFF17-E5F7-4732-A6BF-4604FE919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BB860-D10D-4EFD-BF9B-8BAB322D5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97089-E3BA-420E-B7B6-57AB53577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E9645-A4F6-4551-8A06-D0EA02F59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C3E32-B845-442A-B25A-F50272855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9BBE30-C656-4A75-8798-59119C807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5157B-DE49-4B58-AEC4-E39CC94E7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86A931-3B3E-4444-BBC8-685F6F1E3F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9D1D95-A7A7-45C1-B5E6-5FB1D62E51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8A7598-586C-4009-AE76-1C235FD64A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EE06E-E7DB-43FF-BA16-7930E746B1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500590-0176-468B-B378-F64B41A1D2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308A2-BCAA-4727-BFA6-2D984CEBE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7A90FF-5C12-4CBD-BA74-C6A84752A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16FC3-53BA-42C6-A763-FCAE7714AF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D806FA-6E80-4BEC-B33F-ABBE643E2E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2F5086-49E0-41DA-8590-DB201BFA67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C1A529-FE81-4153-B0CE-F9A2B82CD4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D0CDB6-CA10-4402-B7C5-5BDDDA1075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9023A3-4B16-45DE-9AC7-50EBC6B3C9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08740-48E3-4582-9F62-758F258AE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F35BC-A8E0-4CB1-9E3E-12451F3B0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C5F35-91A6-4456-93AB-95DF95CAF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50F0E-4607-4E5F-8F68-4F1330C3A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53FC8-6070-4E52-A263-D05701CA0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75D72-6723-494B-9CF9-669D45304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1579-0792-4BC1-AD89-563774E583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1" name=""/>
          <p:cNvGrpSpPr/>
          <p:nvPr/>
        </p:nvGrpSpPr>
        <p:grpSpPr>
          <a:xfrm>
            <a:off x="0" y="6480"/>
            <a:ext cx="9140760" cy="6851520"/>
            <a:chOff x="0" y="6480"/>
            <a:chExt cx="9140760" cy="6851520"/>
          </a:xfrm>
        </p:grpSpPr>
        <p:sp>
          <p:nvSpPr>
            <p:cNvPr id="42"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0" y="6480"/>
              <a:ext cx="9140760" cy="6851520"/>
              <a:chOff x="0" y="6480"/>
              <a:chExt cx="9140760" cy="6851520"/>
            </a:xfrm>
          </p:grpSpPr>
          <p:sp>
            <p:nvSpPr>
              <p:cNvPr id="4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5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5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5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C5D8-0042-4A60-BE57-0E2DE4C68A6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5" name=""/>
          <p:cNvGrpSpPr/>
          <p:nvPr/>
        </p:nvGrpSpPr>
        <p:grpSpPr>
          <a:xfrm>
            <a:off x="0" y="6480"/>
            <a:ext cx="9140760" cy="6851520"/>
            <a:chOff x="0" y="6480"/>
            <a:chExt cx="9140760" cy="6851520"/>
          </a:xfrm>
        </p:grpSpPr>
        <p:grpSp>
          <p:nvGrpSpPr>
            <p:cNvPr id="96" name=""/>
            <p:cNvGrpSpPr/>
            <p:nvPr/>
          </p:nvGrpSpPr>
          <p:grpSpPr>
            <a:xfrm>
              <a:off x="0" y="1843200"/>
              <a:ext cx="9140760" cy="5014800"/>
              <a:chOff x="0" y="1843200"/>
              <a:chExt cx="9140760" cy="5014800"/>
            </a:xfrm>
          </p:grpSpPr>
          <p:sp>
            <p:nvSpPr>
              <p:cNvPr id="9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02" name=""/>
            <p:cNvGrpSpPr/>
            <p:nvPr/>
          </p:nvGrpSpPr>
          <p:grpSpPr>
            <a:xfrm>
              <a:off x="552600" y="6480"/>
              <a:ext cx="8588160" cy="6851520"/>
              <a:chOff x="552600" y="6480"/>
              <a:chExt cx="8588160" cy="6851520"/>
            </a:xfrm>
          </p:grpSpPr>
          <p:sp>
            <p:nvSpPr>
              <p:cNvPr id="10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10" name="PlaceHolder 2"/>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11" name="PlaceHolder 3"/>
          <p:cNvSpPr>
            <a:spLocks noGrp="1"/>
          </p:cNvSpPr>
          <p:nvPr>
            <p:ph type="ftr" idx="8"/>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12" name="PlaceHolder 4"/>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F6D5-1E40-4EB2-A892-925F0270C91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198072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USPSTF: Perspectives of a Member</a:t>
            </a:r>
            <a:endParaRPr b="1" lang="en-US" sz="4000" spc="-1" strike="noStrike">
              <a:solidFill>
                <a:srgbClr val="eaeaea"/>
              </a:solidFill>
              <a:latin typeface="Tahoma"/>
            </a:endParaRPr>
          </a:p>
        </p:txBody>
      </p:sp>
      <p:sp>
        <p:nvSpPr>
          <p:cNvPr id="151" name=""/>
          <p:cNvSpPr/>
          <p:nvPr/>
        </p:nvSpPr>
        <p:spPr>
          <a:xfrm>
            <a:off x="1219320" y="4191120"/>
            <a:ext cx="670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ana Petitti, MD, MP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tember 7, 200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HRQ “Lunch and Learn”</a:t>
            </a: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New Days”</a:t>
            </a:r>
            <a:endParaRPr b="1" lang="en-US" sz="44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ectal cancer screening</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imary care physician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diologist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astroenterologist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eticist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anies that make stool blood test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anies that make CT equipment</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anies that make tests of mutations in DNA in stool</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anies that make tests of mutations in DNA in bloo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ientists who own patents on the new technologies</a:t>
            </a:r>
            <a:endParaRPr b="0" lang="en-US" sz="2000" spc="-1" strike="noStrike">
              <a:solidFill>
                <a:srgbClr val="ffffff"/>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New Days”</a:t>
            </a:r>
            <a:endParaRPr b="1" lang="en-US" sz="4400" spc="-1" strike="noStrike">
              <a:solidFill>
                <a:srgbClr val="eaeaea"/>
              </a:solidFill>
              <a:latin typeface="Tahoma"/>
            </a:endParaRPr>
          </a:p>
        </p:txBody>
      </p:sp>
      <p:sp>
        <p:nvSpPr>
          <p:cNvPr id="1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ients, survivors, patients, the media, Wall Street as well as physicians, scientists, companies and the government are stakeholders</a:t>
            </a:r>
            <a:endParaRPr b="0" lang="en-US" sz="3200" spc="-1" strike="noStrike">
              <a:solidFill>
                <a:srgbClr val="ffffff"/>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New Days”</a:t>
            </a:r>
            <a:endParaRPr b="1" lang="en-US" sz="4400" spc="-1" strike="noStrike">
              <a:solidFill>
                <a:srgbClr val="eaeaea"/>
              </a:solidFill>
              <a:latin typeface="Tahoma"/>
            </a:endParaRPr>
          </a:p>
        </p:txBody>
      </p:sp>
      <p:sp>
        <p:nvSpPr>
          <p:cNvPr id="1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vention has become a “high stakes” field and the members of the Task Force and AHRQ, which provides major support, are “in a fish bowl”</a:t>
            </a:r>
            <a:endParaRPr b="0" lang="en-US" sz="3200" spc="-1" strike="noStrike">
              <a:solidFill>
                <a:srgbClr val="ffffff"/>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sperceptions Compound the Fish Bowl </a:t>
            </a:r>
            <a:endParaRPr b="1" lang="en-US" sz="4400" spc="-1" strike="noStrike">
              <a:solidFill>
                <a:srgbClr val="eaeaea"/>
              </a:solidFill>
              <a:latin typeface="Tahoma"/>
            </a:endParaRPr>
          </a:p>
        </p:txBody>
      </p:sp>
      <p:sp>
        <p:nvSpPr>
          <p:cNvPr id="1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F </a:t>
            </a:r>
            <a:r>
              <a:rPr b="0" lang="en-US" sz="5400" spc="-1" strike="noStrike">
                <a:solidFill>
                  <a:srgbClr val="ffffff"/>
                </a:solidFill>
                <a:latin typeface="Tahoma"/>
              </a:rPr>
              <a:t>does not</a:t>
            </a:r>
            <a:r>
              <a:rPr b="0" lang="en-US" sz="3200" spc="-1" strike="noStrike">
                <a:solidFill>
                  <a:srgbClr val="ffffff"/>
                </a:solidFill>
                <a:latin typeface="Tahoma"/>
              </a:rPr>
              <a:t> make decisions about coverage (or non-coverage) for any entity</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ypical systematic review for AHRQ’s EPC program costs $250,000-$500,00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fficient evidence </a:t>
            </a:r>
            <a:endParaRPr b="0" lang="en-US" sz="28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g., screening for prostate cancer using PSA</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ge to end screening</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ge to start screening</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opulation subgroups</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76" name=""/>
          <p:cNvSpPr/>
          <p:nvPr/>
        </p:nvSpPr>
        <p:spPr>
          <a:xfrm>
            <a:off x="1219320" y="457200"/>
            <a:ext cx="7543800" cy="143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Never-ending and/or  Never to End Problem </a:t>
            </a:r>
            <a:endParaRPr b="0" lang="en-US" sz="4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Would Make the Job Easier </a:t>
            </a: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more GOOD evidence </a:t>
            </a:r>
            <a:endParaRPr b="0" lang="en-US" sz="2800" spc="-1" strike="noStrike">
              <a:solidFill>
                <a:srgbClr val="ffffff"/>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ot (just) more clinical trials but (good) clinical trials that address pertinent populations</a:t>
            </a:r>
            <a:endParaRPr b="0" lang="en-US" sz="2400" spc="-1" strike="noStrike">
              <a:solidFill>
                <a:srgbClr val="ffffff"/>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ot more papers (how can we have 6000 journals and 17 million scientific publications per year and not know more?) </a:t>
            </a:r>
            <a:endParaRPr b="0" lang="en-US" sz="2400" spc="-1" strike="noStrike">
              <a:solidFill>
                <a:srgbClr val="ffffff"/>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Would Make the Job Easier </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ptance of other type of evidence when clinical trials will not be informative</a:t>
            </a:r>
            <a:endParaRPr b="0" lang="en-US" sz="3200" spc="-1" strike="noStrike">
              <a:solidFill>
                <a:srgbClr val="ffffff"/>
              </a:solidFill>
              <a:latin typeface="Tahom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mal use of observational data</a:t>
            </a:r>
            <a:endParaRPr b="0" lang="en-US" sz="2800" spc="-1" strike="noStrike">
              <a:solidFill>
                <a:srgbClr val="ffffff"/>
              </a:solidFill>
              <a:latin typeface="Tahom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ptance of decision-modeling</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Would Make the Job Easier </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FEWER competing recommendations based on the same evidence</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have FEWER groups involved in the recommendation business and to have all of the groups in the business function free of conflicts of interests including both financial and intellectual</a:t>
            </a:r>
            <a:endParaRPr b="0" lang="en-US" sz="28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Would Make the Job Easier </a:t>
            </a:r>
            <a:endParaRPr b="1" lang="en-US" sz="44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need all stakeholders to “get on the same page” concerning the purpose of medical care in general and prevention in specific</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o improve health and well-being</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n general, the purpose of involvement in medical care should not be to get rich</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For prevention, the purpose is not to save money that would otherwise be expended for other kinds of care</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905120" y="2514600"/>
            <a:ext cx="5503680" cy="1463760"/>
          </a:xfrm>
          <a:prstGeom prst="rect">
            <a:avLst/>
          </a:prstGeom>
          <a:noFill/>
          <a:ln w="0">
            <a:noFill/>
          </a:ln>
        </p:spPr>
        <p:txBody>
          <a:bodyPr lIns="90000" rIns="90000" tIns="46800" bIns="46800" anchor="t">
            <a:normAutofit fontScale="92000"/>
          </a:bodyPr>
          <a:p>
            <a:pPr marL="3153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153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DISCUSSION</a:t>
            </a:r>
            <a:endParaRPr b="0" lang="en-US" sz="4400" spc="-1" strike="noStrike">
              <a:solidFill>
                <a:srgbClr val="ffffff"/>
              </a:solidFill>
              <a:latin typeface="Tahoma"/>
            </a:endParaRPr>
          </a:p>
        </p:txBody>
      </p:sp>
      <p:pic>
        <p:nvPicPr>
          <p:cNvPr id="186" name="" descr=""/>
          <p:cNvPicPr/>
          <p:nvPr/>
        </p:nvPicPr>
        <p:blipFill>
          <a:blip r:embed="rId1"/>
          <a:stretch/>
        </p:blipFill>
        <p:spPr>
          <a:xfrm flipH="1">
            <a:off x="1066320" y="762120"/>
            <a:ext cx="1730520" cy="18288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vidence-based Medicine [Practice]</a:t>
            </a:r>
            <a:endParaRPr b="1" lang="en-US" sz="4400" spc="-1" strike="noStrike">
              <a:solidFill>
                <a:srgbClr val="eaeaea"/>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a:r>
            <a:r>
              <a:rPr b="1" lang="en-US" sz="3200" spc="-1" strike="noStrike">
                <a:solidFill>
                  <a:srgbClr val="ffffff"/>
                </a:solidFill>
                <a:latin typeface="Tahoma"/>
              </a:rPr>
              <a:t>the conscientious, explicit, and judicious use of current best evidence in making decisions about the care of individual patients” (Sackett BMJ 1996; 312: 71-72).</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vidence-based Medicine [Practice]</a:t>
            </a: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a:r>
            <a:r>
              <a:rPr b="1" lang="en-US" sz="3200" spc="-1" strike="noStrike">
                <a:solidFill>
                  <a:srgbClr val="ffffff"/>
                </a:solidFill>
                <a:latin typeface="Tahoma"/>
              </a:rPr>
              <a:t>the attraction and fundamental soundness of the core idea: that what happens to patients should be based, to the greatest extent possible, on evidence.”  (Eddy, Health Affairs, 2005, 24 (1): 9-17).</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elief without evidence is what is told by one who speaks without knowledge, of things without paralle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ccffff"/>
                </a:solidFill>
                <a:latin typeface="Tahoma"/>
              </a:rPr>
              <a:t>Ambrose Bierce</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 </a:t>
            </a:r>
            <a:endParaRPr b="0" lang="en-US" sz="32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066320" y="205740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nited States Preventive Services Task Force historically led the way in creating evidence-based recommendations for the use (and non-use) of preventive services for the United States</a:t>
            </a:r>
            <a:endParaRPr b="0" lang="en-US" sz="3200" spc="-1" strike="noStrike">
              <a:solidFill>
                <a:srgbClr val="ffffff"/>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PSTF</a:t>
            </a:r>
            <a:endParaRPr b="1" lang="en-US" sz="44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Independent </a:t>
            </a:r>
            <a:r>
              <a:rPr b="0" lang="en-US" sz="3200" spc="-1" strike="noStrike">
                <a:solidFill>
                  <a:srgbClr val="ffffff"/>
                </a:solidFill>
                <a:latin typeface="Tahoma"/>
              </a:rPr>
              <a:t>panel of experts in primary care and prevention; multidisciplinary; volunte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ot being “owned” and/or perceived as “owned” is a major strength</a:t>
            </a:r>
            <a:endParaRPr b="0" lang="en-US" sz="4000" spc="-1" strike="noStrike">
              <a:solidFill>
                <a:srgbClr val="ffffff"/>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t.....</a:t>
            </a: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s in the status of prevention and in the involvement of specialties other than primary care in prevention have substantially raised the stakes</a:t>
            </a:r>
            <a:endParaRPr b="0" lang="en-US" sz="3200" spc="-1" strike="noStrike">
              <a:solidFill>
                <a:srgbClr val="ffffff"/>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Olden” Days</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ectal cancer screening</a:t>
            </a:r>
            <a:endParaRPr b="0" lang="en-US" sz="24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imary care physician took a stool sample in his/her office and tested it for occult blood using a reagent he/she had in his/her “lab”</a:t>
            </a:r>
            <a:endParaRPr b="0" lang="en-US" sz="20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 the primary care physician asked the patient to take home “stool cards” and place a specimen on them and return them to the office to be tested</a:t>
            </a:r>
            <a:endParaRPr b="0" lang="en-US" sz="20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positive, they might be repeated with better prep or the patient would be referred to a gastroenterologist for further evaluation (barium enema, colonoscopy, etc.)</a:t>
            </a:r>
            <a:endParaRPr b="0" lang="en-US" sz="20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R </a:t>
            </a:r>
            <a:endParaRPr b="1" lang="en-US" sz="4400" spc="-1" strike="noStrike">
              <a:solidFill>
                <a:srgbClr val="eaeaea"/>
              </a:solidFill>
              <a:latin typeface="Tahoma"/>
            </a:endParaRPr>
          </a:p>
        </p:txBody>
      </p:sp>
      <p:sp>
        <p:nvSpPr>
          <p:cNvPr id="1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ectal cancer screening</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imary care physician used a rigid (perish the thought) or flexible sigmoidoscope to visualize the distal colon in order to identify polyps/cancers, which were biopsied by the physician in his/her office and sent to a pathologist.</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cancer was found, the patient would be referred to a surgeon</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polyps were found, they might be removed by the physician; more likely the patient would be referred to a gastroenterologist for a colonoscopy and polyp removal.</a:t>
            </a:r>
            <a:endParaRPr b="0" lang="en-US" sz="2000" spc="-1" strike="noStrike">
              <a:solidFill>
                <a:srgbClr val="ffffff"/>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0T17:31:52Z</dcterms:created>
  <dc:creator>cecil sheps</dc:creator>
  <dc:description/>
  <dc:language>en-US</dc:language>
  <cp:lastModifiedBy>rac</cp:lastModifiedBy>
  <dcterms:modified xsi:type="dcterms:W3CDTF">2008-09-08T15:26:22Z</dcterms:modified>
  <cp:revision>131</cp:revision>
  <dc:subject/>
  <dc:title>PowerPoint Presentation</dc:title>
</cp:coreProperties>
</file>