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A5BC7-7D78-4ACC-A1C7-982B92AB0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DD63E-926E-42C9-8BAF-EEB96ADA7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7EC7E-BB94-440B-91B4-295155D19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E9159-4534-4C1E-A2B2-5634616F7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48DD9-AD75-4C21-B370-592CFB3B7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3CDE4-79EE-4BDF-81D0-6F032BB46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88DD9-E35B-4704-869C-922C411E4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92848-1A13-40FF-81F0-5E869AB99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C3DA0-9A88-46C6-B7C1-145262242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535DB-2534-4D8B-8A92-53C79DFA3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3BDCD-052C-4BD2-ADEA-01EDE9353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01D37-4D9A-4A32-8EA3-FBB0AD28D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345AD-88DA-4691-8C9A-6335D1A58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F333B-B743-4B30-A8BF-7755099D1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CB25C-87FC-4F55-B60A-F69679492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AE069-602B-4317-AFA2-FFBE6CAFC1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2205E-922D-4C1C-8297-E0FE53708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09982E-EF71-40BB-A5C7-AEF9F5C208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9B4A41-B50A-4308-8A0F-894A2B25A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DBC83-E40C-4037-B3F2-FE490C9BB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C14072-8870-4F64-81CC-C7B649F8C5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2A4FF-8837-4F2E-9A46-0059B3668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BDB31-C9AA-4181-8CC2-8F36E6C80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1B7AA8-FB68-4DBE-8676-0A9B2F0D8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F4F267-1F84-4F0D-B4E9-A28961E045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62DE3-5739-4897-9F53-8DCD207D5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3EA6E-B526-40A2-AC7F-6193EF9A2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92533-552B-418D-83C3-19FB43D47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16BE03-9331-4031-85D4-7F7DA02AC8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E60757-08C1-4CD1-9B8F-A79B399A6C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EA205-F1D2-449F-A59C-BC7E9FACA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F0A3E-C55B-4523-B305-88FB0008B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D69D6-D281-47EF-96D0-D24A1B3C6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5272-4C2B-4E40-B326-8CD53821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4F940-842B-45C1-A284-098D6016A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AA22-B38A-485B-8D38-1609C58D0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770D-A024-40C6-BCAE-713338F2A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FB308-9A9B-40EC-AE3F-722E00FDB66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91A6-B91C-437F-8359-3F91D9A4D7E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980720"/>
            <a:ext cx="7086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USPSTF: Perspectives of a Member</a:t>
            </a:r>
            <a:endParaRPr b="1" lang="en-US" sz="4000" spc="-1" strike="noStrike">
              <a:solidFill>
                <a:srgbClr val="eaeaea"/>
              </a:solidFill>
              <a:latin typeface="Tahoma"/>
            </a:endParaRPr>
          </a:p>
        </p:txBody>
      </p:sp>
      <p:sp>
        <p:nvSpPr>
          <p:cNvPr id="151" name=""/>
          <p:cNvSpPr/>
          <p:nvPr/>
        </p:nvSpPr>
        <p:spPr>
          <a:xfrm>
            <a:off x="1219320" y="419112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ana Petitti, MD, MP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7, 20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RQ “Lunch and Learn”</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w Day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ectal cancer screening</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imary care physician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diologi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astroenterologi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enetici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stool blood test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CT equipment</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tests of mutations in DNA in stool</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panies that make tests of mutations in DNA in bloo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ientists who own patents on the new technologies</a:t>
            </a:r>
            <a:endParaRPr b="0" lang="en-US" sz="2000" spc="-1" strike="noStrike">
              <a:solidFill>
                <a:srgbClr val="ffffff"/>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w Days”</a:t>
            </a:r>
            <a:endParaRPr b="1" lang="en-US" sz="44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ients, survivors, patients, the media, Wall Street as well as physicians, scientists, companies and the government are stakeholders</a:t>
            </a:r>
            <a:endParaRPr b="0" lang="en-US" sz="32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w Days”</a:t>
            </a: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vention has become a “high stakes” field and the members of the Task Force and AHRQ, which provides major support, are “in a fish bowl”</a:t>
            </a:r>
            <a:endParaRPr b="0" lang="en-US" sz="3200" spc="-1" strike="noStrike">
              <a:solidFill>
                <a:srgbClr val="ffffff"/>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sperceptions Compound the Fish Bowl </a:t>
            </a: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F </a:t>
            </a:r>
            <a:r>
              <a:rPr b="0" lang="en-US" sz="5400" spc="-1" strike="noStrike">
                <a:solidFill>
                  <a:srgbClr val="ffffff"/>
                </a:solidFill>
                <a:latin typeface="Tahoma"/>
              </a:rPr>
              <a:t>does not</a:t>
            </a:r>
            <a:r>
              <a:rPr b="0" lang="en-US" sz="3200" spc="-1" strike="noStrike">
                <a:solidFill>
                  <a:srgbClr val="ffffff"/>
                </a:solidFill>
                <a:latin typeface="Tahoma"/>
              </a:rPr>
              <a:t> make decisions about coverage (or non-coverage) for any entity</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ical systematic review for AHRQ’s EPC program costs $250,000-$500,000</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fficient evidence </a:t>
            </a:r>
            <a:endParaRPr b="0" lang="en-US" sz="28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g., screening for prostate cancer using PSA</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ge to end screening</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ge to start screening</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pulation subgroups</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76" name=""/>
          <p:cNvSpPr/>
          <p:nvPr/>
        </p:nvSpPr>
        <p:spPr>
          <a:xfrm>
            <a:off x="1219320" y="457200"/>
            <a:ext cx="7543800" cy="143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Never-ending and/or  Never to End Problem </a:t>
            </a:r>
            <a:endParaRPr b="0" lang="en-US" sz="4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more GOOD evidence </a:t>
            </a:r>
            <a:endParaRPr b="0" lang="en-US" sz="28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t (just) more clinical trials but (good) clinical trials that address pertinent populations</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ot more papers (how can we have 6000 journals and 17 million scientific publications per year and not know more?) </a:t>
            </a:r>
            <a:endParaRPr b="0" lang="en-US" sz="2400" spc="-1" strike="noStrike">
              <a:solidFill>
                <a:srgbClr val="ffffff"/>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ptance of other type of evidence when clinical trials will not be informative</a:t>
            </a:r>
            <a:endParaRPr b="0" lang="en-US" sz="3200" spc="-1" strike="noStrike">
              <a:solidFill>
                <a:srgbClr val="ffffff"/>
              </a:solidFill>
              <a:latin typeface="Tahom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mal use of observational data</a:t>
            </a:r>
            <a:endParaRPr b="0" lang="en-US" sz="2800" spc="-1" strike="noStrike">
              <a:solidFill>
                <a:srgbClr val="ffffff"/>
              </a:solidFill>
              <a:latin typeface="Tahoma"/>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ptance of decision-modeling</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FEWER competing recommendations based on the same evidence</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have FEWER groups involved in the recommendation business and to have all of the groups in the business function free of conflicts of interests including both financial and intellectual</a:t>
            </a: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Would Make the Job Easier </a:t>
            </a:r>
            <a:endParaRPr b="1" lang="en-US" sz="4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need all stakeholders to “get on the same page” concerning the purpose of medical care in general and prevention in specific</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 improve health and well-being</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 general, the purpose of involvement in medical care should not be to get rich</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or prevention, the purpose is not to save money that would otherwise be expended for other kinds of care</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905120" y="2514600"/>
            <a:ext cx="5503680" cy="1463760"/>
          </a:xfrm>
          <a:prstGeom prst="rect">
            <a:avLst/>
          </a:prstGeom>
          <a:noFill/>
          <a:ln w="0">
            <a:noFill/>
          </a:ln>
        </p:spPr>
        <p:txBody>
          <a:bodyPr lIns="90000" rIns="90000" tIns="46800" bIns="46800" anchor="t">
            <a:normAutofit fontScale="92000"/>
          </a:bodyPr>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DISCUSSION</a:t>
            </a:r>
            <a:endParaRPr b="0" lang="en-US" sz="4400" spc="-1" strike="noStrike">
              <a:solidFill>
                <a:srgbClr val="ffffff"/>
              </a:solidFill>
              <a:latin typeface="Tahoma"/>
            </a:endParaRPr>
          </a:p>
        </p:txBody>
      </p:sp>
      <p:pic>
        <p:nvPicPr>
          <p:cNvPr id="186" name="" descr=""/>
          <p:cNvPicPr/>
          <p:nvPr/>
        </p:nvPicPr>
        <p:blipFill>
          <a:blip r:embed="rId1"/>
          <a:stretch/>
        </p:blipFill>
        <p:spPr>
          <a:xfrm flipH="1">
            <a:off x="1066320" y="762120"/>
            <a:ext cx="1730520" cy="18288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idence-based Medicine [Practice]</a:t>
            </a:r>
            <a:endParaRPr b="1" lang="en-US" sz="44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the conscientious, explicit, and judicious use of current best evidence in making decisions about the care of individual patients” (Sackett BMJ 1996; 312: 71-72).</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idence-based Medicine [Practice]</a:t>
            </a: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the attraction and fundamental soundness of the core idea: that what happens to patients should be based, to the greatest extent possible, on evidence.”  (Eddy, Health Affairs, 2005, 24 (1): 9-17).</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lief without evidence is what is told by one who speaks without knowledge, of things without paralle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ccffff"/>
                </a:solidFill>
                <a:latin typeface="Tahoma"/>
              </a:rPr>
              <a:t>Ambrose Bierce</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 </a:t>
            </a:r>
            <a:endParaRPr b="0" lang="en-US" sz="32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066320" y="205740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nited States Preventive Services Task Force historically led the way in creating evidence-based recommendations for the use (and non-use) of preventive services for the United States</a:t>
            </a:r>
            <a:endParaRPr b="0" lang="en-US" sz="32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PSTF</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Independent </a:t>
            </a:r>
            <a:r>
              <a:rPr b="0" lang="en-US" sz="3200" spc="-1" strike="noStrike">
                <a:solidFill>
                  <a:srgbClr val="ffffff"/>
                </a:solidFill>
                <a:latin typeface="Tahoma"/>
              </a:rPr>
              <a:t>panel of experts in primary care and prevention; multidisciplinary; volunte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t being “owned” and/or perceived as “owned” is a major strength</a:t>
            </a:r>
            <a:endParaRPr b="0" lang="en-US" sz="4000" spc="-1" strike="noStrike">
              <a:solidFill>
                <a:srgbClr val="ffffff"/>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t.....</a:t>
            </a: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the status of prevention and in the involvement of specialties other than primary care in prevention have substantially raised the stakes</a:t>
            </a:r>
            <a:endParaRPr b="0" lang="en-US" sz="32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Olden” Days</a:t>
            </a: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ectal cancer screening</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imary care physician took a stool sample in his/her office and tested it for occult blood using a reagent he/she had in his/her “lab”</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 the primary care physician asked the patient to take home “stool cards” and place a specimen on them and return them to the office to be tested</a:t>
            </a: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positive, they might be repeated with better prep or the patient would be referred to a gastroenterologist for further evaluation (barium enema, colonoscopy, etc.)</a:t>
            </a:r>
            <a:endParaRPr b="0" lang="en-US" sz="20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R </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ectal cancer screening</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primary care physician used a rigid (perish the thought) or flexible sigmoidoscope to visualize the distal colon in order to identify polyps/cancers, which were biopsied by the physician in his/her office and sent to a pathologist.</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cancer was found, the patient would be referred to a surgeon</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polyps were found, they might be removed by the physician; more likely the patient would be referred to a gastroenterologist for a colonoscopy and polyp removal.</a:t>
            </a:r>
            <a:endParaRPr b="0" lang="en-US" sz="2000" spc="-1" strike="noStrike">
              <a:solidFill>
                <a:srgbClr val="ffffff"/>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7:31:52Z</dcterms:created>
  <dc:creator>cecil sheps</dc:creator>
  <dc:description/>
  <dc:language>en-US</dc:language>
  <cp:lastModifiedBy>rac</cp:lastModifiedBy>
  <dcterms:modified xsi:type="dcterms:W3CDTF">2008-09-08T15:26:22Z</dcterms:modified>
  <cp:revision>131</cp:revision>
  <dc:subject/>
  <dc:title>PowerPoint Presentation</dc:title>
</cp:coreProperties>
</file>