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24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b15a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5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b15ad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2b15ad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5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b15ad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5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b15ad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5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b15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b15a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5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b15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b15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5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b15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5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b15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5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b15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4343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valuating the AHRQ Inpatient Mortality Indicators for Public Reporting in California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838080"/>
            <a:ext cx="4343400" cy="40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AHRQ QI Users Meet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seph Parker, Ph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an Paciotti, Ph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rry Holliday-Hanson, Ph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Healthcare Outcomes Center, OSHP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ockville, M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ptember 10,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43912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re IMIs (Potentially) Biased in Ways That Can be Detected Using Internal Data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346040"/>
            <a:ext cx="85089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certain types of hospitals (teaching, public, profit, non-profit) have worse IMI rates than other types of hospital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hospitals with a large percentage of DNR, palliative care, or SNF patients have worse IMI rates than other hospital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624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o hospitals with very poor POA coding quality (rarely coding complications) have better IMI rates than others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igh transfer-intens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spitals benefit from use of inpatient mortality compared to 30-day mortalit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e AHRQ inclusion of POA improve validity of original IMI by bringing it closer to a gold standard prox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ospital 2007 IMI Rates by Type of Hospita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438120" y="5845320"/>
            <a:ext cx="55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* p&lt;.05  **p&lt;0.01 ***p&lt;0.001 (ANOV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95360" y="1352520"/>
          <a:ext cx="8200800" cy="3651120"/>
        </p:xfrm>
        <a:graphic>
          <a:graphicData uri="http://schemas.openxmlformats.org/drawingml/2006/table">
            <a:tbl>
              <a:tblPr/>
              <a:tblGrid>
                <a:gridCol w="3801960"/>
                <a:gridCol w="1287360"/>
                <a:gridCol w="1081080"/>
                <a:gridCol w="903600"/>
                <a:gridCol w="1126800"/>
              </a:tblGrid>
              <a:tr h="3682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spital 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n-Prof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vest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bl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ach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umber of Hospitals(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aniotomy***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4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ff"/>
                          </a:solidFill>
                          <a:latin typeface="Arial"/>
                          <a:ea typeface="Arial"/>
                        </a:rPr>
                        <a:t>11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roke**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9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ff"/>
                          </a:solidFill>
                          <a:latin typeface="Arial"/>
                          <a:ea typeface="Arial"/>
                        </a:rPr>
                        <a:t>12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I Hemorrhage**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1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ip Fracture*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ff"/>
                          </a:solidFill>
                          <a:latin typeface="Arial"/>
                          <a:ea typeface="Arial"/>
                        </a:rPr>
                        <a:t>3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2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TCA**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ff"/>
                          </a:solidFill>
                          <a:latin typeface="Arial"/>
                          <a:ea typeface="Arial"/>
                        </a:rPr>
                        <a:t>1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rotid Endarterectomy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ff"/>
                          </a:solidFill>
                          <a:latin typeface="Arial"/>
                          <a:ea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3960" y="5180040"/>
            <a:ext cx="6338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1) Includes all CA hospitals meeting minimum volume thresholds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umber of actual hospitals reporting varies by I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ffect of DNR, Palliative Care, and SNF Patients on Hospital Performa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5640" y="1434600"/>
            <a:ext cx="844524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01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ach hospital, across all patients, calculated the percent of total who had th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NR coded within 24 hours of ad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D-9 code for palliative care (V66.7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rce of admission = SN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lated percent of patients with DNR, PC, &amp; SNF with IMI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d which 10% of hospitals had highest coding rates, separately, for DNR, PC &amp; SN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d and compared the IMI rates for the top 10% group with other 9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202680"/>
            <a:ext cx="86612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orrelations Between Hospital DNR, Palliative Care, and SNF Admission Rates and IMI Rates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9800" y="1333440"/>
          <a:ext cx="8229600" cy="4802400"/>
        </p:xfrm>
        <a:graphic>
          <a:graphicData uri="http://schemas.openxmlformats.org/drawingml/2006/table">
            <a:tbl>
              <a:tblPr/>
              <a:tblGrid>
                <a:gridCol w="2971800"/>
                <a:gridCol w="1704960"/>
                <a:gridCol w="1219320"/>
                <a:gridCol w="1190520"/>
                <a:gridCol w="1143000"/>
              </a:tblGrid>
              <a:tr h="4057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# Hospita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arson Corre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NR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ll. Care 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NF Admit 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ophageal Resec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3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ncreatic Resection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1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aniotom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1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ute Strok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22***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21***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0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rointestinal Hemorrhag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ip Fractur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1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TC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1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rotid Endarterectomy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0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Community-Acquired Pneumonia (OSHPD report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35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.11*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66ff33"/>
                          </a:solidFill>
                          <a:latin typeface="Arial"/>
                          <a:ea typeface="Arial"/>
                        </a:rPr>
                        <a:t>0.13*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--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1225440" y="6162840"/>
            <a:ext cx="555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*p&lt;.05, **p&lt;.01, ***p&lt;.000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202680"/>
            <a:ext cx="93344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o Hospitals Coding Large Numbers of DNR, Palliative Care, or SNF Admissions Have Higher IMI Rates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5240" y="1638360"/>
          <a:ext cx="8775720" cy="3620880"/>
        </p:xfrm>
        <a:graphic>
          <a:graphicData uri="http://schemas.openxmlformats.org/drawingml/2006/table">
            <a:tbl>
              <a:tblPr/>
              <a:tblGrid>
                <a:gridCol w="3098520"/>
                <a:gridCol w="787680"/>
                <a:gridCol w="863640"/>
                <a:gridCol w="828360"/>
                <a:gridCol w="1089000"/>
                <a:gridCol w="939960"/>
                <a:gridCol w="1168560"/>
              </a:tblGrid>
              <a:tr h="4525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N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lliative C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NF Admiss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aniotomy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roke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.8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.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I Hemorrhage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ip Fracture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TCA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rotid Endarterectomy 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4160" y="274680"/>
            <a:ext cx="863568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mpact of Hospital POA Coding Quality on Performance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304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624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llecting POA data element does not ensure reliably coded POA information across hospital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24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lculated IMI rates using non-POA version and POA version of APR-DRG softwar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24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roduced scatter plots and calculated correlations between both versions of indicator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24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reated two POA coding quality metrics to understand impact of poor POA coding on IMI rates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OSHPD metric using percent of all hospital secondary diagnoses coded POA=‘yes’ (gross measure)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OA coding quality metric published by Hughes et al. (2006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03320"/>
            <a:ext cx="9144000" cy="6649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03320"/>
            <a:ext cx="9144000" cy="6649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03320"/>
            <a:ext cx="9144000" cy="6649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03320"/>
            <a:ext cx="9144000" cy="6649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1080" y="417240"/>
            <a:ext cx="791532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HRQ Inpatient Mortality Indicators (IMIs): Background to CA Decis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90040" y="1295280"/>
            <a:ext cx="8201160" cy="496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601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 statute, OSHPD required to publish 9 risk-adjusted hospital outcome reports per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tional approach to producing reports costly, time-consuming, fraught with del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 patient discharge data now available only 7 months after end of reporting year (inpatient morta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death file (necessary for 30-day mortality) not available until 15 months after end of reporting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A now incorporated in APR-DRG risk adjustment algori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IMIs have undergone NQF vetting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03320"/>
            <a:ext cx="9144000" cy="6649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03320"/>
            <a:ext cx="9144000" cy="6649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51040" y="165240"/>
            <a:ext cx="793728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Do Hospitals with Poor POA Coding Have Better IMI Rates Than Other Hospitals?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19040" y="1320840"/>
          <a:ext cx="8489880" cy="4525920"/>
        </p:xfrm>
        <a:graphic>
          <a:graphicData uri="http://schemas.openxmlformats.org/drawingml/2006/table">
            <a:tbl>
              <a:tblPr/>
              <a:tblGrid>
                <a:gridCol w="3306960"/>
                <a:gridCol w="1220760"/>
                <a:gridCol w="1371600"/>
                <a:gridCol w="1218960"/>
                <a:gridCol w="1371600"/>
              </a:tblGrid>
              <a:tr h="5652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ughes et al. Metr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SHPD Metr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aniotomy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roke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 Hemorrhage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ip Fracture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TCA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rotid Endarterectomy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40096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Does the Use of Inpatient Mortality vs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30-Day Mortality Bias Hospital Results?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31560"/>
            <a:ext cx="826776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-day mortality is the preferred measure for outcomes assess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impacted by hospital discharge pract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y result in less timely re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fer rates vary greatly by hospi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fers/discharges to acute care (excluded in IMIs): 2.5% over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fers/discharges to SNF/IC/Other care: 14.5% over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eated hospital “transfer intensity” mea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tes created for top 10%, middle 80%, and bottom 10% of hospitals according to ALL patient discharges to non-acute care (SNF/Intermediate Care, Other: e.g., psych., phys. Med., rehab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d crude inpatient and 30-day mortality rates for hospitals by transfer intensity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d difference between hospital inpatient and 30-day crude mortality rates by IM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ted an “impact” measure  that describes how different transfer intensity groups are impacted by use of inpatient mort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-9360" y="1209600"/>
          <a:ext cx="9172440" cy="4883400"/>
        </p:xfrm>
        <a:graphic>
          <a:graphicData uri="http://schemas.openxmlformats.org/drawingml/2006/table">
            <a:tbl>
              <a:tblPr/>
              <a:tblGrid>
                <a:gridCol w="1209600"/>
                <a:gridCol w="1714320"/>
                <a:gridCol w="1143000"/>
                <a:gridCol w="1657440"/>
                <a:gridCol w="1514520"/>
                <a:gridCol w="1085760"/>
                <a:gridCol w="847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fer Intens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spita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patient Rate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-Day Rate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%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fer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ct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niotom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2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-1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o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-2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 Hemorrha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p Frac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-2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oti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arter-ectom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Arial"/>
                        </a:rPr>
                        <a:t>-0.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237960" y="190440"/>
            <a:ext cx="890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How Does Hospital Transfer Intensity Impact 30-day Crude Mortality Rates Compared to Inpatient Rates?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42400" y="6140520"/>
            <a:ext cx="6973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* Impact = Difference for High or Low group minus difference for moderate grou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7840" y="274680"/>
            <a:ext cx="896616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oes Inclusion of POA Coding Improve the IMIs Relative to a Gold Standard Proxy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5640" y="1434600"/>
            <a:ext cx="84452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624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enerated 2006 risk-adjusted mortality rates (RAMRs) for hospitals using CABG gold standard proxy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rker et al., Med Care 200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624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r same patient cohort, generated RAMRs using AHRQ software with and without PO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624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Used inpatient mortality for both outcom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624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lculated correlation between AHRQ CABG IMI (with &amp; without POA) with CABG gold standard prox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624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rrelation with gold standard proxy improved from .87 (without POA) to .93 (with POA): a 7% improvem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ummary of Finding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70080"/>
            <a:ext cx="826776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524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ublic hospitals had highest mortality rates for 5 of 6 IMIs: Both Teaching and Investor hospitals had lowest rates for 3 IMIs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524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ome patient illness severity is not explained by APR-DRG risk model (as demonstrated by DNR, PC &amp; SNF status) but this does not strongly bias results (stroke a possible exception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524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ospitals that do a poor job of POA coding (complications credited as pre-existing conditions) do not appear to benefit in terms of lower IMI ra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524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ospitals that rarely transfer patients to SNF/IC/Other care perform more poorly when using inpatient mortality compared to 30-day mortalit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fer rates to SNF/IC/Other care by hospital typ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-profit = 15%, Investor = 20%, Public= 15%, Teaching = 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524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Utilization of POA coding improves assessment of hospital quality relative to a CABG gold standard prox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HRQ Inpatient Mortality Indicator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alifornia Plans for Public Report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8600" y="1162080"/>
          <a:ext cx="8667720" cy="4641840"/>
        </p:xfrm>
        <a:graphic>
          <a:graphicData uri="http://schemas.openxmlformats.org/drawingml/2006/table">
            <a:tbl>
              <a:tblPr/>
              <a:tblGrid>
                <a:gridCol w="4334040"/>
                <a:gridCol w="433368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onditions (7)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rocedures (8)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ute Strok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trointestinal (GI) Hemorrh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p Fracture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M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MI without transfer cas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neumonia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gestive Heart Failu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ophageal Resection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creatic Resection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niotom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otid Endarterectom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utaneous Transluminal Coronary Angioplasty (PTC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bdominal Aortic Aneurysm (AAA) Repai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Hip Replac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ronary Artery Bypass Graft (CABG) Surge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368360" y="5924520"/>
            <a:ext cx="504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Indicators NOT planned for release in Gol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6600" y="6070680"/>
            <a:ext cx="3577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dorsed by NQF May, 200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37240" y="4559400"/>
            <a:ext cx="193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84600" y="4572000"/>
            <a:ext cx="2146320" cy="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parison of Traditional OSHPD Mortality Reports* with AHRQ IMIs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OSHPD Mortality Report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-day mort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k with CA death file data (del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e POA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ailed technical reports accompany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validation study perfor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ed quality “measure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national vetting/endors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16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AHRQ IMI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patient mort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death file data 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lude POA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imum documentation (Tech. Note with links to AHRQ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not formally validated in 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ed quality “indicator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 received National Quality Forum (NQF) endors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18840" y="6156360"/>
            <a:ext cx="55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 Not including CABG report based on clinical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160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lanned and Published OSHPD Quality Metrics: Varying Levels of Valid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119240"/>
          <a:ext cx="8940960" cy="4743360"/>
        </p:xfrm>
        <a:graphic>
          <a:graphicData uri="http://schemas.openxmlformats.org/drawingml/2006/table">
            <a:tbl>
              <a:tblPr/>
              <a:tblGrid>
                <a:gridCol w="1922400"/>
                <a:gridCol w="1177920"/>
                <a:gridCol w="1419120"/>
                <a:gridCol w="1449720"/>
                <a:gridCol w="1498320"/>
                <a:gridCol w="1473480"/>
              </a:tblGrid>
              <a:tr h="79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 CABG Repo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SHPD Traditional Report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SHPD Benchmark Reports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*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HRQ IM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HRQ Volume &amp; Utilization Indicato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ype of D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linical Regist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tient Discharge D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tient Discharge D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tient Discharge D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tient Discharge D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a Quality Check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ensive, ongoing chang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omated; no changes past accep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omated; no changes past accep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omated; no changes past accep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omated; no changes past accept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edical Chart Aud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Year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ith initial validation stud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imited: CHF, None: AA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isk Model Revie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Yearl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requ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requ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iodic by AHRQ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iodic by AHRQ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ert Panel Review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ntinuou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ith initial validation, T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iodic by AHRQ &amp; NQ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iodic by AHRQ &amp; NQ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incipal Source of Valid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tional STS &amp; associated litera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l validation study &amp; litera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 CHF, CMS validation; for AAA, litera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ensive literature review &amp; NQF vett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tensive literature review &amp; NQF vett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1226880" y="5878440"/>
            <a:ext cx="649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cludes two reports produced (heart  attack, pneumonia) and two in progres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11320" y="61578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*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wo reports in progress (AAA repair &amp; CHF) to be released without a formal validation stu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HRQ Message on IMI Validit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812484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Bef>
                <a:spcPts val="499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oviders, policy makers, and researchers can use with inpatient data to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dentify apparent variations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in the quality of inpatient ca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lthough quality assessments based on administrative data cannot be definitive, they can be used to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lag potential quality problems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and success stories, which can then be further investigated and studi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ospital associations, individual hospitals, purchasers, regulators, and policymakers at the local, State, and Federal levels can use readily available hospital administrative data to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egin the assessment of quality of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SHPD Message on IMI Validit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1280" y="1590480"/>
            <a:ext cx="812484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500" spc="-1" strike="noStrike">
                <a:solidFill>
                  <a:srgbClr val="ffffff"/>
                </a:solidFill>
                <a:latin typeface="Arial"/>
              </a:rPr>
              <a:t>OSHPD views these indicators as potentially useful starting points for examining hospital quality but </a:t>
            </a:r>
            <a:r>
              <a:rPr b="0" i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does not regard them as definitive measures of quality</a:t>
            </a:r>
            <a:r>
              <a:rPr b="0" i="1" lang="en-US" sz="2500" spc="-1" strike="noStrike">
                <a:solidFill>
                  <a:srgbClr val="ffffff"/>
                </a:solidFill>
                <a:latin typeface="Arial"/>
              </a:rPr>
              <a:t>. When this information is carefully considered, with its limitations, </a:t>
            </a:r>
            <a:r>
              <a:rPr b="0" i="1" lang="en-US" sz="2500" spc="-1" strike="noStrike" u="sng">
                <a:solidFill>
                  <a:srgbClr val="ffffff"/>
                </a:solidFill>
                <a:uFillTx/>
                <a:latin typeface="Arial"/>
              </a:rPr>
              <a:t>alongside other reliable healthcare provider information</a:t>
            </a:r>
            <a:r>
              <a:rPr b="0" i="1" lang="en-US" sz="2500" spc="-1" strike="noStrike">
                <a:solidFill>
                  <a:srgbClr val="ffffff"/>
                </a:solidFill>
                <a:latin typeface="Arial"/>
              </a:rPr>
              <a:t>, it may be helpful to patients and purchasers when making decisions about healthcare treatment choices. Healthcare providers may also benefit from using this information in quality improvement activitie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SHPD Implementation of IM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812484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d 2007 CA patient Discharge Dat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nsformed data elements and values into formats for AHRQ software (Version 3.2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A option utiliz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R-DRG risk scores based only on conditions coded as pre-existing, not hospital-related com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lculated risk-adjusted ra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APR-DRG risk model with coefficients from CA &amp; 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istic regression model (with random hospital effec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lculated statistical outli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cc"/>
                </a:solidFill>
                <a:latin typeface="Arial"/>
              </a:rPr>
              <a:t>No hospital case volume limit appl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cc"/>
                </a:solidFill>
                <a:latin typeface="Arial"/>
              </a:rPr>
              <a:t>95% upper and lower C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tter” and “Worse than Expected” labels 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cb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4600" y="355320"/>
            <a:ext cx="8229600" cy="5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7 CA Statewide California IMI Resul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68280" y="1670040"/>
          <a:ext cx="8477280" cy="4071960"/>
        </p:xfrm>
        <a:graphic>
          <a:graphicData uri="http://schemas.openxmlformats.org/drawingml/2006/table">
            <a:tbl>
              <a:tblPr/>
              <a:tblGrid>
                <a:gridCol w="2709720"/>
                <a:gridCol w="1278000"/>
                <a:gridCol w="1346400"/>
                <a:gridCol w="1145880"/>
                <a:gridCol w="1006560"/>
                <a:gridCol w="990720"/>
              </a:tblGrid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dure/Condi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 Cas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Hospi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Bett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Wor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99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ophageal Res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ncreatic Res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aniotom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4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ute Strok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,9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 Hemorrha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,6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p Frac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7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T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,1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otid Endarterectom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1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21:57:24Z</dcterms:created>
  <dc:creator>OSHPD User</dc:creator>
  <dc:description/>
  <cp:keywords/>
  <dc:language>en-US</dc:language>
  <cp:lastModifiedBy>DHHS</cp:lastModifiedBy>
  <cp:lastPrinted>2006-02-14T03:01:14Z</cp:lastPrinted>
  <dcterms:modified xsi:type="dcterms:W3CDTF">2009-01-30T17:45:46Z</dcterms:modified>
  <cp:revision>550</cp:revision>
  <dc:subject/>
  <dc:title>Healthcare Outcomes  Cen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ReviewCycleID">
    <vt:r8>1298092570</vt:r8>
  </property>
  <property fmtid="{D5CDD505-2E9C-101B-9397-08002B2CF9AE}" pid="3" name="_ReviewingToolsShownOnce">
    <vt:lpwstr/>
  </property>
</Properties>
</file>