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</p:sldIdLst>
  <p:sldSz cx="9907588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dt" idx="40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4769A9-CF3C-4A74-BD4C-7B7FC35770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 type="ftr" idx="41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 type="sldNum" idx="42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47A231-704D-4B7D-BB2C-2DA1DAB0B9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“Thank you from Europe”</a:t>
            </a:r>
            <a:br>
              <a:rPr sz="1200"/>
            </a:br>
            <a:r>
              <a:rPr b="1" i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HRQ and researchers funded by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ncbi.nlm.nih.gov/books/bv.fcgi?rid=aps.part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ahrq.gov/clinic/epc/qgapfact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ncbi.nlm.nih.gov/books/bv.fcgi?rid=aps.part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ahrq.gov/clinic/epc/qgapfact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81A1-9AFD-4B53-8D3B-93FCB6B9E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990612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-360" y="3720240"/>
            <a:ext cx="990612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1AA5-20D0-4B20-AA07-60E804F3C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B48FF3-9C5C-4283-8C68-C5D1711BB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4F16E8-0915-4459-9E5A-A2B959CAF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99061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0A4B17-B576-4140-B3B4-C0DE9CF84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-36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98B7F7-709A-4AFE-A71E-1A266C34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07564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713ADA-0FD6-4B8C-946A-51E344FF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-360" y="3720240"/>
            <a:ext cx="990612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D6598B-5D0B-4D09-88BF-19295937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990612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-360" y="3720240"/>
            <a:ext cx="990612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486EB0-8200-4929-B0D2-2639B8EB6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-36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507564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12D7D9-4177-4618-9DDD-DED5CE944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349080" y="83772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698520" y="83772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-360" y="372024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349080" y="372024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698520" y="372024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FF068E-5359-4116-9B5B-A88C79873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5C3060-02D6-408E-8D30-4058AFE61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-36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7564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2447-BABE-467F-81AF-1F588DE99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-360" y="837720"/>
            <a:ext cx="9906120" cy="551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50E4CA-290A-454F-A93C-BFA0D31DE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990612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AD330C-9DF7-43D9-BBD6-989487593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FB832D-9796-4A30-8EED-C830F1DB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C3D33D-A01F-4750-9916-299369B2B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99061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F31E14-2F0A-46D1-B499-4C7B1A1BF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-36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79F595-1A12-42D4-AC76-CD18AD52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07564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44E0E2-4A7C-4D69-A373-ED071EBD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-360" y="3720240"/>
            <a:ext cx="990612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F1F537-EE58-45C1-AD72-15D51D9C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990612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-360" y="3720240"/>
            <a:ext cx="990612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3A3C31-840D-4935-B8B7-B32CD3587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-36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507564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7C51B0-8DEF-4378-9451-C5FA7E385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49080" y="83772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98520" y="83772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-360" y="372024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49080" y="372024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98520" y="372024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D296-1EAC-40D8-BCEE-C326378CA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349080" y="83772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698520" y="83772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-360" y="372024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349080" y="372024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698520" y="372024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0F9730-8D82-45D9-B3E6-B1BD8FC3D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73090A-5807-4843-BB96-5B403251D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-360" y="837720"/>
            <a:ext cx="9906120" cy="551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90556A-EA8B-4EB0-87F7-EE8BD2534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990612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95C3AB-FBC0-41FD-AC04-B67968302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93B23A-B1FE-41E3-A6F5-DBEBD1F4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B98BD3-AA69-40EA-94E3-313A1237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99061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1069D6-F9DA-4396-8A2A-B0504389E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-36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93C438-8057-4FA0-9690-28F8B11A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07564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E22520-C2AE-4DAF-BD8E-0FEA0D10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-360" y="3720240"/>
            <a:ext cx="990612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518FDD-C5FC-4129-9E88-EB830996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3F68F-4620-4CCF-BE6C-810ED6D8D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990612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-360" y="3720240"/>
            <a:ext cx="990612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343255-4A12-4D59-9125-C07D270EC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-36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507564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6168F7-716A-4F2F-A59B-6E82DBFD3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49080" y="83772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698520" y="83772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-360" y="372024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49080" y="372024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698520" y="372024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568027-FF77-4510-9B06-3A0E6B30E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5DA74A-FD52-43F7-A3F6-20BD4F552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-360" y="837720"/>
            <a:ext cx="9906120" cy="551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A316C8-364B-4BF4-A5E4-4CDE0DCA1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990612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AFC6D2-2BA6-4A16-B0C4-3F4F6CE40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D7F263-31C3-4054-8118-73F922123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DBAFA1-90E7-4ABD-8272-A5379A870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99061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ACB294-71C9-4A10-9B90-65E78C8AF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-36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478597-EE45-47C7-97D6-EE00DDC7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-360" y="837720"/>
            <a:ext cx="9906120" cy="551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2F737-5F07-4E68-991D-1B867F16F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07564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A8A14E-0431-42C9-B8CE-F6D4F6AE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-360" y="3720240"/>
            <a:ext cx="990612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F8655C-CDD0-439E-A419-7D5FACA0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990612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-360" y="3720240"/>
            <a:ext cx="990612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CEB08E-1D85-4CBB-B06A-1FF35328D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-36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507564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C9C2AE-AF16-4076-BE69-653FB9B81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349080" y="83772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698520" y="83772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-360" y="372024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349080" y="372024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698520" y="372024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526253-5A96-42BE-A2DC-D474511BD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0D863E-7E09-4FB7-8747-41F6C424F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-360" y="837720"/>
            <a:ext cx="9906120" cy="551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5F739F-FAF0-41E9-B231-A3CB05CEF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990612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59E14A-151B-4C38-885A-810F137F4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6E728A-73B8-433E-BB8C-3722859ED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C35DA8-5ED6-4CEC-8D3B-5302F028F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990612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DA427-9B8D-44B5-96E0-20359A7B9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99061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169E24-A30C-4CBF-BA9D-EA7DC0173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-36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DD1DBB-4756-4407-9429-37E310D4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507564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B88564-C0A5-4C20-82B5-DD6695C0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-360" y="3720240"/>
            <a:ext cx="990612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E85636-5C24-427D-86FB-3F547155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990612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-360" y="3720240"/>
            <a:ext cx="990612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3BB186-A695-416F-A36A-9041E24AB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-36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507564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93DAD6-E422-4368-8D2B-5083D5533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349080" y="83772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698520" y="83772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-360" y="372024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349080" y="372024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698520" y="372024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98B991-4ED2-447D-87D3-22E576473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10E0A-CDDE-47D6-B2D4-7E1280367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AF656-6D8F-4610-8C6D-264E5F99B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99061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796CD-3BDA-43EA-BE15-70120717F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-36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84651-3C08-4DDC-9470-647E32F4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-360" y="837720"/>
            <a:ext cx="9906120" cy="551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DD91-6A65-4B98-8A97-9E684DA2D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7564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DB4BA-10EB-400A-8182-90A2B495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-360" y="3720240"/>
            <a:ext cx="990612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75DFF-3B36-4891-8F9E-3FADFEFA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990612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-360" y="3720240"/>
            <a:ext cx="990612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AC0B3-8E58-4D07-8676-5FDD73E22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-36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7564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8C670-2DC3-41C8-8377-DC8460426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49080" y="83772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698520" y="83772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-360" y="372024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49080" y="372024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698520" y="372024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E836B-2BCF-42F4-ADE5-54FBD2A63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FA571-981D-4CAE-887A-8B28C35B0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-360" y="837720"/>
            <a:ext cx="9906120" cy="551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74DB3-3830-4E21-9A7A-5B9571104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990612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96056-65DE-4AC5-A83D-5A2BCC33D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3AC83-E011-4C52-A866-8ECA569F2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F9212-5A92-447E-87D8-3B833AD1C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990612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8CED-19A9-4B8F-A3C5-BCC093628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99061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31F10-86FC-42FF-965B-26A954BD5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-36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91F4B-B40D-48D5-AFED-5C47E2EA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07564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C4E3B-A58A-443B-87F7-34962B32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-360" y="3720240"/>
            <a:ext cx="990612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B1498-90E0-4FD6-A45E-C586A75E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990612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-360" y="3720240"/>
            <a:ext cx="990612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DB34F-E72B-46B6-A331-4868EC11E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-36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7564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44CC6-8D3F-4E1E-BDEB-655ABBA7C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49080" y="83772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698520" y="83772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-360" y="372024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49080" y="372024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698520" y="372024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837AF-45A8-434B-9CE3-431395DF9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E213F-9638-47DE-A05C-B946E0527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-360" y="837720"/>
            <a:ext cx="9906120" cy="551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BF0DC-E0F8-4711-83E4-D09C58AD7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990612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39AB9-3EE8-4D09-95D3-2CA05A666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70FB-FEA4-4BB5-96B6-FEE6B539C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35D02-4503-4B5C-BDF3-4833AD519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EC439-E8CE-41C3-B973-0743ABF6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99061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C5FE9-4A0E-4B81-8792-F62F24495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-36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06F79-B63D-407B-88AF-11D8B323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7564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07151-793B-41D3-BF9F-2C558D42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-360" y="3720240"/>
            <a:ext cx="990612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70971-60BB-44C5-A4B9-B883C83A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990612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-360" y="3720240"/>
            <a:ext cx="990612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EC9EC-1768-4919-B9E6-F7AFB4702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-36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07564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887BF-DA60-49B8-B847-A1E56DC45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49080" y="83772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698520" y="83772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-360" y="372024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49080" y="372024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698520" y="372024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49AC0-3A1B-45B6-BA81-5E89F15FF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E8241-0A73-47B0-9BE5-2682760E9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0668-64E9-4119-8156-1B887C822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-360" y="837720"/>
            <a:ext cx="9906120" cy="551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52417-6FA1-4D84-82EB-B1D447C9E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990612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F23E0-145C-4143-938F-71D1C954E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6526E-25DC-49E7-B142-ABEC829DE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E1057-E242-4728-B841-6785C3F76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99061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1CDAC-6D5E-4BD6-BD77-B6124497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-36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CF300-61BB-4012-B9CF-C636D90D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07564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455F7-4EA6-4354-A26D-C0900B9F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-360" y="3720240"/>
            <a:ext cx="990612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37F5B-7D27-419A-A12C-8E46C8FF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990612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-360" y="3720240"/>
            <a:ext cx="990612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716A6-27F1-4C2F-AF2C-A61A80B9E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-36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507564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17EDE-28E2-48E6-BE8D-B4C2785B4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99061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014D-B432-48F3-97EA-0A207543B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349080" y="83772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698520" y="83772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-360" y="372024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349080" y="372024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698520" y="372024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B8406-2C85-4B5C-BAEC-54868E0B4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3A11E-A542-4828-9A2B-045F56B5C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-360" y="837720"/>
            <a:ext cx="9906120" cy="551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9103E7-1DD8-41C9-B966-DE934F465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990612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01C37-E2C0-4C5D-A9E2-0194492A3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582229-FEE9-46A1-9F86-9BD44B591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14A66-ACAB-4B37-A049-AFEF48550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99061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DEA26-B0B0-44D5-A246-8A5CB1EBB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-36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EF4D1-E583-4F8F-BB0D-1CE3BAEC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7564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3B6337-19E4-4A85-91E0-4E173C07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-360" y="3720240"/>
            <a:ext cx="990612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9D6F7-86CF-46BB-9818-32A71F99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6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B5D7-07AF-4A33-98A6-D0B23437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990612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-360" y="3720240"/>
            <a:ext cx="990612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7BD1E-223D-422E-AD28-B780BF1FD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-36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507564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6358EE-4CA9-4C40-A52B-54B810EC2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349080" y="83772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698520" y="83772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-360" y="372024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349080" y="372024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698520" y="372024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3D606-F394-4DDC-911B-03C45F7ED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3AB04-326B-411D-9516-61F3561C6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-360" y="837720"/>
            <a:ext cx="9906120" cy="551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A66FA-402A-4220-8E75-513CFB4FA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990612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FDB95-16A5-47E5-9B4B-6204A50F4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0A0ACB-17DD-4E4C-9CEC-F1C88F5F2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01AFE6-DF74-4DD0-B748-F2097E47E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99061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7F4DA4-1E6A-4872-BA2E-32FF6BDAF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-36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8AEBDF-5D4B-46B2-9C27-396DF851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564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2CDB-109F-4633-BE26-27472B38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07564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D90A0-8BF4-48E2-9325-4F5ABA28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-360" y="3720240"/>
            <a:ext cx="990612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1D7F30-C879-48CF-9937-DD29A598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990612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-360" y="3720240"/>
            <a:ext cx="990612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97EA8-958B-4BD0-8A22-B6D4FC2CD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-36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507564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342AE-17BB-40AF-9803-2D392530F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49080" y="83772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698520" y="83772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-360" y="372024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49080" y="372024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698520" y="372024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43B254-0E61-432F-8519-2A15F61E2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022EE8-EA04-44A2-A031-FFAE64E64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-360" y="837720"/>
            <a:ext cx="9906120" cy="551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33192D-C18D-46FF-A57C-6EA381AF3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990612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C50669-9658-424C-9748-B39721A9F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F3970C-0999-4EF3-A5FF-40DDA7D56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0BE948-DFF9-421E-95C4-4B31036E5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-360" y="3720240"/>
            <a:ext cx="990612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B2B7-C4B9-4B9A-99FA-53FBEE48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99061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5B88DA-AAEB-4E0A-B4B0-050372D30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-36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B86C5E-C7E0-4A35-BDB8-F8B545755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07564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0494DB-1E1E-45AA-91CA-3E2F6FAF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-360" y="3720240"/>
            <a:ext cx="990612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BD17D0-EFD3-48BF-A726-743BA5C4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990612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-360" y="3720240"/>
            <a:ext cx="990612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84F5B4-A676-4015-9013-F7560452A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-36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507564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D1A4DF-153C-4299-8761-1482D88F9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349080" y="83772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698520" y="83772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-360" y="372024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349080" y="372024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698520" y="372024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7CD96-B342-40BD-A919-C2C69D405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A7ECC8-3B6E-4A9F-A5DD-90120CB89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-360" y="837720"/>
            <a:ext cx="9906120" cy="551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EE88D5-C18E-4ED1-A2F4-EF04BAC51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990612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A89212-6E81-4F3F-8618-B6B456944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334800" y="681120"/>
            <a:ext cx="511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14"/>
          <p:cNvSpPr/>
          <p:nvPr/>
        </p:nvSpPr>
        <p:spPr>
          <a:xfrm>
            <a:off x="290520" y="681120"/>
            <a:ext cx="316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15"/>
          <p:cNvSpPr/>
          <p:nvPr/>
        </p:nvSpPr>
        <p:spPr>
          <a:xfrm>
            <a:off x="270000" y="681120"/>
            <a:ext cx="111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16"/>
          <p:cNvSpPr/>
          <p:nvPr/>
        </p:nvSpPr>
        <p:spPr>
          <a:xfrm>
            <a:off x="24120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-360" y="837720"/>
            <a:ext cx="990612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6400" y="641664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D9489A-8E02-4075-84A1-EAE3736EF24F}" type="datetime">
              <a:rPr b="0" lang="en-US" sz="1100" spc="-1" strike="noStrike">
                <a:solidFill>
                  <a:srgbClr val="d6ecff"/>
                </a:solidFill>
                <a:latin typeface="Corbel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990360" y="6416640"/>
            <a:ext cx="6026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255160" y="5943600"/>
            <a:ext cx="1568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36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d6ecff"/>
                </a:solidFill>
                <a:latin typeface="Corbel"/>
              </a:rPr>
              <a:t> </a:t>
            </a:r>
            <a:fld id="{3EB28E02-989C-40D6-BCD5-1D9C5C6814DC}" type="slidenum">
              <a:rPr b="0" lang="en-US" sz="36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11"/>
          <p:cNvSpPr/>
          <p:nvPr/>
        </p:nvSpPr>
        <p:spPr>
          <a:xfrm>
            <a:off x="334800" y="681120"/>
            <a:ext cx="511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Rectangle 14"/>
          <p:cNvSpPr/>
          <p:nvPr/>
        </p:nvSpPr>
        <p:spPr>
          <a:xfrm>
            <a:off x="290520" y="681120"/>
            <a:ext cx="316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angle 15"/>
          <p:cNvSpPr/>
          <p:nvPr/>
        </p:nvSpPr>
        <p:spPr>
          <a:xfrm>
            <a:off x="270000" y="681120"/>
            <a:ext cx="111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angle 16"/>
          <p:cNvSpPr/>
          <p:nvPr/>
        </p:nvSpPr>
        <p:spPr>
          <a:xfrm>
            <a:off x="24120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Rectangle 10"/>
          <p:cNvSpPr/>
          <p:nvPr/>
        </p:nvSpPr>
        <p:spPr>
          <a:xfrm>
            <a:off x="398520" y="0"/>
            <a:ext cx="950904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Straight Connector 12"/>
          <p:cNvSpPr/>
          <p:nvPr/>
        </p:nvSpPr>
        <p:spPr>
          <a:xfrm>
            <a:off x="393840" y="1884240"/>
            <a:ext cx="95137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Group 18"/>
          <p:cNvGrpSpPr/>
          <p:nvPr/>
        </p:nvGrpSpPr>
        <p:grpSpPr>
          <a:xfrm>
            <a:off x="9226800" y="1217520"/>
            <a:ext cx="139680" cy="131400"/>
            <a:chOff x="9226800" y="1217520"/>
            <a:chExt cx="139680" cy="131400"/>
          </a:xfrm>
        </p:grpSpPr>
        <p:sp>
          <p:nvSpPr>
            <p:cNvPr id="436" name="Straight Connector 18"/>
            <p:cNvSpPr/>
            <p:nvPr/>
          </p:nvSpPr>
          <p:spPr>
            <a:xfrm>
              <a:off x="9299160" y="1217520"/>
              <a:ext cx="673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Straight Connector 19"/>
            <p:cNvSpPr/>
            <p:nvPr/>
          </p:nvSpPr>
          <p:spPr>
            <a:xfrm>
              <a:off x="9226800" y="1282680"/>
              <a:ext cx="9396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Straight Connector 20"/>
            <p:cNvSpPr/>
            <p:nvPr/>
          </p:nvSpPr>
          <p:spPr>
            <a:xfrm flipV="1">
              <a:off x="9299160" y="1282320"/>
              <a:ext cx="673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9" name="Group 24"/>
          <p:cNvGrpSpPr/>
          <p:nvPr/>
        </p:nvGrpSpPr>
        <p:grpSpPr>
          <a:xfrm>
            <a:off x="9392040" y="1370160"/>
            <a:ext cx="139680" cy="131400"/>
            <a:chOff x="9392040" y="1370160"/>
            <a:chExt cx="139680" cy="131400"/>
          </a:xfrm>
        </p:grpSpPr>
        <p:sp>
          <p:nvSpPr>
            <p:cNvPr id="440" name="Straight Connector 24"/>
            <p:cNvSpPr/>
            <p:nvPr/>
          </p:nvSpPr>
          <p:spPr>
            <a:xfrm>
              <a:off x="9464400" y="1370160"/>
              <a:ext cx="673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Straight Connector 25"/>
            <p:cNvSpPr/>
            <p:nvPr/>
          </p:nvSpPr>
          <p:spPr>
            <a:xfrm>
              <a:off x="9392040" y="1435320"/>
              <a:ext cx="9396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Straight Connector 26"/>
            <p:cNvSpPr/>
            <p:nvPr/>
          </p:nvSpPr>
          <p:spPr>
            <a:xfrm flipV="1">
              <a:off x="9464400" y="1434960"/>
              <a:ext cx="673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3" name="Group 28"/>
          <p:cNvGrpSpPr/>
          <p:nvPr/>
        </p:nvGrpSpPr>
        <p:grpSpPr>
          <a:xfrm>
            <a:off x="9015840" y="1473120"/>
            <a:ext cx="139680" cy="131400"/>
            <a:chOff x="9015840" y="1473120"/>
            <a:chExt cx="139680" cy="131400"/>
          </a:xfrm>
        </p:grpSpPr>
        <p:sp>
          <p:nvSpPr>
            <p:cNvPr id="444" name="Straight Connector 28"/>
            <p:cNvSpPr/>
            <p:nvPr/>
          </p:nvSpPr>
          <p:spPr>
            <a:xfrm>
              <a:off x="9088200" y="1473120"/>
              <a:ext cx="673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Straight Connector 29"/>
            <p:cNvSpPr/>
            <p:nvPr/>
          </p:nvSpPr>
          <p:spPr>
            <a:xfrm>
              <a:off x="9015840" y="1538280"/>
              <a:ext cx="9396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Straight Connector 30"/>
            <p:cNvSpPr/>
            <p:nvPr/>
          </p:nvSpPr>
          <p:spPr>
            <a:xfrm flipV="1">
              <a:off x="9088200" y="1537920"/>
              <a:ext cx="673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-360" y="837720"/>
            <a:ext cx="990612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28"/>
          </p:nvPr>
        </p:nvSpPr>
        <p:spPr>
          <a:xfrm>
            <a:off x="7016400" y="55080"/>
            <a:ext cx="2311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9FB24D-915F-421E-B0E6-9929117168C8}" type="datetime">
              <a:rPr b="0" lang="en-US" sz="1100" spc="-1" strike="noStrike">
                <a:solidFill>
                  <a:srgbClr val="d6ecff"/>
                </a:solidFill>
                <a:latin typeface="Corbel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29"/>
          </p:nvPr>
        </p:nvSpPr>
        <p:spPr>
          <a:xfrm>
            <a:off x="990360" y="55080"/>
            <a:ext cx="6026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30"/>
          </p:nvPr>
        </p:nvSpPr>
        <p:spPr>
          <a:xfrm>
            <a:off x="9327960" y="55080"/>
            <a:ext cx="495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0A359A-BFE8-45AF-9D10-1C7642DE7130}" type="slidenum">
              <a:rPr b="0" lang="en-US" sz="36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11"/>
          <p:cNvSpPr/>
          <p:nvPr/>
        </p:nvSpPr>
        <p:spPr>
          <a:xfrm>
            <a:off x="334800" y="681120"/>
            <a:ext cx="511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Rectangle 14"/>
          <p:cNvSpPr/>
          <p:nvPr/>
        </p:nvSpPr>
        <p:spPr>
          <a:xfrm>
            <a:off x="290520" y="681120"/>
            <a:ext cx="316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Rectangle 15"/>
          <p:cNvSpPr/>
          <p:nvPr/>
        </p:nvSpPr>
        <p:spPr>
          <a:xfrm>
            <a:off x="270000" y="681120"/>
            <a:ext cx="111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Rectangle 16"/>
          <p:cNvSpPr/>
          <p:nvPr/>
        </p:nvSpPr>
        <p:spPr>
          <a:xfrm>
            <a:off x="24120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-360" y="837720"/>
            <a:ext cx="990612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1"/>
          </p:nvPr>
        </p:nvSpPr>
        <p:spPr>
          <a:xfrm>
            <a:off x="7016400" y="641664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450879-9797-42C3-8405-20377E2393DA}" type="datetime">
              <a:rPr b="0" lang="en-US" sz="1100" spc="-1" strike="noStrike">
                <a:solidFill>
                  <a:srgbClr val="d6ecff"/>
                </a:solidFill>
                <a:latin typeface="Corbel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2"/>
          </p:nvPr>
        </p:nvSpPr>
        <p:spPr>
          <a:xfrm>
            <a:off x="990360" y="6416640"/>
            <a:ext cx="6026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3"/>
          </p:nvPr>
        </p:nvSpPr>
        <p:spPr>
          <a:xfrm>
            <a:off x="8255160" y="5943600"/>
            <a:ext cx="1568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66BEAA-9BCD-4F76-B697-1C4A7F8153B8}" type="slidenum">
              <a:rPr b="0" lang="en-US" sz="36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11"/>
          <p:cNvSpPr/>
          <p:nvPr/>
        </p:nvSpPr>
        <p:spPr>
          <a:xfrm>
            <a:off x="334800" y="681120"/>
            <a:ext cx="511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Rectangle 14"/>
          <p:cNvSpPr/>
          <p:nvPr/>
        </p:nvSpPr>
        <p:spPr>
          <a:xfrm>
            <a:off x="290520" y="681120"/>
            <a:ext cx="316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15"/>
          <p:cNvSpPr/>
          <p:nvPr/>
        </p:nvSpPr>
        <p:spPr>
          <a:xfrm>
            <a:off x="270000" y="681120"/>
            <a:ext cx="111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Rectangle 16"/>
          <p:cNvSpPr/>
          <p:nvPr/>
        </p:nvSpPr>
        <p:spPr>
          <a:xfrm>
            <a:off x="24120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-360" y="837720"/>
            <a:ext cx="990612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34"/>
          </p:nvPr>
        </p:nvSpPr>
        <p:spPr>
          <a:xfrm>
            <a:off x="7016400" y="641664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30C41C-B4C0-4312-9BCB-DCEEFBF92638}" type="datetime">
              <a:rPr b="0" lang="en-US" sz="1100" spc="-1" strike="noStrike">
                <a:solidFill>
                  <a:srgbClr val="d6ecff"/>
                </a:solidFill>
                <a:latin typeface="Corbel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35"/>
          </p:nvPr>
        </p:nvSpPr>
        <p:spPr>
          <a:xfrm>
            <a:off x="990360" y="6416640"/>
            <a:ext cx="6026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36"/>
          </p:nvPr>
        </p:nvSpPr>
        <p:spPr>
          <a:xfrm>
            <a:off x="8255160" y="5943600"/>
            <a:ext cx="1568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C37414-04A3-47E4-9C40-E80F489B73C3}" type="slidenum">
              <a:rPr b="0" lang="en-US" sz="36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11"/>
          <p:cNvSpPr/>
          <p:nvPr/>
        </p:nvSpPr>
        <p:spPr>
          <a:xfrm>
            <a:off x="334800" y="681120"/>
            <a:ext cx="511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Rectangle 14"/>
          <p:cNvSpPr/>
          <p:nvPr/>
        </p:nvSpPr>
        <p:spPr>
          <a:xfrm>
            <a:off x="290520" y="681120"/>
            <a:ext cx="316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Rectangle 15"/>
          <p:cNvSpPr/>
          <p:nvPr/>
        </p:nvSpPr>
        <p:spPr>
          <a:xfrm>
            <a:off x="270000" y="681120"/>
            <a:ext cx="111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Rectangle 16"/>
          <p:cNvSpPr/>
          <p:nvPr/>
        </p:nvSpPr>
        <p:spPr>
          <a:xfrm>
            <a:off x="24120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2" name="Picture 1035" descr=""/>
          <p:cNvPicPr/>
          <p:nvPr/>
        </p:nvPicPr>
        <p:blipFill>
          <a:blip r:embed="rId2"/>
          <a:stretch/>
        </p:blipFill>
        <p:spPr>
          <a:xfrm>
            <a:off x="6521400" y="6024600"/>
            <a:ext cx="1816200" cy="825480"/>
          </a:xfrm>
          <a:prstGeom prst="rect">
            <a:avLst/>
          </a:prstGeom>
          <a:ln w="0">
            <a:noFill/>
          </a:ln>
        </p:spPr>
      </p:pic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-360" y="837720"/>
            <a:ext cx="990612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dt" idx="37"/>
          </p:nvPr>
        </p:nvSpPr>
        <p:spPr>
          <a:xfrm>
            <a:off x="0" y="5943600"/>
            <a:ext cx="2806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33BBB8-31B1-4681-8E06-741BF805A0F6}" type="datetime">
              <a:rPr b="0" lang="en-US" sz="1100" spc="-1" strike="noStrike">
                <a:solidFill>
                  <a:srgbClr val="d6ecff"/>
                </a:solidFill>
                <a:latin typeface="Corbel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ftr" idx="38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sldNum" idx="39"/>
          </p:nvPr>
        </p:nvSpPr>
        <p:spPr>
          <a:xfrm>
            <a:off x="8749800" y="6242040"/>
            <a:ext cx="115596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9B03BC-3110-413F-89A2-2B9FCD6E0D04}" type="slidenum">
              <a:rPr b="0" lang="en-US" sz="36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0" y="0"/>
            <a:ext cx="39528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334800" y="681120"/>
            <a:ext cx="511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17"/>
          <p:cNvSpPr/>
          <p:nvPr/>
        </p:nvSpPr>
        <p:spPr>
          <a:xfrm>
            <a:off x="290520" y="681120"/>
            <a:ext cx="316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18"/>
          <p:cNvSpPr/>
          <p:nvPr/>
        </p:nvSpPr>
        <p:spPr>
          <a:xfrm>
            <a:off x="270000" y="681120"/>
            <a:ext cx="111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19"/>
          <p:cNvSpPr/>
          <p:nvPr/>
        </p:nvSpPr>
        <p:spPr>
          <a:xfrm>
            <a:off x="24120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20"/>
          <p:cNvSpPr/>
          <p:nvPr/>
        </p:nvSpPr>
        <p:spPr>
          <a:xfrm>
            <a:off x="276120" y="5046840"/>
            <a:ext cx="7956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23"/>
          <p:cNvSpPr/>
          <p:nvPr/>
        </p:nvSpPr>
        <p:spPr>
          <a:xfrm>
            <a:off x="276120" y="4797360"/>
            <a:ext cx="7956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24"/>
          <p:cNvSpPr/>
          <p:nvPr/>
        </p:nvSpPr>
        <p:spPr>
          <a:xfrm>
            <a:off x="276120" y="4637160"/>
            <a:ext cx="7956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5"/>
          <p:cNvSpPr/>
          <p:nvPr/>
        </p:nvSpPr>
        <p:spPr>
          <a:xfrm>
            <a:off x="276120" y="4541760"/>
            <a:ext cx="7956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-360" y="837720"/>
            <a:ext cx="990612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7016400" y="641664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7C590A-B869-44CE-87C7-946868AAC6A5}" type="datetime">
              <a:rPr b="0" lang="en-US" sz="1100" spc="-1" strike="noStrike">
                <a:solidFill>
                  <a:srgbClr val="d6ecff"/>
                </a:solidFill>
                <a:latin typeface="Corbel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990360" y="6416640"/>
            <a:ext cx="6026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255160" y="5943600"/>
            <a:ext cx="1568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7A3568-C741-4867-ACB4-B49D7301F3E1}" type="slidenum">
              <a:rPr b="0" lang="en-US" sz="36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1"/>
          <p:cNvSpPr/>
          <p:nvPr/>
        </p:nvSpPr>
        <p:spPr>
          <a:xfrm>
            <a:off x="334800" y="681120"/>
            <a:ext cx="511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14"/>
          <p:cNvSpPr/>
          <p:nvPr/>
        </p:nvSpPr>
        <p:spPr>
          <a:xfrm>
            <a:off x="290520" y="681120"/>
            <a:ext cx="316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15"/>
          <p:cNvSpPr/>
          <p:nvPr/>
        </p:nvSpPr>
        <p:spPr>
          <a:xfrm>
            <a:off x="270000" y="681120"/>
            <a:ext cx="111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16"/>
          <p:cNvSpPr/>
          <p:nvPr/>
        </p:nvSpPr>
        <p:spPr>
          <a:xfrm>
            <a:off x="24120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-360" y="837720"/>
            <a:ext cx="990612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7016400" y="641664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CF1D4A-7378-4AE5-AC12-157491367B8B}" type="datetime">
              <a:rPr b="0" lang="en-US" sz="1100" spc="-1" strike="noStrike">
                <a:solidFill>
                  <a:srgbClr val="d6ecff"/>
                </a:solidFill>
                <a:latin typeface="Corbel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990360" y="6416640"/>
            <a:ext cx="6026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8255160" y="5943600"/>
            <a:ext cx="1568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1E4AA5-BEE0-4F22-BF33-DD28AF3F9B2A}" type="slidenum">
              <a:rPr b="0" lang="en-US" sz="36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1"/>
          <p:cNvSpPr/>
          <p:nvPr/>
        </p:nvSpPr>
        <p:spPr>
          <a:xfrm>
            <a:off x="334800" y="681120"/>
            <a:ext cx="511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14"/>
          <p:cNvSpPr/>
          <p:nvPr/>
        </p:nvSpPr>
        <p:spPr>
          <a:xfrm>
            <a:off x="290520" y="681120"/>
            <a:ext cx="316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15"/>
          <p:cNvSpPr/>
          <p:nvPr/>
        </p:nvSpPr>
        <p:spPr>
          <a:xfrm>
            <a:off x="270000" y="681120"/>
            <a:ext cx="111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16"/>
          <p:cNvSpPr/>
          <p:nvPr/>
        </p:nvSpPr>
        <p:spPr>
          <a:xfrm>
            <a:off x="24120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Freeform 10"/>
          <p:cNvSpPr/>
          <p:nvPr/>
        </p:nvSpPr>
        <p:spPr>
          <a:xfrm>
            <a:off x="5232240" y="1073160"/>
            <a:ext cx="468000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Freeform 12"/>
          <p:cNvSpPr/>
          <p:nvPr/>
        </p:nvSpPr>
        <p:spPr>
          <a:xfrm>
            <a:off x="406440" y="0"/>
            <a:ext cx="597204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Freeform 17"/>
          <p:cNvSpPr/>
          <p:nvPr/>
        </p:nvSpPr>
        <p:spPr>
          <a:xfrm rot="5236200">
            <a:off x="5004720" y="1433880"/>
            <a:ext cx="4114800" cy="128736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Freeform 18"/>
          <p:cNvSpPr/>
          <p:nvPr/>
        </p:nvSpPr>
        <p:spPr>
          <a:xfrm>
            <a:off x="6438960" y="0"/>
            <a:ext cx="29718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Freeform 19"/>
          <p:cNvSpPr/>
          <p:nvPr/>
        </p:nvSpPr>
        <p:spPr>
          <a:xfrm>
            <a:off x="6438960" y="4267080"/>
            <a:ext cx="346716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Freeform 20"/>
          <p:cNvSpPr/>
          <p:nvPr/>
        </p:nvSpPr>
        <p:spPr>
          <a:xfrm>
            <a:off x="6438960" y="0"/>
            <a:ext cx="148572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Freeform 23"/>
          <p:cNvSpPr/>
          <p:nvPr/>
        </p:nvSpPr>
        <p:spPr>
          <a:xfrm>
            <a:off x="6443640" y="4246560"/>
            <a:ext cx="22654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Freeform 24"/>
          <p:cNvSpPr/>
          <p:nvPr/>
        </p:nvSpPr>
        <p:spPr>
          <a:xfrm>
            <a:off x="6438960" y="4267080"/>
            <a:ext cx="17334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Freeform 25"/>
          <p:cNvSpPr/>
          <p:nvPr/>
        </p:nvSpPr>
        <p:spPr>
          <a:xfrm>
            <a:off x="6438960" y="1371600"/>
            <a:ext cx="346716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Freeform 26"/>
          <p:cNvSpPr/>
          <p:nvPr/>
        </p:nvSpPr>
        <p:spPr>
          <a:xfrm>
            <a:off x="6438960" y="1752480"/>
            <a:ext cx="346716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Freeform 27"/>
          <p:cNvSpPr/>
          <p:nvPr/>
        </p:nvSpPr>
        <p:spPr>
          <a:xfrm>
            <a:off x="1073160" y="4267080"/>
            <a:ext cx="53658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Freeform 28"/>
          <p:cNvSpPr/>
          <p:nvPr/>
        </p:nvSpPr>
        <p:spPr>
          <a:xfrm>
            <a:off x="577800" y="4267080"/>
            <a:ext cx="577872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Freeform 29"/>
          <p:cNvSpPr/>
          <p:nvPr/>
        </p:nvSpPr>
        <p:spPr>
          <a:xfrm>
            <a:off x="396720" y="2438280"/>
            <a:ext cx="610884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Freeform 30"/>
          <p:cNvSpPr/>
          <p:nvPr/>
        </p:nvSpPr>
        <p:spPr>
          <a:xfrm>
            <a:off x="396720" y="2133720"/>
            <a:ext cx="610884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Freeform 31"/>
          <p:cNvSpPr/>
          <p:nvPr/>
        </p:nvSpPr>
        <p:spPr>
          <a:xfrm>
            <a:off x="4952880" y="4267080"/>
            <a:ext cx="148608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32"/>
          <p:cNvSpPr/>
          <p:nvPr/>
        </p:nvSpPr>
        <p:spPr>
          <a:xfrm>
            <a:off x="393840" y="401760"/>
            <a:ext cx="921384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33"/>
          <p:cNvSpPr/>
          <p:nvPr/>
        </p:nvSpPr>
        <p:spPr>
          <a:xfrm flipH="1">
            <a:off x="401040" y="681120"/>
            <a:ext cx="298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34"/>
          <p:cNvSpPr/>
          <p:nvPr/>
        </p:nvSpPr>
        <p:spPr>
          <a:xfrm flipH="1">
            <a:off x="44604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35"/>
          <p:cNvSpPr/>
          <p:nvPr/>
        </p:nvSpPr>
        <p:spPr>
          <a:xfrm flipH="1">
            <a:off x="4849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36"/>
          <p:cNvSpPr/>
          <p:nvPr/>
        </p:nvSpPr>
        <p:spPr>
          <a:xfrm flipH="1">
            <a:off x="515160" y="681120"/>
            <a:ext cx="111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37"/>
          <p:cNvSpPr/>
          <p:nvPr/>
        </p:nvSpPr>
        <p:spPr>
          <a:xfrm>
            <a:off x="541440" y="681120"/>
            <a:ext cx="396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-360" y="837720"/>
            <a:ext cx="990612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7016400" y="641664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FC6AB3-EF4B-4F0D-8AD8-B2B0C1DEA39A}" type="datetime">
              <a:rPr b="0" lang="en-US" sz="1100" spc="-1" strike="noStrike">
                <a:solidFill>
                  <a:srgbClr val="d6ecff"/>
                </a:solidFill>
                <a:latin typeface="Corbel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990360" y="6416640"/>
            <a:ext cx="6026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255160" y="5943600"/>
            <a:ext cx="1568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53921A-1E67-455E-9B6D-1E92CEECEF91}" type="slidenum">
              <a:rPr b="0" lang="en-US" sz="36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-360" y="837720"/>
            <a:ext cx="990612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3"/>
          </p:nvPr>
        </p:nvSpPr>
        <p:spPr>
          <a:xfrm>
            <a:off x="7016400" y="641664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E449D6-8832-467E-940B-B3E64B0019EC}" type="datetime">
              <a:rPr b="0" lang="en-US" sz="1100" spc="-1" strike="noStrike">
                <a:solidFill>
                  <a:srgbClr val="d6ecff"/>
                </a:solidFill>
                <a:latin typeface="Corbel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4"/>
          </p:nvPr>
        </p:nvSpPr>
        <p:spPr>
          <a:xfrm>
            <a:off x="990360" y="6416640"/>
            <a:ext cx="6026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5"/>
          </p:nvPr>
        </p:nvSpPr>
        <p:spPr>
          <a:xfrm>
            <a:off x="8255160" y="5943600"/>
            <a:ext cx="1568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38B5A5-2B59-40E9-936A-02C17D3DDFB8}" type="slidenum">
              <a:rPr b="0" lang="en-US" sz="36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10"/>
          <p:cNvSpPr/>
          <p:nvPr/>
        </p:nvSpPr>
        <p:spPr>
          <a:xfrm>
            <a:off x="0" y="401760"/>
            <a:ext cx="96076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12"/>
          <p:cNvSpPr/>
          <p:nvPr/>
        </p:nvSpPr>
        <p:spPr>
          <a:xfrm>
            <a:off x="95400" y="681120"/>
            <a:ext cx="489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17"/>
          <p:cNvSpPr/>
          <p:nvPr/>
        </p:nvSpPr>
        <p:spPr>
          <a:xfrm>
            <a:off x="5256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18"/>
          <p:cNvSpPr/>
          <p:nvPr/>
        </p:nvSpPr>
        <p:spPr>
          <a:xfrm>
            <a:off x="3168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19"/>
          <p:cNvSpPr/>
          <p:nvPr/>
        </p:nvSpPr>
        <p:spPr>
          <a:xfrm>
            <a:off x="0" y="681120"/>
            <a:ext cx="111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20"/>
          <p:cNvSpPr/>
          <p:nvPr/>
        </p:nvSpPr>
        <p:spPr>
          <a:xfrm flipH="1">
            <a:off x="162000" y="681120"/>
            <a:ext cx="302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23"/>
          <p:cNvSpPr/>
          <p:nvPr/>
        </p:nvSpPr>
        <p:spPr>
          <a:xfrm flipH="1">
            <a:off x="204840" y="681120"/>
            <a:ext cx="302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24"/>
          <p:cNvSpPr/>
          <p:nvPr/>
        </p:nvSpPr>
        <p:spPr>
          <a:xfrm flipH="1">
            <a:off x="24624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25"/>
          <p:cNvSpPr/>
          <p:nvPr/>
        </p:nvSpPr>
        <p:spPr>
          <a:xfrm flipH="1">
            <a:off x="27540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03120" y="681120"/>
            <a:ext cx="399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-360" y="837720"/>
            <a:ext cx="990612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6"/>
          </p:nvPr>
        </p:nvSpPr>
        <p:spPr>
          <a:xfrm>
            <a:off x="7016400" y="641664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845C41-54A7-47B9-B04A-990FF2DF7053}" type="datetime">
              <a:rPr b="0" lang="en-US" sz="1100" spc="-1" strike="noStrike">
                <a:solidFill>
                  <a:srgbClr val="d6ecff"/>
                </a:solidFill>
                <a:latin typeface="Corbel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17"/>
          </p:nvPr>
        </p:nvSpPr>
        <p:spPr>
          <a:xfrm>
            <a:off x="990360" y="6416640"/>
            <a:ext cx="6026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18"/>
          </p:nvPr>
        </p:nvSpPr>
        <p:spPr>
          <a:xfrm>
            <a:off x="8255160" y="5943600"/>
            <a:ext cx="1568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0D340D-B46F-4EF7-A857-F6738A8656A9}" type="slidenum">
              <a:rPr b="0" lang="en-US" sz="36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1"/>
          <p:cNvSpPr/>
          <p:nvPr/>
        </p:nvSpPr>
        <p:spPr>
          <a:xfrm>
            <a:off x="334800" y="681120"/>
            <a:ext cx="511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14"/>
          <p:cNvSpPr/>
          <p:nvPr/>
        </p:nvSpPr>
        <p:spPr>
          <a:xfrm>
            <a:off x="290520" y="681120"/>
            <a:ext cx="316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270000" y="681120"/>
            <a:ext cx="111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16"/>
          <p:cNvSpPr/>
          <p:nvPr/>
        </p:nvSpPr>
        <p:spPr>
          <a:xfrm>
            <a:off x="24120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-360" y="837720"/>
            <a:ext cx="990612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9"/>
          </p:nvPr>
        </p:nvSpPr>
        <p:spPr>
          <a:xfrm>
            <a:off x="7016400" y="641664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6A354C-C14F-47FC-9CBF-27419107C204}" type="datetime">
              <a:rPr b="0" lang="en-US" sz="1100" spc="-1" strike="noStrike">
                <a:solidFill>
                  <a:srgbClr val="d6ecff"/>
                </a:solidFill>
                <a:latin typeface="Corbel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0"/>
          </p:nvPr>
        </p:nvSpPr>
        <p:spPr>
          <a:xfrm>
            <a:off x="990360" y="6416640"/>
            <a:ext cx="6026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1"/>
          </p:nvPr>
        </p:nvSpPr>
        <p:spPr>
          <a:xfrm>
            <a:off x="8255160" y="5943600"/>
            <a:ext cx="1568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43860B-FE8E-411F-A21B-E2850B404BA7}" type="slidenum">
              <a:rPr b="0" lang="en-US" sz="36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-360" y="837720"/>
            <a:ext cx="990612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2"/>
          </p:nvPr>
        </p:nvSpPr>
        <p:spPr>
          <a:xfrm>
            <a:off x="7016400" y="641664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5457C0-F097-4AFC-855E-0E5872BF6451}" type="datetime">
              <a:rPr b="0" lang="en-US" sz="1100" spc="-1" strike="noStrike">
                <a:solidFill>
                  <a:srgbClr val="d6ecff"/>
                </a:solidFill>
                <a:latin typeface="Corbel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3"/>
          </p:nvPr>
        </p:nvSpPr>
        <p:spPr>
          <a:xfrm>
            <a:off x="990360" y="6416640"/>
            <a:ext cx="6026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4"/>
          </p:nvPr>
        </p:nvSpPr>
        <p:spPr>
          <a:xfrm>
            <a:off x="8255160" y="5943600"/>
            <a:ext cx="1568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B89BAF-FC3A-42C2-9968-5B6AE3DA6E49}" type="slidenum">
              <a:rPr b="0" lang="en-US" sz="36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11"/>
          <p:cNvSpPr/>
          <p:nvPr/>
        </p:nvSpPr>
        <p:spPr>
          <a:xfrm>
            <a:off x="334800" y="681120"/>
            <a:ext cx="511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Rectangle 14"/>
          <p:cNvSpPr/>
          <p:nvPr/>
        </p:nvSpPr>
        <p:spPr>
          <a:xfrm>
            <a:off x="290520" y="681120"/>
            <a:ext cx="316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Rectangle 15"/>
          <p:cNvSpPr/>
          <p:nvPr/>
        </p:nvSpPr>
        <p:spPr>
          <a:xfrm>
            <a:off x="270000" y="681120"/>
            <a:ext cx="111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Rectangle 16"/>
          <p:cNvSpPr/>
          <p:nvPr/>
        </p:nvSpPr>
        <p:spPr>
          <a:xfrm>
            <a:off x="24120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-360" y="837720"/>
            <a:ext cx="990612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5"/>
          </p:nvPr>
        </p:nvSpPr>
        <p:spPr>
          <a:xfrm>
            <a:off x="7016400" y="641664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2836EC-95F1-44C2-B011-4BE27B6943D9}" type="datetime">
              <a:rPr b="0" lang="en-US" sz="1100" spc="-1" strike="noStrike">
                <a:solidFill>
                  <a:srgbClr val="d6ecff"/>
                </a:solidFill>
                <a:latin typeface="Corbel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6"/>
          </p:nvPr>
        </p:nvSpPr>
        <p:spPr>
          <a:xfrm>
            <a:off x="990360" y="6416640"/>
            <a:ext cx="6026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27"/>
          </p:nvPr>
        </p:nvSpPr>
        <p:spPr>
          <a:xfrm>
            <a:off x="8255160" y="5943600"/>
            <a:ext cx="1568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D927C3-0795-4A95-923F-5EE85AA77DDF}" type="slidenum">
              <a:rPr b="0" lang="en-US" sz="36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homepage.mac.com/johnovr/FileSharing2.html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22.png"/><Relationship Id="rId14" Type="http://schemas.openxmlformats.org/officeDocument/2006/relationships/image" Target="../media/image23.png"/><Relationship Id="rId15" Type="http://schemas.openxmlformats.org/officeDocument/2006/relationships/image" Target="../media/image24.png"/><Relationship Id="rId16" Type="http://schemas.openxmlformats.org/officeDocument/2006/relationships/image" Target="../media/image25.png"/><Relationship Id="rId17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ncbi.nlm.nih.gov/books/bv.fcgi?rid=aps.part.1" TargetMode="External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228600" y="512640"/>
            <a:ext cx="9182160" cy="23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etter Improvement Research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4800"/>
            </a:b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sources download from:</a:t>
            </a:r>
            <a:br>
              <a:rPr sz="2400"/>
            </a:br>
            <a:r>
              <a:rPr b="0" lang="en-GB" sz="2400" spc="-1" strike="noStrike" u="sng">
                <a:solidFill>
                  <a:srgbClr val="eb8803"/>
                </a:solidFill>
                <a:uFillTx/>
                <a:latin typeface="Times New Roman"/>
                <a:ea typeface="Times New Roman"/>
                <a:hlinkClick r:id="rId1"/>
              </a:rPr>
              <a:t>http://homepage.mac.com/johnovr/FileSharing2.html</a:t>
            </a:r>
            <a:br>
              <a:rPr sz="1600"/>
            </a:br>
            <a:br>
              <a:rPr sz="1600"/>
            </a:br>
            <a:br>
              <a:rPr sz="11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8255160" y="5943600"/>
            <a:ext cx="1568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BFEF18-2B96-4BCB-8CC1-7E01532A1795}" type="slidenum">
              <a:rPr b="0" lang="en-US" sz="36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-360" y="5334120"/>
            <a:ext cx="6769080" cy="13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John Øvretveit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Director of Research, Professor, Karolinska Medical Management Centre Sweden and Professor of Health Management, Faculty of Medicine, Bergen Univers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4" name="Picture 5" descr=""/>
          <p:cNvPicPr/>
          <p:nvPr/>
        </p:nvPicPr>
        <p:blipFill>
          <a:blip r:embed="rId2"/>
          <a:stretch/>
        </p:blipFill>
        <p:spPr>
          <a:xfrm>
            <a:off x="412920" y="5105520"/>
            <a:ext cx="1238040" cy="761760"/>
          </a:xfrm>
          <a:prstGeom prst="rect">
            <a:avLst/>
          </a:prstGeom>
          <a:ln w="0">
            <a:noFill/>
          </a:ln>
        </p:spPr>
      </p:pic>
      <p:sp>
        <p:nvSpPr>
          <p:cNvPr id="635" name="Date Placeholder 5"/>
          <p:cNvSpPr/>
          <p:nvPr/>
        </p:nvSpPr>
        <p:spPr>
          <a:xfrm>
            <a:off x="7016760" y="641664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4793D9-6621-4CE5-9CA0-40E514953807}" type="datetime">
              <a:rPr b="0" lang="en-US" sz="1100" spc="-1" strike="noStrike">
                <a:solidFill>
                  <a:srgbClr val="d6ecff"/>
                </a:solidFill>
                <a:latin typeface="Corbel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Footer Placeholder 6"/>
          <p:cNvSpPr/>
          <p:nvPr/>
        </p:nvSpPr>
        <p:spPr>
          <a:xfrm>
            <a:off x="990720" y="6416640"/>
            <a:ext cx="6026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4161760"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3200"/>
            </a:b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ore complex = more dependent on context for implementation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9906120" cy="55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How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8832960" y="6172200"/>
            <a:ext cx="577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69D244-1A88-41C2-ADDF-57A027563FD4}" type="slidenum">
              <a:rPr b="0" lang="en-US" sz="36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670" name="TextBox 5"/>
          <p:cNvSpPr/>
          <p:nvPr/>
        </p:nvSpPr>
        <p:spPr>
          <a:xfrm>
            <a:off x="3657600" y="1752480"/>
            <a:ext cx="47242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Evaluation Method &gt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How context dependent is the intervention? </a:t>
            </a:r>
            <a:br>
              <a:rPr sz="1800"/>
            </a:b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More complex = more dependent on context for implementatio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4107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Next: 4 challenges and resolutions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9906120" cy="55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39800" indent="-285840">
              <a:lnSpc>
                <a:spcPct val="100000"/>
              </a:lnSpc>
              <a:spcBef>
                <a:spcPts val="10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seful researc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5840">
              <a:lnSpc>
                <a:spcPct val="100000"/>
              </a:lnSpc>
              <a:spcBef>
                <a:spcPts val="10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fficac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5840">
              <a:lnSpc>
                <a:spcPct val="100000"/>
              </a:lnSpc>
              <a:spcBef>
                <a:spcPts val="10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ffectiveness/generalis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5840">
              <a:lnSpc>
                <a:spcPct val="100000"/>
              </a:lnSpc>
              <a:spcBef>
                <a:spcPts val="10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ransl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xamples: RRT; CRM; Transition interventions; Accreditatio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Slide Number Placeholder 3"/>
          <p:cNvSpPr/>
          <p:nvPr/>
        </p:nvSpPr>
        <p:spPr>
          <a:xfrm>
            <a:off x="8832960" y="6172200"/>
            <a:ext cx="577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64259D-4068-4621-B129-60E3892E294D}" type="slidenum">
              <a:rPr b="0" lang="en-US" sz="36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Date Placeholder 4"/>
          <p:cNvSpPr/>
          <p:nvPr/>
        </p:nvSpPr>
        <p:spPr>
          <a:xfrm>
            <a:off x="0" y="5943600"/>
            <a:ext cx="2806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1BD8DA-6589-46F9-AF73-2264AE48774B}" type="datetime">
              <a:rPr b="0" lang="en-US" sz="1100" spc="-1" strike="noStrike">
                <a:solidFill>
                  <a:srgbClr val="d6ecff"/>
                </a:solidFill>
                <a:latin typeface="Corbel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Footer Placeholder 5"/>
          <p:cNvSpPr/>
          <p:nvPr/>
        </p:nvSpPr>
        <p:spPr>
          <a:xfrm>
            <a:off x="338472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410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Summary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-360" y="685800"/>
            <a:ext cx="990612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Slide Number Placeholder 3"/>
          <p:cNvSpPr/>
          <p:nvPr/>
        </p:nvSpPr>
        <p:spPr>
          <a:xfrm>
            <a:off x="8832960" y="6172200"/>
            <a:ext cx="577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85BA90-998F-4EBD-94B1-929422099DAC}" type="slidenum">
              <a:rPr b="0" lang="en-US" sz="36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Date Placeholder 4"/>
          <p:cNvSpPr/>
          <p:nvPr/>
        </p:nvSpPr>
        <p:spPr>
          <a:xfrm>
            <a:off x="0" y="5943600"/>
            <a:ext cx="2806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BCE546-3E06-4218-A817-FD013216F046}" type="datetime">
              <a:rPr b="0" lang="en-US" sz="1100" spc="-1" strike="noStrike">
                <a:solidFill>
                  <a:srgbClr val="d6ecff"/>
                </a:solidFill>
                <a:latin typeface="Corbel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Footer Placeholder 5"/>
          <p:cNvSpPr/>
          <p:nvPr/>
        </p:nvSpPr>
        <p:spPr>
          <a:xfrm>
            <a:off x="338472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81" name=""/>
          <p:cNvGraphicFramePr/>
          <p:nvPr/>
        </p:nvGraphicFramePr>
        <p:xfrm>
          <a:off x="0" y="0"/>
          <a:ext cx="9906120" cy="7134120"/>
        </p:xfrm>
        <a:graphic>
          <a:graphicData uri="http://schemas.openxmlformats.org/drawingml/2006/table">
            <a:tbl>
              <a:tblPr/>
              <a:tblGrid>
                <a:gridCol w="3222720"/>
                <a:gridCol w="6683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Challen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eb80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Resolution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eb80a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 Decision makers information nee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Their hierarachy of eviden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</a:tr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 Proof of efficac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RCT/CT pricele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...For all else, strengthen observational studi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Parallel process evalu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Report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 Effectiveness research for generalis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Pragmatic trials – variatio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ase stud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Theory-based resear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Action evaluation learning cyc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 Faster wider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ontent; process; structure; culture? Silos?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4107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#1 challenge: decision makers information needs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-360" y="685800"/>
            <a:ext cx="9906120" cy="60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Go/not go decision – pilot, full-scale?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mplementer’s guidance: adapt and progress it?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nstall update?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Needs: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Arial"/>
              </a:rPr>
              <a:t>useful credible information, now!, about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Arial"/>
              </a:rPr>
              <a:t>Costs, savings, benefits, risks – for our organisa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Arial"/>
              </a:rPr>
              <a:t>Implementation to maximise succes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9954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Don’t even think about it unless…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Utility not purity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Good enough validity” &amp;some attention to b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Researcher response?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No compromise – publication and promo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Slide Number Placeholder 3"/>
          <p:cNvSpPr/>
          <p:nvPr/>
        </p:nvSpPr>
        <p:spPr>
          <a:xfrm>
            <a:off x="8832960" y="6172200"/>
            <a:ext cx="577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7672DD-5355-48E8-BC82-886DCC9003CC}" type="slidenum">
              <a:rPr b="0" lang="en-US" sz="36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Date Placeholder 4"/>
          <p:cNvSpPr/>
          <p:nvPr/>
        </p:nvSpPr>
        <p:spPr>
          <a:xfrm>
            <a:off x="0" y="5943600"/>
            <a:ext cx="2806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042FBD-8860-46FC-8CF4-BBDEF0059FC1}" type="datetime">
              <a:rPr b="0" lang="en-US" sz="1100" spc="-1" strike="noStrike">
                <a:solidFill>
                  <a:srgbClr val="d6ecff"/>
                </a:solidFill>
                <a:latin typeface="Corbel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Footer Placeholder 5"/>
          <p:cNvSpPr/>
          <p:nvPr/>
        </p:nvSpPr>
        <p:spPr>
          <a:xfrm>
            <a:off x="338472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4107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#1 challenge: decision makers information needs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-360" y="685800"/>
            <a:ext cx="9906120" cy="60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"Many QIs have small to moderate effect"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search design limitation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oes quantitative RCT/CT desig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) fail to measure enough intermediate or ultimate outcomes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) obscure extremes, where context importa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) require prescribed implementation, when iterative adaption necessar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Slide Number Placeholder 3"/>
          <p:cNvSpPr/>
          <p:nvPr/>
        </p:nvSpPr>
        <p:spPr>
          <a:xfrm>
            <a:off x="8832960" y="6172200"/>
            <a:ext cx="577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7FD8E5-C622-4A2A-B9C6-529E2567232A}" type="slidenum">
              <a:rPr b="0" lang="en-US" sz="36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Date Placeholder 4"/>
          <p:cNvSpPr/>
          <p:nvPr/>
        </p:nvSpPr>
        <p:spPr>
          <a:xfrm>
            <a:off x="0" y="5943600"/>
            <a:ext cx="2806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74168C-CB24-4C86-9113-7D8F76084274}" type="datetime">
              <a:rPr b="0" lang="en-US" sz="1100" spc="-1" strike="noStrike">
                <a:solidFill>
                  <a:srgbClr val="d6ecff"/>
                </a:solidFill>
                <a:latin typeface="Corbel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Footer Placeholder 5"/>
          <p:cNvSpPr/>
          <p:nvPr/>
        </p:nvSpPr>
        <p:spPr>
          <a:xfrm>
            <a:off x="338472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#1 challenge: decision maker’s information need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9906120" cy="55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Resolution by decision-maker’s :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Hierarchy of evidence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1)Face validity/make sense? - Try it on a small scal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2)Steve or Jane’s experience in Kansa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3)IHI practitioner reports: O</a:t>
            </a:r>
            <a:r>
              <a:rPr b="0" lang="en-US" sz="2600" spc="-1" strike="noStrike" baseline="37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&gt; I  &gt;  O</a:t>
            </a:r>
            <a:r>
              <a:rPr b="0" lang="en-US" sz="2600" spc="-1" strike="noStrike" baseline="37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data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Before&gt;Intervention&gt;Aft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4)Published practitioner-scientist study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5)High-church medical journal publica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roportionality of proof – cost/ease, risk, benefi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Slide Number Placeholder 3"/>
          <p:cNvSpPr/>
          <p:nvPr/>
        </p:nvSpPr>
        <p:spPr>
          <a:xfrm>
            <a:off x="8832960" y="6172200"/>
            <a:ext cx="577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FF675C-8994-4434-82D0-1CAE74620CFB}" type="slidenum">
              <a:rPr b="0" lang="en-US" sz="36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Date Placeholder 4"/>
          <p:cNvSpPr/>
          <p:nvPr/>
        </p:nvSpPr>
        <p:spPr>
          <a:xfrm>
            <a:off x="0" y="5943600"/>
            <a:ext cx="2806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CE3AA6-B126-42FC-8582-E003D6D5E530}" type="datetime">
              <a:rPr b="0" lang="en-US" sz="1100" spc="-1" strike="noStrike">
                <a:solidFill>
                  <a:srgbClr val="d6ecff"/>
                </a:solidFill>
                <a:latin typeface="Corbel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Footer Placeholder 5"/>
          <p:cNvSpPr/>
          <p:nvPr/>
        </p:nvSpPr>
        <p:spPr>
          <a:xfrm>
            <a:off x="338472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410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#2 Challenge: Efficacy proof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9906120" cy="58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Does it work – anywhere?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aximise certainty of attribution of outcomes to interven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ausal assumptions: why/how does it work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Resolutions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aradigm: O</a:t>
            </a:r>
            <a:r>
              <a:rPr b="0" lang="en-US" sz="2600" spc="-1" strike="noStrike" baseline="37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&gt; I  &gt;  O</a:t>
            </a:r>
            <a:r>
              <a:rPr b="0" lang="en-US" sz="2600" spc="-1" strike="noStrike" baseline="37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 quantitative experimental black box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4" marL="1481040" indent="-209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eb80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s there are differenc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tt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540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000" spc="-1" strike="noStrike" baseline="37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&gt; I  &gt;  O</a:t>
            </a:r>
            <a:r>
              <a:rPr b="0" lang="en-US" sz="2000" spc="-1" strike="noStrike" baseline="37000">
                <a:solidFill>
                  <a:srgbClr val="ffffff"/>
                </a:solidFill>
                <a:latin typeface="Times New Roman"/>
              </a:rPr>
              <a:t>2  </a:t>
            </a:r>
            <a:r>
              <a:rPr b="0" lang="en-US" sz="2000" spc="-1" strike="noStrike" baseline="37000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Bigger differenc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5400"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000" spc="-1" strike="noStrike" baseline="37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&gt; ? &gt;  O</a:t>
            </a:r>
            <a:r>
              <a:rPr b="0" lang="en-US" sz="2000" spc="-1" strike="noStrike" baseline="37000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95400" indent="-22860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ther explanations for difference?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95400" indent="-22860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trol, randomise, compare, hygiene to avoid contamination by confound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Slide Number Placeholder 3"/>
          <p:cNvSpPr/>
          <p:nvPr/>
        </p:nvSpPr>
        <p:spPr>
          <a:xfrm>
            <a:off x="8832960" y="6172200"/>
            <a:ext cx="577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3C9DBF-077A-4AAF-9896-460DBC8FAABF}" type="slidenum">
              <a:rPr b="0" lang="en-US" sz="36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Date Placeholder 4"/>
          <p:cNvSpPr/>
          <p:nvPr/>
        </p:nvSpPr>
        <p:spPr>
          <a:xfrm>
            <a:off x="0" y="5943600"/>
            <a:ext cx="2806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277506-9453-45FE-887F-8B078C159BEE}" type="datetime">
              <a:rPr b="0" lang="en-US" sz="1100" spc="-1" strike="noStrike">
                <a:solidFill>
                  <a:srgbClr val="d6ecff"/>
                </a:solidFill>
                <a:latin typeface="Corbel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Footer Placeholder 5"/>
          <p:cNvSpPr/>
          <p:nvPr/>
        </p:nvSpPr>
        <p:spPr>
          <a:xfrm>
            <a:off x="338472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4107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sconnect between 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03" name="Text Placeholder 2" descr=""/>
          <p:cNvPicPr/>
          <p:nvPr/>
        </p:nvPicPr>
        <p:blipFill>
          <a:blip r:embed="rId1"/>
          <a:stretch/>
        </p:blipFill>
        <p:spPr>
          <a:xfrm>
            <a:off x="-6480" y="835200"/>
            <a:ext cx="9918720" cy="5894280"/>
          </a:xfrm>
          <a:prstGeom prst="rect">
            <a:avLst/>
          </a:prstGeom>
          <a:ln w="0">
            <a:noFill/>
          </a:ln>
        </p:spPr>
      </p:pic>
      <p:sp>
        <p:nvSpPr>
          <p:cNvPr id="704" name="Slide Number Placeholder 3"/>
          <p:cNvSpPr/>
          <p:nvPr/>
        </p:nvSpPr>
        <p:spPr>
          <a:xfrm>
            <a:off x="8832960" y="6172200"/>
            <a:ext cx="577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F8A205-524C-453A-BDC3-B7C285613741}" type="slidenum">
              <a:rPr b="0" lang="en-US" sz="36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5" name="Picture 4" descr=""/>
          <p:cNvPicPr/>
          <p:nvPr/>
        </p:nvPicPr>
        <p:blipFill>
          <a:blip r:embed="rId2"/>
          <a:stretch/>
        </p:blipFill>
        <p:spPr>
          <a:xfrm>
            <a:off x="6566040" y="5029200"/>
            <a:ext cx="22669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410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#2 Resolutions to increase proof of Efficacy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9906120" cy="58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engt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√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fiable, controllable interventions like dru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√ Unchanging, control known confounders and randomise-out others, 2/3 measures all you ne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mi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sence of above. Works for whom? - Multiple perspectives. Unintended consquences – study more outco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ision makers translation – info they need in add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Slide Number Placeholder 3"/>
          <p:cNvSpPr/>
          <p:nvPr/>
        </p:nvSpPr>
        <p:spPr>
          <a:xfrm>
            <a:off x="8832960" y="6172200"/>
            <a:ext cx="577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297DBD-F424-47FC-94AE-EDE21693651F}" type="slidenum">
              <a:rPr b="0" lang="en-US" sz="36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Date Placeholder 4"/>
          <p:cNvSpPr/>
          <p:nvPr/>
        </p:nvSpPr>
        <p:spPr>
          <a:xfrm>
            <a:off x="0" y="5943600"/>
            <a:ext cx="2806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98149B-E499-44DA-9EB1-CB5276C51A7B}" type="datetime">
              <a:rPr b="0" lang="en-US" sz="1100" spc="-1" strike="noStrike">
                <a:solidFill>
                  <a:srgbClr val="d6ecff"/>
                </a:solidFill>
                <a:latin typeface="Corbel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Footer Placeholder 5"/>
          <p:cNvSpPr/>
          <p:nvPr/>
        </p:nvSpPr>
        <p:spPr>
          <a:xfrm>
            <a:off x="338472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410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#2 Resolutions to increase proof of Efficacy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9906120" cy="58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rengthen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5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allel process evalua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5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orting (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"SQUIRE" etc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95400" indent="-228600">
              <a:spcBef>
                <a:spcPts val="550"/>
              </a:spcBef>
              <a:spcAft>
                <a:spcPts val="601"/>
              </a:spcAft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(labels for what implemented, not the brand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5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ttribution steriods for observational stud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95400" indent="-22860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sensitivity analyses to assess results Propensity score (Johnson et al 2006) and instrumental variable (Harless and Mark 2006) method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8832960" y="6172200"/>
            <a:ext cx="577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291F5D-526C-4FC7-8B1B-3A87CC580C3E}" type="slidenum">
              <a:rPr b="0" lang="en-US" sz="36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Date Placeholder 4"/>
          <p:cNvSpPr/>
          <p:nvPr/>
        </p:nvSpPr>
        <p:spPr>
          <a:xfrm>
            <a:off x="0" y="5943600"/>
            <a:ext cx="2806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0D3660-7E4B-4EE6-96D0-134EDC7936DF}" type="datetime">
              <a:rPr b="0" lang="en-US" sz="1100" spc="-1" strike="noStrike">
                <a:solidFill>
                  <a:srgbClr val="d6ecff"/>
                </a:solidFill>
                <a:latin typeface="Corbel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Footer Placeholder 5"/>
          <p:cNvSpPr/>
          <p:nvPr/>
        </p:nvSpPr>
        <p:spPr>
          <a:xfrm>
            <a:off x="338472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4107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Times New Roman"/>
              </a:rPr>
              <a:t>Recognition of AHRQ &amp; researchers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You are making a difference…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9906120" cy="58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ust some achievements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-342720">
              <a:spcBef>
                <a:spcPts val="700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hojania ed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2001 700 page review of safety intervention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Quality and safety indicator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ulture surve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eam STEPS &amp; other tool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nnovations exchang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Slide Number Placeholder 3"/>
          <p:cNvSpPr/>
          <p:nvPr/>
        </p:nvSpPr>
        <p:spPr>
          <a:xfrm>
            <a:off x="8832960" y="6172200"/>
            <a:ext cx="577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B562B0-B7FD-4B9B-870F-C18B0E73711A}" type="slidenum">
              <a:rPr b="0" lang="en-US" sz="36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0" name="Picture 4" descr=""/>
          <p:cNvPicPr/>
          <p:nvPr/>
        </p:nvPicPr>
        <p:blipFill>
          <a:blip r:embed="rId1"/>
          <a:stretch/>
        </p:blipFill>
        <p:spPr>
          <a:xfrm>
            <a:off x="5479920" y="4516560"/>
            <a:ext cx="442620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58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#3 Challenge: effectiveness research for generalisation 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9906120" cy="58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ffectiveness in different situations?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ssues: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any interventions sensitive to contex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9954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mplementable only if changed to suit 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54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volve in interaction with changing context - journey/s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efficacy guarantee violated by user adaption of some intervention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or others: guarantee failure if you do not adap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9954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 buy installation and 3 year guarant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Slide Number Placeholder 3"/>
          <p:cNvSpPr/>
          <p:nvPr/>
        </p:nvSpPr>
        <p:spPr>
          <a:xfrm>
            <a:off x="8832960" y="6172200"/>
            <a:ext cx="577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FB27CF-2FCC-4D58-A8BC-884F10B962D1}" type="slidenum">
              <a:rPr b="0" lang="en-US" sz="36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Date Placeholder 4"/>
          <p:cNvSpPr/>
          <p:nvPr/>
        </p:nvSpPr>
        <p:spPr>
          <a:xfrm>
            <a:off x="0" y="5943600"/>
            <a:ext cx="2806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A71382-CA3E-4CB0-A14B-27E4F90AF5D6}" type="datetime">
              <a:rPr b="0" lang="en-US" sz="1100" spc="-1" strike="noStrike">
                <a:solidFill>
                  <a:srgbClr val="d6ecff"/>
                </a:solidFill>
                <a:latin typeface="Corbel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Footer Placeholder 5"/>
          <p:cNvSpPr/>
          <p:nvPr/>
        </p:nvSpPr>
        <p:spPr>
          <a:xfrm>
            <a:off x="338472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#3 Resolutions: generalisable effectiveness research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-360" y="685800"/>
            <a:ext cx="9906120" cy="60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49200" indent="-2912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R1: Maintain paradigm: “Pragmatic trials”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426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inimise loss of attribution with Time series, Step-wise wedge, SPC (but increase cost and time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426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ome √ for routine practice feedback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426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Generalisable to similar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ituations and intervention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426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Add more situations and variations of the interven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846000" indent="-194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are many pragmatic trials and assess what works best w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46000" indent="-194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vite trails in X situation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46000" indent="-194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rove reporting (standardise and detail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9200" indent="-2912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- ve: no answer to 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why?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426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explanation helps adapt, and contributes to scienc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920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426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Slide Number Placeholder 3"/>
          <p:cNvSpPr/>
          <p:nvPr/>
        </p:nvSpPr>
        <p:spPr>
          <a:xfrm>
            <a:off x="8832960" y="6172200"/>
            <a:ext cx="577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13640E-7E87-4315-BE08-55DB1E32E12A}" type="slidenum">
              <a:rPr b="0" lang="en-US" sz="36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Date Placeholder 4"/>
          <p:cNvSpPr/>
          <p:nvPr/>
        </p:nvSpPr>
        <p:spPr>
          <a:xfrm>
            <a:off x="0" y="5943600"/>
            <a:ext cx="2806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386764-9D2D-4E10-80C6-A59317D53531}" type="datetime">
              <a:rPr b="0" lang="en-US" sz="1100" spc="-1" strike="noStrike">
                <a:solidFill>
                  <a:srgbClr val="d6ecff"/>
                </a:solidFill>
                <a:latin typeface="Corbel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Footer Placeholder 5"/>
          <p:cNvSpPr/>
          <p:nvPr/>
        </p:nvSpPr>
        <p:spPr>
          <a:xfrm>
            <a:off x="338472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410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#3 Resolutions: context sensitive generalisable effectiveness research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-360" y="2057040"/>
            <a:ext cx="9906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R2: Case study researc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√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escribes intervention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as it evolves &amp; context helpers and hinderer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√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ssesses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intermediate changes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√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Links these to ultimate patient/cost outcomes, if possibl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ultiple case study in selected situations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eg Dopson 200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NEXT: What we have learned in doing this resear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Slide Number Placeholder 3"/>
          <p:cNvSpPr/>
          <p:nvPr/>
        </p:nvSpPr>
        <p:spPr>
          <a:xfrm>
            <a:off x="8832960" y="6172200"/>
            <a:ext cx="577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494763-5F82-4516-9F47-1D2F8C91B0F6}" type="slidenum">
              <a:rPr b="0" lang="en-US" sz="36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Date Placeholder 4"/>
          <p:cNvSpPr/>
          <p:nvPr/>
        </p:nvSpPr>
        <p:spPr>
          <a:xfrm>
            <a:off x="0" y="5943600"/>
            <a:ext cx="2806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B0524A-E6CB-4C4E-B888-0CD743C9988A}" type="datetime">
              <a:rPr b="0" lang="en-US" sz="1100" spc="-1" strike="noStrike">
                <a:solidFill>
                  <a:srgbClr val="d6ecff"/>
                </a:solidFill>
                <a:latin typeface="Corbel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Footer Placeholder 5"/>
          <p:cNvSpPr/>
          <p:nvPr/>
        </p:nvSpPr>
        <p:spPr>
          <a:xfrm>
            <a:off x="338472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4107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hat we have learned in doing this research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9906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research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2 Action evaluation case studies of innovation implementation in Swedish health ca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&amp; variety of “research into practice” implementation and change studi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8832960" y="6172200"/>
            <a:ext cx="577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8F04BD-F959-4338-8B3D-18EDB0C2CE89}" type="slidenum">
              <a:rPr b="0" lang="en-US" sz="36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Date Placeholder 4"/>
          <p:cNvSpPr/>
          <p:nvPr/>
        </p:nvSpPr>
        <p:spPr>
          <a:xfrm>
            <a:off x="0" y="5943600"/>
            <a:ext cx="2806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FD2E01-1CD7-40AC-B0E4-BC75910FF7A2}" type="datetime">
              <a:rPr b="0" lang="en-US" sz="1100" spc="-1" strike="noStrike">
                <a:solidFill>
                  <a:srgbClr val="d6ecff"/>
                </a:solidFill>
                <a:latin typeface="Corbel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Footer Placeholder 5"/>
          <p:cNvSpPr/>
          <p:nvPr/>
        </p:nvSpPr>
        <p:spPr>
          <a:xfrm>
            <a:off x="338472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4107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2: Distinguish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9906120" cy="58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Safer clinical practic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anged providers behaviour = reduce adverse event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Safer organisation and process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pport changes in provider behaviour and address latent cau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Implementation action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to achieve the abo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t team, organisation, system and national lev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External context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elpers and hind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(is a MET/RRT a safe clinical practice or a "safer organisation or process" change, or both?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Slide Number Placeholder 3"/>
          <p:cNvSpPr/>
          <p:nvPr/>
        </p:nvSpPr>
        <p:spPr>
          <a:xfrm>
            <a:off x="8832960" y="6172200"/>
            <a:ext cx="577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99FCC5-0623-403D-923B-DFF67618C025}" type="slidenum">
              <a:rPr b="0" lang="en-US" sz="36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Date Placeholder 4"/>
          <p:cNvSpPr/>
          <p:nvPr/>
        </p:nvSpPr>
        <p:spPr>
          <a:xfrm>
            <a:off x="0" y="5943600"/>
            <a:ext cx="2806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786838-2A32-4280-9BA0-CE62ABADA97C}" type="datetime">
              <a:rPr b="0" lang="en-US" sz="1100" spc="-1" strike="noStrike">
                <a:solidFill>
                  <a:srgbClr val="d6ecff"/>
                </a:solidFill>
                <a:latin typeface="Corbel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Footer Placeholder 5"/>
          <p:cNvSpPr/>
          <p:nvPr/>
        </p:nvSpPr>
        <p:spPr>
          <a:xfrm>
            <a:off x="338472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TextBox 6"/>
          <p:cNvSpPr/>
          <p:nvPr/>
        </p:nvSpPr>
        <p:spPr>
          <a:xfrm>
            <a:off x="7688520" y="1752480"/>
            <a:ext cx="20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The se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TextBox 7"/>
          <p:cNvSpPr/>
          <p:nvPr/>
        </p:nvSpPr>
        <p:spPr>
          <a:xfrm>
            <a:off x="7862400" y="3429000"/>
            <a:ext cx="183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ccffcc"/>
                </a:solidFill>
                <a:latin typeface="Arial"/>
              </a:rPr>
              <a:t>Pla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TextBox 8"/>
          <p:cNvSpPr/>
          <p:nvPr/>
        </p:nvSpPr>
        <p:spPr>
          <a:xfrm>
            <a:off x="7710480" y="441972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c58d01"/>
                </a:solidFill>
                <a:latin typeface="Arial"/>
              </a:rPr>
              <a:t>Soil &amp; </a:t>
            </a:r>
            <a:r>
              <a:rPr b="0" i="1" lang="en-US" sz="3600" spc="-1" strike="noStrike">
                <a:solidFill>
                  <a:srgbClr val="51daff"/>
                </a:solidFill>
                <a:latin typeface="Arial"/>
              </a:rPr>
              <a:t>clim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7016760" y="641664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B9A2AC-82C2-46F9-AECB-4277D98EB7A9}" type="datetime">
              <a:rPr b="0" lang="en-US" sz="1100" spc="-1" strike="noStrike">
                <a:solidFill>
                  <a:srgbClr val="d6ecff"/>
                </a:solidFill>
                <a:latin typeface="Corbel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Slide Number Placeholder 5"/>
          <p:cNvSpPr/>
          <p:nvPr/>
        </p:nvSpPr>
        <p:spPr>
          <a:xfrm>
            <a:off x="8255160" y="5943600"/>
            <a:ext cx="1568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D35095-998D-4EA8-9119-EC25D34EDF63}" type="slidenum">
              <a:rPr b="0" lang="en-US" sz="36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6" name="Rectangle 5" descr=""/>
          <p:cNvPicPr/>
          <p:nvPr/>
        </p:nvPicPr>
        <p:blipFill>
          <a:blip r:embed="rId1"/>
          <a:stretch/>
        </p:blipFill>
        <p:spPr>
          <a:xfrm>
            <a:off x="1731960" y="1206360"/>
            <a:ext cx="2065320" cy="1768680"/>
          </a:xfrm>
          <a:prstGeom prst="rect">
            <a:avLst/>
          </a:prstGeom>
          <a:ln w="0">
            <a:noFill/>
          </a:ln>
        </p:spPr>
      </p:pic>
      <p:sp>
        <p:nvSpPr>
          <p:cNvPr id="747" name="TextBox 6"/>
          <p:cNvSpPr/>
          <p:nvPr/>
        </p:nvSpPr>
        <p:spPr>
          <a:xfrm>
            <a:off x="330120" y="6172200"/>
            <a:ext cx="924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994   1995  1996 1997 1998  1999   2000  2001  2002  2003  2004   2005   2006  2007  2008  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TextBox 7"/>
          <p:cNvSpPr/>
          <p:nvPr/>
        </p:nvSpPr>
        <p:spPr>
          <a:xfrm>
            <a:off x="1568520" y="228600"/>
            <a:ext cx="730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Sodertalje innovation established 1996-199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TextBox 15"/>
          <p:cNvSpPr/>
          <p:nvPr/>
        </p:nvSpPr>
        <p:spPr>
          <a:xfrm>
            <a:off x="330120" y="1930320"/>
            <a:ext cx="1403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ctions: planning and pre- implement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TextBox 16"/>
          <p:cNvSpPr/>
          <p:nvPr/>
        </p:nvSpPr>
        <p:spPr>
          <a:xfrm>
            <a:off x="1816200" y="1752480"/>
            <a:ext cx="189864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ult: Innovation content –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ree shared rehabilitation units with common decision making for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1" name="Rectangle 21" descr=""/>
          <p:cNvPicPr/>
          <p:nvPr/>
        </p:nvPicPr>
        <p:blipFill>
          <a:blip r:embed="rId2"/>
          <a:stretch/>
        </p:blipFill>
        <p:spPr>
          <a:xfrm>
            <a:off x="1731960" y="3035160"/>
            <a:ext cx="7101000" cy="854280"/>
          </a:xfrm>
          <a:prstGeom prst="rect">
            <a:avLst/>
          </a:prstGeom>
          <a:ln w="0">
            <a:noFill/>
          </a:ln>
        </p:spPr>
      </p:pic>
      <p:pic>
        <p:nvPicPr>
          <p:cNvPr id="752" name="Rectangle 22" descr=""/>
          <p:cNvPicPr/>
          <p:nvPr/>
        </p:nvPicPr>
        <p:blipFill>
          <a:blip r:embed="rId3"/>
          <a:stretch/>
        </p:blipFill>
        <p:spPr>
          <a:xfrm>
            <a:off x="2712960" y="5248440"/>
            <a:ext cx="6620040" cy="853920"/>
          </a:xfrm>
          <a:prstGeom prst="rect">
            <a:avLst/>
          </a:prstGeom>
          <a:ln w="0">
            <a:noFill/>
          </a:ln>
        </p:spPr>
      </p:pic>
      <p:pic>
        <p:nvPicPr>
          <p:cNvPr id="753" name="Rectangle 14" descr=""/>
          <p:cNvPicPr/>
          <p:nvPr/>
        </p:nvPicPr>
        <p:blipFill>
          <a:blip r:embed="rId4"/>
          <a:stretch/>
        </p:blipFill>
        <p:spPr>
          <a:xfrm>
            <a:off x="3627360" y="1206360"/>
            <a:ext cx="5119920" cy="1543320"/>
          </a:xfrm>
          <a:prstGeom prst="rect">
            <a:avLst/>
          </a:prstGeom>
          <a:ln w="0">
            <a:noFill/>
          </a:ln>
        </p:spPr>
      </p:pic>
      <p:pic>
        <p:nvPicPr>
          <p:cNvPr id="754" name="Rectangle 15" descr=""/>
          <p:cNvPicPr/>
          <p:nvPr/>
        </p:nvPicPr>
        <p:blipFill>
          <a:blip r:embed="rId5"/>
          <a:stretch/>
        </p:blipFill>
        <p:spPr>
          <a:xfrm>
            <a:off x="79200" y="1206360"/>
            <a:ext cx="1816200" cy="1768680"/>
          </a:xfrm>
          <a:prstGeom prst="rect">
            <a:avLst/>
          </a:prstGeom>
          <a:ln w="0">
            <a:noFill/>
          </a:ln>
        </p:spPr>
      </p:pic>
      <p:sp>
        <p:nvSpPr>
          <p:cNvPr id="755" name="Rectangle 16"/>
          <p:cNvSpPr/>
          <p:nvPr/>
        </p:nvSpPr>
        <p:spPr>
          <a:xfrm>
            <a:off x="577800" y="1295280"/>
            <a:ext cx="80074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Planning      Establishment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   Further actions and types of coordination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rea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TextBox 17"/>
          <p:cNvSpPr/>
          <p:nvPr/>
        </p:nvSpPr>
        <p:spPr>
          <a:xfrm>
            <a:off x="3797280" y="1676520"/>
            <a:ext cx="22287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bined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lient/patient care planning system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velopment of syste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cedures and sub structures&gt;&gt;&gt;&gt;&gt;&gt;&gt;&gt;&gt;&gt;&gt;&gt;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TextBox 18"/>
          <p:cNvSpPr/>
          <p:nvPr/>
        </p:nvSpPr>
        <p:spPr>
          <a:xfrm>
            <a:off x="6521400" y="1676520"/>
            <a:ext cx="19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ne management group with representatives from the county council and municipal car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8" name="Straight Arrow Connector 19" descr=""/>
          <p:cNvPicPr/>
          <p:nvPr/>
        </p:nvPicPr>
        <p:blipFill>
          <a:blip r:embed="rId6"/>
          <a:stretch/>
        </p:blipFill>
        <p:spPr>
          <a:xfrm>
            <a:off x="3389400" y="2286000"/>
            <a:ext cx="1384200" cy="463680"/>
          </a:xfrm>
          <a:prstGeom prst="rect">
            <a:avLst/>
          </a:prstGeom>
          <a:ln w="0">
            <a:noFill/>
          </a:ln>
        </p:spPr>
      </p:pic>
      <p:pic>
        <p:nvPicPr>
          <p:cNvPr id="759" name="Straight Arrow Connector 20" descr=""/>
          <p:cNvPicPr/>
          <p:nvPr/>
        </p:nvPicPr>
        <p:blipFill>
          <a:blip r:embed="rId7"/>
          <a:stretch/>
        </p:blipFill>
        <p:spPr>
          <a:xfrm>
            <a:off x="3273480" y="755640"/>
            <a:ext cx="384120" cy="957240"/>
          </a:xfrm>
          <a:prstGeom prst="rect">
            <a:avLst/>
          </a:prstGeom>
          <a:ln w="0">
            <a:noFill/>
          </a:ln>
        </p:spPr>
      </p:pic>
      <p:pic>
        <p:nvPicPr>
          <p:cNvPr id="760" name="Straight Arrow Connector 24" descr=""/>
          <p:cNvPicPr/>
          <p:nvPr/>
        </p:nvPicPr>
        <p:blipFill>
          <a:blip r:embed="rId8"/>
          <a:stretch/>
        </p:blipFill>
        <p:spPr>
          <a:xfrm>
            <a:off x="3382920" y="2425680"/>
            <a:ext cx="1268280" cy="890640"/>
          </a:xfrm>
          <a:prstGeom prst="rect">
            <a:avLst/>
          </a:prstGeom>
          <a:ln w="0">
            <a:noFill/>
          </a:ln>
        </p:spPr>
      </p:pic>
      <p:pic>
        <p:nvPicPr>
          <p:cNvPr id="761" name="Straight Arrow Connector 40" descr=""/>
          <p:cNvPicPr/>
          <p:nvPr/>
        </p:nvPicPr>
        <p:blipFill>
          <a:blip r:embed="rId9"/>
          <a:stretch/>
        </p:blipFill>
        <p:spPr>
          <a:xfrm>
            <a:off x="4943520" y="2505240"/>
            <a:ext cx="860400" cy="1116000"/>
          </a:xfrm>
          <a:prstGeom prst="rect">
            <a:avLst/>
          </a:prstGeom>
          <a:ln w="0">
            <a:noFill/>
          </a:ln>
        </p:spPr>
      </p:pic>
      <p:pic>
        <p:nvPicPr>
          <p:cNvPr id="762" name="Straight Arrow Connector 41" descr=""/>
          <p:cNvPicPr/>
          <p:nvPr/>
        </p:nvPicPr>
        <p:blipFill>
          <a:blip r:embed="rId10"/>
          <a:stretch/>
        </p:blipFill>
        <p:spPr>
          <a:xfrm>
            <a:off x="3206880" y="4511520"/>
            <a:ext cx="615960" cy="1114560"/>
          </a:xfrm>
          <a:prstGeom prst="rect">
            <a:avLst/>
          </a:prstGeom>
          <a:ln w="0">
            <a:noFill/>
          </a:ln>
        </p:spPr>
      </p:pic>
      <p:pic>
        <p:nvPicPr>
          <p:cNvPr id="763" name="Straight Arrow Connector 42" descr=""/>
          <p:cNvPicPr/>
          <p:nvPr/>
        </p:nvPicPr>
        <p:blipFill>
          <a:blip r:embed="rId11"/>
          <a:stretch/>
        </p:blipFill>
        <p:spPr>
          <a:xfrm>
            <a:off x="2212920" y="2730600"/>
            <a:ext cx="1200240" cy="1274760"/>
          </a:xfrm>
          <a:prstGeom prst="rect">
            <a:avLst/>
          </a:prstGeom>
          <a:ln w="0">
            <a:noFill/>
          </a:ln>
        </p:spPr>
      </p:pic>
      <p:pic>
        <p:nvPicPr>
          <p:cNvPr id="764" name="Straight Arrow Connector 43" descr=""/>
          <p:cNvPicPr/>
          <p:nvPr/>
        </p:nvPicPr>
        <p:blipFill>
          <a:blip r:embed="rId12"/>
          <a:stretch/>
        </p:blipFill>
        <p:spPr>
          <a:xfrm>
            <a:off x="4363920" y="2505240"/>
            <a:ext cx="1274760" cy="1957320"/>
          </a:xfrm>
          <a:prstGeom prst="rect">
            <a:avLst/>
          </a:prstGeom>
          <a:ln w="0">
            <a:noFill/>
          </a:ln>
        </p:spPr>
      </p:pic>
      <p:pic>
        <p:nvPicPr>
          <p:cNvPr id="765" name="Straight Arrow Connector 44" descr=""/>
          <p:cNvPicPr/>
          <p:nvPr/>
        </p:nvPicPr>
        <p:blipFill>
          <a:blip r:embed="rId13"/>
          <a:stretch/>
        </p:blipFill>
        <p:spPr>
          <a:xfrm>
            <a:off x="5937120" y="2425680"/>
            <a:ext cx="2097360" cy="2365560"/>
          </a:xfrm>
          <a:prstGeom prst="rect">
            <a:avLst/>
          </a:prstGeom>
          <a:ln w="0">
            <a:noFill/>
          </a:ln>
        </p:spPr>
      </p:pic>
      <p:pic>
        <p:nvPicPr>
          <p:cNvPr id="766" name="Rectangle 25" descr=""/>
          <p:cNvPicPr/>
          <p:nvPr/>
        </p:nvPicPr>
        <p:blipFill>
          <a:blip r:embed="rId14"/>
          <a:stretch/>
        </p:blipFill>
        <p:spPr>
          <a:xfrm>
            <a:off x="66600" y="438120"/>
            <a:ext cx="9186840" cy="5670720"/>
          </a:xfrm>
          <a:prstGeom prst="rect">
            <a:avLst/>
          </a:prstGeom>
          <a:ln w="0">
            <a:noFill/>
          </a:ln>
        </p:spPr>
      </p:pic>
      <p:sp>
        <p:nvSpPr>
          <p:cNvPr id="767" name="TextBox 26"/>
          <p:cNvSpPr/>
          <p:nvPr/>
        </p:nvSpPr>
        <p:spPr>
          <a:xfrm>
            <a:off x="1403280" y="533520"/>
            <a:ext cx="689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ontext factor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help and hinder implementation at different tim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TextBox 27"/>
          <p:cNvSpPr/>
          <p:nvPr/>
        </p:nvSpPr>
        <p:spPr>
          <a:xfrm>
            <a:off x="230400" y="762120"/>
            <a:ext cx="1930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overnment policy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lps plan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9" name="Straight Arrow Connector 29" descr=""/>
          <p:cNvPicPr/>
          <p:nvPr/>
        </p:nvPicPr>
        <p:blipFill>
          <a:blip r:embed="rId15"/>
          <a:stretch/>
        </p:blipFill>
        <p:spPr>
          <a:xfrm>
            <a:off x="407880" y="1054080"/>
            <a:ext cx="513000" cy="500040"/>
          </a:xfrm>
          <a:prstGeom prst="rect">
            <a:avLst/>
          </a:prstGeom>
          <a:ln w="0">
            <a:noFill/>
          </a:ln>
        </p:spPr>
      </p:pic>
      <p:pic>
        <p:nvPicPr>
          <p:cNvPr id="770" name="Rectangle 27" descr=""/>
          <p:cNvPicPr/>
          <p:nvPr/>
        </p:nvPicPr>
        <p:blipFill>
          <a:blip r:embed="rId16"/>
          <a:stretch/>
        </p:blipFill>
        <p:spPr>
          <a:xfrm>
            <a:off x="2139840" y="4170240"/>
            <a:ext cx="710748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410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L3: Theory essential - of intervention pathway to outcomes 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9906120" cy="55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o decide which data to gath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o provide explanations to tes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o give implementers to help them adap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Program theory Weiss 1972, 1997 Rog&amp;Fournier 1997; Logic Model Wholey 1979; Theory-driven evaluation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en 1990, Sidani &amp; Braden 1998; realist evaluation Henry et al 1998, Pawson &amp; Tilley 1997; Theories Grol et al 2007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8832960" y="6172200"/>
            <a:ext cx="577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18F8D0-D37E-47E1-A085-60A6E17B264E}" type="slidenum">
              <a:rPr b="0" lang="en-US" sz="36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Date Placeholder 4"/>
          <p:cNvSpPr/>
          <p:nvPr/>
        </p:nvSpPr>
        <p:spPr>
          <a:xfrm>
            <a:off x="0" y="5943600"/>
            <a:ext cx="2806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F05CD1-3B37-4532-A18E-A44424DF3A91}" type="datetime">
              <a:rPr b="0" lang="en-US" sz="1100" spc="-1" strike="noStrike">
                <a:solidFill>
                  <a:srgbClr val="d6ecff"/>
                </a:solidFill>
                <a:latin typeface="Corbel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Footer Placeholder 5"/>
          <p:cNvSpPr/>
          <p:nvPr/>
        </p:nvSpPr>
        <p:spPr>
          <a:xfrm>
            <a:off x="338472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410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L4: Action evaluation learning cycl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9906120" cy="55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eedback findings during implementation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+ and – for scienc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ssess effect of researcher on implementation and result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Helps develop intervention during the implementation journe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ncreases cooperation and access to dat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artnership, but distinct rol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Study how implementers use knowledge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nd help use mor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8832960" y="6172200"/>
            <a:ext cx="577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741B34-4773-44FA-89D4-D44C44DC885C}" type="slidenum">
              <a:rPr b="0" lang="en-US" sz="36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Date Placeholder 4"/>
          <p:cNvSpPr/>
          <p:nvPr/>
        </p:nvSpPr>
        <p:spPr>
          <a:xfrm>
            <a:off x="0" y="5943600"/>
            <a:ext cx="2806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5267D2-99F8-42EE-B0A8-3BA760942308}" type="datetime">
              <a:rPr b="0" lang="en-US" sz="1100" spc="-1" strike="noStrike">
                <a:solidFill>
                  <a:srgbClr val="d6ecff"/>
                </a:solidFill>
                <a:latin typeface="Corbel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Footer Placeholder 5"/>
          <p:cNvSpPr/>
          <p:nvPr/>
        </p:nvSpPr>
        <p:spPr>
          <a:xfrm>
            <a:off x="338472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410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#4 Challenge: use – faster, wider 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9906120" cy="55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mand? - Real men don’t need researc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pply? - Real researchers don’t write exec summar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5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sure unusable and ”throw over the fence” delive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osing the research/practice ga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Slide Number Placeholder 3"/>
          <p:cNvSpPr/>
          <p:nvPr/>
        </p:nvSpPr>
        <p:spPr>
          <a:xfrm>
            <a:off x="8832960" y="6172200"/>
            <a:ext cx="577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B4DD34-7610-4349-8E39-8026488350D7}" type="slidenum">
              <a:rPr b="0" lang="en-US" sz="36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Date Placeholder 4"/>
          <p:cNvSpPr/>
          <p:nvPr/>
        </p:nvSpPr>
        <p:spPr>
          <a:xfrm>
            <a:off x="0" y="5943600"/>
            <a:ext cx="2806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780989-614B-4A6B-8872-29731EB977B8}" type="datetime">
              <a:rPr b="0" lang="en-US" sz="1100" spc="-1" strike="noStrike">
                <a:solidFill>
                  <a:srgbClr val="d6ecff"/>
                </a:solidFill>
                <a:latin typeface="Corbel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Footer Placeholder 5"/>
          <p:cNvSpPr/>
          <p:nvPr/>
        </p:nvSpPr>
        <p:spPr>
          <a:xfrm>
            <a:off x="338472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4107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ranslation in QSI HSR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9906120" cy="52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spcBef>
                <a:spcPts val="700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Evidence&gt;Test&gt;Package             </a:t>
            </a:r>
            <a:r>
              <a:rPr b="0" lang="en-US" sz="3000" spc="-1" strike="noStrike">
                <a:solidFill>
                  <a:srgbClr val="ccedb1"/>
                </a:solidFill>
                <a:latin typeface="Times New Roman"/>
              </a:rPr>
              <a:t>User&gt;Adapt&gt;Implement/</a:t>
            </a:r>
            <a:r>
              <a:rPr b="0" lang="en-US" sz="2400" spc="-1" strike="noStrike">
                <a:solidFill>
                  <a:srgbClr val="ccedb1"/>
                </a:solidFill>
                <a:latin typeface="Times New Roman"/>
              </a:rPr>
              <a:t>Adjust</a:t>
            </a:r>
            <a:r>
              <a:rPr b="0" lang="en-US" sz="3000" spc="-1" strike="noStrike">
                <a:solidFill>
                  <a:srgbClr val="ccedb1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db1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db1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db1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db1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db1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db1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0">
              <a:spcBef>
                <a:spcPts val="649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00"/>
                </a:solidFill>
                <a:latin typeface="Times New Roman"/>
              </a:rPr>
              <a:t>Development Translation 1</a:t>
            </a:r>
            <a:r>
              <a:rPr b="1" i="1" lang="en-US" sz="2600" spc="-1" strike="noStrike">
                <a:solidFill>
                  <a:srgbClr val="ccffcc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ccffcc"/>
                </a:solidFill>
                <a:latin typeface="Times New Roman"/>
              </a:rPr>
              <a:t>       </a:t>
            </a:r>
            <a:r>
              <a:rPr b="1" i="1" lang="en-US" sz="2600" spc="-1" strike="noStrike">
                <a:solidFill>
                  <a:srgbClr val="ccedb1"/>
                </a:solidFill>
                <a:latin typeface="Times New Roman"/>
              </a:rPr>
              <a:t>Implementation Translation 2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spcBef>
                <a:spcPts val="700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intervention development and testing)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adoption/ sprea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spcBef>
                <a:spcPts val="700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 algn="ctr">
              <a:spcBef>
                <a:spcPts val="700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the intervention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 algn="ctr">
              <a:spcBef>
                <a:spcPts val="700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re do you draw the boundar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spcBef>
                <a:spcPts val="700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Slide Number Placeholder 3"/>
          <p:cNvSpPr/>
          <p:nvPr/>
        </p:nvSpPr>
        <p:spPr>
          <a:xfrm>
            <a:off x="9245520" y="6172200"/>
            <a:ext cx="660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4612D6-32D3-4909-96C7-961B5B55B8C5}" type="slidenum">
              <a:rPr b="0" lang="en-US" sz="36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9" name="Double Brace 4"/>
          <p:cNvGrpSpPr/>
          <p:nvPr/>
        </p:nvGrpSpPr>
        <p:grpSpPr>
          <a:xfrm>
            <a:off x="-92160" y="1206360"/>
            <a:ext cx="4803840" cy="1092240"/>
            <a:chOff x="-92160" y="1206360"/>
            <a:chExt cx="4803840" cy="1092240"/>
          </a:xfrm>
        </p:grpSpPr>
        <p:pic>
          <p:nvPicPr>
            <p:cNvPr id="790" name="Double Brace 4" descr=""/>
            <p:cNvPicPr/>
            <p:nvPr/>
          </p:nvPicPr>
          <p:blipFill>
            <a:blip r:embed="rId1"/>
            <a:stretch/>
          </p:blipFill>
          <p:spPr>
            <a:xfrm>
              <a:off x="-92160" y="1206360"/>
              <a:ext cx="480384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1" name=""/>
            <p:cNvSpPr/>
            <p:nvPr/>
          </p:nvSpPr>
          <p:spPr>
            <a:xfrm>
              <a:off x="98280" y="1393920"/>
              <a:ext cx="442620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2" name="Double Brace 5"/>
          <p:cNvGrpSpPr/>
          <p:nvPr/>
        </p:nvGrpSpPr>
        <p:grpSpPr>
          <a:xfrm>
            <a:off x="4863960" y="1206360"/>
            <a:ext cx="5133960" cy="1092240"/>
            <a:chOff x="4863960" y="1206360"/>
            <a:chExt cx="5133960" cy="1092240"/>
          </a:xfrm>
        </p:grpSpPr>
        <p:pic>
          <p:nvPicPr>
            <p:cNvPr id="793" name="Double Brace 5" descr=""/>
            <p:cNvPicPr/>
            <p:nvPr/>
          </p:nvPicPr>
          <p:blipFill>
            <a:blip r:embed="rId2"/>
            <a:stretch/>
          </p:blipFill>
          <p:spPr>
            <a:xfrm>
              <a:off x="4863960" y="1206360"/>
              <a:ext cx="513396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4" name=""/>
            <p:cNvSpPr/>
            <p:nvPr/>
          </p:nvSpPr>
          <p:spPr>
            <a:xfrm>
              <a:off x="5051520" y="1393920"/>
              <a:ext cx="475596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4107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Achievements 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9906120" cy="58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Notable research funded by AHRQ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osing the quality gap series http://www.ahrq.gov/clinic/epc/qgapfact.ht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Henriksen K, Battles JB, Marks ES, Lewin DI, editors. Advances in patient safety: from research to implementation.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Vol. 1, Vol2. Vol 3 implement Vol4 AHRQ Publication No. 05-0021-1. Rockville, MD: Agency for Healthcare Research and Quality; Feb. 2005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b8803"/>
                </a:solidFill>
                <a:uFillTx/>
                <a:latin typeface="Times New Roman"/>
                <a:hlinkClick r:id="rId1"/>
              </a:rPr>
              <a:t>http://www.ncbi.nlm.nih.gov/books/bv.fcgi?rid=aps.part.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artnerships in Implementing Patient Safety (PIPS) grant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REAIM studies (eg Magid et al 2008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Slide Number Placeholder 3"/>
          <p:cNvSpPr/>
          <p:nvPr/>
        </p:nvSpPr>
        <p:spPr>
          <a:xfrm>
            <a:off x="8832960" y="6172200"/>
            <a:ext cx="577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9953DF-07FD-415C-BF23-E398DC0319ED}" type="slidenum">
              <a:rPr b="0" lang="en-US" sz="36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410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#4 Resolutions – our experience 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9906120" cy="611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Use KT/KM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iterature – what work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ontent: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ccessibility and relev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5840">
              <a:lnSpc>
                <a:spcPct val="100000"/>
              </a:lnSpc>
              <a:spcBef>
                <a:spcPts val="79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rvice implications; many examples; 3:20:Appx reports; ghost writers and mediator authors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5840">
              <a:lnSpc>
                <a:spcPct val="100000"/>
              </a:lnSpc>
              <a:spcBef>
                <a:spcPts val="79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gage emotionally: patient describes experience or vide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rocess: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teract with users at each sta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tructure: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rums, networks, joint appointments, brok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Slide Number Placeholder 3"/>
          <p:cNvSpPr/>
          <p:nvPr/>
        </p:nvSpPr>
        <p:spPr>
          <a:xfrm>
            <a:off x="8832960" y="6172200"/>
            <a:ext cx="577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B002DD-1F82-43B3-9781-A098E1AA6100}" type="slidenum">
              <a:rPr b="0" lang="en-US" sz="36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Date Placeholder 4"/>
          <p:cNvSpPr/>
          <p:nvPr/>
        </p:nvSpPr>
        <p:spPr>
          <a:xfrm>
            <a:off x="0" y="5943600"/>
            <a:ext cx="2806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47DD1C-3C32-49D0-951C-4AF25F372406}" type="datetime">
              <a:rPr b="0" lang="en-US" sz="1100" spc="-1" strike="noStrike">
                <a:solidFill>
                  <a:srgbClr val="d6ecff"/>
                </a:solidFill>
                <a:latin typeface="Corbel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Footer Placeholder 5"/>
          <p:cNvSpPr/>
          <p:nvPr/>
        </p:nvSpPr>
        <p:spPr>
          <a:xfrm>
            <a:off x="338472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410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Summary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-360" y="685800"/>
            <a:ext cx="990612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Slide Number Placeholder 3"/>
          <p:cNvSpPr/>
          <p:nvPr/>
        </p:nvSpPr>
        <p:spPr>
          <a:xfrm>
            <a:off x="8832960" y="6172200"/>
            <a:ext cx="577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271EA7-21A5-448C-A57E-FE3943624FBD}" type="slidenum">
              <a:rPr b="0" lang="en-US" sz="36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Date Placeholder 4"/>
          <p:cNvSpPr/>
          <p:nvPr/>
        </p:nvSpPr>
        <p:spPr>
          <a:xfrm>
            <a:off x="0" y="5943600"/>
            <a:ext cx="2806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0913B6-DA54-4521-87C6-04692055764E}" type="datetime">
              <a:rPr b="0" lang="en-US" sz="1100" spc="-1" strike="noStrike">
                <a:solidFill>
                  <a:srgbClr val="d6ecff"/>
                </a:solidFill>
                <a:latin typeface="Corbel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Footer Placeholder 5"/>
          <p:cNvSpPr/>
          <p:nvPr/>
        </p:nvSpPr>
        <p:spPr>
          <a:xfrm>
            <a:off x="338472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05" name=""/>
          <p:cNvGraphicFramePr/>
          <p:nvPr/>
        </p:nvGraphicFramePr>
        <p:xfrm>
          <a:off x="0" y="0"/>
          <a:ext cx="9906120" cy="7134120"/>
        </p:xfrm>
        <a:graphic>
          <a:graphicData uri="http://schemas.openxmlformats.org/drawingml/2006/table">
            <a:tbl>
              <a:tblPr/>
              <a:tblGrid>
                <a:gridCol w="3222720"/>
                <a:gridCol w="6683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Challen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eb80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Resolution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eb80a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Decision makers information nee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Their hierarachy of eviden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</a:tr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Proof of efficac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RCT/CT pricele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...For all else, strengthen observational studi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Parrallel process evalu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Report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Effectiveness research for generalis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Pragmatic trials – variatio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ase stud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Theory-based resear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Action evaluation learning cyc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Faster wider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ontent; process; structure; culture? Silos?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4107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Questions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9906120" cy="611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fficacy and causalit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5840">
              <a:lnSpc>
                <a:spcPct val="100000"/>
              </a:lnSpc>
              <a:spcBef>
                <a:spcPts val="79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stem thinking in research - causality explanations and data gath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5840">
              <a:lnSpc>
                <a:spcPct val="100000"/>
              </a:lnSpc>
              <a:spcBef>
                <a:spcPts val="79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ways trade off between internal/external validit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eneralisable effectiveness research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5840">
              <a:lnSpc>
                <a:spcPct val="100000"/>
              </a:lnSpc>
              <a:spcBef>
                <a:spcPts val="79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urney/story approach – uniqu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se: faster, quick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5840">
              <a:lnSpc>
                <a:spcPct val="100000"/>
              </a:lnSpc>
              <a:spcBef>
                <a:spcPts val="79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end researcher rol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5840">
              <a:lnSpc>
                <a:spcPct val="100000"/>
              </a:lnSpc>
              <a:spcBef>
                <a:spcPts val="79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rease deman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5840">
              <a:lnSpc>
                <a:spcPct val="100000"/>
              </a:lnSpc>
              <a:spcBef>
                <a:spcPts val="79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ect of action rol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8832960" y="6172200"/>
            <a:ext cx="577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5D1CAF-3690-4952-A2B4-537E71DF5CDD}" type="slidenum">
              <a:rPr b="0" lang="en-US" sz="36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Date Placeholder 4"/>
          <p:cNvSpPr/>
          <p:nvPr/>
        </p:nvSpPr>
        <p:spPr>
          <a:xfrm>
            <a:off x="0" y="5943600"/>
            <a:ext cx="2806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28D81E-CA2B-4578-BC85-72859556071F}" type="datetime">
              <a:rPr b="0" lang="en-US" sz="1100" spc="-1" strike="noStrike">
                <a:solidFill>
                  <a:srgbClr val="d6ecff"/>
                </a:solidFill>
                <a:latin typeface="Corbel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Footer Placeholder 5"/>
          <p:cNvSpPr/>
          <p:nvPr/>
        </p:nvSpPr>
        <p:spPr>
          <a:xfrm>
            <a:off x="338472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4107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Acknowledge also: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6840" y="1681200"/>
            <a:ext cx="9906120" cy="58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QUERY series , Mittman et al, eg Yano 2008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Slide Number Placeholder 3"/>
          <p:cNvSpPr/>
          <p:nvPr/>
        </p:nvSpPr>
        <p:spPr>
          <a:xfrm>
            <a:off x="8832960" y="6172200"/>
            <a:ext cx="577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0D5AD1-1BFD-4D2F-8FCF-D479561DB0FB}" type="slidenum">
              <a:rPr b="0" lang="en-US" sz="36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7" name="Picture 4" descr=""/>
          <p:cNvPicPr/>
          <p:nvPr/>
        </p:nvPicPr>
        <p:blipFill>
          <a:blip r:embed="rId1"/>
          <a:stretch/>
        </p:blipFill>
        <p:spPr>
          <a:xfrm>
            <a:off x="0" y="3225960"/>
            <a:ext cx="9931320" cy="1117440"/>
          </a:xfrm>
          <a:prstGeom prst="rect">
            <a:avLst/>
          </a:prstGeom>
          <a:ln w="0">
            <a:noFill/>
          </a:ln>
        </p:spPr>
      </p:pic>
      <p:pic>
        <p:nvPicPr>
          <p:cNvPr id="648" name="Oval Callout 5" descr=""/>
          <p:cNvPicPr/>
          <p:nvPr/>
        </p:nvPicPr>
        <p:blipFill>
          <a:blip r:embed="rId2"/>
          <a:stretch/>
        </p:blipFill>
        <p:spPr>
          <a:xfrm>
            <a:off x="-103320" y="2779560"/>
            <a:ext cx="1085688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4107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Achievements 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9906120" cy="58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Questions are the answe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Slide Number Placeholder 3"/>
          <p:cNvSpPr/>
          <p:nvPr/>
        </p:nvSpPr>
        <p:spPr>
          <a:xfrm>
            <a:off x="8832960" y="6172200"/>
            <a:ext cx="577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9D0352-D488-4A38-B6FC-5A13F7A8222F}" type="slidenum">
              <a:rPr b="0" lang="en-US" sz="36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2" name="patient_questions_60_cc copy" descr="/Users/johnovr/Desktop/ALL FILESap08/Confrnces:Presentns/AHRQHARRISSON/patient_questions_60_cc copy"/>
          <p:cNvPicPr/>
          <p:nvPr/>
        </p:nvPicPr>
        <p:blipFill>
          <a:blip r:embed="rId1"/>
          <a:stretch/>
        </p:blipFill>
        <p:spPr>
          <a:xfrm>
            <a:off x="1596960" y="1523880"/>
            <a:ext cx="67150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5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5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6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4107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hown excellence, but now challenges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9906120" cy="611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# 1: Is it effective? (for many types of QSI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# 2: Why?: causal model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# 3: Who cares anyway? - More useful to research us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3" marL="126036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# 3a: How to implement i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26036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# 3b: Researcher-user interaction: use knowledge translation res/K to shape question and enable users to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= Exciting opportunity for research innov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ut sil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Slide Number Placeholder 3"/>
          <p:cNvSpPr/>
          <p:nvPr/>
        </p:nvSpPr>
        <p:spPr>
          <a:xfrm>
            <a:off x="8832960" y="6172200"/>
            <a:ext cx="577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C2172C-A6D3-4B19-9AA0-94946C7D3EE6}" type="slidenum">
              <a:rPr b="0" lang="en-US" sz="36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y subject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 interventions to providers/organisations, not patients</a:t>
            </a:r>
            <a:br>
              <a:rPr sz="2800"/>
            </a:b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evaluating non-standardisable complex interventions and implementation strategies 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9906120" cy="55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ffffff"/>
                </a:solidFill>
                <a:latin typeface="Times New Roman"/>
              </a:rPr>
              <a:t>Not </a:t>
            </a: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Treatments: BBs after AMI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eta-blockers after myo cardial infarc tio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But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ntervention to get </a:t>
            </a: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BBs given appropriately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(eg Education, guidelines, CDS, audi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Intervention to spread CDM eg Breakthrough collaborativ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RRT (or CRM)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Development programme to lead improvemen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P4P for Q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Accreditation: </a:t>
            </a:r>
            <a:r>
              <a:rPr b="0" i="1" lang="en-GB" sz="3000" spc="-1" strike="noStrike">
                <a:solidFill>
                  <a:srgbClr val="ffffff"/>
                </a:solidFill>
                <a:latin typeface="Times New Roman"/>
              </a:rPr>
              <a:t>benefits for costs compared to alt?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Slide Number Placeholder 3"/>
          <p:cNvSpPr/>
          <p:nvPr/>
        </p:nvSpPr>
        <p:spPr>
          <a:xfrm>
            <a:off x="8832960" y="6172200"/>
            <a:ext cx="577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DAF3C3-C878-4FFA-B90D-4D8BD6BE1FB0}" type="slidenum">
              <a:rPr b="0" lang="en-US" sz="36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stinguish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9906120" cy="55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Slide Number Placeholder 3"/>
          <p:cNvSpPr/>
          <p:nvPr/>
        </p:nvSpPr>
        <p:spPr>
          <a:xfrm>
            <a:off x="8832960" y="6172200"/>
            <a:ext cx="577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42C3E9-349B-4B87-9650-94E5A6E3214D}" type="slidenum">
              <a:rPr b="0" lang="en-US" sz="36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62" name=""/>
          <p:cNvGraphicFramePr/>
          <p:nvPr/>
        </p:nvGraphicFramePr>
        <p:xfrm>
          <a:off x="0" y="622440"/>
          <a:ext cx="9906120" cy="6651360"/>
        </p:xfrm>
        <a:graphic>
          <a:graphicData uri="http://schemas.openxmlformats.org/drawingml/2006/table">
            <a:tbl>
              <a:tblPr/>
              <a:tblGrid>
                <a:gridCol w="3048120"/>
                <a:gridCol w="3555720"/>
                <a:gridCol w="3302280"/>
              </a:tblGrid>
              <a:tr h="204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ffffff"/>
                          </a:solidFill>
                          <a:uFillTx/>
                          <a:latin typeface="Corbel"/>
                        </a:rPr>
                        <a:t>INTERVENTIO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See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ffffff"/>
                          </a:solidFill>
                          <a:uFillTx/>
                          <a:latin typeface="Corbel"/>
                        </a:rPr>
                        <a:t>IMPLEMENTATION STRATEGIE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Plant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ffffff"/>
                          </a:solidFill>
                          <a:uFillTx/>
                          <a:latin typeface="Corbel"/>
                        </a:rPr>
                        <a:t>CONTEX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Soil and climat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Clinical QSI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eg prescribe BBs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Educa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Guidelin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Audit and feedba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Academic detai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Organisational structu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Cultu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System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Financial system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1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Organisational  QSI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eg care management; RRT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Breakthrough collaborat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Which effective for which intervention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Classification of strategies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Which features help and hinder which strateges/support which interventions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4107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mes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9906120" cy="58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rses for cour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5840">
              <a:lnSpc>
                <a:spcPct val="100000"/>
              </a:lnSpc>
              <a:spcBef>
                <a:spcPts val="79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tch method to question and type of QS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5840">
              <a:lnSpc>
                <a:spcPct val="100000"/>
              </a:lnSpc>
              <a:spcBef>
                <a:spcPts val="79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flexibility and innova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ts not the camera, but what’s behind and in front that makes a quality pictu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ts not the intervention, but the context and the beneficiaries that makes the impac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8832960" y="6172200"/>
            <a:ext cx="577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B076A2-36D1-4C2A-BE6E-521299222292}" type="slidenum">
              <a:rPr b="0" lang="en-US" sz="36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08:49:35Z</dcterms:created>
  <dc:creator>Ovret J</dc:creator>
  <dc:description/>
  <dc:language>en-US</dc:language>
  <cp:lastModifiedBy>rac</cp:lastModifiedBy>
  <dcterms:modified xsi:type="dcterms:W3CDTF">2008-10-02T19:15:48Z</dcterms:modified>
  <cp:revision>149</cp:revision>
  <dc:subject/>
  <dc:title>Problem</dc:title>
</cp:coreProperties>
</file>