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</p:sldIdLst>
  <p:sldSz cx="9907588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 type="dt" idx="40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0574C6-45C2-474B-A01B-6FEB9C08602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 type="sldImg"/>
          </p:nvPr>
        </p:nvSpPr>
        <p:spPr>
          <a:xfrm>
            <a:off x="2714760" y="514440"/>
            <a:ext cx="3714480" cy="257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 type="ftr" idx="41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6"/>
          <p:cNvSpPr>
            <a:spLocks noGrp="1"/>
          </p:cNvSpPr>
          <p:nvPr>
            <p:ph type="sldNum" idx="42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ABF26F-58C4-4334-8CFA-3F5B785DEC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2714760" y="514440"/>
            <a:ext cx="3714480" cy="257184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“Thank you from Europe”</a:t>
            </a:r>
            <a:br>
              <a:rPr sz="1200"/>
            </a:br>
            <a:r>
              <a:rPr b="1" i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HRQ and researchers funded by th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2714760" y="514440"/>
            <a:ext cx="3714480" cy="257184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ncbi.nlm.nih.gov/books/bv.fcgi?rid=aps.part.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ahrq.gov/clinic/epc/qgapfact.ht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sldImg"/>
          </p:nvPr>
        </p:nvSpPr>
        <p:spPr>
          <a:xfrm>
            <a:off x="2714760" y="514440"/>
            <a:ext cx="3714480" cy="2571840"/>
          </a:xfrm>
          <a:prstGeom prst="rect">
            <a:avLst/>
          </a:prstGeom>
          <a:ln w="0">
            <a:noFill/>
          </a:ln>
        </p:spPr>
      </p:sp>
      <p:sp>
        <p:nvSpPr>
          <p:cNvPr id="816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ncbi.nlm.nih.gov/books/bv.fcgi?rid=aps.part.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ahrq.gov/clinic/epc/qgapfact.ht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40DC-A5C7-432A-9A95-A3FCAB4E3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990612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-360" y="3720240"/>
            <a:ext cx="990612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82FF-6FDE-4CCD-AA00-B3E99B1CD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4834080" cy="55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5075640" y="837720"/>
            <a:ext cx="4834080" cy="55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C8CD37-1C93-4D68-A425-41D7FFF41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34F278-7298-4AD6-8444-F2847CEBA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990612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F42C5F-4F51-45B5-BD12-6A79A4FC2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483408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5075640" y="837720"/>
            <a:ext cx="4834080" cy="55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-360" y="3720240"/>
            <a:ext cx="483408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C906FB-E0B1-4A30-AE61-5BB5989D8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4834080" cy="55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5075640" y="837720"/>
            <a:ext cx="483408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5075640" y="3720240"/>
            <a:ext cx="483408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2CBB0D-C02A-40FB-B26B-73278C393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483408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5075640" y="837720"/>
            <a:ext cx="483408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-360" y="3720240"/>
            <a:ext cx="990612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88D445-DE92-4431-9D4F-97977A7C6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990612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-360" y="3720240"/>
            <a:ext cx="990612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0287C1-C2BE-44FB-85FC-D7D58EE97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483408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75640" y="837720"/>
            <a:ext cx="483408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-360" y="3720240"/>
            <a:ext cx="483408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5075640" y="3720240"/>
            <a:ext cx="483408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3D3FFA-5686-40E9-BD82-0284935E0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318960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349080" y="837720"/>
            <a:ext cx="318960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698520" y="837720"/>
            <a:ext cx="318960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-360" y="3720240"/>
            <a:ext cx="318960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349080" y="3720240"/>
            <a:ext cx="318960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698520" y="3720240"/>
            <a:ext cx="318960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EB04BF-4034-4B54-B3E1-E273F05AF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7F666E-92AE-431F-BF01-8443E969F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483408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75640" y="837720"/>
            <a:ext cx="483408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-360" y="3720240"/>
            <a:ext cx="483408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75640" y="3720240"/>
            <a:ext cx="483408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99BA-D459-48E3-A3E6-ED9A462F3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subTitle"/>
          </p:nvPr>
        </p:nvSpPr>
        <p:spPr>
          <a:xfrm>
            <a:off x="-360" y="837720"/>
            <a:ext cx="9906120" cy="551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0CC080-4EC5-487D-A745-8D9461428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9906120" cy="55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0E94B1-7892-4A58-BCBA-427D5B2F7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4834080" cy="55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5075640" y="837720"/>
            <a:ext cx="4834080" cy="55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62673D-F6A8-4958-BDEA-6565259EA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47132F-6185-481A-B7E1-5C86E51F1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990612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807463-642C-4374-8272-7399DA0CD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483408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75640" y="837720"/>
            <a:ext cx="4834080" cy="55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-360" y="3720240"/>
            <a:ext cx="483408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D94BA2-3CD0-4CDF-83F9-B666ACB43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4834080" cy="55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5075640" y="837720"/>
            <a:ext cx="483408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075640" y="3720240"/>
            <a:ext cx="483408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9EC79C-DDBA-4BCE-87EA-191FC9A45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483408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5075640" y="837720"/>
            <a:ext cx="483408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-360" y="3720240"/>
            <a:ext cx="990612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F92F2C-7F5F-4369-BD2F-46581289C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990612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-360" y="3720240"/>
            <a:ext cx="990612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4E0801-10D7-47FC-B0FC-DC38F0D80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483408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5075640" y="837720"/>
            <a:ext cx="483408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-360" y="3720240"/>
            <a:ext cx="483408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5075640" y="3720240"/>
            <a:ext cx="483408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BB4F03-B63F-4987-8A30-DF3751532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318960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49080" y="837720"/>
            <a:ext cx="318960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698520" y="837720"/>
            <a:ext cx="318960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-360" y="3720240"/>
            <a:ext cx="318960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49080" y="3720240"/>
            <a:ext cx="318960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698520" y="3720240"/>
            <a:ext cx="318960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7C2E-8494-4265-9736-C6EAFA90E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318960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3349080" y="837720"/>
            <a:ext cx="318960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698520" y="837720"/>
            <a:ext cx="318960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-360" y="3720240"/>
            <a:ext cx="318960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PlaceHolder 6"/>
          <p:cNvSpPr>
            <a:spLocks noGrp="1"/>
          </p:cNvSpPr>
          <p:nvPr>
            <p:ph/>
          </p:nvPr>
        </p:nvSpPr>
        <p:spPr>
          <a:xfrm>
            <a:off x="3349080" y="3720240"/>
            <a:ext cx="318960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PlaceHolder 7"/>
          <p:cNvSpPr>
            <a:spLocks noGrp="1"/>
          </p:cNvSpPr>
          <p:nvPr>
            <p:ph/>
          </p:nvPr>
        </p:nvSpPr>
        <p:spPr>
          <a:xfrm>
            <a:off x="6698520" y="3720240"/>
            <a:ext cx="318960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31713C-D54A-45F8-818C-ED660D06D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59D43F-FEAB-49D1-94E7-9F216449B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-360" y="837720"/>
            <a:ext cx="9906120" cy="551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743A6D-50AC-4C4F-884D-7FB0BB095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9906120" cy="55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D58CED-AA21-4488-91B0-57B8A5C57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4834080" cy="55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075640" y="837720"/>
            <a:ext cx="4834080" cy="55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B3D2CC-EFC6-490D-889A-8DD28CEE8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1DA1D7-E6FD-42D2-B50D-D93BB650F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990612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FCD267-C34E-4FE5-B481-44269DCFB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483408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5075640" y="837720"/>
            <a:ext cx="4834080" cy="55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-360" y="3720240"/>
            <a:ext cx="483408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DD0551-9D6E-4222-AB90-0487FB6BE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4834080" cy="55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5075640" y="837720"/>
            <a:ext cx="483408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5075640" y="3720240"/>
            <a:ext cx="483408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3CBFD6-87B2-45ED-984E-A5BC00911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483408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5075640" y="837720"/>
            <a:ext cx="483408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-360" y="3720240"/>
            <a:ext cx="990612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2FD952-CFF6-4AD0-8BCC-9CDD70E05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56AD7-47A4-439A-8F63-9D4D77C72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990612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-360" y="3720240"/>
            <a:ext cx="990612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0D1DCE-9358-4882-AB1E-91D393DE5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483408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075640" y="837720"/>
            <a:ext cx="483408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-360" y="3720240"/>
            <a:ext cx="483408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5075640" y="3720240"/>
            <a:ext cx="483408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35CC58-03C1-4A82-9164-070265027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318960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49080" y="837720"/>
            <a:ext cx="318960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698520" y="837720"/>
            <a:ext cx="318960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-360" y="3720240"/>
            <a:ext cx="318960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49080" y="3720240"/>
            <a:ext cx="318960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698520" y="3720240"/>
            <a:ext cx="318960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3B2956-E9D0-4149-87ED-1961F59C8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1F7E41-44BC-4D7A-9D34-31B5F0F1B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subTitle"/>
          </p:nvPr>
        </p:nvSpPr>
        <p:spPr>
          <a:xfrm>
            <a:off x="-360" y="837720"/>
            <a:ext cx="9906120" cy="551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E658B4-33B9-4DE7-A5C9-8287F3AC5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9906120" cy="55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E37799-8186-4A81-89E0-9CB3D1387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4834080" cy="55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5075640" y="837720"/>
            <a:ext cx="4834080" cy="55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C53403-6370-4533-87D3-B39505E00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A0CF2F-9393-44F7-B1C6-0E8B59E9C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990612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B2A112-8A4D-4ED2-B14B-17FD71DE4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483408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5075640" y="837720"/>
            <a:ext cx="4834080" cy="55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-360" y="3720240"/>
            <a:ext cx="483408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711554-36A0-4D4F-8012-9F091B7A3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-360" y="837720"/>
            <a:ext cx="9906120" cy="551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040F8-AA3F-4711-9250-624D39969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4834080" cy="55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5075640" y="837720"/>
            <a:ext cx="483408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5075640" y="3720240"/>
            <a:ext cx="483408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2F1224-06E5-4D0D-8890-B413DE921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483408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075640" y="837720"/>
            <a:ext cx="483408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-360" y="3720240"/>
            <a:ext cx="990612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A57F07-E346-48CA-A378-F286CB163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990612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-360" y="3720240"/>
            <a:ext cx="990612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8481DF-1870-46B3-B50F-A9EA05FAC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483408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5075640" y="837720"/>
            <a:ext cx="483408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-360" y="3720240"/>
            <a:ext cx="483408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5075640" y="3720240"/>
            <a:ext cx="483408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88C051-1AE2-47F9-A43B-03517F4B2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318960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3349080" y="837720"/>
            <a:ext cx="318960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6698520" y="837720"/>
            <a:ext cx="318960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-360" y="3720240"/>
            <a:ext cx="318960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PlaceHolder 6"/>
          <p:cNvSpPr>
            <a:spLocks noGrp="1"/>
          </p:cNvSpPr>
          <p:nvPr>
            <p:ph/>
          </p:nvPr>
        </p:nvSpPr>
        <p:spPr>
          <a:xfrm>
            <a:off x="3349080" y="3720240"/>
            <a:ext cx="318960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PlaceHolder 7"/>
          <p:cNvSpPr>
            <a:spLocks noGrp="1"/>
          </p:cNvSpPr>
          <p:nvPr>
            <p:ph/>
          </p:nvPr>
        </p:nvSpPr>
        <p:spPr>
          <a:xfrm>
            <a:off x="6698520" y="3720240"/>
            <a:ext cx="318960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C7EF5F-4C5C-4A05-A20C-D9EA33FBB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449756-AC17-4E55-8DDD-43DD5CC94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subTitle"/>
          </p:nvPr>
        </p:nvSpPr>
        <p:spPr>
          <a:xfrm>
            <a:off x="-360" y="837720"/>
            <a:ext cx="9906120" cy="551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F90C1D-0D25-41E1-90DB-E84784270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9906120" cy="55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FA08B7-47AC-4C0B-805D-A680D2669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4834080" cy="55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5075640" y="837720"/>
            <a:ext cx="4834080" cy="55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66FF20-9E65-40AB-91C7-61B5E274E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7A7008-A15F-4113-8BBA-76FEE9C86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9906120" cy="55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48152-E637-4F50-9250-10A001C72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990612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91F361-D17C-4609-9346-FECC6BBE9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483408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5075640" y="837720"/>
            <a:ext cx="4834080" cy="55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-360" y="3720240"/>
            <a:ext cx="483408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E2AEB5-7682-40D2-A92B-4AEEE0632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4834080" cy="55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5075640" y="837720"/>
            <a:ext cx="483408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5075640" y="3720240"/>
            <a:ext cx="483408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15B60A-AC62-434B-925A-DD04D2B17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483408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5075640" y="837720"/>
            <a:ext cx="483408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-360" y="3720240"/>
            <a:ext cx="990612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8F2E7C-A346-4723-8E00-FA634E9CD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990612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-360" y="3720240"/>
            <a:ext cx="990612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3E4216-3982-4029-A3CA-0B48EAC0B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483408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5075640" y="837720"/>
            <a:ext cx="483408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-360" y="3720240"/>
            <a:ext cx="483408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5075640" y="3720240"/>
            <a:ext cx="483408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ED8F9A-8560-47C7-834D-91BF6EA12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318960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3349080" y="837720"/>
            <a:ext cx="318960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6698520" y="837720"/>
            <a:ext cx="318960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-360" y="3720240"/>
            <a:ext cx="318960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PlaceHolder 6"/>
          <p:cNvSpPr>
            <a:spLocks noGrp="1"/>
          </p:cNvSpPr>
          <p:nvPr>
            <p:ph/>
          </p:nvPr>
        </p:nvSpPr>
        <p:spPr>
          <a:xfrm>
            <a:off x="3349080" y="3720240"/>
            <a:ext cx="318960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PlaceHolder 7"/>
          <p:cNvSpPr>
            <a:spLocks noGrp="1"/>
          </p:cNvSpPr>
          <p:nvPr>
            <p:ph/>
          </p:nvPr>
        </p:nvSpPr>
        <p:spPr>
          <a:xfrm>
            <a:off x="6698520" y="3720240"/>
            <a:ext cx="318960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E216F7-4F00-41E7-8912-2158D04F4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4834080" cy="55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75640" y="837720"/>
            <a:ext cx="4834080" cy="55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3568D-AC5F-4D7C-A08E-32D2C37ED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9E362-18A0-4DE7-9338-9922CFE1C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990612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8931E-CF0F-47F9-A255-A5F23B40D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483408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75640" y="837720"/>
            <a:ext cx="4834080" cy="55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-360" y="3720240"/>
            <a:ext cx="483408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C50EB-C4FE-443B-88C7-96B362530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-360" y="837720"/>
            <a:ext cx="9906120" cy="551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27BF-FBDF-4D89-90F3-83CAC5978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4834080" cy="55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75640" y="837720"/>
            <a:ext cx="483408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075640" y="3720240"/>
            <a:ext cx="483408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CF9E8-B52A-4E46-A751-3AA1BBA79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483408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75640" y="837720"/>
            <a:ext cx="483408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-360" y="3720240"/>
            <a:ext cx="990612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22CF0-2D62-461C-AF0F-6493B4424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990612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-360" y="3720240"/>
            <a:ext cx="990612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8CB87-218B-4E76-9CBF-0BB4DF0DF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483408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75640" y="837720"/>
            <a:ext cx="483408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-360" y="3720240"/>
            <a:ext cx="483408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75640" y="3720240"/>
            <a:ext cx="483408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8469A-27DA-4A08-A347-306A36643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318960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349080" y="837720"/>
            <a:ext cx="318960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698520" y="837720"/>
            <a:ext cx="318960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-360" y="3720240"/>
            <a:ext cx="318960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349080" y="3720240"/>
            <a:ext cx="318960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698520" y="3720240"/>
            <a:ext cx="318960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1277E-653E-4F8D-BF9C-BB61CB59B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1848F6-AB1B-429F-AAEF-C50EF14E6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-360" y="837720"/>
            <a:ext cx="9906120" cy="551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9773FA-B374-4685-A53B-DEC644ED4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9906120" cy="55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0B2ED3-F649-457B-BBD8-A75A7FDAF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4834080" cy="55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75640" y="837720"/>
            <a:ext cx="4834080" cy="55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6294EC-1F2C-4488-AAE2-DC83C8838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A10255-C2B6-423B-B414-9E3EE0AF2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9906120" cy="55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F8AB-9673-4E2A-8589-31C78368C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990612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58D3E1-08D5-418F-B3C4-4DB65E86F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483408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075640" y="837720"/>
            <a:ext cx="4834080" cy="55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-360" y="3720240"/>
            <a:ext cx="483408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2C06AB-649C-4533-82F7-A9E9B7BC5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4834080" cy="55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075640" y="837720"/>
            <a:ext cx="483408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075640" y="3720240"/>
            <a:ext cx="483408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93D734-32F9-4B90-960D-4110CF12E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483408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075640" y="837720"/>
            <a:ext cx="483408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-360" y="3720240"/>
            <a:ext cx="990612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6EEEF3-CEE9-400F-9F9F-24AD3E334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990612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-360" y="3720240"/>
            <a:ext cx="990612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870C14-F33C-4FDA-86C9-A25E43EC9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483408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075640" y="837720"/>
            <a:ext cx="483408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-360" y="3720240"/>
            <a:ext cx="483408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75640" y="3720240"/>
            <a:ext cx="483408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2E61BC-F21E-432B-A8A4-9DBC943D3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318960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349080" y="837720"/>
            <a:ext cx="318960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698520" y="837720"/>
            <a:ext cx="318960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-360" y="3720240"/>
            <a:ext cx="318960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349080" y="3720240"/>
            <a:ext cx="318960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698520" y="3720240"/>
            <a:ext cx="318960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7A3B2F-222C-4772-8762-BDC08668B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97D2DB-43CE-44D5-B988-844F3C71B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-360" y="837720"/>
            <a:ext cx="9906120" cy="551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3B9552-82AE-49EA-A841-2E2532869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9906120" cy="55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5F5F0E-3546-4E60-9644-1EE826BB4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4834080" cy="55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75640" y="837720"/>
            <a:ext cx="4834080" cy="55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E88C-ACA1-47D2-AB14-93F587EC2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4834080" cy="55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075640" y="837720"/>
            <a:ext cx="4834080" cy="55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458C9F-DA9B-44A3-97AE-09F1B948A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11840D-4248-4884-9336-F0FB7F2E1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990612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49A4FC-F6F5-4B3A-BE18-9E24E09B9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483408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075640" y="837720"/>
            <a:ext cx="4834080" cy="55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-360" y="3720240"/>
            <a:ext cx="483408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A6AE78-DB79-4B4D-9742-13A1346D9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4834080" cy="55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75640" y="837720"/>
            <a:ext cx="483408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75640" y="3720240"/>
            <a:ext cx="483408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903284-909E-4633-A61A-D9562AD91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483408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75640" y="837720"/>
            <a:ext cx="483408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-360" y="3720240"/>
            <a:ext cx="990612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71E863-B785-449C-AC90-31F14A1CA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990612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-360" y="3720240"/>
            <a:ext cx="990612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A2443F-EEA2-4A8B-8887-A3825EB6E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483408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075640" y="837720"/>
            <a:ext cx="483408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-360" y="3720240"/>
            <a:ext cx="483408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5075640" y="3720240"/>
            <a:ext cx="483408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03B69B-E5F3-4F8D-8525-F0C5BCC41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318960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349080" y="837720"/>
            <a:ext cx="318960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698520" y="837720"/>
            <a:ext cx="318960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-360" y="3720240"/>
            <a:ext cx="318960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349080" y="3720240"/>
            <a:ext cx="318960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698520" y="3720240"/>
            <a:ext cx="318960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36A9A4-3AFE-4F41-92F1-D09F0F256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37436E-923C-46B7-B38B-2AA4230E7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E23A-6B44-43B5-9E5C-792AE3545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-360" y="837720"/>
            <a:ext cx="9906120" cy="551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8F075C-2DF1-4895-8328-9E35F39D7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9906120" cy="55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1CB8CA-BAE0-4361-9E5D-A9782A404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4834080" cy="55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5075640" y="837720"/>
            <a:ext cx="4834080" cy="55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B7E3FB-CEA9-4B4B-856B-6679A7C64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442FE1-A3F1-4FED-87CA-F981B3D21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990612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C8E4D6-04BD-4014-8A4E-0B67172D2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483408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075640" y="837720"/>
            <a:ext cx="4834080" cy="55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-360" y="3720240"/>
            <a:ext cx="483408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30CD68-90B0-4631-BE66-CC09605FB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4834080" cy="55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075640" y="837720"/>
            <a:ext cx="483408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5075640" y="3720240"/>
            <a:ext cx="483408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19246A-DAE5-4789-945A-292D119CB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483408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075640" y="837720"/>
            <a:ext cx="483408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-360" y="3720240"/>
            <a:ext cx="990612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BCDE67-2396-4B08-A938-CFF045100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990612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-360" y="3720240"/>
            <a:ext cx="990612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66E123-1A5F-4FB5-9FB6-1189E2453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483408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5075640" y="837720"/>
            <a:ext cx="483408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-360" y="3720240"/>
            <a:ext cx="483408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5075640" y="3720240"/>
            <a:ext cx="483408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0894FB-29C9-4E60-AD02-0F042EB49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990612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1D7C-D11F-40A6-9A11-6EFFA4A52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318960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349080" y="837720"/>
            <a:ext cx="318960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698520" y="837720"/>
            <a:ext cx="318960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-360" y="3720240"/>
            <a:ext cx="318960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349080" y="3720240"/>
            <a:ext cx="318960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698520" y="3720240"/>
            <a:ext cx="318960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6D197F-C809-4962-B968-CAAACAF36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9C2FD1-E67D-49DD-BFDB-8F5D655B2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-360" y="837720"/>
            <a:ext cx="9906120" cy="551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708F5E-4630-482C-B684-B15BA46EB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9906120" cy="55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A59745-A113-4CB6-A809-DBC758252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4834080" cy="55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5075640" y="837720"/>
            <a:ext cx="4834080" cy="55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2A8A0A-CE16-4078-9CEC-D2BCC3B69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301EB2-78C6-4CFA-8083-6B71312FE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990612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B27045-3C07-45AC-895E-746181868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483408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5075640" y="837720"/>
            <a:ext cx="4834080" cy="55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-360" y="3720240"/>
            <a:ext cx="483408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F80864-8A6C-4A5F-A4D2-CFA4D4B33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4834080" cy="55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075640" y="837720"/>
            <a:ext cx="483408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75640" y="3720240"/>
            <a:ext cx="483408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26A30C-46C8-405D-8897-68771F168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483408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5075640" y="837720"/>
            <a:ext cx="483408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-360" y="3720240"/>
            <a:ext cx="990612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9465EA-BBBF-4BC9-AAC2-0EDA5D440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483408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75640" y="837720"/>
            <a:ext cx="4834080" cy="55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60" y="3720240"/>
            <a:ext cx="483408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645B-3F8D-41CF-B2C6-F21E82A67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990612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-360" y="3720240"/>
            <a:ext cx="990612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FEBAAF-D34F-4773-A771-5BF8BCD3F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483408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075640" y="837720"/>
            <a:ext cx="483408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-360" y="3720240"/>
            <a:ext cx="483408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5075640" y="3720240"/>
            <a:ext cx="483408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0B9AD6-1211-4969-BB7D-8BD2E51F5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318960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349080" y="837720"/>
            <a:ext cx="318960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698520" y="837720"/>
            <a:ext cx="318960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-360" y="3720240"/>
            <a:ext cx="318960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349080" y="3720240"/>
            <a:ext cx="318960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698520" y="3720240"/>
            <a:ext cx="318960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2459C4-394F-4122-B923-96AF84352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B2B653-0EB3-4E40-8ECC-64FFB20C8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-360" y="837720"/>
            <a:ext cx="9906120" cy="551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0430E3-B726-4974-93E7-CB4D032C1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9906120" cy="55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95E013-E26C-45C6-BCA2-69A1CE098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4834080" cy="55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5075640" y="837720"/>
            <a:ext cx="4834080" cy="55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F9AFC2-1BF5-4C0C-A53B-D60D5ABEC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6837A1-54C1-4485-80D1-F3F578CCC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990612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84FF4A-B6C1-48C6-8117-E1A0A74CF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483408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075640" y="837720"/>
            <a:ext cx="4834080" cy="55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-360" y="3720240"/>
            <a:ext cx="483408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27756F-91EC-43F2-9005-79DB277C6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4834080" cy="55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75640" y="837720"/>
            <a:ext cx="483408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75640" y="3720240"/>
            <a:ext cx="483408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9075-DA36-442B-8D1E-8EDA93762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4834080" cy="55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5075640" y="837720"/>
            <a:ext cx="483408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5075640" y="3720240"/>
            <a:ext cx="483408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967ECC-9347-49DA-AC8B-95449BFFF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483408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5075640" y="837720"/>
            <a:ext cx="483408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-360" y="3720240"/>
            <a:ext cx="990612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EC0CD1-FBAE-427D-AD09-31EA5EB5E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990612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-360" y="3720240"/>
            <a:ext cx="990612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F8FBAF-B008-4601-A050-AF089B582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483408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75640" y="837720"/>
            <a:ext cx="483408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-360" y="3720240"/>
            <a:ext cx="483408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5075640" y="3720240"/>
            <a:ext cx="483408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0F7999-2822-4162-B335-E40E0A67E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318960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349080" y="837720"/>
            <a:ext cx="318960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698520" y="837720"/>
            <a:ext cx="318960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-360" y="3720240"/>
            <a:ext cx="318960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349080" y="3720240"/>
            <a:ext cx="318960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698520" y="3720240"/>
            <a:ext cx="318960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4C8EC2-7FBC-48E2-98F7-9FD0AD6C6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74033B-5A41-4891-84A5-4C72B6720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-360" y="837720"/>
            <a:ext cx="9906120" cy="551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7E6041-1036-495A-99A5-2F8A2A08F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9906120" cy="55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E7C5DB-B4D4-4083-90B0-B959AC33A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4834080" cy="55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5075640" y="837720"/>
            <a:ext cx="4834080" cy="55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5F4816-3331-42AE-949E-2C1BCF07D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B6E4A8-999B-4FB6-A4AC-408F1D70A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483408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75640" y="837720"/>
            <a:ext cx="483408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-360" y="3720240"/>
            <a:ext cx="990612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7161-96AC-4F95-B145-9A6DDDCC9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990612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318B68-C529-45B0-BEAC-E5A5C083A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483408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075640" y="837720"/>
            <a:ext cx="4834080" cy="55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-360" y="3720240"/>
            <a:ext cx="483408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F1CD73-71C6-48AC-8D23-4F5303F5B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4834080" cy="55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5075640" y="837720"/>
            <a:ext cx="483408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5075640" y="3720240"/>
            <a:ext cx="483408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0FEB32-C248-4B6F-9558-E9A642D58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483408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5075640" y="837720"/>
            <a:ext cx="483408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-360" y="3720240"/>
            <a:ext cx="990612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3500BF-A3C5-4D2F-A6A2-DBC7E42CC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990612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-360" y="3720240"/>
            <a:ext cx="990612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047F8E-6721-4249-AB6D-9A5DE1107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483408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5075640" y="837720"/>
            <a:ext cx="483408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-360" y="3720240"/>
            <a:ext cx="483408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5075640" y="3720240"/>
            <a:ext cx="483408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7E711D-900D-4C07-B9C2-565153D2D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318960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349080" y="837720"/>
            <a:ext cx="318960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698520" y="837720"/>
            <a:ext cx="318960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-360" y="3720240"/>
            <a:ext cx="318960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349080" y="3720240"/>
            <a:ext cx="318960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698520" y="3720240"/>
            <a:ext cx="3189600" cy="26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C80432-7544-4B42-930F-B42E95ECE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E28089-A575-41B2-B0AA-0F0B109EC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-360" y="837720"/>
            <a:ext cx="9906120" cy="551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B78FAE-1B22-45DF-AB0C-FA3B23145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9906120" cy="55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037A23-26CA-4B0C-B7D3-2792AAC0B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1"/>
          <p:cNvSpPr/>
          <p:nvPr/>
        </p:nvSpPr>
        <p:spPr>
          <a:xfrm>
            <a:off x="334800" y="681120"/>
            <a:ext cx="511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14"/>
          <p:cNvSpPr/>
          <p:nvPr/>
        </p:nvSpPr>
        <p:spPr>
          <a:xfrm>
            <a:off x="290520" y="681120"/>
            <a:ext cx="316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15"/>
          <p:cNvSpPr/>
          <p:nvPr/>
        </p:nvSpPr>
        <p:spPr>
          <a:xfrm>
            <a:off x="270000" y="681120"/>
            <a:ext cx="111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16"/>
          <p:cNvSpPr/>
          <p:nvPr/>
        </p:nvSpPr>
        <p:spPr>
          <a:xfrm>
            <a:off x="24120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-360" y="837720"/>
            <a:ext cx="9906120" cy="55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6400" y="641664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9381FA-7888-4DDB-B5BF-93C3D9E72FB2}" type="datetime">
              <a:rPr b="0" lang="en-US" sz="1100" spc="-1" strike="noStrike">
                <a:solidFill>
                  <a:srgbClr val="d6ecff"/>
                </a:solidFill>
                <a:latin typeface="Corbel"/>
              </a:rPr>
              <a:t>07/28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990360" y="6416640"/>
            <a:ext cx="6026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255160" y="5943600"/>
            <a:ext cx="1568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36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600" spc="-1" strike="noStrike">
                <a:solidFill>
                  <a:srgbClr val="d6ecff"/>
                </a:solidFill>
                <a:latin typeface="Corbel"/>
              </a:rPr>
              <a:t> </a:t>
            </a:r>
            <a:fld id="{27631C29-2D61-474B-B43A-652994D76203}" type="slidenum">
              <a:rPr b="0" lang="en-US" sz="36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11"/>
          <p:cNvSpPr/>
          <p:nvPr/>
        </p:nvSpPr>
        <p:spPr>
          <a:xfrm>
            <a:off x="334800" y="681120"/>
            <a:ext cx="511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Rectangle 14"/>
          <p:cNvSpPr/>
          <p:nvPr/>
        </p:nvSpPr>
        <p:spPr>
          <a:xfrm>
            <a:off x="290520" y="681120"/>
            <a:ext cx="316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Rectangle 15"/>
          <p:cNvSpPr/>
          <p:nvPr/>
        </p:nvSpPr>
        <p:spPr>
          <a:xfrm>
            <a:off x="270000" y="681120"/>
            <a:ext cx="111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Rectangle 16"/>
          <p:cNvSpPr/>
          <p:nvPr/>
        </p:nvSpPr>
        <p:spPr>
          <a:xfrm>
            <a:off x="24120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Rectangle 10"/>
          <p:cNvSpPr/>
          <p:nvPr/>
        </p:nvSpPr>
        <p:spPr>
          <a:xfrm>
            <a:off x="398520" y="0"/>
            <a:ext cx="950904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Straight Connector 12"/>
          <p:cNvSpPr/>
          <p:nvPr/>
        </p:nvSpPr>
        <p:spPr>
          <a:xfrm>
            <a:off x="393840" y="1884240"/>
            <a:ext cx="95137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Group 18"/>
          <p:cNvGrpSpPr/>
          <p:nvPr/>
        </p:nvGrpSpPr>
        <p:grpSpPr>
          <a:xfrm>
            <a:off x="9226800" y="1217520"/>
            <a:ext cx="139680" cy="131400"/>
            <a:chOff x="9226800" y="1217520"/>
            <a:chExt cx="139680" cy="131400"/>
          </a:xfrm>
        </p:grpSpPr>
        <p:sp>
          <p:nvSpPr>
            <p:cNvPr id="436" name="Straight Connector 18"/>
            <p:cNvSpPr/>
            <p:nvPr/>
          </p:nvSpPr>
          <p:spPr>
            <a:xfrm>
              <a:off x="9299160" y="1217520"/>
              <a:ext cx="6732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Straight Connector 19"/>
            <p:cNvSpPr/>
            <p:nvPr/>
          </p:nvSpPr>
          <p:spPr>
            <a:xfrm>
              <a:off x="9226800" y="1282680"/>
              <a:ext cx="9396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Straight Connector 20"/>
            <p:cNvSpPr/>
            <p:nvPr/>
          </p:nvSpPr>
          <p:spPr>
            <a:xfrm flipV="1">
              <a:off x="9299160" y="1282320"/>
              <a:ext cx="6732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39" name="Group 24"/>
          <p:cNvGrpSpPr/>
          <p:nvPr/>
        </p:nvGrpSpPr>
        <p:grpSpPr>
          <a:xfrm>
            <a:off x="9392040" y="1370160"/>
            <a:ext cx="139680" cy="131400"/>
            <a:chOff x="9392040" y="1370160"/>
            <a:chExt cx="139680" cy="131400"/>
          </a:xfrm>
        </p:grpSpPr>
        <p:sp>
          <p:nvSpPr>
            <p:cNvPr id="440" name="Straight Connector 24"/>
            <p:cNvSpPr/>
            <p:nvPr/>
          </p:nvSpPr>
          <p:spPr>
            <a:xfrm>
              <a:off x="9464400" y="1370160"/>
              <a:ext cx="6732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Straight Connector 25"/>
            <p:cNvSpPr/>
            <p:nvPr/>
          </p:nvSpPr>
          <p:spPr>
            <a:xfrm>
              <a:off x="9392040" y="1435320"/>
              <a:ext cx="9396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Straight Connector 26"/>
            <p:cNvSpPr/>
            <p:nvPr/>
          </p:nvSpPr>
          <p:spPr>
            <a:xfrm flipV="1">
              <a:off x="9464400" y="1434960"/>
              <a:ext cx="6732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3" name="Group 28"/>
          <p:cNvGrpSpPr/>
          <p:nvPr/>
        </p:nvGrpSpPr>
        <p:grpSpPr>
          <a:xfrm>
            <a:off x="9015840" y="1473120"/>
            <a:ext cx="139680" cy="131400"/>
            <a:chOff x="9015840" y="1473120"/>
            <a:chExt cx="139680" cy="131400"/>
          </a:xfrm>
        </p:grpSpPr>
        <p:sp>
          <p:nvSpPr>
            <p:cNvPr id="444" name="Straight Connector 28"/>
            <p:cNvSpPr/>
            <p:nvPr/>
          </p:nvSpPr>
          <p:spPr>
            <a:xfrm>
              <a:off x="9088200" y="1473120"/>
              <a:ext cx="6732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Straight Connector 29"/>
            <p:cNvSpPr/>
            <p:nvPr/>
          </p:nvSpPr>
          <p:spPr>
            <a:xfrm>
              <a:off x="9015840" y="1538280"/>
              <a:ext cx="9396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Straight Connector 30"/>
            <p:cNvSpPr/>
            <p:nvPr/>
          </p:nvSpPr>
          <p:spPr>
            <a:xfrm flipV="1">
              <a:off x="9088200" y="1537920"/>
              <a:ext cx="6732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-360" y="837720"/>
            <a:ext cx="9906120" cy="55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 type="dt" idx="28"/>
          </p:nvPr>
        </p:nvSpPr>
        <p:spPr>
          <a:xfrm>
            <a:off x="7016400" y="55080"/>
            <a:ext cx="2311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5A2A0E-939D-4609-91AB-B0DA22E196EA}" type="datetime">
              <a:rPr b="0" lang="en-US" sz="1100" spc="-1" strike="noStrike">
                <a:solidFill>
                  <a:srgbClr val="d6ecff"/>
                </a:solidFill>
                <a:latin typeface="Corbel"/>
              </a:rPr>
              <a:t>07/28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 type="ftr" idx="29"/>
          </p:nvPr>
        </p:nvSpPr>
        <p:spPr>
          <a:xfrm>
            <a:off x="990360" y="55080"/>
            <a:ext cx="6026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 type="sldNum" idx="30"/>
          </p:nvPr>
        </p:nvSpPr>
        <p:spPr>
          <a:xfrm>
            <a:off x="9327960" y="55080"/>
            <a:ext cx="495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B6D050-444C-401F-9137-765FADC51A6F}" type="slidenum">
              <a:rPr b="0" lang="en-US" sz="36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11"/>
          <p:cNvSpPr/>
          <p:nvPr/>
        </p:nvSpPr>
        <p:spPr>
          <a:xfrm>
            <a:off x="334800" y="681120"/>
            <a:ext cx="511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Rectangle 14"/>
          <p:cNvSpPr/>
          <p:nvPr/>
        </p:nvSpPr>
        <p:spPr>
          <a:xfrm>
            <a:off x="290520" y="681120"/>
            <a:ext cx="316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Rectangle 15"/>
          <p:cNvSpPr/>
          <p:nvPr/>
        </p:nvSpPr>
        <p:spPr>
          <a:xfrm>
            <a:off x="270000" y="681120"/>
            <a:ext cx="111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Rectangle 16"/>
          <p:cNvSpPr/>
          <p:nvPr/>
        </p:nvSpPr>
        <p:spPr>
          <a:xfrm>
            <a:off x="24120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-360" y="837720"/>
            <a:ext cx="9906120" cy="55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1"/>
          </p:nvPr>
        </p:nvSpPr>
        <p:spPr>
          <a:xfrm>
            <a:off x="7016400" y="641664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3B2AB3-A127-432E-AE98-8D658D3D085A}" type="datetime">
              <a:rPr b="0" lang="en-US" sz="1100" spc="-1" strike="noStrike">
                <a:solidFill>
                  <a:srgbClr val="d6ecff"/>
                </a:solidFill>
                <a:latin typeface="Corbel"/>
              </a:rPr>
              <a:t>07/28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2"/>
          </p:nvPr>
        </p:nvSpPr>
        <p:spPr>
          <a:xfrm>
            <a:off x="990360" y="6416640"/>
            <a:ext cx="6026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3"/>
          </p:nvPr>
        </p:nvSpPr>
        <p:spPr>
          <a:xfrm>
            <a:off x="8255160" y="5943600"/>
            <a:ext cx="1568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6D85E0-FD63-435F-925B-48F7705BA924}" type="slidenum">
              <a:rPr b="0" lang="en-US" sz="36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11"/>
          <p:cNvSpPr/>
          <p:nvPr/>
        </p:nvSpPr>
        <p:spPr>
          <a:xfrm>
            <a:off x="334800" y="681120"/>
            <a:ext cx="511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Rectangle 14"/>
          <p:cNvSpPr/>
          <p:nvPr/>
        </p:nvSpPr>
        <p:spPr>
          <a:xfrm>
            <a:off x="290520" y="681120"/>
            <a:ext cx="316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Rectangle 15"/>
          <p:cNvSpPr/>
          <p:nvPr/>
        </p:nvSpPr>
        <p:spPr>
          <a:xfrm>
            <a:off x="270000" y="681120"/>
            <a:ext cx="111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Rectangle 16"/>
          <p:cNvSpPr/>
          <p:nvPr/>
        </p:nvSpPr>
        <p:spPr>
          <a:xfrm>
            <a:off x="24120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-360" y="837720"/>
            <a:ext cx="9906120" cy="55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 type="dt" idx="34"/>
          </p:nvPr>
        </p:nvSpPr>
        <p:spPr>
          <a:xfrm>
            <a:off x="7016400" y="641664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438E80-10F0-4556-BEE8-FD6343E0FDC1}" type="datetime">
              <a:rPr b="0" lang="en-US" sz="1100" spc="-1" strike="noStrike">
                <a:solidFill>
                  <a:srgbClr val="d6ecff"/>
                </a:solidFill>
                <a:latin typeface="Corbel"/>
              </a:rPr>
              <a:t>07/28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 type="ftr" idx="35"/>
          </p:nvPr>
        </p:nvSpPr>
        <p:spPr>
          <a:xfrm>
            <a:off x="990360" y="6416640"/>
            <a:ext cx="6026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 type="sldNum" idx="36"/>
          </p:nvPr>
        </p:nvSpPr>
        <p:spPr>
          <a:xfrm>
            <a:off x="8255160" y="5943600"/>
            <a:ext cx="1568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329886-C9EC-41BF-9165-90023C5C09CA}" type="slidenum">
              <a:rPr b="0" lang="en-US" sz="36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11"/>
          <p:cNvSpPr/>
          <p:nvPr/>
        </p:nvSpPr>
        <p:spPr>
          <a:xfrm>
            <a:off x="334800" y="681120"/>
            <a:ext cx="511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Rectangle 14"/>
          <p:cNvSpPr/>
          <p:nvPr/>
        </p:nvSpPr>
        <p:spPr>
          <a:xfrm>
            <a:off x="290520" y="681120"/>
            <a:ext cx="316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Rectangle 15"/>
          <p:cNvSpPr/>
          <p:nvPr/>
        </p:nvSpPr>
        <p:spPr>
          <a:xfrm>
            <a:off x="270000" y="681120"/>
            <a:ext cx="111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Rectangle 16"/>
          <p:cNvSpPr/>
          <p:nvPr/>
        </p:nvSpPr>
        <p:spPr>
          <a:xfrm>
            <a:off x="24120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2" name="Picture 1035" descr=""/>
          <p:cNvPicPr/>
          <p:nvPr/>
        </p:nvPicPr>
        <p:blipFill>
          <a:blip r:embed="rId2"/>
          <a:stretch/>
        </p:blipFill>
        <p:spPr>
          <a:xfrm>
            <a:off x="6521400" y="6024600"/>
            <a:ext cx="1816200" cy="825480"/>
          </a:xfrm>
          <a:prstGeom prst="rect">
            <a:avLst/>
          </a:prstGeom>
          <a:ln w="0">
            <a:noFill/>
          </a:ln>
        </p:spPr>
      </p:pic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-360" y="837720"/>
            <a:ext cx="9906120" cy="55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 type="dt" idx="37"/>
          </p:nvPr>
        </p:nvSpPr>
        <p:spPr>
          <a:xfrm>
            <a:off x="0" y="5943600"/>
            <a:ext cx="2806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39B3EE-C060-4303-A75D-01F55BEA807F}" type="datetime">
              <a:rPr b="0" lang="en-US" sz="1100" spc="-1" strike="noStrike">
                <a:solidFill>
                  <a:srgbClr val="d6ecff"/>
                </a:solidFill>
                <a:latin typeface="Corbel"/>
              </a:rPr>
              <a:t>07/28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 type="ftr" idx="38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 type="sldNum" idx="39"/>
          </p:nvPr>
        </p:nvSpPr>
        <p:spPr>
          <a:xfrm>
            <a:off x="8749800" y="6242040"/>
            <a:ext cx="115596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AD14E8-AC4C-47E4-B959-C4D49D5FCC02}" type="slidenum">
              <a:rPr b="0" lang="en-US" sz="36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0"/>
          <p:cNvSpPr/>
          <p:nvPr/>
        </p:nvSpPr>
        <p:spPr>
          <a:xfrm>
            <a:off x="0" y="0"/>
            <a:ext cx="39528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334800" y="681120"/>
            <a:ext cx="511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Rectangle 17"/>
          <p:cNvSpPr/>
          <p:nvPr/>
        </p:nvSpPr>
        <p:spPr>
          <a:xfrm>
            <a:off x="290520" y="681120"/>
            <a:ext cx="316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Rectangle 18"/>
          <p:cNvSpPr/>
          <p:nvPr/>
        </p:nvSpPr>
        <p:spPr>
          <a:xfrm>
            <a:off x="270000" y="681120"/>
            <a:ext cx="111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Rectangle 19"/>
          <p:cNvSpPr/>
          <p:nvPr/>
        </p:nvSpPr>
        <p:spPr>
          <a:xfrm>
            <a:off x="24120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Rectangle 20"/>
          <p:cNvSpPr/>
          <p:nvPr/>
        </p:nvSpPr>
        <p:spPr>
          <a:xfrm>
            <a:off x="276120" y="5046840"/>
            <a:ext cx="7956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23"/>
          <p:cNvSpPr/>
          <p:nvPr/>
        </p:nvSpPr>
        <p:spPr>
          <a:xfrm>
            <a:off x="276120" y="4797360"/>
            <a:ext cx="7956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24"/>
          <p:cNvSpPr/>
          <p:nvPr/>
        </p:nvSpPr>
        <p:spPr>
          <a:xfrm>
            <a:off x="276120" y="4637160"/>
            <a:ext cx="7956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25"/>
          <p:cNvSpPr/>
          <p:nvPr/>
        </p:nvSpPr>
        <p:spPr>
          <a:xfrm>
            <a:off x="276120" y="4541760"/>
            <a:ext cx="7956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-360" y="837720"/>
            <a:ext cx="9906120" cy="55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7016400" y="641664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432582-E856-4FFF-9C42-D016E4CA1B38}" type="datetime">
              <a:rPr b="0" lang="en-US" sz="1100" spc="-1" strike="noStrike">
                <a:solidFill>
                  <a:srgbClr val="d6ecff"/>
                </a:solidFill>
                <a:latin typeface="Corbel"/>
              </a:rPr>
              <a:t>07/28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990360" y="6416640"/>
            <a:ext cx="6026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255160" y="5943600"/>
            <a:ext cx="1568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B3656F-48F8-4305-98D0-34D78C1E1C94}" type="slidenum">
              <a:rPr b="0" lang="en-US" sz="36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11"/>
          <p:cNvSpPr/>
          <p:nvPr/>
        </p:nvSpPr>
        <p:spPr>
          <a:xfrm>
            <a:off x="334800" y="681120"/>
            <a:ext cx="511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14"/>
          <p:cNvSpPr/>
          <p:nvPr/>
        </p:nvSpPr>
        <p:spPr>
          <a:xfrm>
            <a:off x="290520" y="681120"/>
            <a:ext cx="316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15"/>
          <p:cNvSpPr/>
          <p:nvPr/>
        </p:nvSpPr>
        <p:spPr>
          <a:xfrm>
            <a:off x="270000" y="681120"/>
            <a:ext cx="111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Rectangle 16"/>
          <p:cNvSpPr/>
          <p:nvPr/>
        </p:nvSpPr>
        <p:spPr>
          <a:xfrm>
            <a:off x="24120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-360" y="837720"/>
            <a:ext cx="9906120" cy="55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7016400" y="641664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F25E93-1CBF-4D55-86CF-6325186AA1F3}" type="datetime">
              <a:rPr b="0" lang="en-US" sz="1100" spc="-1" strike="noStrike">
                <a:solidFill>
                  <a:srgbClr val="d6ecff"/>
                </a:solidFill>
                <a:latin typeface="Corbel"/>
              </a:rPr>
              <a:t>07/28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990360" y="6416640"/>
            <a:ext cx="6026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8255160" y="5943600"/>
            <a:ext cx="1568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96EE16-BCE7-4835-A287-046BA8B19860}" type="slidenum">
              <a:rPr b="0" lang="en-US" sz="36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1"/>
          <p:cNvSpPr/>
          <p:nvPr/>
        </p:nvSpPr>
        <p:spPr>
          <a:xfrm>
            <a:off x="334800" y="681120"/>
            <a:ext cx="511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Rectangle 14"/>
          <p:cNvSpPr/>
          <p:nvPr/>
        </p:nvSpPr>
        <p:spPr>
          <a:xfrm>
            <a:off x="290520" y="681120"/>
            <a:ext cx="316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Rectangle 15"/>
          <p:cNvSpPr/>
          <p:nvPr/>
        </p:nvSpPr>
        <p:spPr>
          <a:xfrm>
            <a:off x="270000" y="681120"/>
            <a:ext cx="111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Rectangle 16"/>
          <p:cNvSpPr/>
          <p:nvPr/>
        </p:nvSpPr>
        <p:spPr>
          <a:xfrm>
            <a:off x="24120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Freeform 10"/>
          <p:cNvSpPr/>
          <p:nvPr/>
        </p:nvSpPr>
        <p:spPr>
          <a:xfrm>
            <a:off x="5232240" y="1073160"/>
            <a:ext cx="4680000" cy="579132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Freeform 12"/>
          <p:cNvSpPr/>
          <p:nvPr/>
        </p:nvSpPr>
        <p:spPr>
          <a:xfrm>
            <a:off x="406440" y="0"/>
            <a:ext cx="5972040" cy="661500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Freeform 17"/>
          <p:cNvSpPr/>
          <p:nvPr/>
        </p:nvSpPr>
        <p:spPr>
          <a:xfrm rot="5236200">
            <a:off x="5004720" y="1433880"/>
            <a:ext cx="4114800" cy="128736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Freeform 18"/>
          <p:cNvSpPr/>
          <p:nvPr/>
        </p:nvSpPr>
        <p:spPr>
          <a:xfrm>
            <a:off x="6438960" y="0"/>
            <a:ext cx="29718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Freeform 19"/>
          <p:cNvSpPr/>
          <p:nvPr/>
        </p:nvSpPr>
        <p:spPr>
          <a:xfrm>
            <a:off x="6438960" y="4267080"/>
            <a:ext cx="3467160" cy="11430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Freeform 20"/>
          <p:cNvSpPr/>
          <p:nvPr/>
        </p:nvSpPr>
        <p:spPr>
          <a:xfrm>
            <a:off x="6438960" y="0"/>
            <a:ext cx="148572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Freeform 23"/>
          <p:cNvSpPr/>
          <p:nvPr/>
        </p:nvSpPr>
        <p:spPr>
          <a:xfrm>
            <a:off x="6443640" y="4246560"/>
            <a:ext cx="2265480" cy="261144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Freeform 24"/>
          <p:cNvSpPr/>
          <p:nvPr/>
        </p:nvSpPr>
        <p:spPr>
          <a:xfrm>
            <a:off x="6438960" y="4267080"/>
            <a:ext cx="173340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Freeform 25"/>
          <p:cNvSpPr/>
          <p:nvPr/>
        </p:nvSpPr>
        <p:spPr>
          <a:xfrm>
            <a:off x="6438960" y="1371600"/>
            <a:ext cx="3467160" cy="28954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Freeform 26"/>
          <p:cNvSpPr/>
          <p:nvPr/>
        </p:nvSpPr>
        <p:spPr>
          <a:xfrm>
            <a:off x="6438960" y="1752480"/>
            <a:ext cx="3467160" cy="25146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Freeform 27"/>
          <p:cNvSpPr/>
          <p:nvPr/>
        </p:nvSpPr>
        <p:spPr>
          <a:xfrm>
            <a:off x="1073160" y="4267080"/>
            <a:ext cx="536580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Freeform 28"/>
          <p:cNvSpPr/>
          <p:nvPr/>
        </p:nvSpPr>
        <p:spPr>
          <a:xfrm>
            <a:off x="577800" y="4267080"/>
            <a:ext cx="577872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Freeform 29"/>
          <p:cNvSpPr/>
          <p:nvPr/>
        </p:nvSpPr>
        <p:spPr>
          <a:xfrm>
            <a:off x="396720" y="2438280"/>
            <a:ext cx="6108840" cy="18288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Freeform 30"/>
          <p:cNvSpPr/>
          <p:nvPr/>
        </p:nvSpPr>
        <p:spPr>
          <a:xfrm>
            <a:off x="396720" y="2133720"/>
            <a:ext cx="6108840" cy="213336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Freeform 31"/>
          <p:cNvSpPr/>
          <p:nvPr/>
        </p:nvSpPr>
        <p:spPr>
          <a:xfrm>
            <a:off x="4952880" y="4267080"/>
            <a:ext cx="1486080" cy="259092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Rectangle 32"/>
          <p:cNvSpPr/>
          <p:nvPr/>
        </p:nvSpPr>
        <p:spPr>
          <a:xfrm>
            <a:off x="393840" y="401760"/>
            <a:ext cx="921384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Rectangle 33"/>
          <p:cNvSpPr/>
          <p:nvPr/>
        </p:nvSpPr>
        <p:spPr>
          <a:xfrm flipH="1">
            <a:off x="401040" y="681120"/>
            <a:ext cx="298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Rectangle 34"/>
          <p:cNvSpPr/>
          <p:nvPr/>
        </p:nvSpPr>
        <p:spPr>
          <a:xfrm flipH="1">
            <a:off x="44604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Rectangle 35"/>
          <p:cNvSpPr/>
          <p:nvPr/>
        </p:nvSpPr>
        <p:spPr>
          <a:xfrm flipH="1">
            <a:off x="4849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Rectangle 36"/>
          <p:cNvSpPr/>
          <p:nvPr/>
        </p:nvSpPr>
        <p:spPr>
          <a:xfrm flipH="1">
            <a:off x="515160" y="681120"/>
            <a:ext cx="111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Rectangle 37"/>
          <p:cNvSpPr/>
          <p:nvPr/>
        </p:nvSpPr>
        <p:spPr>
          <a:xfrm>
            <a:off x="541440" y="681120"/>
            <a:ext cx="396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-360" y="837720"/>
            <a:ext cx="9906120" cy="55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0"/>
          </p:nvPr>
        </p:nvSpPr>
        <p:spPr>
          <a:xfrm>
            <a:off x="7016400" y="641664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50700B-36CF-4B0C-9E45-3FB95D56615E}" type="datetime">
              <a:rPr b="0" lang="en-US" sz="1100" spc="-1" strike="noStrike">
                <a:solidFill>
                  <a:srgbClr val="d6ecff"/>
                </a:solidFill>
                <a:latin typeface="Corbel"/>
              </a:rPr>
              <a:t>07/28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1"/>
          </p:nvPr>
        </p:nvSpPr>
        <p:spPr>
          <a:xfrm>
            <a:off x="990360" y="6416640"/>
            <a:ext cx="6026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2"/>
          </p:nvPr>
        </p:nvSpPr>
        <p:spPr>
          <a:xfrm>
            <a:off x="8255160" y="5943600"/>
            <a:ext cx="1568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ECC8C9-EF25-4982-850C-26FE21366DEA}" type="slidenum">
              <a:rPr b="0" lang="en-US" sz="36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-360" y="837720"/>
            <a:ext cx="9906120" cy="55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13"/>
          </p:nvPr>
        </p:nvSpPr>
        <p:spPr>
          <a:xfrm>
            <a:off x="7016400" y="641664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2D5A32-E23C-49ED-92A2-5E26EA295370}" type="datetime">
              <a:rPr b="0" lang="en-US" sz="1100" spc="-1" strike="noStrike">
                <a:solidFill>
                  <a:srgbClr val="d6ecff"/>
                </a:solidFill>
                <a:latin typeface="Corbel"/>
              </a:rPr>
              <a:t>07/28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14"/>
          </p:nvPr>
        </p:nvSpPr>
        <p:spPr>
          <a:xfrm>
            <a:off x="990360" y="6416640"/>
            <a:ext cx="6026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15"/>
          </p:nvPr>
        </p:nvSpPr>
        <p:spPr>
          <a:xfrm>
            <a:off x="8255160" y="5943600"/>
            <a:ext cx="1568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344F00-DE03-4115-ACDC-044F532DA980}" type="slidenum">
              <a:rPr b="0" lang="en-US" sz="36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10"/>
          <p:cNvSpPr/>
          <p:nvPr/>
        </p:nvSpPr>
        <p:spPr>
          <a:xfrm>
            <a:off x="0" y="401760"/>
            <a:ext cx="96076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Rectangle 12"/>
          <p:cNvSpPr/>
          <p:nvPr/>
        </p:nvSpPr>
        <p:spPr>
          <a:xfrm>
            <a:off x="95400" y="681120"/>
            <a:ext cx="489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Rectangle 17"/>
          <p:cNvSpPr/>
          <p:nvPr/>
        </p:nvSpPr>
        <p:spPr>
          <a:xfrm>
            <a:off x="5256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Rectangle 18"/>
          <p:cNvSpPr/>
          <p:nvPr/>
        </p:nvSpPr>
        <p:spPr>
          <a:xfrm>
            <a:off x="3168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Rectangle 19"/>
          <p:cNvSpPr/>
          <p:nvPr/>
        </p:nvSpPr>
        <p:spPr>
          <a:xfrm>
            <a:off x="0" y="681120"/>
            <a:ext cx="111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Rectangle 20"/>
          <p:cNvSpPr/>
          <p:nvPr/>
        </p:nvSpPr>
        <p:spPr>
          <a:xfrm flipH="1">
            <a:off x="162000" y="681120"/>
            <a:ext cx="302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Rectangle 23"/>
          <p:cNvSpPr/>
          <p:nvPr/>
        </p:nvSpPr>
        <p:spPr>
          <a:xfrm flipH="1">
            <a:off x="204840" y="681120"/>
            <a:ext cx="302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Rectangle 24"/>
          <p:cNvSpPr/>
          <p:nvPr/>
        </p:nvSpPr>
        <p:spPr>
          <a:xfrm flipH="1">
            <a:off x="24624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Rectangle 25"/>
          <p:cNvSpPr/>
          <p:nvPr/>
        </p:nvSpPr>
        <p:spPr>
          <a:xfrm flipH="1">
            <a:off x="27540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03120" y="681120"/>
            <a:ext cx="399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-360" y="837720"/>
            <a:ext cx="9906120" cy="55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6"/>
          </p:nvPr>
        </p:nvSpPr>
        <p:spPr>
          <a:xfrm>
            <a:off x="7016400" y="641664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53E2B3-B611-4310-B551-7D037F259137}" type="datetime">
              <a:rPr b="0" lang="en-US" sz="1100" spc="-1" strike="noStrike">
                <a:solidFill>
                  <a:srgbClr val="d6ecff"/>
                </a:solidFill>
                <a:latin typeface="Corbel"/>
              </a:rPr>
              <a:t>07/28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17"/>
          </p:nvPr>
        </p:nvSpPr>
        <p:spPr>
          <a:xfrm>
            <a:off x="990360" y="6416640"/>
            <a:ext cx="6026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18"/>
          </p:nvPr>
        </p:nvSpPr>
        <p:spPr>
          <a:xfrm>
            <a:off x="8255160" y="5943600"/>
            <a:ext cx="1568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DCC4E5-E4C6-4287-875E-91DD7576C4CB}" type="slidenum">
              <a:rPr b="0" lang="en-US" sz="36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11"/>
          <p:cNvSpPr/>
          <p:nvPr/>
        </p:nvSpPr>
        <p:spPr>
          <a:xfrm>
            <a:off x="334800" y="681120"/>
            <a:ext cx="511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Rectangle 14"/>
          <p:cNvSpPr/>
          <p:nvPr/>
        </p:nvSpPr>
        <p:spPr>
          <a:xfrm>
            <a:off x="290520" y="681120"/>
            <a:ext cx="316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Rectangle 15"/>
          <p:cNvSpPr/>
          <p:nvPr/>
        </p:nvSpPr>
        <p:spPr>
          <a:xfrm>
            <a:off x="270000" y="681120"/>
            <a:ext cx="111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Rectangle 16"/>
          <p:cNvSpPr/>
          <p:nvPr/>
        </p:nvSpPr>
        <p:spPr>
          <a:xfrm>
            <a:off x="24120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-360" y="837720"/>
            <a:ext cx="9906120" cy="55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19"/>
          </p:nvPr>
        </p:nvSpPr>
        <p:spPr>
          <a:xfrm>
            <a:off x="7016400" y="641664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8BC41E-A45F-4B06-8382-4634CF868B36}" type="datetime">
              <a:rPr b="0" lang="en-US" sz="1100" spc="-1" strike="noStrike">
                <a:solidFill>
                  <a:srgbClr val="d6ecff"/>
                </a:solidFill>
                <a:latin typeface="Corbel"/>
              </a:rPr>
              <a:t>07/28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20"/>
          </p:nvPr>
        </p:nvSpPr>
        <p:spPr>
          <a:xfrm>
            <a:off x="990360" y="6416640"/>
            <a:ext cx="6026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21"/>
          </p:nvPr>
        </p:nvSpPr>
        <p:spPr>
          <a:xfrm>
            <a:off x="8255160" y="5943600"/>
            <a:ext cx="1568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596F0E-484D-4915-BE2A-9FF6C2B687C7}" type="slidenum">
              <a:rPr b="0" lang="en-US" sz="36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-360" y="837720"/>
            <a:ext cx="9906120" cy="55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22"/>
          </p:nvPr>
        </p:nvSpPr>
        <p:spPr>
          <a:xfrm>
            <a:off x="7016400" y="641664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322E02-E4B6-4B81-85F6-68BD5C188545}" type="datetime">
              <a:rPr b="0" lang="en-US" sz="1100" spc="-1" strike="noStrike">
                <a:solidFill>
                  <a:srgbClr val="d6ecff"/>
                </a:solidFill>
                <a:latin typeface="Corbel"/>
              </a:rPr>
              <a:t>07/28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23"/>
          </p:nvPr>
        </p:nvSpPr>
        <p:spPr>
          <a:xfrm>
            <a:off x="990360" y="6416640"/>
            <a:ext cx="6026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24"/>
          </p:nvPr>
        </p:nvSpPr>
        <p:spPr>
          <a:xfrm>
            <a:off x="8255160" y="5943600"/>
            <a:ext cx="1568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6B95A3-3654-418D-AF14-633746A305D3}" type="slidenum">
              <a:rPr b="0" lang="en-US" sz="36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11"/>
          <p:cNvSpPr/>
          <p:nvPr/>
        </p:nvSpPr>
        <p:spPr>
          <a:xfrm>
            <a:off x="334800" y="681120"/>
            <a:ext cx="511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Rectangle 14"/>
          <p:cNvSpPr/>
          <p:nvPr/>
        </p:nvSpPr>
        <p:spPr>
          <a:xfrm>
            <a:off x="290520" y="681120"/>
            <a:ext cx="316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Rectangle 15"/>
          <p:cNvSpPr/>
          <p:nvPr/>
        </p:nvSpPr>
        <p:spPr>
          <a:xfrm>
            <a:off x="270000" y="681120"/>
            <a:ext cx="111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Rectangle 16"/>
          <p:cNvSpPr/>
          <p:nvPr/>
        </p:nvSpPr>
        <p:spPr>
          <a:xfrm>
            <a:off x="24120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-360" y="837720"/>
            <a:ext cx="9906120" cy="55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dt" idx="25"/>
          </p:nvPr>
        </p:nvSpPr>
        <p:spPr>
          <a:xfrm>
            <a:off x="7016400" y="641664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626576-130A-4B45-B19C-0D808B32BF06}" type="datetime">
              <a:rPr b="0" lang="en-US" sz="1100" spc="-1" strike="noStrike">
                <a:solidFill>
                  <a:srgbClr val="d6ecff"/>
                </a:solidFill>
                <a:latin typeface="Corbel"/>
              </a:rPr>
              <a:t>07/28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ftr" idx="26"/>
          </p:nvPr>
        </p:nvSpPr>
        <p:spPr>
          <a:xfrm>
            <a:off x="990360" y="6416640"/>
            <a:ext cx="6026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sldNum" idx="27"/>
          </p:nvPr>
        </p:nvSpPr>
        <p:spPr>
          <a:xfrm>
            <a:off x="8255160" y="5943600"/>
            <a:ext cx="1568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A76EEB-CA2B-4E19-925A-8F6C382665B4}" type="slidenum">
              <a:rPr b="0" lang="en-US" sz="36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homepage.mac.com/johnovr/FileSharing2.html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4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image" Target="../media/image20.png"/><Relationship Id="rId12" Type="http://schemas.openxmlformats.org/officeDocument/2006/relationships/image" Target="../media/image21.png"/><Relationship Id="rId13" Type="http://schemas.openxmlformats.org/officeDocument/2006/relationships/image" Target="../media/image22.png"/><Relationship Id="rId14" Type="http://schemas.openxmlformats.org/officeDocument/2006/relationships/image" Target="../media/image23.png"/><Relationship Id="rId15" Type="http://schemas.openxmlformats.org/officeDocument/2006/relationships/image" Target="../media/image24.png"/><Relationship Id="rId16" Type="http://schemas.openxmlformats.org/officeDocument/2006/relationships/image" Target="../media/image25.png"/><Relationship Id="rId17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ncbi.nlm.nih.gov/books/bv.fcgi?rid=aps.part.1" TargetMode="External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228600" y="512640"/>
            <a:ext cx="9182160" cy="23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etter Improvement Research</a:t>
            </a:r>
            <a:br>
              <a:rPr sz="6000"/>
            </a:br>
            <a:br>
              <a:rPr sz="6000"/>
            </a:br>
            <a:br>
              <a:rPr sz="6000"/>
            </a:br>
            <a:br>
              <a:rPr sz="4800"/>
            </a:b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sources download from:</a:t>
            </a:r>
            <a:br>
              <a:rPr sz="2400"/>
            </a:br>
            <a:r>
              <a:rPr b="0" lang="en-GB" sz="2400" spc="-1" strike="noStrike" u="sng">
                <a:solidFill>
                  <a:srgbClr val="eb8803"/>
                </a:solidFill>
                <a:uFillTx/>
                <a:latin typeface="Times New Roman"/>
                <a:ea typeface="Times New Roman"/>
                <a:hlinkClick r:id="rId1"/>
              </a:rPr>
              <a:t>http://homepage.mac.com/johnovr/FileSharing2.html</a:t>
            </a:r>
            <a:br>
              <a:rPr sz="1600"/>
            </a:br>
            <a:br>
              <a:rPr sz="1600"/>
            </a:br>
            <a:br>
              <a:rPr sz="1100"/>
            </a:b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2" name="Slide Number Placeholder 3"/>
          <p:cNvSpPr/>
          <p:nvPr/>
        </p:nvSpPr>
        <p:spPr>
          <a:xfrm>
            <a:off x="8255160" y="5943600"/>
            <a:ext cx="1568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90E3E9-9635-4F11-AE24-EF1540E78E0F}" type="slidenum">
              <a:rPr b="0" lang="en-US" sz="36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-360" y="5334120"/>
            <a:ext cx="6769080" cy="138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John Øvretveit,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1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Director of Research, Professor, Karolinska Medical Management Centre Sweden and Professor of Health Management, Faculty of Medicine, Bergen Universit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34" name="Picture 5" descr=""/>
          <p:cNvPicPr/>
          <p:nvPr/>
        </p:nvPicPr>
        <p:blipFill>
          <a:blip r:embed="rId2"/>
          <a:stretch/>
        </p:blipFill>
        <p:spPr>
          <a:xfrm>
            <a:off x="412920" y="5105520"/>
            <a:ext cx="1238040" cy="761760"/>
          </a:xfrm>
          <a:prstGeom prst="rect">
            <a:avLst/>
          </a:prstGeom>
          <a:ln w="0">
            <a:noFill/>
          </a:ln>
        </p:spPr>
      </p:pic>
      <p:sp>
        <p:nvSpPr>
          <p:cNvPr id="635" name="Date Placeholder 5"/>
          <p:cNvSpPr/>
          <p:nvPr/>
        </p:nvSpPr>
        <p:spPr>
          <a:xfrm>
            <a:off x="7016760" y="641664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0D3E36-6E34-4FA0-B852-A9FF63AA839F}" type="datetime">
              <a:rPr b="0" lang="en-US" sz="1100" spc="-1" strike="noStrike">
                <a:solidFill>
                  <a:srgbClr val="d6ecff"/>
                </a:solidFill>
                <a:latin typeface="Corbel"/>
              </a:rPr>
              <a:t>07/28/26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Footer Placeholder 6"/>
          <p:cNvSpPr/>
          <p:nvPr/>
        </p:nvSpPr>
        <p:spPr>
          <a:xfrm>
            <a:off x="990720" y="6416640"/>
            <a:ext cx="6026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4161760"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3200"/>
            </a:b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More complex = more dependent on context for implementation</a:t>
            </a:r>
            <a:br>
              <a:rPr sz="3200"/>
            </a:b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9906120" cy="55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How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8" name="Slide Number Placeholder 3"/>
          <p:cNvSpPr/>
          <p:nvPr/>
        </p:nvSpPr>
        <p:spPr>
          <a:xfrm>
            <a:off x="8832960" y="6172200"/>
            <a:ext cx="577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8416FC-F0F8-4E0D-BFC5-E0542EFC1828}" type="slidenum">
              <a:rPr b="0" lang="en-US" sz="36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670" name="TextBox 5"/>
          <p:cNvSpPr/>
          <p:nvPr/>
        </p:nvSpPr>
        <p:spPr>
          <a:xfrm>
            <a:off x="3657600" y="1752480"/>
            <a:ext cx="472428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Evaluation Method &gt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How context dependent is the intervention? </a:t>
            </a:r>
            <a:br>
              <a:rPr sz="1800"/>
            </a:br>
            <a:r>
              <a:rPr b="0" i="1" lang="en-GB" sz="1400" spc="-1" strike="noStrike">
                <a:solidFill>
                  <a:srgbClr val="000000"/>
                </a:solidFill>
                <a:latin typeface="Times New Roman"/>
              </a:rPr>
              <a:t>More complex = more dependent on context for implementation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41076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Next: 4 challenges and resolutions</a:t>
            </a:r>
            <a:br>
              <a:rPr sz="4000"/>
            </a:b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9906120" cy="55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39800" indent="-285840">
              <a:lnSpc>
                <a:spcPct val="100000"/>
              </a:lnSpc>
              <a:spcBef>
                <a:spcPts val="100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Useful research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-285840">
              <a:lnSpc>
                <a:spcPct val="100000"/>
              </a:lnSpc>
              <a:spcBef>
                <a:spcPts val="100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fficac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-285840">
              <a:lnSpc>
                <a:spcPct val="100000"/>
              </a:lnSpc>
              <a:spcBef>
                <a:spcPts val="100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ffectiveness/generalisa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-285840">
              <a:lnSpc>
                <a:spcPct val="100000"/>
              </a:lnSpc>
              <a:spcBef>
                <a:spcPts val="100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ransla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xamples: RRT; CRM; Transition interventions; Accreditation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" name="Slide Number Placeholder 3"/>
          <p:cNvSpPr/>
          <p:nvPr/>
        </p:nvSpPr>
        <p:spPr>
          <a:xfrm>
            <a:off x="8832960" y="6172200"/>
            <a:ext cx="577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327491-A4AC-41C2-9E23-74BB1473F4BA}" type="slidenum">
              <a:rPr b="0" lang="en-US" sz="36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Date Placeholder 4"/>
          <p:cNvSpPr/>
          <p:nvPr/>
        </p:nvSpPr>
        <p:spPr>
          <a:xfrm>
            <a:off x="0" y="5943600"/>
            <a:ext cx="28065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4B3F34-519C-42E7-A4A1-E11827693204}" type="datetime">
              <a:rPr b="0" lang="en-US" sz="1100" spc="-1" strike="noStrike">
                <a:solidFill>
                  <a:srgbClr val="d6ecff"/>
                </a:solidFill>
                <a:latin typeface="Corbel"/>
              </a:rPr>
              <a:t>07/28/26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Footer Placeholder 5"/>
          <p:cNvSpPr/>
          <p:nvPr/>
        </p:nvSpPr>
        <p:spPr>
          <a:xfrm>
            <a:off x="338472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410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Summary</a:t>
            </a:r>
            <a:br>
              <a:rPr sz="4000"/>
            </a:b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-360" y="685800"/>
            <a:ext cx="9906120" cy="60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" name="Slide Number Placeholder 3"/>
          <p:cNvSpPr/>
          <p:nvPr/>
        </p:nvSpPr>
        <p:spPr>
          <a:xfrm>
            <a:off x="8832960" y="6172200"/>
            <a:ext cx="577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238E92-8F1B-44A5-BA02-4F88E528968C}" type="slidenum">
              <a:rPr b="0" lang="en-US" sz="36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Date Placeholder 4"/>
          <p:cNvSpPr/>
          <p:nvPr/>
        </p:nvSpPr>
        <p:spPr>
          <a:xfrm>
            <a:off x="0" y="5943600"/>
            <a:ext cx="28065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A8B842-0D4E-4598-BB5E-450D5580A4F1}" type="datetime">
              <a:rPr b="0" lang="en-US" sz="1100" spc="-1" strike="noStrike">
                <a:solidFill>
                  <a:srgbClr val="d6ecff"/>
                </a:solidFill>
                <a:latin typeface="Corbel"/>
              </a:rPr>
              <a:t>07/28/26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Footer Placeholder 5"/>
          <p:cNvSpPr/>
          <p:nvPr/>
        </p:nvSpPr>
        <p:spPr>
          <a:xfrm>
            <a:off x="338472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81" name=""/>
          <p:cNvGraphicFramePr/>
          <p:nvPr/>
        </p:nvGraphicFramePr>
        <p:xfrm>
          <a:off x="0" y="0"/>
          <a:ext cx="9906120" cy="7134120"/>
        </p:xfrm>
        <a:graphic>
          <a:graphicData uri="http://schemas.openxmlformats.org/drawingml/2006/table">
            <a:tbl>
              <a:tblPr/>
              <a:tblGrid>
                <a:gridCol w="3222720"/>
                <a:gridCol w="66834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Challeng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>
                      <a:noFill/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eb80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Resolutions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eb80a"/>
                    </a:solidFill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 Decision makers information nee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>
                      <a:noFill/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f3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Their hierarachy of eviden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f3e7"/>
                    </a:solidFill>
                  </a:tcPr>
                </a:tc>
              </a:tr>
              <a:tr h="22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 Proof of efficac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>
                      <a:noFill/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RCT/CT priceles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...For all else, strengthen observational studi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Parallel process evaluat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Report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 Effectiveness research for generalisat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>
                      <a:noFill/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f3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Pragmatic trials – variation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Case stud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Theory-based researc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Action evaluation learning cyc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f3e7"/>
                    </a:solidFill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4 Faster wider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>
                      <a:noFill/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Content; process; structure; culture? Silos?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41076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#1 challenge: decision makers information needs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-360" y="685800"/>
            <a:ext cx="9906120" cy="60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Go/not go decision – pilot, full-scale?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Implementer’s guidance: adapt and progress it?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Install update?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411120" indent="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Needs: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Arial"/>
              </a:rPr>
              <a:t>useful credible information, now!, about: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-28584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Arial"/>
              </a:rPr>
              <a:t>Costs, savings, benefits, risks – for our organisation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-28584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Arial"/>
              </a:rPr>
              <a:t>Implementation to maximise succes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995400" indent="-228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ea157a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Don’t even think about it unless…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Utility not purity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“Good enough validity” &amp;some attention to bi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Researcher response?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-28584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No compromise – publication and promotion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411120" indent="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Slide Number Placeholder 3"/>
          <p:cNvSpPr/>
          <p:nvPr/>
        </p:nvSpPr>
        <p:spPr>
          <a:xfrm>
            <a:off x="8832960" y="6172200"/>
            <a:ext cx="577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41F75B-78AA-4710-BF13-565BC6F7F6AC}" type="slidenum">
              <a:rPr b="0" lang="en-US" sz="36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Date Placeholder 4"/>
          <p:cNvSpPr/>
          <p:nvPr/>
        </p:nvSpPr>
        <p:spPr>
          <a:xfrm>
            <a:off x="0" y="5943600"/>
            <a:ext cx="28065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94E928-6A74-45FD-A943-14301865961F}" type="datetime">
              <a:rPr b="0" lang="en-US" sz="1100" spc="-1" strike="noStrike">
                <a:solidFill>
                  <a:srgbClr val="d6ecff"/>
                </a:solidFill>
                <a:latin typeface="Corbel"/>
              </a:rPr>
              <a:t>07/28/26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Footer Placeholder 5"/>
          <p:cNvSpPr/>
          <p:nvPr/>
        </p:nvSpPr>
        <p:spPr>
          <a:xfrm>
            <a:off x="338472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41076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#1 challenge: decision makers information needs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-360" y="685800"/>
            <a:ext cx="9906120" cy="60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"Many QIs have small to moderate effect"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Research design limitation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Does quantitative RCT/CT desig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) fail to measure enough intermediate or ultimate outcomes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b) obscure extremes, where context importan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) require prescribed implementation, when iterative adaption necessary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Slide Number Placeholder 3"/>
          <p:cNvSpPr/>
          <p:nvPr/>
        </p:nvSpPr>
        <p:spPr>
          <a:xfrm>
            <a:off x="8832960" y="6172200"/>
            <a:ext cx="577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C2C362-5E5E-4EA6-8DEF-AA5FE5D8B318}" type="slidenum">
              <a:rPr b="0" lang="en-US" sz="36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Date Placeholder 4"/>
          <p:cNvSpPr/>
          <p:nvPr/>
        </p:nvSpPr>
        <p:spPr>
          <a:xfrm>
            <a:off x="0" y="5943600"/>
            <a:ext cx="28065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CB4F94-5424-4647-BB15-E1F8E386350A}" type="datetime">
              <a:rPr b="0" lang="en-US" sz="1100" spc="-1" strike="noStrike">
                <a:solidFill>
                  <a:srgbClr val="d6ecff"/>
                </a:solidFill>
                <a:latin typeface="Corbel"/>
              </a:rPr>
              <a:t>07/28/26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Footer Placeholder 5"/>
          <p:cNvSpPr/>
          <p:nvPr/>
        </p:nvSpPr>
        <p:spPr>
          <a:xfrm>
            <a:off x="338472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#1 challenge: decision maker’s information needs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9906120" cy="55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Resolution by decision-maker’s :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411120" indent="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ff"/>
                </a:solidFill>
                <a:uFillTx/>
                <a:latin typeface="Times New Roman"/>
              </a:rPr>
              <a:t>Hierarchy of evidence: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1)Face validity/make sense? - Try it on a small scal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2)Steve or Jane’s experience in Kansa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3)IHI practitioner reports: O</a:t>
            </a:r>
            <a:r>
              <a:rPr b="0" lang="en-US" sz="2600" spc="-1" strike="noStrike" baseline="37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&gt; I  &gt;  O</a:t>
            </a:r>
            <a:r>
              <a:rPr b="0" lang="en-US" sz="2600" spc="-1" strike="noStrike" baseline="37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data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Before&gt;Intervention&gt;Afte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4)Published practitioner-scientist study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5)High-church medical journal publication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Proportionality of proof – cost/ease, risk, benefit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" name="Slide Number Placeholder 3"/>
          <p:cNvSpPr/>
          <p:nvPr/>
        </p:nvSpPr>
        <p:spPr>
          <a:xfrm>
            <a:off x="8832960" y="6172200"/>
            <a:ext cx="577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62391D-492B-4F6D-BB20-72ED8F4C1759}" type="slidenum">
              <a:rPr b="0" lang="en-US" sz="36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Date Placeholder 4"/>
          <p:cNvSpPr/>
          <p:nvPr/>
        </p:nvSpPr>
        <p:spPr>
          <a:xfrm>
            <a:off x="0" y="5943600"/>
            <a:ext cx="28065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047AA3-80A8-4DB6-BAA4-2C544BF1EB49}" type="datetime">
              <a:rPr b="0" lang="en-US" sz="1100" spc="-1" strike="noStrike">
                <a:solidFill>
                  <a:srgbClr val="d6ecff"/>
                </a:solidFill>
                <a:latin typeface="Corbel"/>
              </a:rPr>
              <a:t>07/28/26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Footer Placeholder 5"/>
          <p:cNvSpPr/>
          <p:nvPr/>
        </p:nvSpPr>
        <p:spPr>
          <a:xfrm>
            <a:off x="338472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410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#2 Challenge: Efficacy proof</a:t>
            </a:r>
            <a:br>
              <a:rPr sz="4000"/>
            </a:b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9906120" cy="588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Does it work – anywhere?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-28584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Maximise certainty of attribution of outcomes to intervention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-28584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Causal assumptions: why/how does it work?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Resolutions: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-28584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Paradigm: O</a:t>
            </a:r>
            <a:r>
              <a:rPr b="0" lang="en-US" sz="2600" spc="-1" strike="noStrike" baseline="37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&gt; I  &gt;  O</a:t>
            </a:r>
            <a:r>
              <a:rPr b="0" lang="en-US" sz="2600" spc="-1" strike="noStrike" baseline="37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 quantitative experimental black box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4" marL="1481040" indent="-2095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eb80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Is there are differenc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tter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9540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2000" spc="-1" strike="noStrike" baseline="37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&gt; I  &gt;  O</a:t>
            </a:r>
            <a:r>
              <a:rPr b="0" lang="en-US" sz="2000" spc="-1" strike="noStrike" baseline="37000">
                <a:solidFill>
                  <a:srgbClr val="ffffff"/>
                </a:solidFill>
                <a:latin typeface="Times New Roman"/>
              </a:rPr>
              <a:t>2  </a:t>
            </a:r>
            <a:r>
              <a:rPr b="0" lang="en-US" sz="2000" spc="-1" strike="noStrike" baseline="37000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Bigger differenc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95400" indent="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2000" spc="-1" strike="noStrike" baseline="37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&gt; ? &gt;  O</a:t>
            </a:r>
            <a:r>
              <a:rPr b="0" lang="en-US" sz="2000" spc="-1" strike="noStrike" baseline="37000">
                <a:solidFill>
                  <a:srgbClr val="ffffff"/>
                </a:solidFill>
                <a:latin typeface="Times New Roman"/>
              </a:rPr>
              <a:t>2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95400" indent="-22860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ea157a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ther explanations for difference?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95400" indent="-22860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ea157a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ntrol, randomise, compare, hygiene to avoid contamination by confound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" name="Slide Number Placeholder 3"/>
          <p:cNvSpPr/>
          <p:nvPr/>
        </p:nvSpPr>
        <p:spPr>
          <a:xfrm>
            <a:off x="8832960" y="6172200"/>
            <a:ext cx="577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657103-3D8E-4BB4-811F-6B1DEE97F444}" type="slidenum">
              <a:rPr b="0" lang="en-US" sz="36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Date Placeholder 4"/>
          <p:cNvSpPr/>
          <p:nvPr/>
        </p:nvSpPr>
        <p:spPr>
          <a:xfrm>
            <a:off x="0" y="5943600"/>
            <a:ext cx="28065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796D5C-B628-42BA-ADDD-FBB1DFEC6278}" type="datetime">
              <a:rPr b="0" lang="en-US" sz="1100" spc="-1" strike="noStrike">
                <a:solidFill>
                  <a:srgbClr val="d6ecff"/>
                </a:solidFill>
                <a:latin typeface="Corbel"/>
              </a:rPr>
              <a:t>07/28/26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Footer Placeholder 5"/>
          <p:cNvSpPr/>
          <p:nvPr/>
        </p:nvSpPr>
        <p:spPr>
          <a:xfrm>
            <a:off x="338472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41076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Disconnect between </a:t>
            </a:r>
            <a:br>
              <a:rPr sz="4000"/>
            </a:b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703" name="Text Placeholder 2" descr=""/>
          <p:cNvPicPr/>
          <p:nvPr/>
        </p:nvPicPr>
        <p:blipFill>
          <a:blip r:embed="rId1"/>
          <a:stretch/>
        </p:blipFill>
        <p:spPr>
          <a:xfrm>
            <a:off x="-6480" y="835200"/>
            <a:ext cx="9918720" cy="5894280"/>
          </a:xfrm>
          <a:prstGeom prst="rect">
            <a:avLst/>
          </a:prstGeom>
          <a:ln w="0">
            <a:noFill/>
          </a:ln>
        </p:spPr>
      </p:pic>
      <p:sp>
        <p:nvSpPr>
          <p:cNvPr id="704" name="Slide Number Placeholder 3"/>
          <p:cNvSpPr/>
          <p:nvPr/>
        </p:nvSpPr>
        <p:spPr>
          <a:xfrm>
            <a:off x="8832960" y="6172200"/>
            <a:ext cx="577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A6D057-78AC-48DC-A0FD-3720542B3E5F}" type="slidenum">
              <a:rPr b="0" lang="en-US" sz="36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5" name="Picture 4" descr=""/>
          <p:cNvPicPr/>
          <p:nvPr/>
        </p:nvPicPr>
        <p:blipFill>
          <a:blip r:embed="rId2"/>
          <a:stretch/>
        </p:blipFill>
        <p:spPr>
          <a:xfrm>
            <a:off x="6566040" y="5029200"/>
            <a:ext cx="22669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410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#2 Resolutions to increase proof of Efficacy</a:t>
            </a:r>
            <a:br>
              <a:rPr sz="4000"/>
            </a:b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9906120" cy="588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rength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√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pecifiable, controllable interventions like dru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= √ Unchanging, control known confounders and randomise-out others, 2/3 measures all you ne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mit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bsence of above. Works for whom? - Multiple perspectives. Unintended consquences – study more outco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cision makers translation – info they need in addi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8" name="Slide Number Placeholder 3"/>
          <p:cNvSpPr/>
          <p:nvPr/>
        </p:nvSpPr>
        <p:spPr>
          <a:xfrm>
            <a:off x="8832960" y="6172200"/>
            <a:ext cx="577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FC0095-0BF5-4D3C-8421-D2F70F5217B2}" type="slidenum">
              <a:rPr b="0" lang="en-US" sz="36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Date Placeholder 4"/>
          <p:cNvSpPr/>
          <p:nvPr/>
        </p:nvSpPr>
        <p:spPr>
          <a:xfrm>
            <a:off x="0" y="5943600"/>
            <a:ext cx="28065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41C9FA-F020-4E30-9B06-0B31697F1581}" type="datetime">
              <a:rPr b="0" lang="en-US" sz="1100" spc="-1" strike="noStrike">
                <a:solidFill>
                  <a:srgbClr val="d6ecff"/>
                </a:solidFill>
                <a:latin typeface="Corbel"/>
              </a:rPr>
              <a:t>07/28/26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Footer Placeholder 5"/>
          <p:cNvSpPr/>
          <p:nvPr/>
        </p:nvSpPr>
        <p:spPr>
          <a:xfrm>
            <a:off x="338472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410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#2 Resolutions to increase proof of Efficacy</a:t>
            </a:r>
            <a:br>
              <a:rPr sz="4000"/>
            </a:b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9906120" cy="588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trengthen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-28584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allel process evaluatio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-28584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porting (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"SQUIRE" etc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95400" indent="-228600">
              <a:spcBef>
                <a:spcPts val="550"/>
              </a:spcBef>
              <a:spcAft>
                <a:spcPts val="601"/>
              </a:spcAft>
              <a:buClr>
                <a:srgbClr val="ea157a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(labels for what implemented, not the brand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-28584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ttribution steriods for observational studi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95400" indent="-22860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ea157a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sensitivity analyses to assess results Propensity score (Johnson et al 2006) and instrumental variable (Harless and Mark 2006) method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3" name="Slide Number Placeholder 3"/>
          <p:cNvSpPr/>
          <p:nvPr/>
        </p:nvSpPr>
        <p:spPr>
          <a:xfrm>
            <a:off x="8832960" y="6172200"/>
            <a:ext cx="577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DF6FFD-B4FF-4959-95E6-9017B7B0A316}" type="slidenum">
              <a:rPr b="0" lang="en-US" sz="36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Date Placeholder 4"/>
          <p:cNvSpPr/>
          <p:nvPr/>
        </p:nvSpPr>
        <p:spPr>
          <a:xfrm>
            <a:off x="0" y="5943600"/>
            <a:ext cx="28065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4E7A3B-3CC5-4EA2-924E-F7228F6EDD4B}" type="datetime">
              <a:rPr b="0" lang="en-US" sz="1100" spc="-1" strike="noStrike">
                <a:solidFill>
                  <a:srgbClr val="d6ecff"/>
                </a:solidFill>
                <a:latin typeface="Corbel"/>
              </a:rPr>
              <a:t>07/28/26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Footer Placeholder 5"/>
          <p:cNvSpPr/>
          <p:nvPr/>
        </p:nvSpPr>
        <p:spPr>
          <a:xfrm>
            <a:off x="338472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41076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00"/>
                </a:solidFill>
                <a:latin typeface="Times New Roman"/>
              </a:rPr>
              <a:t>Recognition of AHRQ &amp; researchers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You are making a difference…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9906120" cy="588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411120" indent="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ust some achievements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11120" indent="-342720">
              <a:spcBef>
                <a:spcPts val="700"/>
              </a:spcBef>
              <a:spcAft>
                <a:spcPts val="601"/>
              </a:spcAft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hojania ed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2001 700 page review of safety intervention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Quality and safety indicator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Culture survey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eam STEPS &amp; other tool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Innovations exchang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9" name="Slide Number Placeholder 3"/>
          <p:cNvSpPr/>
          <p:nvPr/>
        </p:nvSpPr>
        <p:spPr>
          <a:xfrm>
            <a:off x="8832960" y="6172200"/>
            <a:ext cx="577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D6938A-BC0C-414B-AACE-4E471F1A831B}" type="slidenum">
              <a:rPr b="0" lang="en-US" sz="36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0" name="Picture 4" descr=""/>
          <p:cNvPicPr/>
          <p:nvPr/>
        </p:nvPicPr>
        <p:blipFill>
          <a:blip r:embed="rId1"/>
          <a:stretch/>
        </p:blipFill>
        <p:spPr>
          <a:xfrm>
            <a:off x="5479920" y="4516560"/>
            <a:ext cx="4426200" cy="23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0584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#3 Challenge: effectiveness research for generalisation </a:t>
            </a: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9906120" cy="588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Effectiveness in different situations?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Issues: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-28584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Many interventions sensitive to context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995400" indent="-228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ea157a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mplementable only if changed to suit contex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95400" indent="-228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ea157a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Evolve in interaction with changing context - journey/sto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11120" indent="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I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-28584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efficacy guarantee violated by user adaption of some intervention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-28584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For others: guarantee failure if you do not adapt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995400" indent="-228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ea157a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r buy installation and 3 year guarante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8" name="Slide Number Placeholder 3"/>
          <p:cNvSpPr/>
          <p:nvPr/>
        </p:nvSpPr>
        <p:spPr>
          <a:xfrm>
            <a:off x="8832960" y="6172200"/>
            <a:ext cx="577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28B1B1-7E77-4A95-A7EF-D0DEDF1F6E31}" type="slidenum">
              <a:rPr b="0" lang="en-US" sz="36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Date Placeholder 4"/>
          <p:cNvSpPr/>
          <p:nvPr/>
        </p:nvSpPr>
        <p:spPr>
          <a:xfrm>
            <a:off x="0" y="5943600"/>
            <a:ext cx="28065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565268-5FA9-4D7E-BBE7-9F8C497D4FB6}" type="datetime">
              <a:rPr b="0" lang="en-US" sz="1100" spc="-1" strike="noStrike">
                <a:solidFill>
                  <a:srgbClr val="d6ecff"/>
                </a:solidFill>
                <a:latin typeface="Corbel"/>
              </a:rPr>
              <a:t>07/28/26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Footer Placeholder 5"/>
          <p:cNvSpPr/>
          <p:nvPr/>
        </p:nvSpPr>
        <p:spPr>
          <a:xfrm>
            <a:off x="338472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#3 Resolutions: generalisable effectiveness research</a:t>
            </a: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-360" y="685800"/>
            <a:ext cx="9906120" cy="60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49200" indent="-2912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R1: Maintain paradigm: “Pragmatic trials”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4264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Minimise loss of attribution with Time series, Step-wise wedge, SPC (but increase cost and time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4264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ome √ for routine practice feedback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4264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Generalisable to similar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ituations and intervention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4264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Add more situations and variations of the intervention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846000" indent="-1940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ea157a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pare many pragmatic trials and assess what works best whe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846000" indent="-1940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ea157a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vite trails in X situation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846000" indent="-1940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ea157a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mprove reporting (standardise and detail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9200" indent="-2912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- ve: no answer to </a:t>
            </a: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why?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4264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explanation helps adapt, and contributes to scienc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9200" indent="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-24264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2856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3" name="Slide Number Placeholder 3"/>
          <p:cNvSpPr/>
          <p:nvPr/>
        </p:nvSpPr>
        <p:spPr>
          <a:xfrm>
            <a:off x="8832960" y="6172200"/>
            <a:ext cx="577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21351A-1B58-4469-B2A3-024BB2A36B24}" type="slidenum">
              <a:rPr b="0" lang="en-US" sz="36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Date Placeholder 4"/>
          <p:cNvSpPr/>
          <p:nvPr/>
        </p:nvSpPr>
        <p:spPr>
          <a:xfrm>
            <a:off x="0" y="5943600"/>
            <a:ext cx="28065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CD4C8B-2B98-4FDD-8257-3BFF97FD3300}" type="datetime">
              <a:rPr b="0" lang="en-US" sz="1100" spc="-1" strike="noStrike">
                <a:solidFill>
                  <a:srgbClr val="d6ecff"/>
                </a:solidFill>
                <a:latin typeface="Corbel"/>
              </a:rPr>
              <a:t>07/28/26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Footer Placeholder 5"/>
          <p:cNvSpPr/>
          <p:nvPr/>
        </p:nvSpPr>
        <p:spPr>
          <a:xfrm>
            <a:off x="338472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410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#3 Resolutions: context sensitive generalisable effectiveness research</a:t>
            </a:r>
            <a:br>
              <a:rPr sz="4000"/>
            </a:b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-360" y="2057040"/>
            <a:ext cx="99061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R2: Case study research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√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Describes intervention 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as it evolves &amp; context helpers and hinderer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√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Assesses 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intermediate changes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√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Links these to ultimate patient/cost outcomes, if possibl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Multiple case study in selected situations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eg Dopson 2002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NEXT: What we have learned in doing this resear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8" name="Slide Number Placeholder 3"/>
          <p:cNvSpPr/>
          <p:nvPr/>
        </p:nvSpPr>
        <p:spPr>
          <a:xfrm>
            <a:off x="8832960" y="6172200"/>
            <a:ext cx="577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D4DF3F-FBC2-419F-A54D-B19FAD0BC26F}" type="slidenum">
              <a:rPr b="0" lang="en-US" sz="36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Date Placeholder 4"/>
          <p:cNvSpPr/>
          <p:nvPr/>
        </p:nvSpPr>
        <p:spPr>
          <a:xfrm>
            <a:off x="0" y="5943600"/>
            <a:ext cx="28065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91CEA7-7509-4F62-BFE0-8451E61BECC1}" type="datetime">
              <a:rPr b="0" lang="en-US" sz="1100" spc="-1" strike="noStrike">
                <a:solidFill>
                  <a:srgbClr val="d6ecff"/>
                </a:solidFill>
                <a:latin typeface="Corbel"/>
              </a:rPr>
              <a:t>07/28/26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Footer Placeholder 5"/>
          <p:cNvSpPr/>
          <p:nvPr/>
        </p:nvSpPr>
        <p:spPr>
          <a:xfrm>
            <a:off x="338472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41076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hat we have learned in doing this research</a:t>
            </a:r>
            <a:br>
              <a:rPr sz="4000"/>
            </a:b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99061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research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411120" indent="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12 Action evaluation case studies of innovation implementation in Swedish health car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411120" indent="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&amp; variety of “research into practice” implementation and change studi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411120" indent="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3" name="Slide Number Placeholder 3"/>
          <p:cNvSpPr/>
          <p:nvPr/>
        </p:nvSpPr>
        <p:spPr>
          <a:xfrm>
            <a:off x="8832960" y="6172200"/>
            <a:ext cx="577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7C56E8-76C1-48EF-8D6D-7E6E509C1C10}" type="slidenum">
              <a:rPr b="0" lang="en-US" sz="36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Date Placeholder 4"/>
          <p:cNvSpPr/>
          <p:nvPr/>
        </p:nvSpPr>
        <p:spPr>
          <a:xfrm>
            <a:off x="0" y="5943600"/>
            <a:ext cx="28065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3E4182-DE53-490B-8544-815DDF0C73EC}" type="datetime">
              <a:rPr b="0" lang="en-US" sz="1100" spc="-1" strike="noStrike">
                <a:solidFill>
                  <a:srgbClr val="d6ecff"/>
                </a:solidFill>
                <a:latin typeface="Corbel"/>
              </a:rPr>
              <a:t>07/28/26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Footer Placeholder 5"/>
          <p:cNvSpPr/>
          <p:nvPr/>
        </p:nvSpPr>
        <p:spPr>
          <a:xfrm>
            <a:off x="338472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41076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L2: Distinguish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9906120" cy="588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Safer clinical practic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hanged providers behaviour = reduce adverse event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Safer organisation and process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upport changes in provider behaviour and address latent cau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Implementation actions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to achieve the abo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t team, organisation, system and national leve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External context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helpers and hind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(is a MET/RRT a safe clinical practice or a "safer organisation or process" change, or both?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8" name="Slide Number Placeholder 3"/>
          <p:cNvSpPr/>
          <p:nvPr/>
        </p:nvSpPr>
        <p:spPr>
          <a:xfrm>
            <a:off x="8832960" y="6172200"/>
            <a:ext cx="577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FEC29B-7710-423D-BFCA-23ADBDD7E47C}" type="slidenum">
              <a:rPr b="0" lang="en-US" sz="36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Date Placeholder 4"/>
          <p:cNvSpPr/>
          <p:nvPr/>
        </p:nvSpPr>
        <p:spPr>
          <a:xfrm>
            <a:off x="0" y="5943600"/>
            <a:ext cx="28065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F65EF3-EDA2-4998-8335-5FE593126532}" type="datetime">
              <a:rPr b="0" lang="en-US" sz="1100" spc="-1" strike="noStrike">
                <a:solidFill>
                  <a:srgbClr val="d6ecff"/>
                </a:solidFill>
                <a:latin typeface="Corbel"/>
              </a:rPr>
              <a:t>07/28/26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Footer Placeholder 5"/>
          <p:cNvSpPr/>
          <p:nvPr/>
        </p:nvSpPr>
        <p:spPr>
          <a:xfrm>
            <a:off x="338472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TextBox 6"/>
          <p:cNvSpPr/>
          <p:nvPr/>
        </p:nvSpPr>
        <p:spPr>
          <a:xfrm>
            <a:off x="7688520" y="1752480"/>
            <a:ext cx="208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Arial"/>
              </a:rPr>
              <a:t>The se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TextBox 7"/>
          <p:cNvSpPr/>
          <p:nvPr/>
        </p:nvSpPr>
        <p:spPr>
          <a:xfrm>
            <a:off x="7862400" y="3429000"/>
            <a:ext cx="183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ccffcc"/>
                </a:solidFill>
                <a:latin typeface="Arial"/>
              </a:rPr>
              <a:t>Plan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TextBox 8"/>
          <p:cNvSpPr/>
          <p:nvPr/>
        </p:nvSpPr>
        <p:spPr>
          <a:xfrm>
            <a:off x="7710480" y="4419720"/>
            <a:ext cx="213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c58d01"/>
                </a:solidFill>
                <a:latin typeface="Arial"/>
              </a:rPr>
              <a:t>Soil &amp; </a:t>
            </a:r>
            <a:r>
              <a:rPr b="0" i="1" lang="en-US" sz="3600" spc="-1" strike="noStrike">
                <a:solidFill>
                  <a:srgbClr val="51daff"/>
                </a:solidFill>
                <a:latin typeface="Arial"/>
              </a:rPr>
              <a:t>climat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7016760" y="641664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F51DAC-75BB-4A98-BE61-445CDAD97A13}" type="datetime">
              <a:rPr b="0" lang="en-US" sz="1100" spc="-1" strike="noStrike">
                <a:solidFill>
                  <a:srgbClr val="d6ecff"/>
                </a:solidFill>
                <a:latin typeface="Corbel"/>
              </a:rPr>
              <a:t>07/28/26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Slide Number Placeholder 5"/>
          <p:cNvSpPr/>
          <p:nvPr/>
        </p:nvSpPr>
        <p:spPr>
          <a:xfrm>
            <a:off x="8255160" y="5943600"/>
            <a:ext cx="1568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752A70-AD60-4F47-B12A-C796307E71BE}" type="slidenum">
              <a:rPr b="0" lang="en-US" sz="36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6" name="Rectangle 5" descr=""/>
          <p:cNvPicPr/>
          <p:nvPr/>
        </p:nvPicPr>
        <p:blipFill>
          <a:blip r:embed="rId1"/>
          <a:stretch/>
        </p:blipFill>
        <p:spPr>
          <a:xfrm>
            <a:off x="1731960" y="1206360"/>
            <a:ext cx="2065320" cy="1768680"/>
          </a:xfrm>
          <a:prstGeom prst="rect">
            <a:avLst/>
          </a:prstGeom>
          <a:ln w="0">
            <a:noFill/>
          </a:ln>
        </p:spPr>
      </p:pic>
      <p:sp>
        <p:nvSpPr>
          <p:cNvPr id="747" name="TextBox 6"/>
          <p:cNvSpPr/>
          <p:nvPr/>
        </p:nvSpPr>
        <p:spPr>
          <a:xfrm>
            <a:off x="330120" y="6172200"/>
            <a:ext cx="924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994   1995  1996 1997 1998  1999   2000  2001  2002  2003  2004   2005   2006  2007  2008  200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TextBox 7"/>
          <p:cNvSpPr/>
          <p:nvPr/>
        </p:nvSpPr>
        <p:spPr>
          <a:xfrm>
            <a:off x="1568520" y="228600"/>
            <a:ext cx="730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Sodertalje innovation established 1996-199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TextBox 15"/>
          <p:cNvSpPr/>
          <p:nvPr/>
        </p:nvSpPr>
        <p:spPr>
          <a:xfrm>
            <a:off x="330120" y="1930320"/>
            <a:ext cx="14032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ctions: planning and pre- implement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TextBox 16"/>
          <p:cNvSpPr/>
          <p:nvPr/>
        </p:nvSpPr>
        <p:spPr>
          <a:xfrm>
            <a:off x="1816200" y="1752480"/>
            <a:ext cx="1898640" cy="12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sult: Innovation content –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hree shared rehabilitation units with common decision making for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1" name="Rectangle 21" descr=""/>
          <p:cNvPicPr/>
          <p:nvPr/>
        </p:nvPicPr>
        <p:blipFill>
          <a:blip r:embed="rId2"/>
          <a:stretch/>
        </p:blipFill>
        <p:spPr>
          <a:xfrm>
            <a:off x="1731960" y="3035160"/>
            <a:ext cx="7101000" cy="854280"/>
          </a:xfrm>
          <a:prstGeom prst="rect">
            <a:avLst/>
          </a:prstGeom>
          <a:ln w="0">
            <a:noFill/>
          </a:ln>
        </p:spPr>
      </p:pic>
      <p:pic>
        <p:nvPicPr>
          <p:cNvPr id="752" name="Rectangle 22" descr=""/>
          <p:cNvPicPr/>
          <p:nvPr/>
        </p:nvPicPr>
        <p:blipFill>
          <a:blip r:embed="rId3"/>
          <a:stretch/>
        </p:blipFill>
        <p:spPr>
          <a:xfrm>
            <a:off x="2712960" y="5248440"/>
            <a:ext cx="6620040" cy="853920"/>
          </a:xfrm>
          <a:prstGeom prst="rect">
            <a:avLst/>
          </a:prstGeom>
          <a:ln w="0">
            <a:noFill/>
          </a:ln>
        </p:spPr>
      </p:pic>
      <p:pic>
        <p:nvPicPr>
          <p:cNvPr id="753" name="Rectangle 14" descr=""/>
          <p:cNvPicPr/>
          <p:nvPr/>
        </p:nvPicPr>
        <p:blipFill>
          <a:blip r:embed="rId4"/>
          <a:stretch/>
        </p:blipFill>
        <p:spPr>
          <a:xfrm>
            <a:off x="3627360" y="1206360"/>
            <a:ext cx="5119920" cy="1543320"/>
          </a:xfrm>
          <a:prstGeom prst="rect">
            <a:avLst/>
          </a:prstGeom>
          <a:ln w="0">
            <a:noFill/>
          </a:ln>
        </p:spPr>
      </p:pic>
      <p:pic>
        <p:nvPicPr>
          <p:cNvPr id="754" name="Rectangle 15" descr=""/>
          <p:cNvPicPr/>
          <p:nvPr/>
        </p:nvPicPr>
        <p:blipFill>
          <a:blip r:embed="rId5"/>
          <a:stretch/>
        </p:blipFill>
        <p:spPr>
          <a:xfrm>
            <a:off x="79200" y="1206360"/>
            <a:ext cx="1816200" cy="1768680"/>
          </a:xfrm>
          <a:prstGeom prst="rect">
            <a:avLst/>
          </a:prstGeom>
          <a:ln w="0">
            <a:noFill/>
          </a:ln>
        </p:spPr>
      </p:pic>
      <p:sp>
        <p:nvSpPr>
          <p:cNvPr id="755" name="Rectangle 16"/>
          <p:cNvSpPr/>
          <p:nvPr/>
        </p:nvSpPr>
        <p:spPr>
          <a:xfrm>
            <a:off x="577800" y="1295280"/>
            <a:ext cx="800748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Planning      Establishment </a:t>
            </a: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   Further actions and types of coordination </a:t>
            </a: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creat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TextBox 17"/>
          <p:cNvSpPr/>
          <p:nvPr/>
        </p:nvSpPr>
        <p:spPr>
          <a:xfrm>
            <a:off x="3797280" y="1676520"/>
            <a:ext cx="22287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bined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lient/patient care planning system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velopment of syste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cedures and sub structures&gt;&gt;&gt;&gt;&gt;&gt;&gt;&gt;&gt;&gt;&gt;&gt;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TextBox 18"/>
          <p:cNvSpPr/>
          <p:nvPr/>
        </p:nvSpPr>
        <p:spPr>
          <a:xfrm>
            <a:off x="6521400" y="1676520"/>
            <a:ext cx="1981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One management group with representatives from the county council and municipal car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8" name="Straight Arrow Connector 19" descr=""/>
          <p:cNvPicPr/>
          <p:nvPr/>
        </p:nvPicPr>
        <p:blipFill>
          <a:blip r:embed="rId6"/>
          <a:stretch/>
        </p:blipFill>
        <p:spPr>
          <a:xfrm>
            <a:off x="3389400" y="2286000"/>
            <a:ext cx="1384200" cy="463680"/>
          </a:xfrm>
          <a:prstGeom prst="rect">
            <a:avLst/>
          </a:prstGeom>
          <a:ln w="0">
            <a:noFill/>
          </a:ln>
        </p:spPr>
      </p:pic>
      <p:pic>
        <p:nvPicPr>
          <p:cNvPr id="759" name="Straight Arrow Connector 20" descr=""/>
          <p:cNvPicPr/>
          <p:nvPr/>
        </p:nvPicPr>
        <p:blipFill>
          <a:blip r:embed="rId7"/>
          <a:stretch/>
        </p:blipFill>
        <p:spPr>
          <a:xfrm>
            <a:off x="3273480" y="755640"/>
            <a:ext cx="384120" cy="957240"/>
          </a:xfrm>
          <a:prstGeom prst="rect">
            <a:avLst/>
          </a:prstGeom>
          <a:ln w="0">
            <a:noFill/>
          </a:ln>
        </p:spPr>
      </p:pic>
      <p:pic>
        <p:nvPicPr>
          <p:cNvPr id="760" name="Straight Arrow Connector 24" descr=""/>
          <p:cNvPicPr/>
          <p:nvPr/>
        </p:nvPicPr>
        <p:blipFill>
          <a:blip r:embed="rId8"/>
          <a:stretch/>
        </p:blipFill>
        <p:spPr>
          <a:xfrm>
            <a:off x="3382920" y="2425680"/>
            <a:ext cx="1268280" cy="890640"/>
          </a:xfrm>
          <a:prstGeom prst="rect">
            <a:avLst/>
          </a:prstGeom>
          <a:ln w="0">
            <a:noFill/>
          </a:ln>
        </p:spPr>
      </p:pic>
      <p:pic>
        <p:nvPicPr>
          <p:cNvPr id="761" name="Straight Arrow Connector 40" descr=""/>
          <p:cNvPicPr/>
          <p:nvPr/>
        </p:nvPicPr>
        <p:blipFill>
          <a:blip r:embed="rId9"/>
          <a:stretch/>
        </p:blipFill>
        <p:spPr>
          <a:xfrm>
            <a:off x="4943520" y="2505240"/>
            <a:ext cx="860400" cy="1116000"/>
          </a:xfrm>
          <a:prstGeom prst="rect">
            <a:avLst/>
          </a:prstGeom>
          <a:ln w="0">
            <a:noFill/>
          </a:ln>
        </p:spPr>
      </p:pic>
      <p:pic>
        <p:nvPicPr>
          <p:cNvPr id="762" name="Straight Arrow Connector 41" descr=""/>
          <p:cNvPicPr/>
          <p:nvPr/>
        </p:nvPicPr>
        <p:blipFill>
          <a:blip r:embed="rId10"/>
          <a:stretch/>
        </p:blipFill>
        <p:spPr>
          <a:xfrm>
            <a:off x="3206880" y="4511520"/>
            <a:ext cx="615960" cy="1114560"/>
          </a:xfrm>
          <a:prstGeom prst="rect">
            <a:avLst/>
          </a:prstGeom>
          <a:ln w="0">
            <a:noFill/>
          </a:ln>
        </p:spPr>
      </p:pic>
      <p:pic>
        <p:nvPicPr>
          <p:cNvPr id="763" name="Straight Arrow Connector 42" descr=""/>
          <p:cNvPicPr/>
          <p:nvPr/>
        </p:nvPicPr>
        <p:blipFill>
          <a:blip r:embed="rId11"/>
          <a:stretch/>
        </p:blipFill>
        <p:spPr>
          <a:xfrm>
            <a:off x="2212920" y="2730600"/>
            <a:ext cx="1200240" cy="1274760"/>
          </a:xfrm>
          <a:prstGeom prst="rect">
            <a:avLst/>
          </a:prstGeom>
          <a:ln w="0">
            <a:noFill/>
          </a:ln>
        </p:spPr>
      </p:pic>
      <p:pic>
        <p:nvPicPr>
          <p:cNvPr id="764" name="Straight Arrow Connector 43" descr=""/>
          <p:cNvPicPr/>
          <p:nvPr/>
        </p:nvPicPr>
        <p:blipFill>
          <a:blip r:embed="rId12"/>
          <a:stretch/>
        </p:blipFill>
        <p:spPr>
          <a:xfrm>
            <a:off x="4363920" y="2505240"/>
            <a:ext cx="1274760" cy="1957320"/>
          </a:xfrm>
          <a:prstGeom prst="rect">
            <a:avLst/>
          </a:prstGeom>
          <a:ln w="0">
            <a:noFill/>
          </a:ln>
        </p:spPr>
      </p:pic>
      <p:pic>
        <p:nvPicPr>
          <p:cNvPr id="765" name="Straight Arrow Connector 44" descr=""/>
          <p:cNvPicPr/>
          <p:nvPr/>
        </p:nvPicPr>
        <p:blipFill>
          <a:blip r:embed="rId13"/>
          <a:stretch/>
        </p:blipFill>
        <p:spPr>
          <a:xfrm>
            <a:off x="5937120" y="2425680"/>
            <a:ext cx="2097360" cy="2365560"/>
          </a:xfrm>
          <a:prstGeom prst="rect">
            <a:avLst/>
          </a:prstGeom>
          <a:ln w="0">
            <a:noFill/>
          </a:ln>
        </p:spPr>
      </p:pic>
      <p:pic>
        <p:nvPicPr>
          <p:cNvPr id="766" name="Rectangle 25" descr=""/>
          <p:cNvPicPr/>
          <p:nvPr/>
        </p:nvPicPr>
        <p:blipFill>
          <a:blip r:embed="rId14"/>
          <a:stretch/>
        </p:blipFill>
        <p:spPr>
          <a:xfrm>
            <a:off x="66600" y="438120"/>
            <a:ext cx="9186840" cy="5670720"/>
          </a:xfrm>
          <a:prstGeom prst="rect">
            <a:avLst/>
          </a:prstGeom>
          <a:ln w="0">
            <a:noFill/>
          </a:ln>
        </p:spPr>
      </p:pic>
      <p:sp>
        <p:nvSpPr>
          <p:cNvPr id="767" name="TextBox 26"/>
          <p:cNvSpPr/>
          <p:nvPr/>
        </p:nvSpPr>
        <p:spPr>
          <a:xfrm>
            <a:off x="1403280" y="533520"/>
            <a:ext cx="6891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Context factors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help and hinder implementation at different tim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TextBox 27"/>
          <p:cNvSpPr/>
          <p:nvPr/>
        </p:nvSpPr>
        <p:spPr>
          <a:xfrm>
            <a:off x="230400" y="762120"/>
            <a:ext cx="1930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Government policy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elps plann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9" name="Straight Arrow Connector 29" descr=""/>
          <p:cNvPicPr/>
          <p:nvPr/>
        </p:nvPicPr>
        <p:blipFill>
          <a:blip r:embed="rId15"/>
          <a:stretch/>
        </p:blipFill>
        <p:spPr>
          <a:xfrm>
            <a:off x="407880" y="1054080"/>
            <a:ext cx="513000" cy="500040"/>
          </a:xfrm>
          <a:prstGeom prst="rect">
            <a:avLst/>
          </a:prstGeom>
          <a:ln w="0">
            <a:noFill/>
          </a:ln>
        </p:spPr>
      </p:pic>
      <p:pic>
        <p:nvPicPr>
          <p:cNvPr id="770" name="Rectangle 27" descr=""/>
          <p:cNvPicPr/>
          <p:nvPr/>
        </p:nvPicPr>
        <p:blipFill>
          <a:blip r:embed="rId16"/>
          <a:stretch/>
        </p:blipFill>
        <p:spPr>
          <a:xfrm>
            <a:off x="2139840" y="4170240"/>
            <a:ext cx="7107480" cy="8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410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L3: Theory essential - of intervention pathway to outcomes </a:t>
            </a:r>
            <a:br>
              <a:rPr sz="4000"/>
            </a:b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9906120" cy="55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o decide which data to gathe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o provide explanations to tes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o give implementers to help them adapt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Program theory Weiss 1972, 1997 Rog&amp;Fournier 1997; Logic Model Wholey 1979; Theory-driven evaluation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en 1990, Sidani &amp; Braden 1998; realist evaluation Henry et al 1998, Pawson &amp; Tilley 1997; Theories Grol et al 2007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11120" indent="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411120" indent="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8832960" y="6172200"/>
            <a:ext cx="577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7D00DC-0FC8-40CD-A1DC-C916CA6E8392}" type="slidenum">
              <a:rPr b="0" lang="en-US" sz="36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Date Placeholder 4"/>
          <p:cNvSpPr/>
          <p:nvPr/>
        </p:nvSpPr>
        <p:spPr>
          <a:xfrm>
            <a:off x="0" y="5943600"/>
            <a:ext cx="28065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91349C-9012-4ACD-9751-D1B1DFD6F9E8}" type="datetime">
              <a:rPr b="0" lang="en-US" sz="1100" spc="-1" strike="noStrike">
                <a:solidFill>
                  <a:srgbClr val="d6ecff"/>
                </a:solidFill>
                <a:latin typeface="Corbel"/>
              </a:rPr>
              <a:t>07/28/26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Footer Placeholder 5"/>
          <p:cNvSpPr/>
          <p:nvPr/>
        </p:nvSpPr>
        <p:spPr>
          <a:xfrm>
            <a:off x="338472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410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L4: Action evaluation learning cycle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9906120" cy="55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Feedback findings during implementation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-28584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+ and – for scienc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Assess effect of researcher on implementation and result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Helps develop intervention during the implementation journey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Increases cooperation and access to dat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Partnership, but distinct role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Study how implementers use knowledge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and help use mor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411120" indent="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8" name="Slide Number Placeholder 3"/>
          <p:cNvSpPr/>
          <p:nvPr/>
        </p:nvSpPr>
        <p:spPr>
          <a:xfrm>
            <a:off x="8832960" y="6172200"/>
            <a:ext cx="577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2C101F-26E1-48D6-A78D-ADCD299F71C6}" type="slidenum">
              <a:rPr b="0" lang="en-US" sz="36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Date Placeholder 4"/>
          <p:cNvSpPr/>
          <p:nvPr/>
        </p:nvSpPr>
        <p:spPr>
          <a:xfrm>
            <a:off x="0" y="5943600"/>
            <a:ext cx="28065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35E78A-A4B5-4656-9B88-DEC5097A3DF2}" type="datetime">
              <a:rPr b="0" lang="en-US" sz="1100" spc="-1" strike="noStrike">
                <a:solidFill>
                  <a:srgbClr val="d6ecff"/>
                </a:solidFill>
                <a:latin typeface="Corbel"/>
              </a:rPr>
              <a:t>07/28/26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Footer Placeholder 5"/>
          <p:cNvSpPr/>
          <p:nvPr/>
        </p:nvSpPr>
        <p:spPr>
          <a:xfrm>
            <a:off x="338472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410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#4 Challenge: use – faster, wider </a:t>
            </a:r>
            <a:br>
              <a:rPr sz="4000"/>
            </a:b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9906120" cy="55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emand? - Real men don’t need researc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upply? - Real researchers don’t write exec summar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-28584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sure unusable and ”throw over the fence” delive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losing the research/practice gap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3" name="Slide Number Placeholder 3"/>
          <p:cNvSpPr/>
          <p:nvPr/>
        </p:nvSpPr>
        <p:spPr>
          <a:xfrm>
            <a:off x="8832960" y="6172200"/>
            <a:ext cx="577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B44FA8-239C-4AA6-990B-1818689A890E}" type="slidenum">
              <a:rPr b="0" lang="en-US" sz="36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Date Placeholder 4"/>
          <p:cNvSpPr/>
          <p:nvPr/>
        </p:nvSpPr>
        <p:spPr>
          <a:xfrm>
            <a:off x="0" y="5943600"/>
            <a:ext cx="28065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72368F-5495-47B1-8018-59FD6748F8E3}" type="datetime">
              <a:rPr b="0" lang="en-US" sz="1100" spc="-1" strike="noStrike">
                <a:solidFill>
                  <a:srgbClr val="d6ecff"/>
                </a:solidFill>
                <a:latin typeface="Corbel"/>
              </a:rPr>
              <a:t>07/28/26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Footer Placeholder 5"/>
          <p:cNvSpPr/>
          <p:nvPr/>
        </p:nvSpPr>
        <p:spPr>
          <a:xfrm>
            <a:off x="338472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41076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Translation in QSI HSR</a:t>
            </a:r>
            <a:br>
              <a:rPr sz="4000"/>
            </a:b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-360" y="1218960"/>
            <a:ext cx="9906120" cy="523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0">
              <a:spcBef>
                <a:spcPts val="700"/>
              </a:spcBef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Evidence&gt;Test&gt;Package             </a:t>
            </a:r>
            <a:r>
              <a:rPr b="0" lang="en-US" sz="3000" spc="-1" strike="noStrike">
                <a:solidFill>
                  <a:srgbClr val="ccedb1"/>
                </a:solidFill>
                <a:latin typeface="Times New Roman"/>
              </a:rPr>
              <a:t>User&gt;Adapt&gt;Implement/</a:t>
            </a:r>
            <a:r>
              <a:rPr b="0" lang="en-US" sz="2400" spc="-1" strike="noStrike">
                <a:solidFill>
                  <a:srgbClr val="ccedb1"/>
                </a:solidFill>
                <a:latin typeface="Times New Roman"/>
              </a:rPr>
              <a:t>Adjust</a:t>
            </a:r>
            <a:r>
              <a:rPr b="0" lang="en-US" sz="3000" spc="-1" strike="noStrike">
                <a:solidFill>
                  <a:srgbClr val="ccedb1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ccedb1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ccedb1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ccedb1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ccedb1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ccedb1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ccedb1"/>
                </a:solidFill>
                <a:latin typeface="Times New Roman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0">
              <a:spcBef>
                <a:spcPts val="649"/>
              </a:spcBef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00"/>
                </a:solidFill>
                <a:latin typeface="Times New Roman"/>
              </a:rPr>
              <a:t>Development Translation 1</a:t>
            </a:r>
            <a:r>
              <a:rPr b="1" i="1" lang="en-US" sz="2600" spc="-1" strike="noStrike">
                <a:solidFill>
                  <a:srgbClr val="ccffcc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ccffcc"/>
                </a:solidFill>
                <a:latin typeface="Times New Roman"/>
              </a:rPr>
              <a:t>       </a:t>
            </a:r>
            <a:r>
              <a:rPr b="1" i="1" lang="en-US" sz="2600" spc="-1" strike="noStrike">
                <a:solidFill>
                  <a:srgbClr val="ccedb1"/>
                </a:solidFill>
                <a:latin typeface="Times New Roman"/>
              </a:rPr>
              <a:t>Implementation Translation 2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411120" indent="0">
              <a:spcBef>
                <a:spcPts val="700"/>
              </a:spcBef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intervention development and testing)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adoption/ spread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11120" indent="0">
              <a:spcBef>
                <a:spcPts val="700"/>
              </a:spcBef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11120" indent="0" algn="ctr">
              <a:spcBef>
                <a:spcPts val="700"/>
              </a:spcBef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is the intervention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11120" indent="0" algn="ctr">
              <a:spcBef>
                <a:spcPts val="700"/>
              </a:spcBef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re do you draw the boundary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11120" indent="0">
              <a:spcBef>
                <a:spcPts val="700"/>
              </a:spcBef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8" name="Slide Number Placeholder 3"/>
          <p:cNvSpPr/>
          <p:nvPr/>
        </p:nvSpPr>
        <p:spPr>
          <a:xfrm>
            <a:off x="9245520" y="6172200"/>
            <a:ext cx="660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045B2A-6EB3-49C4-A8A0-EFFB1D364D7E}" type="slidenum">
              <a:rPr b="0" lang="en-US" sz="36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9" name="Double Brace 4"/>
          <p:cNvGrpSpPr/>
          <p:nvPr/>
        </p:nvGrpSpPr>
        <p:grpSpPr>
          <a:xfrm>
            <a:off x="-92160" y="1206360"/>
            <a:ext cx="4803840" cy="1092240"/>
            <a:chOff x="-92160" y="1206360"/>
            <a:chExt cx="4803840" cy="1092240"/>
          </a:xfrm>
        </p:grpSpPr>
        <p:pic>
          <p:nvPicPr>
            <p:cNvPr id="790" name="Double Brace 4" descr=""/>
            <p:cNvPicPr/>
            <p:nvPr/>
          </p:nvPicPr>
          <p:blipFill>
            <a:blip r:embed="rId1"/>
            <a:stretch/>
          </p:blipFill>
          <p:spPr>
            <a:xfrm>
              <a:off x="-92160" y="1206360"/>
              <a:ext cx="480384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1" name=""/>
            <p:cNvSpPr/>
            <p:nvPr/>
          </p:nvSpPr>
          <p:spPr>
            <a:xfrm>
              <a:off x="98280" y="1393920"/>
              <a:ext cx="442620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92" name="Double Brace 5"/>
          <p:cNvGrpSpPr/>
          <p:nvPr/>
        </p:nvGrpSpPr>
        <p:grpSpPr>
          <a:xfrm>
            <a:off x="4863960" y="1206360"/>
            <a:ext cx="5133960" cy="1092240"/>
            <a:chOff x="4863960" y="1206360"/>
            <a:chExt cx="5133960" cy="1092240"/>
          </a:xfrm>
        </p:grpSpPr>
        <p:pic>
          <p:nvPicPr>
            <p:cNvPr id="793" name="Double Brace 5" descr=""/>
            <p:cNvPicPr/>
            <p:nvPr/>
          </p:nvPicPr>
          <p:blipFill>
            <a:blip r:embed="rId2"/>
            <a:stretch/>
          </p:blipFill>
          <p:spPr>
            <a:xfrm>
              <a:off x="4863960" y="1206360"/>
              <a:ext cx="513396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4" name=""/>
            <p:cNvSpPr/>
            <p:nvPr/>
          </p:nvSpPr>
          <p:spPr>
            <a:xfrm>
              <a:off x="5051520" y="1393920"/>
              <a:ext cx="475596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41076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Achievements </a:t>
            </a:r>
            <a:br>
              <a:rPr sz="4000"/>
            </a:b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9906120" cy="588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Notable research funded by AHRQ: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411120" indent="0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Closing the quality gap series http://www.ahrq.gov/clinic/epc/qgapfact.htm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Henriksen K, Battles JB, Marks ES, Lewin DI, editors. Advances in patient safety: from research to implementation.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Vol. 1, Vol2. Vol 3 implement Vol4 AHRQ Publication No. 05-0021-1. Rockville, MD: Agency for Healthcare Research and Quality; Feb. 2005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11120" indent="0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eb8803"/>
                </a:solidFill>
                <a:uFillTx/>
                <a:latin typeface="Times New Roman"/>
                <a:hlinkClick r:id="rId1"/>
              </a:rPr>
              <a:t>http://www.ncbi.nlm.nih.gov/books/bv.fcgi?rid=aps.part.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11120" indent="0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Partnerships in Implementing Patient Safety (PIPS) grant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411120" indent="0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REAIM studies (eg Magid et al 2008)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411120" indent="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411120" indent="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411120" indent="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411120" indent="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411120" indent="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411120" indent="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411120" indent="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411120" indent="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411120" indent="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411120" indent="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411120" indent="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3" name="Slide Number Placeholder 3"/>
          <p:cNvSpPr/>
          <p:nvPr/>
        </p:nvSpPr>
        <p:spPr>
          <a:xfrm>
            <a:off x="8832960" y="6172200"/>
            <a:ext cx="577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5AB610-F9A3-43BF-99E3-6BEEFEEAA10A}" type="slidenum">
              <a:rPr b="0" lang="en-US" sz="36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410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#4 Resolutions – our experience </a:t>
            </a:r>
            <a:br>
              <a:rPr sz="4000"/>
            </a:b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-360" y="609480"/>
            <a:ext cx="9906120" cy="611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Use KT/KM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literature – what works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ontent: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ccessibility and relevan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-285840">
              <a:lnSpc>
                <a:spcPct val="100000"/>
              </a:lnSpc>
              <a:spcBef>
                <a:spcPts val="79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rvice implications; many examples; 3:20:Appx reports; ghost writers and mediator authors;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-285840">
              <a:lnSpc>
                <a:spcPct val="100000"/>
              </a:lnSpc>
              <a:spcBef>
                <a:spcPts val="79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gage emotionally: patient describes experience or video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Process: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teract with users at each stag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tructure: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orums, networks, joint appointments, broke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7" name="Slide Number Placeholder 3"/>
          <p:cNvSpPr/>
          <p:nvPr/>
        </p:nvSpPr>
        <p:spPr>
          <a:xfrm>
            <a:off x="8832960" y="6172200"/>
            <a:ext cx="577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D7A379-C57E-48F0-AB50-334E066DC4C1}" type="slidenum">
              <a:rPr b="0" lang="en-US" sz="36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Date Placeholder 4"/>
          <p:cNvSpPr/>
          <p:nvPr/>
        </p:nvSpPr>
        <p:spPr>
          <a:xfrm>
            <a:off x="0" y="5943600"/>
            <a:ext cx="28065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870382-32B8-44B3-90F7-EBA7F0BFE459}" type="datetime">
              <a:rPr b="0" lang="en-US" sz="1100" spc="-1" strike="noStrike">
                <a:solidFill>
                  <a:srgbClr val="d6ecff"/>
                </a:solidFill>
                <a:latin typeface="Corbel"/>
              </a:rPr>
              <a:t>07/28/26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Footer Placeholder 5"/>
          <p:cNvSpPr/>
          <p:nvPr/>
        </p:nvSpPr>
        <p:spPr>
          <a:xfrm>
            <a:off x="338472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410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Summary</a:t>
            </a:r>
            <a:br>
              <a:rPr sz="4000"/>
            </a:b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-360" y="685800"/>
            <a:ext cx="9906120" cy="60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2" name="Slide Number Placeholder 3"/>
          <p:cNvSpPr/>
          <p:nvPr/>
        </p:nvSpPr>
        <p:spPr>
          <a:xfrm>
            <a:off x="8832960" y="6172200"/>
            <a:ext cx="577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775D70-9B07-4D38-B4AF-591E3D41CEE2}" type="slidenum">
              <a:rPr b="0" lang="en-US" sz="36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Date Placeholder 4"/>
          <p:cNvSpPr/>
          <p:nvPr/>
        </p:nvSpPr>
        <p:spPr>
          <a:xfrm>
            <a:off x="0" y="5943600"/>
            <a:ext cx="28065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9E4F72-9995-4C13-8244-D539497B9CA7}" type="datetime">
              <a:rPr b="0" lang="en-US" sz="1100" spc="-1" strike="noStrike">
                <a:solidFill>
                  <a:srgbClr val="d6ecff"/>
                </a:solidFill>
                <a:latin typeface="Corbel"/>
              </a:rPr>
              <a:t>07/28/26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Footer Placeholder 5"/>
          <p:cNvSpPr/>
          <p:nvPr/>
        </p:nvSpPr>
        <p:spPr>
          <a:xfrm>
            <a:off x="338472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05" name=""/>
          <p:cNvGraphicFramePr/>
          <p:nvPr/>
        </p:nvGraphicFramePr>
        <p:xfrm>
          <a:off x="0" y="0"/>
          <a:ext cx="9906120" cy="7134120"/>
        </p:xfrm>
        <a:graphic>
          <a:graphicData uri="http://schemas.openxmlformats.org/drawingml/2006/table">
            <a:tbl>
              <a:tblPr/>
              <a:tblGrid>
                <a:gridCol w="3222720"/>
                <a:gridCol w="66834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Challeng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>
                      <a:noFill/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eb80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Resolutions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eb80a"/>
                    </a:solidFill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Decision makers information nee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>
                      <a:noFill/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f3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Their hierarachy of eviden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f3e7"/>
                    </a:solidFill>
                  </a:tcPr>
                </a:tc>
              </a:tr>
              <a:tr h="22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Proof of efficac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>
                      <a:noFill/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RCT/CT priceles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...For all else, strengthen observational studi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Parrallel process evaluat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Report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Effectiveness research for generalisat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>
                      <a:noFill/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f3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Pragmatic trials – variation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Case stud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Theory-based researc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Action evaluation learning cyc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f3e7"/>
                    </a:solidFill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Faster wider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>
                      <a:noFill/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Content; process; structure; culture? Silos?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41076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Questions</a:t>
            </a:r>
            <a:br>
              <a:rPr sz="4000"/>
            </a:b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-360" y="609480"/>
            <a:ext cx="9906120" cy="611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fficacy and causalit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-285840">
              <a:lnSpc>
                <a:spcPct val="100000"/>
              </a:lnSpc>
              <a:spcBef>
                <a:spcPts val="79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ystem thinking in research - causality explanations and data gather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-285840">
              <a:lnSpc>
                <a:spcPct val="100000"/>
              </a:lnSpc>
              <a:spcBef>
                <a:spcPts val="79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ways trade off between internal/external validity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eneralisable effectiveness research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-285840">
              <a:lnSpc>
                <a:spcPct val="100000"/>
              </a:lnSpc>
              <a:spcBef>
                <a:spcPts val="79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ourney/story approach – uniqu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Use: faster, quick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-285840">
              <a:lnSpc>
                <a:spcPct val="100000"/>
              </a:lnSpc>
              <a:spcBef>
                <a:spcPts val="79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tend researcher rol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-285840">
              <a:lnSpc>
                <a:spcPct val="100000"/>
              </a:lnSpc>
              <a:spcBef>
                <a:spcPts val="79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crease deman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-285840">
              <a:lnSpc>
                <a:spcPct val="100000"/>
              </a:lnSpc>
              <a:spcBef>
                <a:spcPts val="79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ffect of action rol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8" name="Slide Number Placeholder 3"/>
          <p:cNvSpPr/>
          <p:nvPr/>
        </p:nvSpPr>
        <p:spPr>
          <a:xfrm>
            <a:off x="8832960" y="6172200"/>
            <a:ext cx="577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AD759E-81FA-46C2-AD45-EE3DA6BE3EEF}" type="slidenum">
              <a:rPr b="0" lang="en-US" sz="36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Date Placeholder 4"/>
          <p:cNvSpPr/>
          <p:nvPr/>
        </p:nvSpPr>
        <p:spPr>
          <a:xfrm>
            <a:off x="0" y="5943600"/>
            <a:ext cx="28065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9C2693-E634-499C-95E4-4B4A24F2233D}" type="datetime">
              <a:rPr b="0" lang="en-US" sz="1100" spc="-1" strike="noStrike">
                <a:solidFill>
                  <a:srgbClr val="d6ecff"/>
                </a:solidFill>
                <a:latin typeface="Corbel"/>
              </a:rPr>
              <a:t>07/28/26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Footer Placeholder 5"/>
          <p:cNvSpPr/>
          <p:nvPr/>
        </p:nvSpPr>
        <p:spPr>
          <a:xfrm>
            <a:off x="338472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41076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Acknowledge also:</a:t>
            </a:r>
            <a:br>
              <a:rPr sz="4000"/>
            </a:b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6840" y="1681200"/>
            <a:ext cx="9906120" cy="58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QUERY series , Mittman et al, eg Yano 2008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411120" indent="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411120" indent="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411120" indent="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411120" indent="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411120" indent="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411120" indent="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411120" indent="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411120" indent="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411120" indent="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411120" indent="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411120" indent="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411120" indent="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Slide Number Placeholder 3"/>
          <p:cNvSpPr/>
          <p:nvPr/>
        </p:nvSpPr>
        <p:spPr>
          <a:xfrm>
            <a:off x="8832960" y="6172200"/>
            <a:ext cx="577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F8B683-744A-4B47-906D-2A21262338BB}" type="slidenum">
              <a:rPr b="0" lang="en-US" sz="36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7" name="Picture 4" descr=""/>
          <p:cNvPicPr/>
          <p:nvPr/>
        </p:nvPicPr>
        <p:blipFill>
          <a:blip r:embed="rId1"/>
          <a:stretch/>
        </p:blipFill>
        <p:spPr>
          <a:xfrm>
            <a:off x="0" y="3225960"/>
            <a:ext cx="9931320" cy="1117440"/>
          </a:xfrm>
          <a:prstGeom prst="rect">
            <a:avLst/>
          </a:prstGeom>
          <a:ln w="0">
            <a:noFill/>
          </a:ln>
        </p:spPr>
      </p:pic>
      <p:pic>
        <p:nvPicPr>
          <p:cNvPr id="648" name="Oval Callout 5" descr=""/>
          <p:cNvPicPr/>
          <p:nvPr/>
        </p:nvPicPr>
        <p:blipFill>
          <a:blip r:embed="rId2"/>
          <a:stretch/>
        </p:blipFill>
        <p:spPr>
          <a:xfrm>
            <a:off x="-103320" y="2779560"/>
            <a:ext cx="10856880" cy="21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41076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Achievements </a:t>
            </a:r>
            <a:br>
              <a:rPr sz="4000"/>
            </a:b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9906120" cy="588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Questions are the answer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411120" indent="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411120" indent="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411120" indent="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411120" indent="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411120" indent="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411120" indent="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411120" indent="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411120" indent="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" name="Slide Number Placeholder 3"/>
          <p:cNvSpPr/>
          <p:nvPr/>
        </p:nvSpPr>
        <p:spPr>
          <a:xfrm>
            <a:off x="8832960" y="6172200"/>
            <a:ext cx="577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FFDA03-935C-4176-B623-597D0BDA39C5}" type="slidenum">
              <a:rPr b="0" lang="en-US" sz="36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2" name="patient_questions_60_cc copy" descr="/Users/johnovr/Desktop/ALL FILESap08/Confrnces:Presentns/AHRQHARRISSON/patient_questions_60_cc copy"/>
          <p:cNvPicPr/>
          <p:nvPr/>
        </p:nvPicPr>
        <p:blipFill>
          <a:blip r:embed="rId1"/>
          <a:stretch/>
        </p:blipFill>
        <p:spPr>
          <a:xfrm>
            <a:off x="1596960" y="1523880"/>
            <a:ext cx="67150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65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65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6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41076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hown excellence, but now challenges</a:t>
            </a:r>
            <a:br>
              <a:rPr sz="4000"/>
            </a:b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-360" y="609480"/>
            <a:ext cx="9906120" cy="611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# 1: Is it effective? (for many types of QSI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11120" indent="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# 2: Why?: causal model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11120" indent="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# 3: Who cares anyway? - More useful to research use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3" marL="1260360" indent="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# 3a: How to implement it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260360" indent="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# 3b: Researcher-user interaction: use knowledge translation res/K to shape question and enable users to u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11120" indent="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= Exciting opportunity for research innov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11120" indent="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ut sil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11120" indent="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11120" indent="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Slide Number Placeholder 3"/>
          <p:cNvSpPr/>
          <p:nvPr/>
        </p:nvSpPr>
        <p:spPr>
          <a:xfrm>
            <a:off x="8832960" y="6172200"/>
            <a:ext cx="577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7DB8DC-C6BE-438F-A0C5-846B34CCB256}" type="slidenum">
              <a:rPr b="0" lang="en-US" sz="36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y subject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 interventions to providers/organisations, not patients</a:t>
            </a:r>
            <a:br>
              <a:rPr sz="2800"/>
            </a:b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evaluating non-standardisable complex interventions and implementation strategies </a:t>
            </a:r>
            <a:br>
              <a:rPr sz="2400"/>
            </a:b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9906120" cy="55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ffffff"/>
                </a:solidFill>
                <a:latin typeface="Times New Roman"/>
              </a:rPr>
              <a:t>Not </a:t>
            </a:r>
            <a:r>
              <a:rPr b="0" lang="en-GB" sz="3000" spc="-1" strike="noStrike">
                <a:solidFill>
                  <a:srgbClr val="ffffff"/>
                </a:solidFill>
                <a:latin typeface="Times New Roman"/>
              </a:rPr>
              <a:t>Treatments: BBs after AMI 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beta-blockers after myo cardial infarc tio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But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Intervention to get </a:t>
            </a:r>
            <a:r>
              <a:rPr b="0" lang="en-GB" sz="3000" spc="-1" strike="noStrike">
                <a:solidFill>
                  <a:srgbClr val="ffffff"/>
                </a:solidFill>
                <a:latin typeface="Times New Roman"/>
              </a:rPr>
              <a:t>BBs given appropriately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(eg Education, guidelines, CDS, audi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imes New Roman"/>
              </a:rPr>
              <a:t>Intervention to spread CDM eg Breakthrough collaborativ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imes New Roman"/>
              </a:rPr>
              <a:t>RRT (or CRM)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imes New Roman"/>
              </a:rPr>
              <a:t>Development programme to lead improvement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imes New Roman"/>
              </a:rPr>
              <a:t>P4P for Q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imes New Roman"/>
              </a:rPr>
              <a:t>Accreditation: </a:t>
            </a:r>
            <a:r>
              <a:rPr b="0" i="1" lang="en-GB" sz="3000" spc="-1" strike="noStrike">
                <a:solidFill>
                  <a:srgbClr val="ffffff"/>
                </a:solidFill>
                <a:latin typeface="Times New Roman"/>
              </a:rPr>
              <a:t>benefits for costs compared to alt?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" name="Slide Number Placeholder 3"/>
          <p:cNvSpPr/>
          <p:nvPr/>
        </p:nvSpPr>
        <p:spPr>
          <a:xfrm>
            <a:off x="8832960" y="6172200"/>
            <a:ext cx="577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18393F-13C7-444E-878F-BD9FDF99A8D3}" type="slidenum">
              <a:rPr b="0" lang="en-US" sz="36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stinguish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9906120" cy="55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1" name="Slide Number Placeholder 3"/>
          <p:cNvSpPr/>
          <p:nvPr/>
        </p:nvSpPr>
        <p:spPr>
          <a:xfrm>
            <a:off x="8832960" y="6172200"/>
            <a:ext cx="577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8F30A2-9671-44C3-ADA2-5122A8E447F3}" type="slidenum">
              <a:rPr b="0" lang="en-US" sz="36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62" name=""/>
          <p:cNvGraphicFramePr/>
          <p:nvPr/>
        </p:nvGraphicFramePr>
        <p:xfrm>
          <a:off x="0" y="622440"/>
          <a:ext cx="9906120" cy="6651360"/>
        </p:xfrm>
        <a:graphic>
          <a:graphicData uri="http://schemas.openxmlformats.org/drawingml/2006/table">
            <a:tbl>
              <a:tblPr/>
              <a:tblGrid>
                <a:gridCol w="3048120"/>
                <a:gridCol w="3555720"/>
                <a:gridCol w="3302280"/>
              </a:tblGrid>
              <a:tr h="204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ffffff"/>
                          </a:solidFill>
                          <a:uFillTx/>
                          <a:latin typeface="Corbel"/>
                        </a:rPr>
                        <a:t>INTERVENTIO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Seed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ffffff"/>
                          </a:solidFill>
                          <a:uFillTx/>
                          <a:latin typeface="Corbel"/>
                        </a:rPr>
                        <a:t>IMPLEMENTATION STRATEGIE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Planting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ffffff"/>
                          </a:solidFill>
                          <a:uFillTx/>
                          <a:latin typeface="Corbel"/>
                        </a:rPr>
                        <a:t>CONTEX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Soil and climat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2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Clinical QSI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(eg prescribe BBs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Educati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Guidelin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Audit and feedbac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Academic detai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Organisational structur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Cultur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System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Financial system?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1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Organisational  QSI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(eg care management; RRT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Breakthrough collaborativ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6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Which effective for which intervention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Classification of strategies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Which features help and hinder which strateges/support which interventions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41076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mes</a:t>
            </a:r>
            <a:br>
              <a:rPr sz="4000"/>
            </a:b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9906120" cy="588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orses for cours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-285840">
              <a:lnSpc>
                <a:spcPct val="100000"/>
              </a:lnSpc>
              <a:spcBef>
                <a:spcPts val="79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tch method to question and type of QS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-285840">
              <a:lnSpc>
                <a:spcPct val="100000"/>
              </a:lnSpc>
              <a:spcBef>
                <a:spcPts val="79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re flexibility and innovatio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ts not the camera, but what’s behind and in front that makes a quality pictu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ts not the intervention, but the context and the beneficiaries that makes the impac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11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11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5" name="Slide Number Placeholder 3"/>
          <p:cNvSpPr/>
          <p:nvPr/>
        </p:nvSpPr>
        <p:spPr>
          <a:xfrm>
            <a:off x="8832960" y="6172200"/>
            <a:ext cx="577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0A49F9-CBEC-40D3-820A-D36D8668DF51}" type="slidenum">
              <a:rPr b="0" lang="en-US" sz="36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08:49:35Z</dcterms:created>
  <dc:creator>Ovret J</dc:creator>
  <dc:description/>
  <dc:language>en-US</dc:language>
  <cp:lastModifiedBy>rac</cp:lastModifiedBy>
  <dcterms:modified xsi:type="dcterms:W3CDTF">2008-10-02T19:15:48Z</dcterms:modified>
  <cp:revision>149</cp:revision>
  <dc:subject/>
  <dc:title>Problem</dc:title>
</cp:coreProperties>
</file>