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186-6F7E-42E9-AAF4-344B51210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to identify the gaps in understanding, barriers and disconnects that may exist with providers’ adoption of, and membership in, the Indiana Network for Patient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18F-0975-4D82-8C3E-BCE1FC00D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260-34F0-4FB1-82C4-5BBC6D95B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B4BC-F1E0-449E-BAE3-2BD33D3CC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530-22ED-4440-95FB-CF6A6812D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36F-6AB2-4BF7-AB45-A9C58336E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A5B-C9D6-416C-A85E-3EE25AE27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4B2-7BCB-489D-B67C-2DBB756E4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887-896F-4AE0-BA60-2B62A2AE6A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1600" y="674640"/>
            <a:ext cx="4604040" cy="345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2B10-3DA9-4778-AFA5-3F8313D9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exchanges (IHIE, HB, CareSpark, Tampa Bay RHI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82FA-7CBE-4305-848A-184E2DE00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6FFC-162F-4723-AE73-A7CDA1A3A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iana Health Information Exch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© 2008 Indiana Health Information Exchang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4D9D312E-F77A-4B89-A39A-82EB724BD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69AD-EFAB-411A-9C0F-89AE5F1BA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39D-BBEC-4DEE-AD7F-DF84FC2324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1616-88B7-4E57-A022-9FC7445CE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BBA-E458-4D29-9B1F-5B9033C1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3B0-5A47-4E67-9F9D-C9BD58AE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A4C-DF18-4286-BB93-BB8508DB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3B0-BA8F-4364-8414-D87FA39D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5D28-729B-4F9E-8761-EEAD682C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6864-0A0F-4C56-95BC-D6138843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0F92-60E0-4D7F-9D19-38D53804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8C8A-73A7-427C-B288-41108F43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1701-08C4-4D69-8A55-7880DB2D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A486-4E1C-4CDA-8CBE-98317A8F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9A9-D5C9-4F20-B6F0-2E0C6E3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903-C116-41A0-96B0-4EBE802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21BB-BBB0-49ED-94A0-FB79C92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9C0D-930D-4004-83AC-8ACF71B9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8EDB-6E90-4CDE-87E3-E53A1B55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55B8-7EC6-4777-BCB5-FD046181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3DEB-14C1-4CD4-BDFF-89BE2815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9824-FF47-45F7-9770-BDBE568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2D14-2F9E-4F8D-A1FA-06D253F7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477-0494-4FF3-B46C-AADCF325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F08-99C7-490B-BCF5-C8B633EE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9AF-AC95-426E-98B3-6D70BC7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3BCB-DDB3-4392-ABDE-828EAA8D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A77-CF7B-4814-909E-7AD83234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40D9-5F24-454C-9348-0B76BEBE0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HI Connecting Communitie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11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90FF89AC-A97F-4463-82BE-BBFFE1796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7.wmf"/><Relationship Id="rId10" Type="http://schemas.openxmlformats.org/officeDocument/2006/relationships/image" Target="../media/image3.wmf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image" Target="../media/image9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coming Barriers to Expanding 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"/>
          <p:cNvPicPr/>
          <p:nvPr/>
        </p:nvPicPr>
        <p:blipFill>
          <a:blip r:embed="rId1"/>
          <a:srcRect l="19503" t="0" r="19503" b="0"/>
          <a:stretch/>
        </p:blipFill>
        <p:spPr>
          <a:xfrm rot="21005400">
            <a:off x="2912760" y="-78840"/>
            <a:ext cx="5949720" cy="780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1" name="Picture 4" descr=""/>
          <p:cNvPicPr/>
          <p:nvPr/>
        </p:nvPicPr>
        <p:blipFill>
          <a:blip r:embed="rId2"/>
          <a:srcRect l="19503" t="0" r="19503" b="0"/>
          <a:stretch/>
        </p:blipFill>
        <p:spPr>
          <a:xfrm rot="20620200">
            <a:off x="1143000" y="-380520"/>
            <a:ext cx="5950080" cy="7802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Picture 2" descr=""/>
          <p:cNvPicPr/>
          <p:nvPr/>
        </p:nvPicPr>
        <p:blipFill>
          <a:blip r:embed="rId3"/>
          <a:srcRect l="19503" t="0" r="19503" b="0"/>
          <a:stretch/>
        </p:blipFill>
        <p:spPr>
          <a:xfrm rot="669000">
            <a:off x="469800" y="-336600"/>
            <a:ext cx="5950080" cy="7802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tical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grounded theory approach will be used to identify emergent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ed means “based on and connected to the context-dependent observations and perceptions of the social scene;” so the informants’ own words will guide development of codes</a:t>
            </a:r>
            <a:r>
              <a:rPr b="0" lang="en-US" sz="25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wo individuals will independently review the field notes, annotating important themes in the margi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wo other researchers will carefully review the documentation and note major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team will meet up to four times to reach consensus on identifying and naming the patterns and them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716440" y="6172200"/>
            <a:ext cx="2890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*Crabtree BF, Miller WL. Doing Qualitative Researc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ewbury Park, CA, Sage, 1992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rcRect l="3429" t="9143" r="1371" b="22857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ral Hospital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in Lawrence Co near Bloomingt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ready have an interface from hospital system to their employed physicians’ EMR which provides most of the benefit to be received from an H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ians not thrilled with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in Gibson Co in southwest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ure they understand the difference between and EMR and HI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to upgrade bandwidth for commun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help financially (gra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available IT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lder MDs want paper – need to be so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-20520" y="0"/>
            <a:ext cx="9240840" cy="70102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ral Hospital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ural hospital between Ft Wayne and Muncie in Northwest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sure they understand difference between EMR and H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ndwidth is the largest issu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19302603.JPG"/>
          <p:cNvPicPr/>
          <p:nvPr/>
        </p:nvPicPr>
        <p:blipFill>
          <a:blip r:embed="rId1"/>
          <a:stretch/>
        </p:blipFill>
        <p:spPr>
          <a:xfrm>
            <a:off x="-11160" y="0"/>
            <a:ext cx="9280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ian Informant’s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pecialty urban physician group in central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ysicians must see the benefit to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Ds “hold data clos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ategic IT projects are being addre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specialty urban physician group in central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buy-in from the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mall specialty physician practice in southeastern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buy-in from the M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arri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about how their data will be used among hospit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 positio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quality measu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ayment negot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priv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mass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0520" y="457200"/>
            <a:ext cx="8562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ealth Information Exchan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1554120" y="2276640"/>
            <a:ext cx="522360" cy="496800"/>
          </a:xfrm>
          <a:prstGeom prst="plus">
            <a:avLst>
              <a:gd name="adj" fmla="val 319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87240" y="4033800"/>
            <a:ext cx="327240" cy="444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3460680" y="3154320"/>
            <a:ext cx="39060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757080" y="2989440"/>
            <a:ext cx="346320" cy="37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rcRect l="0" t="0" r="45014" b="50937"/>
          <a:stretch/>
        </p:blipFill>
        <p:spPr>
          <a:xfrm>
            <a:off x="949320" y="4857840"/>
            <a:ext cx="716040" cy="480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2354400" y="5076720"/>
            <a:ext cx="296640" cy="515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9"/>
          <p:cNvSpPr/>
          <p:nvPr/>
        </p:nvSpPr>
        <p:spPr>
          <a:xfrm>
            <a:off x="1473120" y="2714760"/>
            <a:ext cx="679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ospita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722760" y="3209760"/>
            <a:ext cx="9936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rimary care physici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6"/>
          <a:stretch/>
        </p:blipFill>
        <p:spPr>
          <a:xfrm>
            <a:off x="3467160" y="4253040"/>
            <a:ext cx="390600" cy="495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3825720" y="4308480"/>
            <a:ext cx="99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pecialty physici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563920" y="5460840"/>
            <a:ext cx="1069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Ambulatory center (e.g. imaging center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844560" y="4692600"/>
            <a:ext cx="99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ay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322200" y="3759120"/>
            <a:ext cx="9954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harm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66560" y="3263760"/>
            <a:ext cx="99540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"/>
          <p:cNvPicPr/>
          <p:nvPr/>
        </p:nvPicPr>
        <p:blipFill>
          <a:blip r:embed="rId7"/>
          <a:stretch/>
        </p:blipFill>
        <p:spPr>
          <a:xfrm>
            <a:off x="2603520" y="2133720"/>
            <a:ext cx="709560" cy="744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2498760" y="2795760"/>
            <a:ext cx="8380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1482840" y="4037760"/>
            <a:ext cx="79848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338120" y="3048120"/>
            <a:ext cx="1850760" cy="1828800"/>
            <a:chOff x="1338120" y="3048120"/>
            <a:chExt cx="1850760" cy="1828800"/>
          </a:xfrm>
        </p:grpSpPr>
        <p:sp>
          <p:nvSpPr>
            <p:cNvPr id="109" name="Line 21"/>
            <p:cNvSpPr/>
            <p:nvPr/>
          </p:nvSpPr>
          <p:spPr>
            <a:xfrm flipV="1">
              <a:off x="1446840" y="3505320"/>
              <a:ext cx="17420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>
              <a:off x="1483200" y="4038120"/>
              <a:ext cx="1669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>
              <a:off x="1483200" y="4038840"/>
              <a:ext cx="798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 flipH="1">
              <a:off x="1410120" y="4038120"/>
              <a:ext cx="723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1338120" y="3581640"/>
              <a:ext cx="145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6"/>
            <p:cNvSpPr/>
            <p:nvPr/>
          </p:nvSpPr>
          <p:spPr>
            <a:xfrm flipH="1">
              <a:off x="1482840" y="3048120"/>
              <a:ext cx="2898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7"/>
            <p:cNvSpPr/>
            <p:nvPr/>
          </p:nvSpPr>
          <p:spPr>
            <a:xfrm flipH="1">
              <a:off x="1482840" y="3200760"/>
              <a:ext cx="1161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8"/>
          <p:cNvGrpSpPr/>
          <p:nvPr/>
        </p:nvGrpSpPr>
        <p:grpSpPr>
          <a:xfrm>
            <a:off x="1221120" y="2849040"/>
            <a:ext cx="2108160" cy="1844280"/>
            <a:chOff x="1221120" y="2849040"/>
            <a:chExt cx="2108160" cy="1844280"/>
          </a:xfrm>
        </p:grpSpPr>
        <p:sp>
          <p:nvSpPr>
            <p:cNvPr id="117" name="Line 29"/>
            <p:cNvSpPr/>
            <p:nvPr/>
          </p:nvSpPr>
          <p:spPr>
            <a:xfrm>
              <a:off x="1549800" y="3555360"/>
              <a:ext cx="1779480" cy="38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0"/>
            <p:cNvSpPr/>
            <p:nvPr/>
          </p:nvSpPr>
          <p:spPr>
            <a:xfrm>
              <a:off x="1581840" y="3572280"/>
              <a:ext cx="130752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1"/>
            <p:cNvSpPr/>
            <p:nvPr/>
          </p:nvSpPr>
          <p:spPr>
            <a:xfrm>
              <a:off x="1581480" y="3573000"/>
              <a:ext cx="288000" cy="11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2"/>
            <p:cNvSpPr/>
            <p:nvPr/>
          </p:nvSpPr>
          <p:spPr>
            <a:xfrm flipH="1">
              <a:off x="1221120" y="3572280"/>
              <a:ext cx="3600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3"/>
            <p:cNvSpPr/>
            <p:nvPr/>
          </p:nvSpPr>
          <p:spPr>
            <a:xfrm flipH="1">
              <a:off x="1581480" y="3103200"/>
              <a:ext cx="96120" cy="46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 flipH="1">
              <a:off x="1581120" y="2849040"/>
              <a:ext cx="73584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 flipH="1">
              <a:off x="1581480" y="3406320"/>
              <a:ext cx="142128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36"/>
          <p:cNvGrpSpPr/>
          <p:nvPr/>
        </p:nvGrpSpPr>
        <p:grpSpPr>
          <a:xfrm>
            <a:off x="1476360" y="2871000"/>
            <a:ext cx="1685160" cy="2031840"/>
            <a:chOff x="1476360" y="2871000"/>
            <a:chExt cx="1685160" cy="2031840"/>
          </a:xfrm>
        </p:grpSpPr>
        <p:sp>
          <p:nvSpPr>
            <p:cNvPr id="125" name="Line 37"/>
            <p:cNvSpPr/>
            <p:nvPr/>
          </p:nvSpPr>
          <p:spPr>
            <a:xfrm>
              <a:off x="2044440" y="3102480"/>
              <a:ext cx="998280" cy="16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8"/>
            <p:cNvSpPr/>
            <p:nvPr/>
          </p:nvSpPr>
          <p:spPr>
            <a:xfrm>
              <a:off x="2054880" y="3139200"/>
              <a:ext cx="210600" cy="17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9"/>
            <p:cNvSpPr/>
            <p:nvPr/>
          </p:nvSpPr>
          <p:spPr>
            <a:xfrm flipH="1">
              <a:off x="1522800" y="3139200"/>
              <a:ext cx="532080" cy="10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0"/>
            <p:cNvSpPr/>
            <p:nvPr/>
          </p:nvSpPr>
          <p:spPr>
            <a:xfrm flipH="1">
              <a:off x="1476360" y="3139200"/>
              <a:ext cx="57852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41"/>
            <p:cNvSpPr/>
            <p:nvPr/>
          </p:nvSpPr>
          <p:spPr>
            <a:xfrm flipH="1">
              <a:off x="2055600" y="2871000"/>
              <a:ext cx="37512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42"/>
            <p:cNvSpPr/>
            <p:nvPr/>
          </p:nvSpPr>
          <p:spPr>
            <a:xfrm flipH="1" flipV="1">
              <a:off x="2054880" y="3139200"/>
              <a:ext cx="990720" cy="2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43"/>
            <p:cNvSpPr/>
            <p:nvPr/>
          </p:nvSpPr>
          <p:spPr>
            <a:xfrm flipH="1" flipV="1">
              <a:off x="2055240" y="3139200"/>
              <a:ext cx="1106280" cy="94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4"/>
          <p:cNvGrpSpPr/>
          <p:nvPr/>
        </p:nvGrpSpPr>
        <p:grpSpPr>
          <a:xfrm>
            <a:off x="1252440" y="2952720"/>
            <a:ext cx="1879200" cy="2125440"/>
            <a:chOff x="1252440" y="2952720"/>
            <a:chExt cx="1879200" cy="2125440"/>
          </a:xfrm>
        </p:grpSpPr>
        <p:sp>
          <p:nvSpPr>
            <p:cNvPr id="133" name="Line 45"/>
            <p:cNvSpPr/>
            <p:nvPr/>
          </p:nvSpPr>
          <p:spPr>
            <a:xfrm flipH="1">
              <a:off x="1832760" y="3360600"/>
              <a:ext cx="80712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6"/>
            <p:cNvSpPr/>
            <p:nvPr/>
          </p:nvSpPr>
          <p:spPr>
            <a:xfrm flipH="1">
              <a:off x="1252440" y="3389040"/>
              <a:ext cx="1362240" cy="11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7"/>
            <p:cNvSpPr/>
            <p:nvPr/>
          </p:nvSpPr>
          <p:spPr>
            <a:xfrm flipH="1">
              <a:off x="1463760" y="3389040"/>
              <a:ext cx="115092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8"/>
            <p:cNvSpPr/>
            <p:nvPr/>
          </p:nvSpPr>
          <p:spPr>
            <a:xfrm flipH="1" flipV="1">
              <a:off x="2224800" y="2952720"/>
              <a:ext cx="39024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9"/>
            <p:cNvSpPr/>
            <p:nvPr/>
          </p:nvSpPr>
          <p:spPr>
            <a:xfrm flipH="1" flipV="1">
              <a:off x="2615400" y="3389760"/>
              <a:ext cx="42912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0"/>
            <p:cNvSpPr/>
            <p:nvPr/>
          </p:nvSpPr>
          <p:spPr>
            <a:xfrm flipH="1" flipV="1">
              <a:off x="2615040" y="3389040"/>
              <a:ext cx="516600" cy="84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51"/>
            <p:cNvSpPr/>
            <p:nvPr/>
          </p:nvSpPr>
          <p:spPr>
            <a:xfrm flipV="1">
              <a:off x="2425680" y="3389040"/>
              <a:ext cx="189360" cy="144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52"/>
          <p:cNvGrpSpPr/>
          <p:nvPr/>
        </p:nvGrpSpPr>
        <p:grpSpPr>
          <a:xfrm>
            <a:off x="1310400" y="3165120"/>
            <a:ext cx="2112840" cy="1832040"/>
            <a:chOff x="1310400" y="3165120"/>
            <a:chExt cx="2112840" cy="1832040"/>
          </a:xfrm>
        </p:grpSpPr>
        <p:sp>
          <p:nvSpPr>
            <p:cNvPr id="141" name="Line 53"/>
            <p:cNvSpPr/>
            <p:nvPr/>
          </p:nvSpPr>
          <p:spPr>
            <a:xfrm flipH="1" flipV="1">
              <a:off x="1310400" y="3852360"/>
              <a:ext cx="175536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54"/>
            <p:cNvSpPr/>
            <p:nvPr/>
          </p:nvSpPr>
          <p:spPr>
            <a:xfrm flipH="1" flipV="1">
              <a:off x="1790640" y="3165120"/>
              <a:ext cx="124416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5"/>
            <p:cNvSpPr/>
            <p:nvPr/>
          </p:nvSpPr>
          <p:spPr>
            <a:xfrm flipH="1" flipV="1">
              <a:off x="2811600" y="3181320"/>
              <a:ext cx="223560" cy="113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6"/>
            <p:cNvSpPr/>
            <p:nvPr/>
          </p:nvSpPr>
          <p:spPr>
            <a:xfrm flipV="1">
              <a:off x="3035160" y="3841920"/>
              <a:ext cx="388080" cy="47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7"/>
            <p:cNvSpPr/>
            <p:nvPr/>
          </p:nvSpPr>
          <p:spPr>
            <a:xfrm flipV="1">
              <a:off x="2912400" y="4316400"/>
              <a:ext cx="12276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8"/>
            <p:cNvSpPr/>
            <p:nvPr/>
          </p:nvSpPr>
          <p:spPr>
            <a:xfrm flipV="1">
              <a:off x="2259360" y="4316400"/>
              <a:ext cx="776160" cy="68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59"/>
            <p:cNvSpPr/>
            <p:nvPr/>
          </p:nvSpPr>
          <p:spPr>
            <a:xfrm flipV="1">
              <a:off x="1606680" y="4316400"/>
              <a:ext cx="142848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0"/>
          <p:cNvGrpSpPr/>
          <p:nvPr/>
        </p:nvGrpSpPr>
        <p:grpSpPr>
          <a:xfrm>
            <a:off x="1497240" y="3037320"/>
            <a:ext cx="1638000" cy="2001960"/>
            <a:chOff x="1497240" y="3037320"/>
            <a:chExt cx="1638000" cy="2001960"/>
          </a:xfrm>
        </p:grpSpPr>
        <p:sp>
          <p:nvSpPr>
            <p:cNvPr id="149" name="Line 61"/>
            <p:cNvSpPr/>
            <p:nvPr/>
          </p:nvSpPr>
          <p:spPr>
            <a:xfrm flipH="1" flipV="1">
              <a:off x="1683360" y="3138840"/>
              <a:ext cx="819000" cy="171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62"/>
            <p:cNvSpPr/>
            <p:nvPr/>
          </p:nvSpPr>
          <p:spPr>
            <a:xfrm flipH="1" flipV="1">
              <a:off x="2476440" y="3037320"/>
              <a:ext cx="19800" cy="177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3"/>
            <p:cNvSpPr/>
            <p:nvPr/>
          </p:nvSpPr>
          <p:spPr>
            <a:xfrm flipV="1">
              <a:off x="2495520" y="3849480"/>
              <a:ext cx="639720" cy="9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4"/>
            <p:cNvSpPr/>
            <p:nvPr/>
          </p:nvSpPr>
          <p:spPr>
            <a:xfrm flipV="1">
              <a:off x="2496240" y="4787640"/>
              <a:ext cx="584640" cy="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5"/>
            <p:cNvSpPr/>
            <p:nvPr/>
          </p:nvSpPr>
          <p:spPr>
            <a:xfrm flipV="1">
              <a:off x="2093400" y="4813200"/>
              <a:ext cx="402120" cy="2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6"/>
            <p:cNvSpPr/>
            <p:nvPr/>
          </p:nvSpPr>
          <p:spPr>
            <a:xfrm>
              <a:off x="1514520" y="4678560"/>
              <a:ext cx="9817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7"/>
            <p:cNvSpPr/>
            <p:nvPr/>
          </p:nvSpPr>
          <p:spPr>
            <a:xfrm>
              <a:off x="1497240" y="3753000"/>
              <a:ext cx="99828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68"/>
          <p:cNvGrpSpPr/>
          <p:nvPr/>
        </p:nvGrpSpPr>
        <p:grpSpPr>
          <a:xfrm>
            <a:off x="1228320" y="3061800"/>
            <a:ext cx="1896120" cy="2090880"/>
            <a:chOff x="1228320" y="3061800"/>
            <a:chExt cx="1896120" cy="2090880"/>
          </a:xfrm>
        </p:grpSpPr>
        <p:sp>
          <p:nvSpPr>
            <p:cNvPr id="157" name="Line 69"/>
            <p:cNvSpPr/>
            <p:nvPr/>
          </p:nvSpPr>
          <p:spPr>
            <a:xfrm flipV="1">
              <a:off x="1654920" y="3061800"/>
              <a:ext cx="930600" cy="165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0"/>
            <p:cNvSpPr/>
            <p:nvPr/>
          </p:nvSpPr>
          <p:spPr>
            <a:xfrm flipV="1">
              <a:off x="1682280" y="3652200"/>
              <a:ext cx="1442160" cy="10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1"/>
            <p:cNvSpPr/>
            <p:nvPr/>
          </p:nvSpPr>
          <p:spPr>
            <a:xfrm flipV="1">
              <a:off x="1681560" y="4658040"/>
              <a:ext cx="115668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2"/>
            <p:cNvSpPr/>
            <p:nvPr/>
          </p:nvSpPr>
          <p:spPr>
            <a:xfrm>
              <a:off x="1681560" y="4689360"/>
              <a:ext cx="35784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3"/>
            <p:cNvSpPr/>
            <p:nvPr/>
          </p:nvSpPr>
          <p:spPr>
            <a:xfrm>
              <a:off x="1265760" y="4489200"/>
              <a:ext cx="415800" cy="19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74"/>
            <p:cNvSpPr/>
            <p:nvPr/>
          </p:nvSpPr>
          <p:spPr>
            <a:xfrm>
              <a:off x="1228320" y="3808080"/>
              <a:ext cx="453600" cy="88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75"/>
            <p:cNvSpPr/>
            <p:nvPr/>
          </p:nvSpPr>
          <p:spPr>
            <a:xfrm flipH="1">
              <a:off x="1681560" y="3261960"/>
              <a:ext cx="294480" cy="14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76"/>
          <p:cNvGrpSpPr/>
          <p:nvPr/>
        </p:nvGrpSpPr>
        <p:grpSpPr>
          <a:xfrm>
            <a:off x="1445760" y="3056760"/>
            <a:ext cx="1889640" cy="1756080"/>
            <a:chOff x="1445760" y="3056760"/>
            <a:chExt cx="1889640" cy="1756080"/>
          </a:xfrm>
        </p:grpSpPr>
        <p:sp>
          <p:nvSpPr>
            <p:cNvPr id="165" name="Line 77"/>
            <p:cNvSpPr/>
            <p:nvPr/>
          </p:nvSpPr>
          <p:spPr>
            <a:xfrm flipH="1">
              <a:off x="1508040" y="3790800"/>
              <a:ext cx="1665360" cy="73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8"/>
            <p:cNvSpPr/>
            <p:nvPr/>
          </p:nvSpPr>
          <p:spPr>
            <a:xfrm flipH="1" flipV="1">
              <a:off x="1445760" y="3689280"/>
              <a:ext cx="169164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9"/>
            <p:cNvSpPr/>
            <p:nvPr/>
          </p:nvSpPr>
          <p:spPr>
            <a:xfrm flipH="1" flipV="1">
              <a:off x="2246760" y="3056760"/>
              <a:ext cx="890640" cy="7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0"/>
            <p:cNvSpPr/>
            <p:nvPr/>
          </p:nvSpPr>
          <p:spPr>
            <a:xfrm flipV="1">
              <a:off x="3138120" y="3181680"/>
              <a:ext cx="360" cy="61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81"/>
            <p:cNvSpPr/>
            <p:nvPr/>
          </p:nvSpPr>
          <p:spPr>
            <a:xfrm flipH="1" flipV="1">
              <a:off x="3137400" y="3795120"/>
              <a:ext cx="198000" cy="4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2"/>
            <p:cNvSpPr/>
            <p:nvPr/>
          </p:nvSpPr>
          <p:spPr>
            <a:xfrm flipV="1">
              <a:off x="2966760" y="3795120"/>
              <a:ext cx="17100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3"/>
            <p:cNvSpPr/>
            <p:nvPr/>
          </p:nvSpPr>
          <p:spPr>
            <a:xfrm flipV="1">
              <a:off x="2084040" y="3795120"/>
              <a:ext cx="1053360" cy="9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84"/>
          <p:cNvSpPr/>
          <p:nvPr/>
        </p:nvSpPr>
        <p:spPr>
          <a:xfrm>
            <a:off x="403200" y="1434960"/>
            <a:ext cx="4200480" cy="622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Current system fragments patient information and creates redundant, inefficient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>
            <a:off x="4748040" y="15238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6"/>
          <p:cNvSpPr/>
          <p:nvPr/>
        </p:nvSpPr>
        <p:spPr>
          <a:xfrm>
            <a:off x="4923000" y="1447920"/>
            <a:ext cx="4200480" cy="622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Future system will consolidate information and provide a foundation for unifying 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5775480" y="2743200"/>
            <a:ext cx="3017520" cy="25909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9"/>
          <p:cNvSpPr/>
          <p:nvPr/>
        </p:nvSpPr>
        <p:spPr>
          <a:xfrm>
            <a:off x="7486560" y="2127240"/>
            <a:ext cx="7254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90"/>
          <p:cNvGraphicFramePr/>
          <p:nvPr/>
        </p:nvGraphicFramePr>
        <p:xfrm>
          <a:off x="6035760" y="2057400"/>
          <a:ext cx="519120" cy="520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8" name="Object 9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5760" y="2057400"/>
                    <a:ext cx="5191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91"/>
          <p:cNvSpPr/>
          <p:nvPr/>
        </p:nvSpPr>
        <p:spPr>
          <a:xfrm>
            <a:off x="5990400" y="2546280"/>
            <a:ext cx="70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2" descr=""/>
          <p:cNvPicPr/>
          <p:nvPr/>
        </p:nvPicPr>
        <p:blipFill>
          <a:blip r:embed="rId10"/>
          <a:stretch/>
        </p:blipFill>
        <p:spPr>
          <a:xfrm>
            <a:off x="5019840" y="3048120"/>
            <a:ext cx="469800" cy="512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3" descr=""/>
          <p:cNvPicPr/>
          <p:nvPr/>
        </p:nvPicPr>
        <p:blipFill>
          <a:blip r:embed="rId11"/>
          <a:srcRect l="3462" t="2872" r="2323" b="4800"/>
          <a:stretch/>
        </p:blipFill>
        <p:spPr>
          <a:xfrm>
            <a:off x="5394240" y="5254560"/>
            <a:ext cx="495360" cy="6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4" descr=""/>
          <p:cNvPicPr/>
          <p:nvPr/>
        </p:nvPicPr>
        <p:blipFill>
          <a:blip r:embed="rId12"/>
          <a:stretch/>
        </p:blipFill>
        <p:spPr>
          <a:xfrm>
            <a:off x="4946760" y="4267080"/>
            <a:ext cx="326880" cy="444600"/>
          </a:xfrm>
          <a:prstGeom prst="rect">
            <a:avLst/>
          </a:prstGeom>
          <a:ln w="0">
            <a:noFill/>
          </a:ln>
        </p:spPr>
      </p:pic>
      <p:sp>
        <p:nvSpPr>
          <p:cNvPr id="183" name="Line 95"/>
          <p:cNvSpPr/>
          <p:nvPr/>
        </p:nvSpPr>
        <p:spPr>
          <a:xfrm flipH="1">
            <a:off x="7676640" y="2579760"/>
            <a:ext cx="5580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6" descr=""/>
          <p:cNvPicPr/>
          <p:nvPr/>
        </p:nvPicPr>
        <p:blipFill>
          <a:blip r:embed="rId13"/>
          <a:stretch/>
        </p:blipFill>
        <p:spPr>
          <a:xfrm>
            <a:off x="6556320" y="5486400"/>
            <a:ext cx="349200" cy="60948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97"/>
          <p:cNvSpPr/>
          <p:nvPr/>
        </p:nvSpPr>
        <p:spPr>
          <a:xfrm>
            <a:off x="6469200" y="3733920"/>
            <a:ext cx="653760" cy="533160"/>
          </a:xfrm>
          <a:prstGeom prst="flowChartMagneticDisk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8"/>
          <p:cNvSpPr/>
          <p:nvPr/>
        </p:nvSpPr>
        <p:spPr>
          <a:xfrm>
            <a:off x="6367320" y="4343400"/>
            <a:ext cx="871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Data reposi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9"/>
          <p:cNvSpPr/>
          <p:nvPr/>
        </p:nvSpPr>
        <p:spPr>
          <a:xfrm>
            <a:off x="6616800" y="3124080"/>
            <a:ext cx="10872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Health Information Exchan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0"/>
          <p:cNvSpPr/>
          <p:nvPr/>
        </p:nvSpPr>
        <p:spPr>
          <a:xfrm>
            <a:off x="7207200" y="4343400"/>
            <a:ext cx="10778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Network applic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01" descr=""/>
          <p:cNvPicPr/>
          <p:nvPr/>
        </p:nvPicPr>
        <p:blipFill>
          <a:blip r:embed="rId14"/>
          <a:stretch/>
        </p:blipFill>
        <p:spPr>
          <a:xfrm>
            <a:off x="7434360" y="3371760"/>
            <a:ext cx="560160" cy="971640"/>
          </a:xfrm>
          <a:prstGeom prst="rect">
            <a:avLst/>
          </a:prstGeom>
          <a:ln w="0">
            <a:noFill/>
          </a:ln>
        </p:spPr>
      </p:pic>
      <p:sp>
        <p:nvSpPr>
          <p:cNvPr id="190" name="Line 102"/>
          <p:cNvSpPr/>
          <p:nvPr/>
        </p:nvSpPr>
        <p:spPr>
          <a:xfrm>
            <a:off x="6326280" y="2819520"/>
            <a:ext cx="144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3" descr=""/>
          <p:cNvPicPr/>
          <p:nvPr/>
        </p:nvPicPr>
        <p:blipFill>
          <a:blip r:embed="rId15"/>
          <a:stretch/>
        </p:blipFill>
        <p:spPr>
          <a:xfrm>
            <a:off x="7632720" y="5486400"/>
            <a:ext cx="708120" cy="744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4"/>
          <p:cNvSpPr/>
          <p:nvPr/>
        </p:nvSpPr>
        <p:spPr>
          <a:xfrm>
            <a:off x="7533000" y="2187720"/>
            <a:ext cx="60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a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5"/>
          <p:cNvSpPr/>
          <p:nvPr/>
        </p:nvSpPr>
        <p:spPr>
          <a:xfrm>
            <a:off x="5672160" y="3498840"/>
            <a:ext cx="363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6"/>
          <p:cNvSpPr/>
          <p:nvPr/>
        </p:nvSpPr>
        <p:spPr>
          <a:xfrm flipV="1">
            <a:off x="5672160" y="4184280"/>
            <a:ext cx="436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7"/>
          <p:cNvSpPr/>
          <p:nvPr/>
        </p:nvSpPr>
        <p:spPr>
          <a:xfrm flipV="1">
            <a:off x="6108840" y="4793760"/>
            <a:ext cx="288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8"/>
          <p:cNvSpPr/>
          <p:nvPr/>
        </p:nvSpPr>
        <p:spPr>
          <a:xfrm flipV="1">
            <a:off x="6761160" y="5022360"/>
            <a:ext cx="1443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9"/>
          <p:cNvSpPr/>
          <p:nvPr/>
        </p:nvSpPr>
        <p:spPr>
          <a:xfrm flipH="1" flipV="1">
            <a:off x="7632360" y="4946760"/>
            <a:ext cx="144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0"/>
          <p:cNvSpPr/>
          <p:nvPr/>
        </p:nvSpPr>
        <p:spPr>
          <a:xfrm>
            <a:off x="5039280" y="35751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La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1"/>
          <p:cNvSpPr/>
          <p:nvPr/>
        </p:nvSpPr>
        <p:spPr>
          <a:xfrm>
            <a:off x="4545720" y="470232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Outpatient R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2"/>
          <p:cNvSpPr/>
          <p:nvPr/>
        </p:nvSpPr>
        <p:spPr>
          <a:xfrm>
            <a:off x="5037480" y="5910120"/>
            <a:ext cx="116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hysician off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3"/>
          <p:cNvSpPr/>
          <p:nvPr/>
        </p:nvSpPr>
        <p:spPr>
          <a:xfrm>
            <a:off x="6156000" y="6149880"/>
            <a:ext cx="144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Ambulatory cen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4"/>
          <p:cNvSpPr/>
          <p:nvPr/>
        </p:nvSpPr>
        <p:spPr>
          <a:xfrm>
            <a:off x="7761960" y="6149880"/>
            <a:ext cx="101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f497d"/>
                </a:solidFill>
                <a:latin typeface="Verdana"/>
              </a:rPr>
              <a:t>Public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Difficult Challenges for 42 Operational 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447920"/>
          <a:ext cx="8229600" cy="4701960"/>
        </p:xfrm>
        <a:graphic>
          <a:graphicData uri="http://schemas.openxmlformats.org/drawingml/2006/table">
            <a:tbl>
              <a:tblPr/>
              <a:tblGrid>
                <a:gridCol w="4114800"/>
                <a:gridCol w="1447920"/>
                <a:gridCol w="1652760"/>
                <a:gridCol w="1014120"/>
              </a:tblGrid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y Difficult 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erately Difficult Chall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eloping a sustainable busines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ing technical aspects including architecture, applications and connec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fining the value that accrues to us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gaging practicing clinicians in your coverage 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dressing privacy and confidentiality issues - HIPAA and 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curing upfront 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Picture 16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362320" cy="5205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6944040" y="6227640"/>
            <a:ext cx="1681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Health Initiat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008 Survey o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ealth Information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0" y="6172200"/>
            <a:ext cx="1845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enter for Studying Health System Chang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reating Sustainable Local Health Information Exchanges: Can Barriers to Stakeholder Participation be Overcome?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earch Brief No. 2,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19503" t="0" r="20250" b="0"/>
          <a:stretch/>
        </p:blipFill>
        <p:spPr>
          <a:xfrm>
            <a:off x="0" y="0"/>
            <a:ext cx="9144000" cy="12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 Barrier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igh benefits, upfront and ongoing costs of the business, legal and technical iss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cer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ta will be used for marketing purpo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ients will be redirected to other provi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e of data for hospital performance measur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E data policies would make them non-compliant with federal patient privacy requi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lance competitive strategies with playing good corporate citizen 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57200" y="6172200"/>
            <a:ext cx="815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*Center for Studying Health System Chang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Calibri"/>
              </a:rPr>
              <a:t>Creating Sustainable Local Health Information Exchanges: Can Barriers to Stakeholder Participation be Overcome?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search Brief No. 2, February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812880" y="0"/>
            <a:ext cx="7296120" cy="690408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© Regenstrief Institute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90520" y="-433440"/>
            <a:ext cx="8290080" cy="78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ck Randomized Sam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630440"/>
          <a:ext cx="8153280" cy="4694040"/>
        </p:xfrm>
        <a:graphic>
          <a:graphicData uri="http://schemas.openxmlformats.org/drawingml/2006/table">
            <a:tbl>
              <a:tblPr/>
              <a:tblGrid>
                <a:gridCol w="1674720"/>
                <a:gridCol w="1360440"/>
                <a:gridCol w="1706760"/>
                <a:gridCol w="1707840"/>
                <a:gridCol w="1703520"/>
              </a:tblGrid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S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INPC particip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reviously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ot previously contac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Hospit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all Physician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Physician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rvey and Interview Guide Develop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erature review and  brainstorming to identify potential b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t review and 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lot with nine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sed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B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Content Placeholder 5" descr=""/>
          <p:cNvPicPr/>
          <p:nvPr/>
        </p:nvPicPr>
        <p:blipFill>
          <a:blip r:embed="rId1"/>
          <a:stretch/>
        </p:blipFill>
        <p:spPr>
          <a:xfrm>
            <a:off x="426960" y="1517760"/>
            <a:ext cx="8278920" cy="4535280"/>
          </a:xfrm>
          <a:prstGeom prst="rect">
            <a:avLst/>
          </a:prstGeom>
          <a:ln w="0">
            <a:noFill/>
          </a:ln>
        </p:spPr>
      </p:pic>
      <p:sp>
        <p:nvSpPr>
          <p:cNvPr id="224" name="Rounded Rectangular Callout 7"/>
          <p:cNvSpPr/>
          <p:nvPr/>
        </p:nvSpPr>
        <p:spPr>
          <a:xfrm>
            <a:off x="1301760" y="1295280"/>
            <a:ext cx="2050920" cy="1371600"/>
          </a:xfrm>
          <a:prstGeom prst="wedgeRoundRectCallout">
            <a:avLst>
              <a:gd name="adj1" fmla="val 64208"/>
              <a:gd name="adj2" fmla="val 102046"/>
              <a:gd name="adj3" fmla="val 16667"/>
            </a:avLst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E description and definitio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cription of the INPC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rve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ular Callout 10"/>
          <p:cNvSpPr/>
          <p:nvPr/>
        </p:nvSpPr>
        <p:spPr>
          <a:xfrm>
            <a:off x="5791320" y="5022720"/>
            <a:ext cx="1869840" cy="1454400"/>
          </a:xfrm>
          <a:prstGeom prst="wedgeRoundRectCallout">
            <a:avLst>
              <a:gd name="adj1" fmla="val -57416"/>
              <a:gd name="adj2" fmla="val -112129"/>
              <a:gd name="adj3" fmla="val 16667"/>
            </a:avLst>
          </a:prstGeom>
          <a:blipFill rotWithShape="0">
            <a:blip r:embed="rId2"/>
            <a:srcRect/>
            <a:stretch/>
          </a:blip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ular Callout 13"/>
          <p:cNvSpPr/>
          <p:nvPr/>
        </p:nvSpPr>
        <p:spPr>
          <a:xfrm>
            <a:off x="5029200" y="1295280"/>
            <a:ext cx="2057400" cy="1600200"/>
          </a:xfrm>
          <a:prstGeom prst="wedgeRoundRectCallout">
            <a:avLst>
              <a:gd name="adj1" fmla="val 74435"/>
              <a:gd name="adj2" fmla="val 80893"/>
              <a:gd name="adj3" fmla="val 16667"/>
            </a:avLst>
          </a:prstGeom>
          <a:blipFill rotWithShape="0">
            <a:blip r:embed="rId3"/>
            <a:srcRect/>
            <a:stretch/>
          </a:blip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ounded Rectangular Callout 15"/>
          <p:cNvGrpSpPr/>
          <p:nvPr/>
        </p:nvGrpSpPr>
        <p:grpSpPr>
          <a:xfrm>
            <a:off x="1566720" y="4095720"/>
            <a:ext cx="1957680" cy="2408400"/>
            <a:chOff x="1566720" y="4095720"/>
            <a:chExt cx="1957680" cy="2408400"/>
          </a:xfrm>
        </p:grpSpPr>
        <p:pic>
          <p:nvPicPr>
            <p:cNvPr id="228" name="Rounded Rectangular Callout 15" descr=""/>
            <p:cNvPicPr/>
            <p:nvPr/>
          </p:nvPicPr>
          <p:blipFill>
            <a:blip r:embed="rId4"/>
            <a:stretch/>
          </p:blipFill>
          <p:spPr>
            <a:xfrm>
              <a:off x="1566720" y="4095720"/>
              <a:ext cx="1957680" cy="24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819440" y="5172120"/>
              <a:ext cx="161100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3:16:09Z</dcterms:created>
  <dc:creator>Marc Overhage</dc:creator>
  <dc:description/>
  <dc:language>en-US</dc:language>
  <cp:lastModifiedBy>william.hyde</cp:lastModifiedBy>
  <dcterms:modified xsi:type="dcterms:W3CDTF">2009-01-02T15:01:54Z</dcterms:modified>
  <cp:revision>28</cp:revision>
  <dc:subject/>
  <dc:title>Slide 1</dc:title>
</cp:coreProperties>
</file>