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5293-9AC7-4D2F-987C-F523A9944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to identify the gaps in understanding, barriers and disconnects that may exist with providers’ adoption of, and membership in, the Indiana Network for Patient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F4C3-F201-45D8-AC5E-00589A316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21FC-816D-4DB9-913A-A8D6C81C6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E4E6-BE1F-4D3D-B44B-173F349F4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C361-AEBB-49A7-A077-95A93887D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88D6-FB2B-4693-864A-1931950C5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F043-4B45-4A05-83B3-00D9410EE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1795-4E6A-477D-AAAD-5FD40CDE4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CE6F-CC93-4063-B2FA-000A9B48D0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3764-D845-4098-AC22-06E9716CC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exchanges (IHIE, HB, CareSpark, Tampa Bay RHI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4CB1-6BE5-4C3F-8629-52C08DFC9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5919-5982-41C7-A6AE-8ABF577E8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iana Health Information Ex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8 Indiana Health Information Exchan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4C5AF43C-7616-480A-8EC0-267E97C13F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52D0-4008-4093-AFD6-8E821FA39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252-C2C1-4122-9522-CF1DBEC6F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9670-C1AC-4180-85A9-BC15EB6C5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2B7-F93F-4BD1-AC3B-8601316A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2E6-EA3C-4DE8-9F2C-FC40682A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13D-5BFF-4F2D-8F0A-1146DA2B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F9D-617E-4463-B95F-8F751617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80FF-4F06-451C-9113-269CF8A4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D9E6-A73E-4A41-9FDD-D1E1CD85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D511-A2EC-4711-96D5-700E2125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906F-6098-42C7-AA1A-4B5A306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D114-D832-4549-972C-21E8E52E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00BF-8812-428C-ACC2-35A6543F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EEBE-E517-4503-8148-E30655A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98F-ED34-454D-8EBA-6952BA76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5B1B-4E9B-4F3A-88A3-F73B116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71E7-D1C1-40EA-AE80-BA21BD5A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9D14-731E-48AF-B92B-87C16CF2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6928-5CED-410F-9B83-54753BAB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9D44-B854-4C18-B85F-40DEDA3E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B1E-F8E0-428B-9946-B7F26C75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28F-3ED7-414D-A288-0D893338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F3B-A2AC-46A2-87EA-2CC46940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2DD-E30B-45DB-96DA-4D8FDC24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008-CCEA-4442-8087-41CD530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D3E-6CD9-4212-B436-94357C44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076-9B8B-4D31-993D-F6017B37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C342-53D3-4B29-A847-B4D2891B3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HI Connecting Communitie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11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</a:t>
            </a:r>
            <a:fld id="{996EF247-B692-48C6-B05D-54F82ABDC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wmf"/><Relationship Id="rId10" Type="http://schemas.openxmlformats.org/officeDocument/2006/relationships/image" Target="../media/image3.wmf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8.png"/><Relationship Id="rId14" Type="http://schemas.openxmlformats.org/officeDocument/2006/relationships/image" Target="../media/image9.wm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coming Barriers to Expanding H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rcRect l="19503" t="0" r="19503" b="0"/>
          <a:stretch/>
        </p:blipFill>
        <p:spPr>
          <a:xfrm rot="21005400">
            <a:off x="2912760" y="-78840"/>
            <a:ext cx="5949720" cy="7802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1" name="Picture 4" descr=""/>
          <p:cNvPicPr/>
          <p:nvPr/>
        </p:nvPicPr>
        <p:blipFill>
          <a:blip r:embed="rId2"/>
          <a:srcRect l="19503" t="0" r="19503" b="0"/>
          <a:stretch/>
        </p:blipFill>
        <p:spPr>
          <a:xfrm rot="20620200">
            <a:off x="1143000" y="-380520"/>
            <a:ext cx="5950080" cy="7802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2" name="Picture 2" descr=""/>
          <p:cNvPicPr/>
          <p:nvPr/>
        </p:nvPicPr>
        <p:blipFill>
          <a:blip r:embed="rId3"/>
          <a:srcRect l="19503" t="0" r="19503" b="0"/>
          <a:stretch/>
        </p:blipFill>
        <p:spPr>
          <a:xfrm rot="669000">
            <a:off x="469800" y="-336600"/>
            <a:ext cx="5950080" cy="7802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tical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grounded theory approach will be used to identify emergent them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nded means “based on and connected to the context-dependent observations and perceptions of the social scene;” so the informants’ own words will guide development of codes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wo individuals will independently review the field notes, annotating important themes in the margi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wo other researchers will carefully review the documentation and note major them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team will meet up to four times to reach consensus on identifying and naming the patterns and them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5716440" y="6172200"/>
            <a:ext cx="289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*Crabtree BF, Miller WL. Doing Qualitative Researc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ewbury Park, CA, Sage, 199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rcRect l="3429" t="9143" r="1371" b="22857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ral Hospital Informant’s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ral hospital in Lawrence Co near Bloomingt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ready have an interface from hospital system to their employed physicians’ EMR which provides most of the benefit to be received from an H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ysicians not thrilled with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ral hospital in Gibson Co in southwes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sure they understand the difference between and EMR and HI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to upgrade bandwidth for commun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help financially (gra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available IT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lder MDs want paper – need to be so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-2052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ral Hospital Informant’s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ral hospital between Ft Wayne and Muncie in Northwes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sure they understand difference between EMR and H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ndwidth is the largest issu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19302603.JPG"/>
          <p:cNvPicPr/>
          <p:nvPr/>
        </p:nvPicPr>
        <p:blipFill>
          <a:blip r:embed="rId1"/>
          <a:stretch/>
        </p:blipFill>
        <p:spPr>
          <a:xfrm>
            <a:off x="-11160" y="0"/>
            <a:ext cx="9280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ian Informant’s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specialty urban physician group in central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ysicians must see the benefit to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Ds “hold data clos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c IT projects are being addres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specialty urban physician group in central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buy-in from the M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mall specialty physician practice in southeastern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buy-in from the M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 about how their data will be used among hospi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itive posit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quality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payment negot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priv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mass of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0520" y="457200"/>
            <a:ext cx="8562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ealth Information Ex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1554120" y="2276640"/>
            <a:ext cx="522360" cy="496800"/>
          </a:xfrm>
          <a:prstGeom prst="plus">
            <a:avLst>
              <a:gd name="adj" fmla="val 31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87240" y="4033800"/>
            <a:ext cx="327240" cy="44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3460680" y="3154320"/>
            <a:ext cx="390600" cy="49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757080" y="2989440"/>
            <a:ext cx="346320" cy="37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4"/>
          <a:srcRect l="0" t="0" r="45014" b="50937"/>
          <a:stretch/>
        </p:blipFill>
        <p:spPr>
          <a:xfrm>
            <a:off x="949320" y="4857840"/>
            <a:ext cx="716040" cy="48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5"/>
          <a:stretch/>
        </p:blipFill>
        <p:spPr>
          <a:xfrm>
            <a:off x="2354400" y="5076720"/>
            <a:ext cx="296640" cy="5158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1473120" y="2714760"/>
            <a:ext cx="679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Hospit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722760" y="3209760"/>
            <a:ext cx="993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rimary care physici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6"/>
          <a:stretch/>
        </p:blipFill>
        <p:spPr>
          <a:xfrm>
            <a:off x="3467160" y="4253040"/>
            <a:ext cx="390600" cy="495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3825720" y="4308480"/>
            <a:ext cx="995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pecialty physici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563920" y="5460840"/>
            <a:ext cx="1069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mbulatory center (e.g. imaging center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44560" y="4692600"/>
            <a:ext cx="99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ay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22200" y="3759120"/>
            <a:ext cx="995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harm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66560" y="3263760"/>
            <a:ext cx="9954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7"/>
          <a:stretch/>
        </p:blipFill>
        <p:spPr>
          <a:xfrm>
            <a:off x="2603520" y="2133720"/>
            <a:ext cx="709560" cy="744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2498760" y="2795760"/>
            <a:ext cx="8380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482840" y="4037760"/>
            <a:ext cx="7984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338120" y="3048120"/>
            <a:ext cx="1850760" cy="1828800"/>
            <a:chOff x="1338120" y="3048120"/>
            <a:chExt cx="1850760" cy="1828800"/>
          </a:xfrm>
        </p:grpSpPr>
        <p:sp>
          <p:nvSpPr>
            <p:cNvPr id="109" name="Line 21"/>
            <p:cNvSpPr/>
            <p:nvPr/>
          </p:nvSpPr>
          <p:spPr>
            <a:xfrm flipV="1">
              <a:off x="1446840" y="3505320"/>
              <a:ext cx="1742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>
              <a:off x="1483200" y="4038120"/>
              <a:ext cx="1669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>
              <a:off x="1483200" y="4038840"/>
              <a:ext cx="798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 flipH="1">
              <a:off x="1410120" y="4038120"/>
              <a:ext cx="72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1338120" y="3581640"/>
              <a:ext cx="145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6"/>
            <p:cNvSpPr/>
            <p:nvPr/>
          </p:nvSpPr>
          <p:spPr>
            <a:xfrm flipH="1">
              <a:off x="1482840" y="3048120"/>
              <a:ext cx="289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7"/>
            <p:cNvSpPr/>
            <p:nvPr/>
          </p:nvSpPr>
          <p:spPr>
            <a:xfrm flipH="1">
              <a:off x="1482840" y="3200760"/>
              <a:ext cx="1161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8"/>
          <p:cNvGrpSpPr/>
          <p:nvPr/>
        </p:nvGrpSpPr>
        <p:grpSpPr>
          <a:xfrm>
            <a:off x="1221120" y="2849040"/>
            <a:ext cx="2108160" cy="1844280"/>
            <a:chOff x="1221120" y="2849040"/>
            <a:chExt cx="2108160" cy="1844280"/>
          </a:xfrm>
        </p:grpSpPr>
        <p:sp>
          <p:nvSpPr>
            <p:cNvPr id="117" name="Line 29"/>
            <p:cNvSpPr/>
            <p:nvPr/>
          </p:nvSpPr>
          <p:spPr>
            <a:xfrm>
              <a:off x="1549800" y="3555360"/>
              <a:ext cx="1779480" cy="38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>
              <a:off x="1581840" y="3572280"/>
              <a:ext cx="1307520" cy="10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>
              <a:off x="1581480" y="3573000"/>
              <a:ext cx="288000" cy="11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 flipH="1">
              <a:off x="1221120" y="3572280"/>
              <a:ext cx="3600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 flipH="1">
              <a:off x="1581480" y="3103200"/>
              <a:ext cx="9612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 flipH="1">
              <a:off x="1581120" y="2849040"/>
              <a:ext cx="73584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 flipH="1">
              <a:off x="1581480" y="3406320"/>
              <a:ext cx="14212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6"/>
          <p:cNvGrpSpPr/>
          <p:nvPr/>
        </p:nvGrpSpPr>
        <p:grpSpPr>
          <a:xfrm>
            <a:off x="1476360" y="2871000"/>
            <a:ext cx="1685160" cy="2031840"/>
            <a:chOff x="1476360" y="2871000"/>
            <a:chExt cx="1685160" cy="2031840"/>
          </a:xfrm>
        </p:grpSpPr>
        <p:sp>
          <p:nvSpPr>
            <p:cNvPr id="125" name="Line 37"/>
            <p:cNvSpPr/>
            <p:nvPr/>
          </p:nvSpPr>
          <p:spPr>
            <a:xfrm>
              <a:off x="2044440" y="3102480"/>
              <a:ext cx="998280" cy="16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8"/>
            <p:cNvSpPr/>
            <p:nvPr/>
          </p:nvSpPr>
          <p:spPr>
            <a:xfrm>
              <a:off x="2054880" y="3139200"/>
              <a:ext cx="210600" cy="17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9"/>
            <p:cNvSpPr/>
            <p:nvPr/>
          </p:nvSpPr>
          <p:spPr>
            <a:xfrm flipH="1">
              <a:off x="1522800" y="3139200"/>
              <a:ext cx="532080" cy="10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0"/>
            <p:cNvSpPr/>
            <p:nvPr/>
          </p:nvSpPr>
          <p:spPr>
            <a:xfrm flipH="1">
              <a:off x="1476360" y="3139200"/>
              <a:ext cx="57852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 flipH="1">
              <a:off x="2055600" y="2871000"/>
              <a:ext cx="37512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 flipH="1" flipV="1">
              <a:off x="2054880" y="3139200"/>
              <a:ext cx="990720" cy="2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3"/>
            <p:cNvSpPr/>
            <p:nvPr/>
          </p:nvSpPr>
          <p:spPr>
            <a:xfrm flipH="1" flipV="1">
              <a:off x="2055240" y="3139200"/>
              <a:ext cx="1106280" cy="9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4"/>
          <p:cNvGrpSpPr/>
          <p:nvPr/>
        </p:nvGrpSpPr>
        <p:grpSpPr>
          <a:xfrm>
            <a:off x="1252440" y="2952720"/>
            <a:ext cx="1879200" cy="2125440"/>
            <a:chOff x="1252440" y="2952720"/>
            <a:chExt cx="1879200" cy="2125440"/>
          </a:xfrm>
        </p:grpSpPr>
        <p:sp>
          <p:nvSpPr>
            <p:cNvPr id="133" name="Line 45"/>
            <p:cNvSpPr/>
            <p:nvPr/>
          </p:nvSpPr>
          <p:spPr>
            <a:xfrm flipH="1">
              <a:off x="1832760" y="3360600"/>
              <a:ext cx="80712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6"/>
            <p:cNvSpPr/>
            <p:nvPr/>
          </p:nvSpPr>
          <p:spPr>
            <a:xfrm flipH="1">
              <a:off x="1252440" y="3389040"/>
              <a:ext cx="1362240" cy="11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7"/>
            <p:cNvSpPr/>
            <p:nvPr/>
          </p:nvSpPr>
          <p:spPr>
            <a:xfrm flipH="1">
              <a:off x="1463760" y="3389040"/>
              <a:ext cx="115092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8"/>
            <p:cNvSpPr/>
            <p:nvPr/>
          </p:nvSpPr>
          <p:spPr>
            <a:xfrm flipH="1" flipV="1">
              <a:off x="2224800" y="2952720"/>
              <a:ext cx="39024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9"/>
            <p:cNvSpPr/>
            <p:nvPr/>
          </p:nvSpPr>
          <p:spPr>
            <a:xfrm flipH="1" flipV="1">
              <a:off x="2615400" y="3389760"/>
              <a:ext cx="42912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0"/>
            <p:cNvSpPr/>
            <p:nvPr/>
          </p:nvSpPr>
          <p:spPr>
            <a:xfrm flipH="1" flipV="1">
              <a:off x="2615040" y="3389040"/>
              <a:ext cx="516600" cy="84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1"/>
            <p:cNvSpPr/>
            <p:nvPr/>
          </p:nvSpPr>
          <p:spPr>
            <a:xfrm flipV="1">
              <a:off x="2425680" y="3389040"/>
              <a:ext cx="189360" cy="14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52"/>
          <p:cNvGrpSpPr/>
          <p:nvPr/>
        </p:nvGrpSpPr>
        <p:grpSpPr>
          <a:xfrm>
            <a:off x="1310400" y="3165120"/>
            <a:ext cx="2112840" cy="1832040"/>
            <a:chOff x="1310400" y="3165120"/>
            <a:chExt cx="2112840" cy="1832040"/>
          </a:xfrm>
        </p:grpSpPr>
        <p:sp>
          <p:nvSpPr>
            <p:cNvPr id="141" name="Line 53"/>
            <p:cNvSpPr/>
            <p:nvPr/>
          </p:nvSpPr>
          <p:spPr>
            <a:xfrm flipH="1" flipV="1">
              <a:off x="1310400" y="3852360"/>
              <a:ext cx="17553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4"/>
            <p:cNvSpPr/>
            <p:nvPr/>
          </p:nvSpPr>
          <p:spPr>
            <a:xfrm flipH="1" flipV="1">
              <a:off x="1790640" y="3165120"/>
              <a:ext cx="124416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5"/>
            <p:cNvSpPr/>
            <p:nvPr/>
          </p:nvSpPr>
          <p:spPr>
            <a:xfrm flipH="1" flipV="1">
              <a:off x="2811600" y="3181320"/>
              <a:ext cx="223560" cy="11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6"/>
            <p:cNvSpPr/>
            <p:nvPr/>
          </p:nvSpPr>
          <p:spPr>
            <a:xfrm flipV="1">
              <a:off x="3035160" y="3841920"/>
              <a:ext cx="388080" cy="47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7"/>
            <p:cNvSpPr/>
            <p:nvPr/>
          </p:nvSpPr>
          <p:spPr>
            <a:xfrm flipV="1">
              <a:off x="2912400" y="4316400"/>
              <a:ext cx="1227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8"/>
            <p:cNvSpPr/>
            <p:nvPr/>
          </p:nvSpPr>
          <p:spPr>
            <a:xfrm flipV="1">
              <a:off x="2259360" y="4316400"/>
              <a:ext cx="7761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9"/>
            <p:cNvSpPr/>
            <p:nvPr/>
          </p:nvSpPr>
          <p:spPr>
            <a:xfrm flipV="1">
              <a:off x="1606680" y="4316400"/>
              <a:ext cx="142848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0"/>
          <p:cNvGrpSpPr/>
          <p:nvPr/>
        </p:nvGrpSpPr>
        <p:grpSpPr>
          <a:xfrm>
            <a:off x="1497240" y="3037320"/>
            <a:ext cx="1638000" cy="2001960"/>
            <a:chOff x="1497240" y="3037320"/>
            <a:chExt cx="1638000" cy="2001960"/>
          </a:xfrm>
        </p:grpSpPr>
        <p:sp>
          <p:nvSpPr>
            <p:cNvPr id="149" name="Line 61"/>
            <p:cNvSpPr/>
            <p:nvPr/>
          </p:nvSpPr>
          <p:spPr>
            <a:xfrm flipH="1" flipV="1">
              <a:off x="1683360" y="3138840"/>
              <a:ext cx="819000" cy="171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2"/>
            <p:cNvSpPr/>
            <p:nvPr/>
          </p:nvSpPr>
          <p:spPr>
            <a:xfrm flipH="1" flipV="1">
              <a:off x="2476440" y="3037320"/>
              <a:ext cx="19800" cy="17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3"/>
            <p:cNvSpPr/>
            <p:nvPr/>
          </p:nvSpPr>
          <p:spPr>
            <a:xfrm flipV="1">
              <a:off x="2495520" y="3849480"/>
              <a:ext cx="639720" cy="9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4"/>
            <p:cNvSpPr/>
            <p:nvPr/>
          </p:nvSpPr>
          <p:spPr>
            <a:xfrm flipV="1">
              <a:off x="2496240" y="4787640"/>
              <a:ext cx="584640" cy="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5"/>
            <p:cNvSpPr/>
            <p:nvPr/>
          </p:nvSpPr>
          <p:spPr>
            <a:xfrm flipV="1">
              <a:off x="2093400" y="4813200"/>
              <a:ext cx="402120" cy="2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6"/>
            <p:cNvSpPr/>
            <p:nvPr/>
          </p:nvSpPr>
          <p:spPr>
            <a:xfrm>
              <a:off x="1514520" y="4678560"/>
              <a:ext cx="98172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7"/>
            <p:cNvSpPr/>
            <p:nvPr/>
          </p:nvSpPr>
          <p:spPr>
            <a:xfrm>
              <a:off x="1497240" y="3753000"/>
              <a:ext cx="998280" cy="10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8"/>
          <p:cNvGrpSpPr/>
          <p:nvPr/>
        </p:nvGrpSpPr>
        <p:grpSpPr>
          <a:xfrm>
            <a:off x="1228320" y="3061800"/>
            <a:ext cx="1896120" cy="2090880"/>
            <a:chOff x="1228320" y="3061800"/>
            <a:chExt cx="1896120" cy="2090880"/>
          </a:xfrm>
        </p:grpSpPr>
        <p:sp>
          <p:nvSpPr>
            <p:cNvPr id="157" name="Line 69"/>
            <p:cNvSpPr/>
            <p:nvPr/>
          </p:nvSpPr>
          <p:spPr>
            <a:xfrm flipV="1">
              <a:off x="1654920" y="3061800"/>
              <a:ext cx="930600" cy="165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0"/>
            <p:cNvSpPr/>
            <p:nvPr/>
          </p:nvSpPr>
          <p:spPr>
            <a:xfrm flipV="1">
              <a:off x="1682280" y="3652200"/>
              <a:ext cx="144216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1"/>
            <p:cNvSpPr/>
            <p:nvPr/>
          </p:nvSpPr>
          <p:spPr>
            <a:xfrm flipV="1">
              <a:off x="1681560" y="4658040"/>
              <a:ext cx="115668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2"/>
            <p:cNvSpPr/>
            <p:nvPr/>
          </p:nvSpPr>
          <p:spPr>
            <a:xfrm>
              <a:off x="1681560" y="4689360"/>
              <a:ext cx="3578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3"/>
            <p:cNvSpPr/>
            <p:nvPr/>
          </p:nvSpPr>
          <p:spPr>
            <a:xfrm>
              <a:off x="1265760" y="4489200"/>
              <a:ext cx="41580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4"/>
            <p:cNvSpPr/>
            <p:nvPr/>
          </p:nvSpPr>
          <p:spPr>
            <a:xfrm>
              <a:off x="1228320" y="3808080"/>
              <a:ext cx="45360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75"/>
            <p:cNvSpPr/>
            <p:nvPr/>
          </p:nvSpPr>
          <p:spPr>
            <a:xfrm flipH="1">
              <a:off x="1681560" y="3261960"/>
              <a:ext cx="294480" cy="142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76"/>
          <p:cNvGrpSpPr/>
          <p:nvPr/>
        </p:nvGrpSpPr>
        <p:grpSpPr>
          <a:xfrm>
            <a:off x="1445760" y="3056760"/>
            <a:ext cx="1889640" cy="1756080"/>
            <a:chOff x="1445760" y="3056760"/>
            <a:chExt cx="1889640" cy="1756080"/>
          </a:xfrm>
        </p:grpSpPr>
        <p:sp>
          <p:nvSpPr>
            <p:cNvPr id="165" name="Line 77"/>
            <p:cNvSpPr/>
            <p:nvPr/>
          </p:nvSpPr>
          <p:spPr>
            <a:xfrm flipH="1">
              <a:off x="1508040" y="3790800"/>
              <a:ext cx="1665360" cy="73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8"/>
            <p:cNvSpPr/>
            <p:nvPr/>
          </p:nvSpPr>
          <p:spPr>
            <a:xfrm flipH="1" flipV="1">
              <a:off x="1445760" y="3689280"/>
              <a:ext cx="169164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9"/>
            <p:cNvSpPr/>
            <p:nvPr/>
          </p:nvSpPr>
          <p:spPr>
            <a:xfrm flipH="1" flipV="1">
              <a:off x="2246760" y="3056760"/>
              <a:ext cx="89064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0"/>
            <p:cNvSpPr/>
            <p:nvPr/>
          </p:nvSpPr>
          <p:spPr>
            <a:xfrm flipV="1">
              <a:off x="3138120" y="3181680"/>
              <a:ext cx="360" cy="61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1"/>
            <p:cNvSpPr/>
            <p:nvPr/>
          </p:nvSpPr>
          <p:spPr>
            <a:xfrm flipH="1" flipV="1">
              <a:off x="3137400" y="3795120"/>
              <a:ext cx="198000" cy="4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82"/>
            <p:cNvSpPr/>
            <p:nvPr/>
          </p:nvSpPr>
          <p:spPr>
            <a:xfrm flipV="1">
              <a:off x="2966760" y="3795120"/>
              <a:ext cx="171000" cy="10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3"/>
            <p:cNvSpPr/>
            <p:nvPr/>
          </p:nvSpPr>
          <p:spPr>
            <a:xfrm flipV="1">
              <a:off x="2084040" y="3795120"/>
              <a:ext cx="1053360" cy="9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84"/>
          <p:cNvSpPr/>
          <p:nvPr/>
        </p:nvSpPr>
        <p:spPr>
          <a:xfrm>
            <a:off x="403200" y="1434960"/>
            <a:ext cx="4200480" cy="622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Current system fragments patient information and creates redundant, inefficient 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>
            <a:off x="4748040" y="15238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6"/>
          <p:cNvSpPr/>
          <p:nvPr/>
        </p:nvSpPr>
        <p:spPr>
          <a:xfrm>
            <a:off x="4923000" y="1447920"/>
            <a:ext cx="4200480" cy="622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Future system will consolidate information and provide a foundation for unifying 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8"/>
          <p:cNvSpPr/>
          <p:nvPr/>
        </p:nvSpPr>
        <p:spPr>
          <a:xfrm>
            <a:off x="5775480" y="2743200"/>
            <a:ext cx="3017520" cy="25909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9"/>
          <p:cNvSpPr/>
          <p:nvPr/>
        </p:nvSpPr>
        <p:spPr>
          <a:xfrm>
            <a:off x="7486560" y="2127240"/>
            <a:ext cx="7254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90"/>
          <p:cNvGraphicFramePr/>
          <p:nvPr/>
        </p:nvGraphicFramePr>
        <p:xfrm>
          <a:off x="6035760" y="2057400"/>
          <a:ext cx="51912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8" name="Object 9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35760" y="2057400"/>
                    <a:ext cx="5191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91"/>
          <p:cNvSpPr/>
          <p:nvPr/>
        </p:nvSpPr>
        <p:spPr>
          <a:xfrm>
            <a:off x="5990400" y="2546280"/>
            <a:ext cx="70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2" descr=""/>
          <p:cNvPicPr/>
          <p:nvPr/>
        </p:nvPicPr>
        <p:blipFill>
          <a:blip r:embed="rId10"/>
          <a:stretch/>
        </p:blipFill>
        <p:spPr>
          <a:xfrm>
            <a:off x="5019840" y="3048120"/>
            <a:ext cx="469800" cy="51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3" descr=""/>
          <p:cNvPicPr/>
          <p:nvPr/>
        </p:nvPicPr>
        <p:blipFill>
          <a:blip r:embed="rId11"/>
          <a:srcRect l="3462" t="2872" r="2323" b="4800"/>
          <a:stretch/>
        </p:blipFill>
        <p:spPr>
          <a:xfrm>
            <a:off x="5394240" y="5254560"/>
            <a:ext cx="495360" cy="6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4" descr=""/>
          <p:cNvPicPr/>
          <p:nvPr/>
        </p:nvPicPr>
        <p:blipFill>
          <a:blip r:embed="rId12"/>
          <a:stretch/>
        </p:blipFill>
        <p:spPr>
          <a:xfrm>
            <a:off x="4946760" y="4267080"/>
            <a:ext cx="326880" cy="444600"/>
          </a:xfrm>
          <a:prstGeom prst="rect">
            <a:avLst/>
          </a:prstGeom>
          <a:ln w="0">
            <a:noFill/>
          </a:ln>
        </p:spPr>
      </p:pic>
      <p:sp>
        <p:nvSpPr>
          <p:cNvPr id="183" name="Line 95"/>
          <p:cNvSpPr/>
          <p:nvPr/>
        </p:nvSpPr>
        <p:spPr>
          <a:xfrm flipH="1">
            <a:off x="7676640" y="2579760"/>
            <a:ext cx="5580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6" descr=""/>
          <p:cNvPicPr/>
          <p:nvPr/>
        </p:nvPicPr>
        <p:blipFill>
          <a:blip r:embed="rId13"/>
          <a:stretch/>
        </p:blipFill>
        <p:spPr>
          <a:xfrm>
            <a:off x="6556320" y="5486400"/>
            <a:ext cx="349200" cy="60948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7"/>
          <p:cNvSpPr/>
          <p:nvPr/>
        </p:nvSpPr>
        <p:spPr>
          <a:xfrm>
            <a:off x="6469200" y="3733920"/>
            <a:ext cx="653760" cy="533160"/>
          </a:xfrm>
          <a:prstGeom prst="flowChartMagneticDisk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8"/>
          <p:cNvSpPr/>
          <p:nvPr/>
        </p:nvSpPr>
        <p:spPr>
          <a:xfrm>
            <a:off x="6367320" y="4343400"/>
            <a:ext cx="871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 reposi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9"/>
          <p:cNvSpPr/>
          <p:nvPr/>
        </p:nvSpPr>
        <p:spPr>
          <a:xfrm>
            <a:off x="6616800" y="3124080"/>
            <a:ext cx="108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Health Information Exchan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0"/>
          <p:cNvSpPr/>
          <p:nvPr/>
        </p:nvSpPr>
        <p:spPr>
          <a:xfrm>
            <a:off x="7207200" y="4343400"/>
            <a:ext cx="1077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Network appl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1" descr=""/>
          <p:cNvPicPr/>
          <p:nvPr/>
        </p:nvPicPr>
        <p:blipFill>
          <a:blip r:embed="rId14"/>
          <a:stretch/>
        </p:blipFill>
        <p:spPr>
          <a:xfrm>
            <a:off x="7434360" y="3371760"/>
            <a:ext cx="560160" cy="971640"/>
          </a:xfrm>
          <a:prstGeom prst="rect">
            <a:avLst/>
          </a:prstGeom>
          <a:ln w="0">
            <a:noFill/>
          </a:ln>
        </p:spPr>
      </p:pic>
      <p:sp>
        <p:nvSpPr>
          <p:cNvPr id="190" name="Line 102"/>
          <p:cNvSpPr/>
          <p:nvPr/>
        </p:nvSpPr>
        <p:spPr>
          <a:xfrm>
            <a:off x="6326280" y="2819520"/>
            <a:ext cx="144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3" descr=""/>
          <p:cNvPicPr/>
          <p:nvPr/>
        </p:nvPicPr>
        <p:blipFill>
          <a:blip r:embed="rId15"/>
          <a:stretch/>
        </p:blipFill>
        <p:spPr>
          <a:xfrm>
            <a:off x="7632720" y="5486400"/>
            <a:ext cx="708120" cy="744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04"/>
          <p:cNvSpPr/>
          <p:nvPr/>
        </p:nvSpPr>
        <p:spPr>
          <a:xfrm>
            <a:off x="7533000" y="21877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Pay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5"/>
          <p:cNvSpPr/>
          <p:nvPr/>
        </p:nvSpPr>
        <p:spPr>
          <a:xfrm>
            <a:off x="5672160" y="3498840"/>
            <a:ext cx="363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6"/>
          <p:cNvSpPr/>
          <p:nvPr/>
        </p:nvSpPr>
        <p:spPr>
          <a:xfrm flipV="1">
            <a:off x="5672160" y="4184280"/>
            <a:ext cx="43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7"/>
          <p:cNvSpPr/>
          <p:nvPr/>
        </p:nvSpPr>
        <p:spPr>
          <a:xfrm flipV="1">
            <a:off x="6108840" y="4793760"/>
            <a:ext cx="288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8"/>
          <p:cNvSpPr/>
          <p:nvPr/>
        </p:nvSpPr>
        <p:spPr>
          <a:xfrm flipV="1">
            <a:off x="6761160" y="5022360"/>
            <a:ext cx="1443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9"/>
          <p:cNvSpPr/>
          <p:nvPr/>
        </p:nvSpPr>
        <p:spPr>
          <a:xfrm flipH="1" flipV="1">
            <a:off x="7632360" y="4946760"/>
            <a:ext cx="144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0"/>
          <p:cNvSpPr/>
          <p:nvPr/>
        </p:nvSpPr>
        <p:spPr>
          <a:xfrm>
            <a:off x="5039280" y="357516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La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1"/>
          <p:cNvSpPr/>
          <p:nvPr/>
        </p:nvSpPr>
        <p:spPr>
          <a:xfrm>
            <a:off x="4545720" y="470232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Outpatient R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2"/>
          <p:cNvSpPr/>
          <p:nvPr/>
        </p:nvSpPr>
        <p:spPr>
          <a:xfrm>
            <a:off x="5037480" y="5910120"/>
            <a:ext cx="116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Physician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3"/>
          <p:cNvSpPr/>
          <p:nvPr/>
        </p:nvSpPr>
        <p:spPr>
          <a:xfrm>
            <a:off x="6156000" y="6149880"/>
            <a:ext cx="144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Ambulatory ce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4"/>
          <p:cNvSpPr/>
          <p:nvPr/>
        </p:nvSpPr>
        <p:spPr>
          <a:xfrm>
            <a:off x="7761960" y="614988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Public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Difficult Challenges for 42 Operational H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447920"/>
          <a:ext cx="8229600" cy="4701960"/>
        </p:xfrm>
        <a:graphic>
          <a:graphicData uri="http://schemas.openxmlformats.org/drawingml/2006/table">
            <a:tbl>
              <a:tblPr/>
              <a:tblGrid>
                <a:gridCol w="4114800"/>
                <a:gridCol w="1447920"/>
                <a:gridCol w="1652760"/>
                <a:gridCol w="101412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ll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Difficult Chall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rately Difficult Chall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veloping a sustainable business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dressing technical aspects including architecture, applications and conne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ining the value that accrues to u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gaging practicing clinicians in your coverage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dressing privacy and confidentiality issues - HIPAA and 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curing upfront 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Picture 16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36232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6944040" y="6227640"/>
            <a:ext cx="168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Health Initiativ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8 Survey 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ealth Information Ex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0" y="6172200"/>
            <a:ext cx="1845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enter for Studying Health System Chang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Creating Sustainable Local Health Information Exchanges: Can Barriers to Stakeholder Participation be Overcome?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search Brief No. 2,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19503" t="0" r="20250" b="0"/>
          <a:stretch/>
        </p:blipFill>
        <p:spPr>
          <a:xfrm>
            <a:off x="0" y="0"/>
            <a:ext cx="9144000" cy="12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 Barrier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igh benefits, upfront and ongoing costs of the business, legal and technical iss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er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will be used for marketing purpo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ients will be redirected to other provi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of data for hospital performance measur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E data policies would make them non-compliant with federal patient privacy requir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lance competitive strategies with playing good corporate citizen 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57200" y="617220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*Center for Studying Health System Chang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Creating Sustainable Local Health Information Exchanges: Can Barriers to Stakeholder Participation be Overcome?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search Brief No. 2,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812880" y="0"/>
            <a:ext cx="7296120" cy="690408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Regenstrief Institut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90520" y="-433440"/>
            <a:ext cx="8290080" cy="78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 Randomized Samp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1630440"/>
          <a:ext cx="8153280" cy="4694040"/>
        </p:xfrm>
        <a:graphic>
          <a:graphicData uri="http://schemas.openxmlformats.org/drawingml/2006/table">
            <a:tbl>
              <a:tblPr/>
              <a:tblGrid>
                <a:gridCol w="1674720"/>
                <a:gridCol w="1360440"/>
                <a:gridCol w="1706760"/>
                <a:gridCol w="1707840"/>
                <a:gridCol w="1703520"/>
              </a:tblGrid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ial 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NPC particip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reviously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ot previously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 Hospi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 Physician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Physician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vey and Interview Guide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erature review and  brainstorming to identify potential b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t review and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with nine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d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B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Content Placeholder 5" descr=""/>
          <p:cNvPicPr/>
          <p:nvPr/>
        </p:nvPicPr>
        <p:blipFill>
          <a:blip r:embed="rId1"/>
          <a:stretch/>
        </p:blipFill>
        <p:spPr>
          <a:xfrm>
            <a:off x="426960" y="1517760"/>
            <a:ext cx="8278920" cy="4535280"/>
          </a:xfrm>
          <a:prstGeom prst="rect">
            <a:avLst/>
          </a:prstGeom>
          <a:ln w="0">
            <a:noFill/>
          </a:ln>
        </p:spPr>
      </p:pic>
      <p:sp>
        <p:nvSpPr>
          <p:cNvPr id="224" name="Rounded Rectangular Callout 7"/>
          <p:cNvSpPr/>
          <p:nvPr/>
        </p:nvSpPr>
        <p:spPr>
          <a:xfrm>
            <a:off x="1301760" y="1295280"/>
            <a:ext cx="2050920" cy="1371600"/>
          </a:xfrm>
          <a:prstGeom prst="wedgeRoundRectCallout">
            <a:avLst>
              <a:gd name="adj1" fmla="val 64208"/>
              <a:gd name="adj2" fmla="val 102046"/>
              <a:gd name="adj3" fmla="val 16667"/>
            </a:avLst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E description and definitio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ription of the INP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rve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ular Callout 10"/>
          <p:cNvSpPr/>
          <p:nvPr/>
        </p:nvSpPr>
        <p:spPr>
          <a:xfrm>
            <a:off x="5791320" y="5022720"/>
            <a:ext cx="1869840" cy="1454400"/>
          </a:xfrm>
          <a:prstGeom prst="wedgeRoundRectCallout">
            <a:avLst>
              <a:gd name="adj1" fmla="val -57416"/>
              <a:gd name="adj2" fmla="val -112129"/>
              <a:gd name="adj3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ular Callout 13"/>
          <p:cNvSpPr/>
          <p:nvPr/>
        </p:nvSpPr>
        <p:spPr>
          <a:xfrm>
            <a:off x="5029200" y="1295280"/>
            <a:ext cx="2057400" cy="1600200"/>
          </a:xfrm>
          <a:prstGeom prst="wedgeRoundRectCallout">
            <a:avLst>
              <a:gd name="adj1" fmla="val 74435"/>
              <a:gd name="adj2" fmla="val 80893"/>
              <a:gd name="adj3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Rounded Rectangular Callout 15"/>
          <p:cNvGrpSpPr/>
          <p:nvPr/>
        </p:nvGrpSpPr>
        <p:grpSpPr>
          <a:xfrm>
            <a:off x="1566720" y="4095720"/>
            <a:ext cx="1957680" cy="2408400"/>
            <a:chOff x="1566720" y="4095720"/>
            <a:chExt cx="1957680" cy="2408400"/>
          </a:xfrm>
        </p:grpSpPr>
        <p:pic>
          <p:nvPicPr>
            <p:cNvPr id="228" name="Rounded Rectangular Callout 15" descr=""/>
            <p:cNvPicPr/>
            <p:nvPr/>
          </p:nvPicPr>
          <p:blipFill>
            <a:blip r:embed="rId4"/>
            <a:stretch/>
          </p:blipFill>
          <p:spPr>
            <a:xfrm>
              <a:off x="1566720" y="4095720"/>
              <a:ext cx="195768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819440" y="5172120"/>
              <a:ext cx="161100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3:16:09Z</dcterms:created>
  <dc:creator>Marc Overhage</dc:creator>
  <dc:description/>
  <dc:language>en-US</dc:language>
  <cp:lastModifiedBy>william.hyde</cp:lastModifiedBy>
  <dcterms:modified xsi:type="dcterms:W3CDTF">2009-01-02T15:01:54Z</dcterms:modified>
  <cp:revision>28</cp:revision>
  <dc:subject/>
  <dc:title>Slide 1</dc:title>
</cp:coreProperties>
</file>