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FEC-E421-4D6D-8DCD-7A460AD1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23E0-3839-4657-835B-D406336F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CF5-EAC4-4D38-B2C4-69915ECD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4B3-85FC-4DC0-9AAE-FF42316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A2D-6A94-4E78-B2B9-A7D91754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D11-2A08-48BD-95E0-1DFCF0DF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DFF-5885-4563-826C-D591CD1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A86-A54B-4F0F-B3FA-DB33BC14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B1C-1683-4FF1-A850-CBA88D2A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628-07FB-4F02-AFEA-F64B044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910-05A2-4979-8747-27DEA22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322-D674-4221-9D26-997E5D3E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747-9749-42B4-9002-1355D66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27E-9A94-4F22-879F-3748C5A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umar - Emergency Care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BC17-894E-4AC1-A449-52282D749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for the U.S. Heath Car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W. Neumar MD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, Research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ollege of Emergency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1EB-5E61-49EE-81C0-A780425F300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222120"/>
            <a:ext cx="7086600" cy="577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FF2-1919-44CD-8B65-0CA2A80A266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743040"/>
            <a:ext cx="6172200" cy="5429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27144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9. Emergency department visits principal reasons for visit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2235240"/>
            <a:ext cx="4953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97320" y="83808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3120" y="2044800"/>
            <a:ext cx="4953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108240"/>
            <a:ext cx="83055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FE8-95F5-427A-ABA4-1718C64A1C75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1080" y="376200"/>
            <a:ext cx="75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1. ED visits by primary ED diagnosis groups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478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73120" y="2400480"/>
            <a:ext cx="4953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1000" y="83808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3120" y="2197080"/>
            <a:ext cx="495324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108240"/>
            <a:ext cx="83055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,000 ED diagnosis abdominal or chest pain  (66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B57-C94F-4099-AE8E-5A3A1CC846B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42880" y="376200"/>
            <a:ext cx="744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11. ED visits by hospital discharge diagnosis: United States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261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457200" y="2285640"/>
            <a:ext cx="6705720" cy="25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4840" y="9144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07960" y="5409720"/>
            <a:ext cx="6705720" cy="255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108240"/>
            <a:ext cx="8305560" cy="132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,600,000 ED visits for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,000,000 ED diagnosis abdominal or chest p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72,000 hospital discharge diagnosis abdominal or chest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7B0A-1B54-4695-AFBE-A3478B0663A5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linical research that improves the accuracy, speed, safety, and cost-effectiveness of diagnosis in the emergency care setting has the potential to both improve outcomes and reduce resource utilization.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P/SAEM Joint Research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8E4-D17C-4875-B4FB-03592883A5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differentiated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440" y="2057040"/>
            <a:ext cx="4419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ment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56F-A60E-4D0B-A73D-7AFAF611D4E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47560" y="17524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ifferentiate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chedu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ocations an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ensitive diagno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d data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le data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or train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0A0-570F-4761-9CF3-9D4C2BBBCF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904760" y="23619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/7/365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 part of health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0AC-8D4B-4CCA-A783-38AFD72A53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/medical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inform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-base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care and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are and care for priority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and delivery of care and use of health care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sts and fin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 and public health prepar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9436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362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ergency Care Investigat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94D-45ED-448F-91DA-CE08948374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7760" y="304920"/>
            <a:ext cx="7023240" cy="653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685800"/>
            <a:ext cx="7086600" cy="18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of Emergency Care S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spital-Based Emergency C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Breaking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e on the Future of Emergency Care in the United States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B2F-9B79-45A6-851F-E52514019EF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Agency for Healthcare Research and Quality (AHRQ) has a mission to improve the quality, safety, efficiency, effectiveness, and cost-effectiveness of health care for all America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172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2E3-A495-4CD0-9FD2-3D815746E4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/medical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qu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information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e-based medic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nical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s of care and effectiv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care and care for priority pop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 and delivery of care and use of health care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costs and finan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 and public health prepar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HRQ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523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ahrq.gov/about/highlt07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27DE-5457-410E-A67E-CC7FAB55765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989520" cy="4038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5410080"/>
            <a:ext cx="37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P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7C3-99BC-47FF-A905-ED2BE97D17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743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2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334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3429000"/>
            <a:ext cx="13716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5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4290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50292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3429000"/>
            <a:ext cx="1371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43% of tot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358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2860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1240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572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543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" y="59436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27672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CFB-543B-4E64-95A7-0A0845CBB44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7240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2286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33412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23623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1240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327672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7524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242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47242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752480"/>
            <a:ext cx="137160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17524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724280"/>
            <a:ext cx="1371600" cy="11430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3429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5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42900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79064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idenc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876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servation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429000"/>
            <a:ext cx="1371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43% of total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19051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0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58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228600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12408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4572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5434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04320" y="5943600"/>
            <a:ext cx="30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hcupnet.ahrq.gov/HCUPnet.j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" y="5943600"/>
            <a:ext cx="29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DC Advanced Data No 386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blem or Sol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335-5D6D-4F0C-B89D-F49BBA5C9F9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ergency medical services (EMS) car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mergency department c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mergency department patients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symptom/diagnosis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oe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spital ad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red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[alternative management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prove outc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CAF-F45E-47D5-96C3-C5CF0B3479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ency Care Research</a:t>
            </a:r>
            <a:br>
              <a:rPr sz="44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04920" y="2435400"/>
            <a:ext cx="899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id diagnosis and early intervention in acute illness or acutely decompensated chronic illness improves patient outcomes.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63868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umar, Ann Emerg Med, 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09680"/>
            <a:ext cx="4495680" cy="114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E85-2321-4D7C-94F8-E3B5B825895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/8/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9:20:40Z</dcterms:created>
  <dc:creator>Robert W. Neumar, MD, PhD</dc:creator>
  <dc:description/>
  <cp:keywords/>
  <dc:language>en-US</dc:language>
  <cp:lastModifiedBy>Robert/Neumar User</cp:lastModifiedBy>
  <dcterms:modified xsi:type="dcterms:W3CDTF">2008-09-08T11:30:43Z</dcterms:modified>
  <cp:revision>73</cp:revision>
  <dc:subject/>
  <dc:title>Emergency Care Research: Priorities and Future Directions</dc:title>
</cp:coreProperties>
</file>