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A139-9BA2-46E3-B82F-80CA42668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9657-9D85-4FAA-B563-AC46F3957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FCE-5DEF-4D71-AD79-7D577A9A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588-8EA4-4220-B95B-76DB1F7E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69D-EB21-4D2B-9A19-4B7E29B6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7BA-B52E-4203-819E-6366E8F5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798-B164-40ED-AF72-59CAB41B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7DC-C370-4A15-B674-1B51BD43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168-57CC-41A2-A392-73BB25B5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353-1111-4ACB-AA59-E809F876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278-B648-4C6A-9614-416D9738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F23-9B6F-44E4-A959-4AB7FBF6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715-6091-43EF-AE49-1D2989CB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1AA-61C6-495B-B085-0F87EA35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mar - Emergency Care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FD57-E6F4-4E5C-84A4-0BDFA99D1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for the U.S. Heath Ca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W. Neumar MD,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, Research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College of Emergency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F61-45B2-419E-8022-43BDD3B79CE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222120"/>
            <a:ext cx="7086600" cy="577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6FB-0700-424E-9EA3-D1A418733D6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743040"/>
            <a:ext cx="6172200" cy="5429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27144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9. Emergency department visits principal reasons for visit: United States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2235240"/>
            <a:ext cx="4953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97320" y="83808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DC Advanced Data No 38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3120" y="2044800"/>
            <a:ext cx="49532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108240"/>
            <a:ext cx="8305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,600,000 ED visits for abdominal or chest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1E2-483D-41F2-8221-027CA328A57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1080" y="376200"/>
            <a:ext cx="75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11. ED visits by primary ED diagnosis groups: United States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90960" cy="5478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73120" y="2400480"/>
            <a:ext cx="4953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1000" y="83808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DC Advanced Data No 38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3120" y="2197080"/>
            <a:ext cx="49532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108240"/>
            <a:ext cx="83055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,600,000 ED visits for abdominal or chest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,000,000 ED diagnosis abdominal or chest pain  (6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04C-78AC-46EA-A970-784B70FC1561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42880" y="376200"/>
            <a:ext cx="74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11. ED visits by hospital discharge diagnosis: United States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261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457200" y="2285640"/>
            <a:ext cx="6705720" cy="25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4840" y="91440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DC Advanced Data No 38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07960" y="5409720"/>
            <a:ext cx="670572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108240"/>
            <a:ext cx="830556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,600,000 ED visits for abdominal or chest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,000,000 ED diagnosis abdominal or chest p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72,000 hospital discharge diagnosis abdominal or chest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E32-59BA-4728-9F98-A9C658F33E6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inical research that improves the accuracy, speed, safety, and cost-effectiveness of diagnosis in the emergency care setting has the potential to both improve outcomes and reduce resource utilization.”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P/SAEM Joint Research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4D5-6BF5-4541-9D0D-2221F97095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ifferentiated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1440" y="20570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st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ac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18F-26B1-478B-9EB1-AC59F43B38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47560" y="17524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ifferentiated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locations and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ensitive diagnosis and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data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l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or train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1F2-CA1D-44E2-AF4C-00E97789D1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904760" y="236196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/7/365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e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l part of health c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6A7-0DE1-426E-A165-F4551AE96DC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effectiv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/medical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information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-based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s of care and effectiv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care and care for priority pop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and delivery of care and use of health care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costs and finan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system and public health prepar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HRQ Portf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59436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hrq.gov/about/highlt07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23623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ergency Care Investigator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847-CE7C-45F5-922D-FAAD6FE477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7760" y="304920"/>
            <a:ext cx="7023240" cy="6537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3000" y="685800"/>
            <a:ext cx="7086600" cy="18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of Emergency Care S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ospital-Based Emergency C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Breaking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e on the Future of Emergency Care in the United States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AA8-6C43-4F7F-913D-2B55D1C7631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Agency for Healthcare Research and Quality (AHRQ) has a mission to improve the quality, safety, efficiency, effectiveness, and cost-effectiveness of health care for all American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HRQ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1720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hrq.gov/about/highlt07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4DC-EE5C-4EDC-A4DF-339D8D5FB7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effectiv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/medical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information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-based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s of care and effectiv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care and care for priority pop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and delivery of care and use of health care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costs and finan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system and public health prepar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HRQ Portf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15238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hrq.gov/about/highlt07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E51-F777-4F2B-BBF0-275AE586A6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989520" cy="4038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blem or So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5410080"/>
            <a:ext cx="3733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P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45B-0A5D-43A8-BFD6-D2B43FDD6EC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43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2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3341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3623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3429000"/>
            <a:ext cx="13716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5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42900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bulato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0292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48769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servation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3429000"/>
            <a:ext cx="1371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43% of tot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1905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3581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22860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12408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457200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35434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000" y="594360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DC Advanced Data No 38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327672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27672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27672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327672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or So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FAF-4E7D-433F-9AF6-5A54287167E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2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3341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23623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75248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72428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472428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75248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3429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5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42900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bulato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79064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idence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8769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8769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servation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429000"/>
            <a:ext cx="1371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43% of total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1905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581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22860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312408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457200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5434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04320" y="5943600"/>
            <a:ext cx="30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hcupnet.ahrq.gov/HCUPnet.j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" y="594360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DC Advanced Data No 38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blem or So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6B6-432C-4679-8D22-98784178335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symptom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mergency medical services (EMS) car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alternative management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rove outc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symptom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mergency department c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ared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alternative management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rove outc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mergency department patients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symptom/diagnosis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o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spital ad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ared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alternative management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rove outc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88A-77CB-48CE-B016-5108F0F433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04920" y="243540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id diagnosis and early intervention in acute illness or acutely decompensated chronic illness improves patient outcomes.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63868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umar, Ann Emerg Med, 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09680"/>
            <a:ext cx="44956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DCA-05D2-4E64-A5D9-F1084FF77B3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9:20:40Z</dcterms:created>
  <dc:creator>Robert W. Neumar, MD, PhD</dc:creator>
  <dc:description/>
  <cp:keywords/>
  <dc:language>en-US</dc:language>
  <cp:lastModifiedBy>Robert/Neumar User</cp:lastModifiedBy>
  <dcterms:modified xsi:type="dcterms:W3CDTF">2008-09-08T11:30:43Z</dcterms:modified>
  <cp:revision>73</cp:revision>
  <dc:subject/>
  <dc:title>Emergency Care Research: Priorities and Future Directions</dc:title>
</cp:coreProperties>
</file>