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22B4-BFFE-42B6-AD2B-BC0E39546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FD8A-2175-4600-B36B-1F0303BC0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7237-622D-4DE2-A54F-113ADD6A2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EDF1-53C2-4341-B34E-636055CE0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27A2-856E-436E-99D9-10843BEF5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69B0-2693-4382-ADF0-60C0F4970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6E3A-BDBA-4238-9B9B-E839B8833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194D-76FE-4D9C-BCFD-FE7B25220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15D6-FDA8-4EED-842D-29B592F1D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D1E9-E3E3-42A2-A866-4AFD9512A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2ABA-D8EF-438E-818F-E6A18E46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4E4E-083A-4A89-894F-15B46100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E8181-4B73-4C11-AE8E-BF73F42BAF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1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ilding Bridges Between Researchers and Manager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an it be D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R. Nerenz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or, Center for Health Services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ry Ford Health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roit, 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010280" y="5545080"/>
            <a:ext cx="144792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Studies that Influence Managers -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ies that develop a tool or a metric or a classification system that addresses a management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Gs (hospital pay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DIS (quality of care measu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Gs (severity/risk adjust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076800" y="1873080"/>
            <a:ext cx="1506600" cy="2089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248520" y="4419720"/>
            <a:ext cx="152388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Studies that Influence Managers - I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384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ion or QI projects that show that something MIGHT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spitalists (Simmer et 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cer care coord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ient safety initi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f these projects may not be research at all – will not produce generalizable knowledge as their primary ai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715000" y="1828800"/>
            <a:ext cx="2116080" cy="18651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095880" y="4114800"/>
            <a:ext cx="151128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Researcher-Manager Collabo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er for Health Management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y of Washington, University of California, HRET, 10 health care organizations, 13 other univers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HRQ’s ACTION (Accelerating Change and Transformation in Organizations and Networks)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terans Administration HSR Centers of Excel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ilding the Bridge to the Other Side – A Different Research Paradig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nician researchers – those who actually do patient care should be those who design, test, and refine health care delivery innov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arch in clinic and inpatient unit “laboratories” – example – Mayo Clinic’s SPARC unit.  Research don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ganizations, not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bou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arch on truly new things to determine whether they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ork, rather than on big, already-implemented things to determine whether they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ork (o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ork!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 on managers’ problems rather than policy-makers’ problems – e.g., reducing medical errors, reducing no-shows, enhancing interpreter services, reducing inefficiency and duplication…. (industrial engineer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, bite-size problems rather than large, mega-problems (not, “Do EMRs enhance quality of care?”, but 100 specific questions on how to create or enhance an effect of a specific EMR system on quality of ca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icit study attention paid to local context effects and interactions rather than use of randomization designs and regression models to eliminate 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Can 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nry Ford Health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, vertically integrated health car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p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l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rsing H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cillary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-house health services research center since 19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238880" y="335268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705720" y="5562720"/>
            <a:ext cx="2143080" cy="990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191120" y="4952880"/>
            <a:ext cx="2057400" cy="933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7086600" y="1523880"/>
            <a:ext cx="1828800" cy="1117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4495680" y="2819520"/>
            <a:ext cx="168768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6095880" cy="42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earchers and Managers –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fferent Worl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alth Services Re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ears to complete and publish typical 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ested in universal, cause-effect relationshi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&lt; .05 is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ith in universality of phenomena under stu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agement by data”, or “evidence-based management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828440"/>
            <a:ext cx="4038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alth Care Admin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s needed in d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ested in practical, applicable solutions to probl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&lt; .30 is fine, if implementable and likely to yield big differ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es, but can it work HERE?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agement by vision, principles, relationships, and incen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{Quality Improvement/System Change/Relevance of Research Findings} is Local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403848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experience is shaped by, and dependent on, local circumstances that don’t exist in precisely the same way anywhere el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s among individuals and organizations are unique – lessons learned may or may not apply elsew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32320" y="2209680"/>
            <a:ext cx="233208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earchers and Managers –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fferent Worl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403812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er’s approach to question of what works better – put two alternatives in an RCT and run a study (or do an observational study with propensity score analysis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’s approach to question of what works better – implement alternative that can be implemented, then work on “tweaking” to improve gradually over time an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k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t work bet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257480" y="1881360"/>
            <a:ext cx="2438280" cy="1623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810400" y="1739880"/>
            <a:ext cx="17143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gnificance or Effect Siz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is painful.  The magnitude of difference {for a new approach} has to be around 25%.  I won’t tear the organization apart for a 10% difference – certainly not 5%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iam Conway, M.D., Senior Vice President, Chief Medical Officer, Henry Ford Hos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s of Studies tha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ically Don’t Influence Manag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ies of organizational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CTs of “big things” – quality improvement, EMRs, incentive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study whose results are expressed as beta coefficients or odds rat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073480" y="1600200"/>
            <a:ext cx="3186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Studies that Influence Managers -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3200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, describe, or quantify an important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pe – medical err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nnberg – small area var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cGlynn – quality of care in primary care set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781680" y="1523880"/>
            <a:ext cx="1660680" cy="21862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867360" y="4876920"/>
            <a:ext cx="1409760" cy="1625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038480" y="3124080"/>
            <a:ext cx="2319480" cy="15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14:37:34Z</dcterms:created>
  <dc:creator>HFHS</dc:creator>
  <dc:description/>
  <dc:language>en-US</dc:language>
  <cp:lastModifiedBy>HFHS</cp:lastModifiedBy>
  <dcterms:modified xsi:type="dcterms:W3CDTF">2008-09-08T16:49:29Z</dcterms:modified>
  <cp:revision>10</cp:revision>
  <dc:subject/>
  <dc:title>Building Bridges Between Researchers and Managers:  Can it be Done?</dc:title>
</cp:coreProperties>
</file>