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5268-092C-49EA-A5BB-EEADD572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761-AC36-46F2-94E3-71049B38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889-8E03-4CA7-9B8F-A9F4CFEC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806-6D02-4564-A1F1-65C3352B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25B-1273-43D7-8D1D-1FCC3DDD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C04-8753-4263-B9D6-3357C887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BE9-ACFB-42D3-9577-A1ADEE03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D61-CE85-4BD4-A7EA-48447339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1B1-F688-4727-9590-DB0D1B30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991-1076-4F9A-81A8-AA4709EA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64E-012B-489A-8A37-5B95A5E7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2F7-8A38-4386-828D-770ABD30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48AB-FC82-498D-A227-A59FFBE2E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Bridges Between Researchers and Manager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n it be D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R. Nerenz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Center for Health Service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For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roit,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10280" y="5545080"/>
            <a:ext cx="14479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tudies that Influence Managers -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that develop a tool or a metric or a classification system that addresses a management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Gs (hospital pay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DIS (quality of care meas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Gs (severity/risk adjus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76800" y="1873080"/>
            <a:ext cx="1506600" cy="2089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248520" y="4419720"/>
            <a:ext cx="15238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tudies that Influence Managers -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or QI projects that show that something MIGH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ists (Simmer et 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r care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fety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se projects may not be research at all – will not produce generalizable knowledge as their primary a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116080" cy="1865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95880" y="4114800"/>
            <a:ext cx="1511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Researcher-Manager 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ealth Managemen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Washington, University of California, HRET, 10 health care organizations, 13 other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’s ACTION (Accelerating Change and Transformation in Organizations and Networks)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s Administration HSR Centers of Excel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the Bridge to the Other Side – A Different Research Paradig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ian researchers – those who actually do patient care should be those who design, test, and refine health care delivery innov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in clinic and inpatient unit “laboratories” – example – Mayo Clinic’s SPARC unit.  Research don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ganizations, no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o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on truly new things to determine whether the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, rather than on big, already-implemented things to determine whether the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 (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!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managers’ problems rather than policy-makers’ problems – e.g., reducing medical errors, reducing no-shows, enhancing interpreter services, reducing inefficiency and duplication…. (industrial engine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, bite-size problems rather than large, mega-problems (not, “Do EMRs enhance quality of care?”, but 100 specific questions on how to create or enhance an effect of a specific EMR system on quality of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 study attention paid to local context effects and interactions rather than use of randomization designs and regression models to eliminat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Ford Health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, vertically integrated health ca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sing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-house health services research center since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238880" y="3352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05720" y="5562720"/>
            <a:ext cx="2143080" cy="99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191120" y="4952880"/>
            <a:ext cx="2057400" cy="93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086600" y="1523880"/>
            <a:ext cx="1828800" cy="1117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495680" y="2819520"/>
            <a:ext cx="1687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09588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earchers and Managers –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Wor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lth Services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ars to complete and publish typical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ested in universal, cause-effect relation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&lt; .05 is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ith in universality of phenomena under stu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 by data”, or “evidence-based managemen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lth Care 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s needed in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ested in practical, applicable solutions to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&lt; .30 is fine, if implementable and likely to yield big dif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, but can it work HERE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 by vision, principles, relationships, and incen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{Quality Improvement/System Change/Relevance of Research Findings} is Loc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experience is shaped by, and dependent on, local circumstances that don’t exist in precisely the same way anywhere e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mong individuals and organizations are unique – lessons learned may or may not apply else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2320" y="2209680"/>
            <a:ext cx="2332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earchers and Managers –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Wor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er’s approach to question of what works better – put two alternatives in an RCT and run a study (or do an observational study with propensity score analysis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’s approach to question of what works better – implement alternative that can be implemented, then work on “tweaking” to improve gradually over time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 work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57480" y="1881360"/>
            <a:ext cx="2438280" cy="1623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810400" y="1739880"/>
            <a:ext cx="1714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r Effect Siz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s painful.  The magnitude of difference {for a new approach} has to be around 25%.  I won’t tear the organization apart for a 10% difference – certainly not 5%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am Conway, M.D., Senior Vice President, Chief Medical Officer, Henry Ford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tudies tha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ically Don’t Influence Mana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of organization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Ts of “big things” – quality improvement, EMRs, incentiv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tudy whose results are expressed as beta coefficients or odds 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73480" y="1600200"/>
            <a:ext cx="318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tudies that Influence Managers -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200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, describe, or quantify an importa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pe – medical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nnberg – small area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Glynn – quality of care in primary care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660680" cy="2186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67360" y="4876920"/>
            <a:ext cx="1409760" cy="1625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038480" y="3124080"/>
            <a:ext cx="23194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4:37:34Z</dcterms:created>
  <dc:creator>HFHS</dc:creator>
  <dc:description/>
  <dc:language>en-US</dc:language>
  <cp:lastModifiedBy>HFHS</cp:lastModifiedBy>
  <dcterms:modified xsi:type="dcterms:W3CDTF">2008-09-08T16:49:29Z</dcterms:modified>
  <cp:revision>10</cp:revision>
  <dc:subject/>
  <dc:title>Building Bridges Between Researchers and Managers:  Can it be Done?</dc:title>
</cp:coreProperties>
</file>