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CC95-E599-43F9-A0CF-6C70A090F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BFD-2776-4147-8B71-0FD39D00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F57-3DC9-4FC7-90B2-DEBEC83B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56B5-D7A2-4C73-8CAC-C47EFE518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9B47-DCCF-41AA-ADAC-E401D3166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81B0-3956-408F-8FF8-A90928739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9A31-6357-4D69-94D1-506D2922B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5F4-91B4-4B76-82E9-5A6182CF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D92-A6CA-4C58-AEF4-78FD8BF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39C-A034-4736-B5D8-300478F0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A87-7FA1-4543-A843-C2ED80A9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8F9F-EBF5-4B0B-8875-2FEC24DB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953-04C6-40D1-9A60-4F8C768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25F1-5328-4802-ADBA-5594F3F1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6F31-ECA1-4462-A325-C7D344B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8531-8579-4916-9376-8EFF2D81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BF26-FD2A-456D-8DE1-0B6C150F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95F1-450D-4709-9378-447189F3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80B-0F01-45E0-8869-B8FF4901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572-9A45-4716-9B9D-98A9BE0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CE05-B52C-43E5-95E1-400D7C1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3494-873E-4B4C-A9DD-94EC3B92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3D8A-8E4B-4374-A09C-F4A3B917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7F58-8B6A-48FA-9F69-D3813990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B22-E0B6-4D86-A32E-7F67C5C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4A1-7FC5-4D0B-92F3-F13ED48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A69-B86D-43B4-A7C4-466A1471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C82-F17D-48E8-B800-E2090A4B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9D1-5728-45FF-B906-7E33717B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4A9-5EC1-4048-9B8C-E7F18DB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186-FD8D-4192-987B-7EF6B94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1932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133A-3643-435D-BDD6-5DF55B0A3C07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400" y="6400800"/>
            <a:ext cx="3276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0DD4-AE42-4618-8110-FBECF2B37DF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914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370640" y="6400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00240" cy="1803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5"/>
          <p:cNvSpPr/>
          <p:nvPr/>
        </p:nvSpPr>
        <p:spPr>
          <a:xfrm>
            <a:off x="2614680" y="4572000"/>
            <a:ext cx="254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 HSR&amp;D Salt L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h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rveillanc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A8C0-AA51-425E-ADF2-CA37AC6EF46D}" type="datetime">
              <a:rPr b="0" lang="en-US" sz="1200" spc="-1" strike="noStrike">
                <a:solidFill>
                  <a:srgbClr val="000000"/>
                </a:solidFill>
                <a:latin typeface="Trebuchet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343-4E4E-47B1-9B59-E2E559AF5FB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Information Integration to support Medication Managemen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nathan R. Nebeker MS M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University of Uta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7" descr="Feedback-healthcare.png"/>
          <p:cNvPicPr/>
          <p:nvPr/>
        </p:nvPicPr>
        <p:blipFill>
          <a:blip r:embed="rId2"/>
          <a:srcRect l="0" t="-18514" r="0" b="-18514"/>
          <a:stretch/>
        </p:blipFill>
        <p:spPr>
          <a:xfrm>
            <a:off x="609480" y="1371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Cycle in Healthca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5628-21F7-469D-8156-2C9A063AE18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ircular Arrow 11"/>
          <p:cNvSpPr/>
          <p:nvPr/>
        </p:nvSpPr>
        <p:spPr>
          <a:xfrm flipH="1" rot="8086800">
            <a:off x="3818520" y="3124440"/>
            <a:ext cx="2268360" cy="182880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2209680" y="3048120"/>
            <a:ext cx="2667240" cy="1676160"/>
            <a:chOff x="2209680" y="3048120"/>
            <a:chExt cx="2667240" cy="1676160"/>
          </a:xfrm>
        </p:grpSpPr>
        <p:sp>
          <p:nvSpPr>
            <p:cNvPr id="130" name="Rounded Rectangle 9"/>
            <p:cNvSpPr/>
            <p:nvPr/>
          </p:nvSpPr>
          <p:spPr>
            <a:xfrm>
              <a:off x="2285640" y="3733920"/>
              <a:ext cx="2133720" cy="99036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6"/>
            <p:cNvSpPr/>
            <p:nvPr/>
          </p:nvSpPr>
          <p:spPr>
            <a:xfrm>
              <a:off x="2209680" y="304812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rebuchet MS"/>
                </a:rPr>
                <a:t>What is going 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9"/>
          <p:cNvGrpSpPr/>
          <p:nvPr/>
        </p:nvGrpSpPr>
        <p:grpSpPr>
          <a:xfrm>
            <a:off x="5181480" y="1639800"/>
            <a:ext cx="1752840" cy="696960"/>
            <a:chOff x="5181480" y="1639800"/>
            <a:chExt cx="1752840" cy="696960"/>
          </a:xfrm>
        </p:grpSpPr>
        <p:sp>
          <p:nvSpPr>
            <p:cNvPr id="133" name="Freeform 16"/>
            <p:cNvSpPr/>
            <p:nvPr/>
          </p:nvSpPr>
          <p:spPr>
            <a:xfrm>
              <a:off x="5276160" y="1639800"/>
              <a:ext cx="1524240" cy="69696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Straight Connector 18"/>
            <p:cNvSpPr/>
            <p:nvPr/>
          </p:nvSpPr>
          <p:spPr>
            <a:xfrm>
              <a:off x="5181480" y="1981800"/>
              <a:ext cx="175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Mode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crambl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ck of purposeful activ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pportunist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ressing salient characterist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actica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llowing procedure, limited sc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rateg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oader scope and higher-level g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7EF-36D9-4943-B637-B994CE3C367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eliminary Conclusion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CoM translates well to chronic disease car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igh-mode characteristics have face validity for predicting better outcome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lications for software desig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support efficient, rich reconstruction of mental model of pati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highlight interaction of goals and therap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increase time horizon including feed forwar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AAC3-CAF0-4EBC-B5A8-FE5831CFBBF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Demonstration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3692-06C6-4FA9-87C3-D746FF4DECA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B45F-DB96-481A-9957-50BAB89036D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Example of Integrated Control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6" name="Picture 4" descr="Kirk_talking_to_Sarek_in_Sickbay"/>
          <p:cNvPicPr/>
          <p:nvPr/>
        </p:nvPicPr>
        <p:blipFill>
          <a:blip r:embed="rId2"/>
          <a:stretch/>
        </p:blipFill>
        <p:spPr>
          <a:xfrm>
            <a:off x="1295280" y="1371600"/>
            <a:ext cx="6456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Building up to Understand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8" name="Content Placeholder 4" descr="Unsorted meds conditions goals.png"/>
          <p:cNvPicPr/>
          <p:nvPr/>
        </p:nvPicPr>
        <p:blipFill>
          <a:blip r:embed="rId2"/>
          <a:srcRect l="0" t="-41341" r="0" b="-41341"/>
          <a:stretch/>
        </p:blipFill>
        <p:spPr>
          <a:xfrm>
            <a:off x="609480" y="1371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D95B-3D2F-44A8-AD1C-3DE70A9BE9B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napshot of condition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A14-6AA6-4D1C-A9E3-CB7761DF5DFD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orted net view on htn.png"/>
          <p:cNvPicPr/>
          <p:nvPr/>
        </p:nvPicPr>
        <p:blipFill>
          <a:blip r:embed="rId2"/>
          <a:stretch/>
        </p:blipFill>
        <p:spPr>
          <a:xfrm>
            <a:off x="368280" y="2197080"/>
            <a:ext cx="84074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2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8B11-049F-461D-9EBA-4EECB559B60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Full view pre change.png"/>
          <p:cNvPicPr/>
          <p:nvPr/>
        </p:nvPicPr>
        <p:blipFill>
          <a:blip r:embed="rId2"/>
          <a:stretch/>
        </p:blipFill>
        <p:spPr>
          <a:xfrm>
            <a:off x="368280" y="285840"/>
            <a:ext cx="8407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473D-19C9-4D8F-913C-5EF493EBA68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Full view wih order.png"/>
          <p:cNvPicPr/>
          <p:nvPr/>
        </p:nvPicPr>
        <p:blipFill>
          <a:blip r:embed="rId2"/>
          <a:stretch/>
        </p:blipFill>
        <p:spPr>
          <a:xfrm>
            <a:off x="368280" y="285840"/>
            <a:ext cx="8407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153C-5B56-4882-8098-0FE44CAEBBD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Full view post change.png"/>
          <p:cNvPicPr/>
          <p:nvPr/>
        </p:nvPicPr>
        <p:blipFill>
          <a:blip r:embed="rId2"/>
          <a:stretch/>
        </p:blipFill>
        <p:spPr>
          <a:xfrm>
            <a:off x="368280" y="312840"/>
            <a:ext cx="840744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Acknowledgement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137124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arlene R. Wei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ank Drews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lly Leecaste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nd Rupper, MPH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nneth Boockvar,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vin Meldr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ndi Gea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ke Lincoln,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ris Nielson, MD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ittany Mallin, MS MP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6480" y="1371240"/>
            <a:ext cx="392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HRQ R18 HS01718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 Salt Lake City IDEAS Cen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C9B0-0156-4CA3-BA00-CAF28F8EE3E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FD4B-C415-403E-8075-C2532EA6E8E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raph view history.png"/>
          <p:cNvPicPr/>
          <p:nvPr/>
        </p:nvPicPr>
        <p:blipFill>
          <a:blip r:embed="rId2"/>
          <a:stretch/>
        </p:blipFill>
        <p:spPr>
          <a:xfrm>
            <a:off x="368280" y="1569960"/>
            <a:ext cx="84074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DE2A-9CFE-4C76-88FF-70E0441BAA1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Full view post change with projection.png"/>
          <p:cNvPicPr/>
          <p:nvPr/>
        </p:nvPicPr>
        <p:blipFill>
          <a:blip r:embed="rId2"/>
          <a:stretch/>
        </p:blipFill>
        <p:spPr>
          <a:xfrm>
            <a:off x="368280" y="312840"/>
            <a:ext cx="840744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2114-06F6-432C-9B5F-071A5E89570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Advantages of Contextual Control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mplification of current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ication reconcili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llows for shared mental model of care plan by all professions and the pati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vides natural coordination of c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s error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acilitate the relevance of nursing documen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2FE-2A0A-4895-A138-A22AF943784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ummary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y-driven design (human factors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integrates patient and syste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atient-centric outcom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sistive decision suppor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acilitates geriatric-style ca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Overview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urr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theory gets us to 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D03-87A4-416B-86E5-D3F21487F96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148D-C761-4E4A-9A98-7AAC36D62F8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urrent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7" name="Picture 7" descr="2"/>
          <p:cNvPicPr/>
          <p:nvPr/>
        </p:nvPicPr>
        <p:blipFill>
          <a:blip r:embed="rId2"/>
          <a:stretch/>
        </p:blipFill>
        <p:spPr>
          <a:xfrm>
            <a:off x="0" y="1600200"/>
            <a:ext cx="5715000" cy="4413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38320" y="1371240"/>
            <a:ext cx="30862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acc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siloed in ta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hysician centr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tient exclud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 interface for contr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42C1-C983-4787-AC44-214554E0843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Future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67280" y="1371240"/>
            <a:ext cx="2857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contr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integra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orts all healthcare professionals and the pati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10" descr="3 Tier"/>
          <p:cNvPicPr/>
          <p:nvPr/>
        </p:nvPicPr>
        <p:blipFill>
          <a:blip r:embed="rId2"/>
          <a:stretch/>
        </p:blipFill>
        <p:spPr>
          <a:xfrm>
            <a:off x="0" y="1600200"/>
            <a:ext cx="58849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ogres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oint Cognitive Systems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gnitive Systems Engine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extual Control Mod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D977-FEF0-4084-BF36-85C84C4FE21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gnitive System Engineer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extual Control Model (CoCoM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derstanding/Sense mak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oal reconcili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eedback/Feed Forward Contr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harp-end efficiency, resilienc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sistive decision suppor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AA5-FB6F-4F40-9798-73D732D59B3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Decision Support v. Sense Mak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puterized decision support is typically normative and targets the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right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cision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CPRS of the future will emphasize an information-rich environment that targets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nse making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o support higher quality decisions in the highly variable context of patient car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BF5F-0E3C-4367-AD8A-99EB05118E1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extual Control Model (CoCoM)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erformance in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types of behaviors predict better outcom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unctional not structural approach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about information processing models: Memory, programs, 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d in engineered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S at Saa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clear Power Pla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999-8643-4134-B9F6-E37F1A94534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8:20:33Z</dcterms:created>
  <dc:creator>Jonathan Nebeker</dc:creator>
  <dc:description/>
  <dc:language>en-US</dc:language>
  <cp:lastModifiedBy>william.hyde</cp:lastModifiedBy>
  <cp:lastPrinted>2005-10-10T23:27:41Z</cp:lastPrinted>
  <dcterms:modified xsi:type="dcterms:W3CDTF">2008-12-29T17:14:48Z</dcterms:modified>
  <cp:revision>13</cp:revision>
  <dc:subject/>
  <dc:title>Explicit Management of Performance Measures</dc:title>
</cp:coreProperties>
</file>