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84AA-930B-4840-A869-CB9EE9B7C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19BC-A929-4CC4-BE62-FB42C8AC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F37-D520-4B99-9E34-D7FC6C58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28ED-5A96-4740-8513-BF3A0D13A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F5B-B3AC-4489-A7DA-91020685F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61F9-C265-41FC-9F80-5866FDE62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E499-C4D5-47E7-BDB0-970E9A244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56A-EFAD-46FA-A8C2-631E40A3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089-6F9B-415D-9E59-E682C233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2977-7FDE-4B01-A288-1A9D4F5D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C80-007F-4F7C-91CE-57BB2C19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B99E-C519-4499-9F0E-C8C24BFE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4661-3D28-4002-8D34-41D10C6A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97D-C10F-401E-AAE4-4A380B39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9B8C-001C-43E3-B079-83E6EAAF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32C0-60A1-4036-8098-A78A4BC5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C88B-63F2-46DF-B561-0E7823E6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A06-546F-4A0B-84EF-DD58DA51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7503-BE64-4102-AA89-19F7BB7D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FA56-F984-40C5-B074-AAAFF5D1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33AA-3855-4549-A26C-838F25FD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3B4A-92F1-4BAF-A7C2-1CCFEDB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083-77E5-4EE3-A57C-33CE0AC8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EED8-C313-4AE8-8F90-8A893345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E6C7-E452-4EEF-9D48-4A7BC46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128-4165-4F51-9B50-1FC32C79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613-12B8-4048-9E34-AB93228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35B2-FD1E-485A-9246-862711B1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1D6-EB47-4FC1-A2A9-39A443F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8B7-2B75-447B-9AE3-0908B6D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400-DDD2-49B1-9C99-8C743161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13A-A2FD-4E1F-B653-5631A8530E79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3276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D401-B3D8-418A-B5D1-47080CE4F3E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914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370640" y="6400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00240" cy="180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5"/>
          <p:cNvSpPr/>
          <p:nvPr/>
        </p:nvSpPr>
        <p:spPr>
          <a:xfrm>
            <a:off x="2614680" y="4572000"/>
            <a:ext cx="254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 HSR&amp;D Salt L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h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rveillanc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C9C-9588-4AA2-95BD-198C774B0BA5}" type="datetime">
              <a:rPr b="0" lang="en-US" sz="1200" spc="-1" strike="noStrike">
                <a:solidFill>
                  <a:srgbClr val="000000"/>
                </a:solidFill>
                <a:latin typeface="Trebuchet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65B4-877A-41A0-902B-A81749B6495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Information Integration to support Medication Managemen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nathan R. Nebeker MS M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University of Uta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7" descr="Feedback-healthcare.png"/>
          <p:cNvPicPr/>
          <p:nvPr/>
        </p:nvPicPr>
        <p:blipFill>
          <a:blip r:embed="rId2"/>
          <a:srcRect l="0" t="-18514" r="0" b="-18514"/>
          <a:stretch/>
        </p:blipFill>
        <p:spPr>
          <a:xfrm>
            <a:off x="609480" y="1371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Cycle in Healthca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55B-D72F-4B71-BFE4-E15A8E91A28C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ircular Arrow 11"/>
          <p:cNvSpPr/>
          <p:nvPr/>
        </p:nvSpPr>
        <p:spPr>
          <a:xfrm flipH="1" rot="8086800">
            <a:off x="3818520" y="3124440"/>
            <a:ext cx="2268360" cy="182880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2209680" y="3048120"/>
            <a:ext cx="2667240" cy="1676160"/>
            <a:chOff x="2209680" y="3048120"/>
            <a:chExt cx="2667240" cy="1676160"/>
          </a:xfrm>
        </p:grpSpPr>
        <p:sp>
          <p:nvSpPr>
            <p:cNvPr id="130" name="Rounded Rectangle 9"/>
            <p:cNvSpPr/>
            <p:nvPr/>
          </p:nvSpPr>
          <p:spPr>
            <a:xfrm>
              <a:off x="2285640" y="3733920"/>
              <a:ext cx="2133720" cy="99036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Box 6"/>
            <p:cNvSpPr/>
            <p:nvPr/>
          </p:nvSpPr>
          <p:spPr>
            <a:xfrm>
              <a:off x="2209680" y="304812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rebuchet MS"/>
                </a:rPr>
                <a:t>What is going 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9"/>
          <p:cNvGrpSpPr/>
          <p:nvPr/>
        </p:nvGrpSpPr>
        <p:grpSpPr>
          <a:xfrm>
            <a:off x="5181480" y="1639800"/>
            <a:ext cx="1752840" cy="696960"/>
            <a:chOff x="5181480" y="1639800"/>
            <a:chExt cx="1752840" cy="696960"/>
          </a:xfrm>
        </p:grpSpPr>
        <p:sp>
          <p:nvSpPr>
            <p:cNvPr id="133" name="Freeform 16"/>
            <p:cNvSpPr/>
            <p:nvPr/>
          </p:nvSpPr>
          <p:spPr>
            <a:xfrm>
              <a:off x="5276160" y="1639800"/>
              <a:ext cx="1524240" cy="69696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Straight Connector 18"/>
            <p:cNvSpPr/>
            <p:nvPr/>
          </p:nvSpPr>
          <p:spPr>
            <a:xfrm>
              <a:off x="5181480" y="1981800"/>
              <a:ext cx="175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Mode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crambl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ck of purposeful activ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pportunist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ressing salient characterist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actica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llowing procedure, limited sc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rateg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oader scope and higher-level g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3BC5-0BFD-4924-AB47-6BDA427545EC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eliminary Conclusion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CoM translates well to chronic disease car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igh-mode characteristics have face validity for predicting better outcome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lications for software desig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support efficient, rich reconstruction of mental model of pati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highlight interaction of goals and therap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increase time horizon including feed forwa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C57-87A6-412E-8E7C-4462F49AFC5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Demonstration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805F-D36E-4BE7-8A79-B6DD3DB8777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BAF0-BA66-46DF-A8E8-60A4603B6AB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Example of Integrated Control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6" name="Picture 4" descr="Kirk_talking_to_Sarek_in_Sickbay"/>
          <p:cNvPicPr/>
          <p:nvPr/>
        </p:nvPicPr>
        <p:blipFill>
          <a:blip r:embed="rId2"/>
          <a:stretch/>
        </p:blipFill>
        <p:spPr>
          <a:xfrm>
            <a:off x="1295280" y="1371600"/>
            <a:ext cx="6456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Building up to Understand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48" name="Content Placeholder 4" descr="Unsorted meds conditions goals.png"/>
          <p:cNvPicPr/>
          <p:nvPr/>
        </p:nvPicPr>
        <p:blipFill>
          <a:blip r:embed="rId2"/>
          <a:srcRect l="0" t="-41341" r="0" b="-41341"/>
          <a:stretch/>
        </p:blipFill>
        <p:spPr>
          <a:xfrm>
            <a:off x="609480" y="1371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29C2-37E4-41E6-9D2B-7B8DFA1D3EA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napshot of condition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741D-2741-4839-8737-2A10B25510F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Sorted net view on htn.png"/>
          <p:cNvPicPr/>
          <p:nvPr/>
        </p:nvPicPr>
        <p:blipFill>
          <a:blip r:embed="rId2"/>
          <a:stretch/>
        </p:blipFill>
        <p:spPr>
          <a:xfrm>
            <a:off x="368280" y="2197080"/>
            <a:ext cx="84074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2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AE67-F29D-4108-973B-1BF03EA63F9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3" descr="Full view pre change.png"/>
          <p:cNvPicPr/>
          <p:nvPr/>
        </p:nvPicPr>
        <p:blipFill>
          <a:blip r:embed="rId2"/>
          <a:stretch/>
        </p:blipFill>
        <p:spPr>
          <a:xfrm>
            <a:off x="368280" y="285840"/>
            <a:ext cx="8407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FE5D-BFDC-4A25-8EE3-39AE4D7FF30A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Full view wih order.png"/>
          <p:cNvPicPr/>
          <p:nvPr/>
        </p:nvPicPr>
        <p:blipFill>
          <a:blip r:embed="rId2"/>
          <a:stretch/>
        </p:blipFill>
        <p:spPr>
          <a:xfrm>
            <a:off x="368280" y="285840"/>
            <a:ext cx="84074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A38-9864-4CDC-948B-85D1157E53E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Full view post change.png"/>
          <p:cNvPicPr/>
          <p:nvPr/>
        </p:nvPicPr>
        <p:blipFill>
          <a:blip r:embed="rId2"/>
          <a:stretch/>
        </p:blipFill>
        <p:spPr>
          <a:xfrm>
            <a:off x="368280" y="312840"/>
            <a:ext cx="840744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Acknowledgement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137124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arlene R. Wei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ank Drews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lly Leecaste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nd Rupper, MPH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nneth Boockvar,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vin Meldru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ndi Gea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ke Lincoln,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ris Nielson, MD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ittany Mallin, MS MP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6480" y="1371240"/>
            <a:ext cx="392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HRQ R18 HS01718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 Salt Lake City IDEAS Cen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DAF-3303-4CBB-87E6-7FF80D8EC9E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609B-6FAB-41F0-8848-079672F9C7AC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" descr="Graph view history.png"/>
          <p:cNvPicPr/>
          <p:nvPr/>
        </p:nvPicPr>
        <p:blipFill>
          <a:blip r:embed="rId2"/>
          <a:stretch/>
        </p:blipFill>
        <p:spPr>
          <a:xfrm>
            <a:off x="368280" y="1569960"/>
            <a:ext cx="84074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0B2-E51A-4FD7-8F65-B7242A6F1ED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Full view post change with projection.png"/>
          <p:cNvPicPr/>
          <p:nvPr/>
        </p:nvPicPr>
        <p:blipFill>
          <a:blip r:embed="rId2"/>
          <a:stretch/>
        </p:blipFill>
        <p:spPr>
          <a:xfrm>
            <a:off x="368280" y="312840"/>
            <a:ext cx="840744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9219-2BD7-4A93-AEE8-E34CDE28E65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Advantages of Contextual Control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mplification of current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dication reconcili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llows for shared mental model of care plan by all professions and the patien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vides natural coordination of ca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duces error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acilitate the relevance of nursing document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A88-B02D-4012-99A5-ECBEBA36E80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ummary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y-driven design (human factors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Reintegrates patient and syste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atient-centric outcom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sistive decision sup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acilitates geriatric-style ca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Overview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urr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theory gets us to 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8221-DF19-473C-BB04-88FD48F9DFF5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23C3-FD8F-40AD-BA95-56BF4921241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urrent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7" name="Picture 7" descr="2"/>
          <p:cNvPicPr/>
          <p:nvPr/>
        </p:nvPicPr>
        <p:blipFill>
          <a:blip r:embed="rId2"/>
          <a:stretch/>
        </p:blipFill>
        <p:spPr>
          <a:xfrm>
            <a:off x="0" y="1600200"/>
            <a:ext cx="5715000" cy="4413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38320" y="1371240"/>
            <a:ext cx="30862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acc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siloed in ta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hysician centr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tient exclud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 interface for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8689-B26F-483A-ADD8-D618F99B1A6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Future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67280" y="1371240"/>
            <a:ext cx="2857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integra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ports all healthcare professionals and the pati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Picture 10" descr="3 Tier"/>
          <p:cNvPicPr/>
          <p:nvPr/>
        </p:nvPicPr>
        <p:blipFill>
          <a:blip r:embed="rId2"/>
          <a:stretch/>
        </p:blipFill>
        <p:spPr>
          <a:xfrm>
            <a:off x="0" y="1600200"/>
            <a:ext cx="58849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ogres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oint Cognitive Systems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gnitive Systems Engine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extual Control Mod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Demonstr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CC97-6921-4BB3-8E92-462669CEB56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gnitive System Engineer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extual Control Model (CoCoM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derstanding/Sense mak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oal reconcili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eedback/Feed Forward Contr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harp-end efficiency, resilienc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ssistive decision suppor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DCF2-03AA-45DE-9A61-19DB7EF6C09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Decision Support v. Sense Mak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puterized decision support is typically normative and targets th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right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cision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CPRS of the future will emphasize an information-rich environment that targets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nse making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o support higher quality decisions in the highly variable context of patient car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4EDC-EC02-4244-80B1-C24BE8DF3B4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extual Control Model (CoCoM)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erformance in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types of behaviors predict better outcom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unctional not structural approach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about information processing models: Memory, programs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d in engineered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S at Saa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clear Power Pla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F131-B884-4E3E-9603-E5D64A8523E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8:20:33Z</dcterms:created>
  <dc:creator>Jonathan Nebeker</dc:creator>
  <dc:description/>
  <dc:language>en-US</dc:language>
  <cp:lastModifiedBy>william.hyde</cp:lastModifiedBy>
  <cp:lastPrinted>2005-10-10T23:27:41Z</cp:lastPrinted>
  <dcterms:modified xsi:type="dcterms:W3CDTF">2008-12-29T17:14:48Z</dcterms:modified>
  <cp:revision>13</cp:revision>
  <dc:subject/>
  <dc:title>Explicit Management of Performance Measures</dc:title>
</cp:coreProperties>
</file>