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9AF-FA04-4053-BFAA-CEBFD153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728-B810-4413-881A-B0331E48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do formati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work done in medicine by Cook, Woods, and Cuschie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293-BF05-4B8C-BFE9-AD84B240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F423-5753-4B97-B4BB-0E02A5C1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9CB8-7B73-4B25-A179-957A7544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2DD-9FA1-404B-8DAF-EE4296284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8BB-850C-4492-BE67-6D9F4CD0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A7B-74AA-48CE-942E-A55A892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49E-A536-42BF-B846-94EE812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CFC-50F0-46B5-B5F3-41C84FE6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578-89C8-4E88-9FAA-F99FEA8A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0468-C96F-43B4-B203-73807DB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AE9-BF7A-4CF8-ACE8-CD93D20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2DAE-90A7-4B97-897F-88C5FFD7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2569-69D5-4564-ACDF-2B2F8B50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62A-DBCE-44A6-B06F-74BEEB1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C0C8-59FB-4566-B07B-3CD1625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C4D-4B4C-4B8D-9E99-A7B4253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F4E9-2EDC-474A-AF4F-852CE5B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3322-D6EC-4459-8CE5-FA1FE03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D0A-A267-40DA-849C-8FF25471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482-97BD-46DD-92FA-F85EFEF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CD1C-12E1-4183-B287-82F0751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27AA-FDC4-4268-A86A-25A5661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4D60-29E6-4616-AF61-4F9C30E6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6486-21CD-43D6-BD80-D4CF52A4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F31C-BDAB-4B82-8AD1-AAF2246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5074-85E3-44C8-BAA1-3EBC0B8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899-4F24-40D3-93D9-B6C7E0D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C776-89F6-4A04-BBD6-EE68898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B33E-D665-4656-8188-38E5F2A9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382D-3D9A-4135-B6EB-2024780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3411-334D-495B-872A-4616DF2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55E4-17B6-4D9E-860C-D7C0EC53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2707-4E80-4F99-A3AC-0F0384DE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18B8-D36F-46A5-A536-F1F27365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B96-3ADA-4384-81C8-1411911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3F4-8025-4782-ABE8-0C59A61A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A6A-D977-4975-92B9-47E4F8AF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E29-0BEC-4824-A9B0-BC6D6E0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149-BBCC-49EE-8F92-1C22D6B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37B-7C91-4B4E-888D-5405D2B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68FD-C192-4924-A2E5-12EACFE16388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DAFB-0BF8-4C9B-8AF9-5CD7798107D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370640" y="6400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00240" cy="180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5"/>
          <p:cNvSpPr/>
          <p:nvPr/>
        </p:nvSpPr>
        <p:spPr>
          <a:xfrm>
            <a:off x="2614680" y="4572000"/>
            <a:ext cx="254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 HSR&amp;D Salt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h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eillanc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F4CB-3DDF-417B-BF36-9FDF1C5DA15C}" type="datetime">
              <a:rPr b="0" lang="en-US" sz="12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85E9-E5CF-4DC0-A956-87458C28FA0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A9EE-953B-4570-B557-3B47691E8FA6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4FB-8CA3-40E9-B78F-23C0041856C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Human Factors in Prescription Medication Managemen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nathan R. Nebeker MS M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Joint Cognitive System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rik Hollnagel and David Woo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ystem of artifact(s) + human(s) that accomplishes work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what do human and computer do b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rol is a measure of the work’s qualit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amples of JC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iss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ghter j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bat robo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1C69-A324-4EDA-B5E1-6176365880B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extual Control Model (CoCoM)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formance 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types of behaviors predict better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unctional not structural approac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information processing models: Memory, programs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in engineered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S at Saa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clear Power Pla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FD4-018A-4AFE-8CFD-530029FF4C7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CoM Main Concep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etencies: possibl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actions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onstructs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: assumptions about situ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rol modes: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haracteristics of performance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at govern quality of perform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 forward and feedback: anticipatory versus reactive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527-F80B-4DE3-ABB8-E2D6556C7FB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ontent Placeholder 7" descr="Feedback-healthcare.png"/>
          <p:cNvPicPr/>
          <p:nvPr/>
        </p:nvPicPr>
        <p:blipFill>
          <a:blip r:embed="rId2"/>
          <a:srcRect l="0" t="-18514" r="0" b="-18514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ycle in Healthca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708-9B9F-49C9-81BC-A5E35641C75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ircular Arrow 11"/>
          <p:cNvSpPr/>
          <p:nvPr/>
        </p:nvSpPr>
        <p:spPr>
          <a:xfrm flipH="1" rot="8086800">
            <a:off x="3818520" y="3124440"/>
            <a:ext cx="2268360" cy="18288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2209680" y="3048120"/>
            <a:ext cx="2667240" cy="1676160"/>
            <a:chOff x="2209680" y="3048120"/>
            <a:chExt cx="2667240" cy="1676160"/>
          </a:xfrm>
        </p:grpSpPr>
        <p:sp>
          <p:nvSpPr>
            <p:cNvPr id="183" name="Rounded Rectangle 9"/>
            <p:cNvSpPr/>
            <p:nvPr/>
          </p:nvSpPr>
          <p:spPr>
            <a:xfrm>
              <a:off x="2285640" y="3733920"/>
              <a:ext cx="2133720" cy="99036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209680" y="304812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rebuchet MS"/>
                  <a:ea typeface="Trebuchet MS"/>
                </a:rPr>
                <a:t>What is going 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5181480" y="1639800"/>
            <a:ext cx="1752840" cy="696960"/>
            <a:chOff x="5181480" y="1639800"/>
            <a:chExt cx="1752840" cy="696960"/>
          </a:xfrm>
        </p:grpSpPr>
        <p:sp>
          <p:nvSpPr>
            <p:cNvPr id="186" name="Freeform 16"/>
            <p:cNvSpPr/>
            <p:nvPr/>
          </p:nvSpPr>
          <p:spPr>
            <a:xfrm>
              <a:off x="5276160" y="1639800"/>
              <a:ext cx="1524240" cy="69696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traight Connector 18"/>
            <p:cNvSpPr/>
            <p:nvPr/>
          </p:nvSpPr>
          <p:spPr>
            <a:xfrm>
              <a:off x="5181480" y="1981800"/>
              <a:ext cx="175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Mode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ck of purposeful activ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ressing salient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llowing procedure, limited sc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oader scope and higher-level g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4BE-1BC7-4B97-93C4-530A2CFB6F5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haracteristic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oal Complexity (Number and Interaction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ceived Time Press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valuation of Outco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lection of Ac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ert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miliar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2B1-2CFB-4FC3-B140-5C945F8A0D8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Joint Cognitive Systems</a:t>
            </a:r>
            <a:br>
              <a:rPr sz="3000"/>
            </a:b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Contextual Control Mod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rol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A2E-35DB-4C7D-BA74-15A9F023864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udy Goal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mediate Ai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nslate CoCoM to medication management for chronic dise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lore associations between control characteristics and surrogate outco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xt Ai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 validity of adapted CoCoM control characteristics as predictor of higher quality outcomes through simul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88B2-42FF-4AEF-8789-4C323945A23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udy Desig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bjects: 40-50 physicians, mid-levels, residents, nurses, pharmacists in 5 outpatient clinics/4 states. Focus on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nk-aloud protocol + Interview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aturation coding for control characteristic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ent analysi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ulti-dimensional scal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9C87-F915-4393-8414-6394B497787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eliminary Finding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mi-Qualitativ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ories of control mod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A52-B79D-4300-B7F9-9015D01CCD2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cknowledgemen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120" y="137124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arlene R. Wei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ank Drews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lly Leecaste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nd Rupper, MPH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nneth Boockvar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ittany Mallin, MS MP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6480" y="1371240"/>
            <a:ext cx="392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H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R18 HS01718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VA Salt Lake City IDEAS Ce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ACD-ED28-4FEC-9473-D51A405B8D3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crambled Mo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Trial and error perform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ase of the new intern and forgetful patient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information quality and availabil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experie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192-C6B0-4281-B5AC-263DC153614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pportunistic Mo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Reaction to salient characteristic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ve not seen yet for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ction to SBP onl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in syndromes even among experienc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or construct of probl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 information qu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gue goals: difficult to resolve compet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gue evaluation of outcome: not mentioned, then O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F4B-C4FF-4C6F-9E85-913AAEE36E7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Tactica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Following proced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minant mode for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 of protoc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cus on procedure* (forget clinical goal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inimal consideration of interacting go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use of feed-forward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oblem with information quality-clinical inerti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ess common in highly experienced M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FCE-B817-439E-9698-C15BD0E2E52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rategic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Broad consideration of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lmost exclusively with experienced M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wareness of protocols but deviation to accomplish conflicting patient go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miliarity with past therapy a key factor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 forward strategies account for physiologic and organizational facto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ill, incomplete use of explicit control limi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D15-E4A8-4F79-ABAE-91BDAE44CE4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clusion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CoM reveals interesting characteristics of system performanc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igh-mode characteristics have face validity for predicting better outcome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lications for software desig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support efficient, rich reconstruction of mental model of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highlight interaction of goals and therap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increase time horizon including feed forwa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5338-6E21-49D6-9BAB-F31E27E0E56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72F-05DB-4FC1-A18B-BC18027E058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Full view post change with projection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verview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rr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theory gets us to 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0A31-9598-4764-A39B-171CA5E3185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8B3-0F0E-4536-80A4-F4BCD00CF51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urrent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1" name="Picture 7" descr="2"/>
          <p:cNvPicPr/>
          <p:nvPr/>
        </p:nvPicPr>
        <p:blipFill>
          <a:blip r:embed="rId2"/>
          <a:stretch/>
        </p:blipFill>
        <p:spPr>
          <a:xfrm>
            <a:off x="0" y="1600200"/>
            <a:ext cx="5715000" cy="4413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320" y="1371240"/>
            <a:ext cx="30862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ac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siloed in ta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D5C4-5395-4193-8837-3280489408F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Future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2857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integra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6" name="Picture 10" descr="3 Tier"/>
          <p:cNvPicPr/>
          <p:nvPr/>
        </p:nvPicPr>
        <p:blipFill>
          <a:blip r:embed="rId2"/>
          <a:stretch/>
        </p:blipFill>
        <p:spPr>
          <a:xfrm>
            <a:off x="0" y="1600200"/>
            <a:ext cx="58849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D0F-F18E-4567-8D75-CA6ABB44A15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Goal: EHR of futu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9" name="Picture 4" descr="Kirk_talking_to_Sarek_in_Sickbay"/>
          <p:cNvPicPr/>
          <p:nvPr/>
        </p:nvPicPr>
        <p:blipFill>
          <a:blip r:embed="rId2"/>
          <a:stretch/>
        </p:blipFill>
        <p:spPr>
          <a:xfrm>
            <a:off x="1295280" y="137160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cision Support v. Sense Mak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uterized decision support is typically normative and targets th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ight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cis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CPRS of the future will emphasize an information-rich environment that targets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nse making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support higher quality decisions in the highly variable context of patient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82E2-71C5-43D4-87C7-ABFD3D0B2C9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The pathway to the futur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t Cognitive Systems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gnitive Systems Engine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extual Control Mod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4C7E-26FF-4E28-A7DA-57A7FA00688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Towards the Futu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pply Cognitive Systems Engineer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uman Factors in this tal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us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out the human-computer syste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304-4444-4FD6-B596-B4CB278722E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1:13Z</dcterms:created>
  <dc:creator>Jonathan Nebeker</dc:creator>
  <dc:description/>
  <dc:language>en-US</dc:language>
  <cp:lastModifiedBy>Jonathan Nebeker</cp:lastModifiedBy>
  <cp:lastPrinted>2005-10-10T23:27:41Z</cp:lastPrinted>
  <dcterms:modified xsi:type="dcterms:W3CDTF">2008-09-08T01:56:29Z</dcterms:modified>
  <cp:revision>34</cp:revision>
  <dc:subject/>
  <dc:title>Human Factors in Prescription Medication Management</dc:title>
</cp:coreProperties>
</file>