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E459-3BEC-4E89-880C-34DB8A71E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F328-A279-4DC7-ACA4-8A23C05F2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do formativ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work done in medicine by Cook, Woods, and Cuschie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2F7-C261-4CBC-8991-CA4C3F49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19E1-D13B-43A1-9488-931513659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080A-5A01-4692-9379-E935178DE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DA40-8230-4063-8277-E6821A02A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C1E5-CCAA-4369-BC20-14FE764C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EF6-D485-41EE-B3FD-58E17E19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564-CCAA-406B-AC22-9072D8C3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B00-F7D3-4F0B-9D34-6D70D557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03F6-51AD-40B1-A71C-CBFBFACE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372-79DF-4F4B-9281-152B07C1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74B0-718F-43F4-9F64-36F08008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FF95-4E20-40B6-97FA-C7F5789A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89ED-C7EF-4A6C-93EC-5661AD71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1F63-F127-41D8-B424-E4BD0A49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A357-C399-4680-879E-891922B2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610-A4AA-4556-B3F7-796F58BF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392C-F797-4E2C-807E-D18B2D56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AF37-318E-47CE-98AF-5242928A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4026-1B8B-4A14-80AA-9DF8113F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7BA1-4CDF-4D23-A41F-F4FB231B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22AD-4E21-43E4-BDF8-DB2280D9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62A3-108F-4768-94E3-C4FBB11D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A36FF-421F-4FD5-813F-ECF1886D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9AE8-4BE6-4190-88AF-BC62723C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0A2B-42B3-4256-A2BA-27901822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CF8C-68FB-4A5C-B1DA-49966F1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677-7F93-4414-8C97-35B06F5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62359-CFCB-45E2-9476-206801C5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354E-D8B9-4C04-AA84-48E6414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99798-E64B-4D4B-BFAC-3976B5A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F372-F577-4870-8C5D-CB17A2AB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5A1D-1EFF-41F2-B81F-C772A7D9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8704-E64E-45B5-BC30-34F7043B5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45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920" y="137124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1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45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920" y="3918600"/>
            <a:ext cx="25761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AE25-3613-4154-A4D0-6577764B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F9D-8E72-4EF2-A5E4-DBA00B6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828-5482-49C9-83EA-60999451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B69-3BB1-432E-AC22-A65235AE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7F8-5E40-422B-BAB6-6CC62845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391860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507-13CF-45C6-B1CD-DB05E76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371240"/>
            <a:ext cx="3904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918600"/>
            <a:ext cx="8001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B5B-C87E-40A1-89EF-097DB9A0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36F-CE6A-4421-BC14-20C32F3CC60F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00400" y="6400800"/>
            <a:ext cx="3276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105-BA90-434D-B3BC-9510BDF9093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914400" cy="7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370640" y="6400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4419720" y="4648320"/>
            <a:ext cx="2100240" cy="18032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5"/>
          <p:cNvSpPr/>
          <p:nvPr/>
        </p:nvSpPr>
        <p:spPr>
          <a:xfrm>
            <a:off x="2614680" y="4572000"/>
            <a:ext cx="254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 HSR&amp;D Salt L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for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han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rveillance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E08-5789-4D46-B695-407F92C7C94B}" type="datetime">
              <a:rPr b="0" lang="en-US" sz="1200" spc="-1" strike="noStrike">
                <a:solidFill>
                  <a:srgbClr val="000000"/>
                </a:solidFill>
                <a:latin typeface="Trebuchet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3F2-EA1B-46D9-BFC1-FA1E215C4FA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609480" y="121932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09480" y="632448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5" descr=""/>
          <p:cNvPicPr/>
          <p:nvPr/>
        </p:nvPicPr>
        <p:blipFill>
          <a:blip r:embed="rId3"/>
          <a:stretch/>
        </p:blipFill>
        <p:spPr>
          <a:xfrm>
            <a:off x="152280" y="5943600"/>
            <a:ext cx="914400" cy="785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206800" indent="-398520">
              <a:spcBef>
                <a:spcPts val="751"/>
              </a:spcBef>
              <a:buClr>
                <a:srgbClr val="cc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206800" indent="-398520"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142640" y="64004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0E6-DCD9-48AF-8988-1335CDF5E9BF}" type="datetime">
              <a:rPr b="0" lang="en-US" sz="1000" spc="-1" strike="noStrike">
                <a:solidFill>
                  <a:srgbClr val="000000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200400" y="6400800"/>
            <a:ext cx="3276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400440"/>
            <a:ext cx="1981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7E92-6B88-49C5-B4D8-0A0DAC0A06D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Human Factors in Prescription Medication Management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nathan R. Nebeker MS M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Joint Cognitive System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rik Hollnagel and David Woo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ystem of artifact(s) + human(s) that accomplishes work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what do human and computer do be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rol is a measure of the work’s quality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amples of JCS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isso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ghter j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bat robo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AEC-E15C-49C4-9BAD-48A3CCA8DD3B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extual Control Model (CoCoM)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erformance in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ifferent types of behaviors predict better outcom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unctional not structural approach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about information processing models: Memory, programs, etc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d in engineered system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S at Saa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uclear Power Pla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B75-313D-4423-B891-67646ACFCBB4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CoM Main Concept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petencies: possibl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actions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onstructs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: assumptions about situ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rol modes: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characteristics of performance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at govern quality of perform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eed forward and feedback: anticipatory versus reactive contr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8114-9632-4736-9DFF-3B0946B6B0F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Content Placeholder 7" descr="Feedback-healthcare.png"/>
          <p:cNvPicPr/>
          <p:nvPr/>
        </p:nvPicPr>
        <p:blipFill>
          <a:blip r:embed="rId2"/>
          <a:srcRect l="0" t="-18514" r="0" b="-18514"/>
          <a:stretch/>
        </p:blipFill>
        <p:spPr>
          <a:xfrm>
            <a:off x="609480" y="137160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Cycle in Healthca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AC46-29F1-4015-B30B-A4A08DD31268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ircular Arrow 11"/>
          <p:cNvSpPr/>
          <p:nvPr/>
        </p:nvSpPr>
        <p:spPr>
          <a:xfrm flipH="1" rot="8086800">
            <a:off x="3818520" y="3124440"/>
            <a:ext cx="2268360" cy="1828800"/>
          </a:xfrm>
          <a:prstGeom prst="pie">
            <a:avLst/>
          </a:prstGeom>
          <a:solidFill>
            <a:srgbClr val="cc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8"/>
          <p:cNvGrpSpPr/>
          <p:nvPr/>
        </p:nvGrpSpPr>
        <p:grpSpPr>
          <a:xfrm>
            <a:off x="2209680" y="3048120"/>
            <a:ext cx="2667240" cy="1676160"/>
            <a:chOff x="2209680" y="3048120"/>
            <a:chExt cx="2667240" cy="1676160"/>
          </a:xfrm>
        </p:grpSpPr>
        <p:sp>
          <p:nvSpPr>
            <p:cNvPr id="183" name="Rounded Rectangle 9"/>
            <p:cNvSpPr/>
            <p:nvPr/>
          </p:nvSpPr>
          <p:spPr>
            <a:xfrm>
              <a:off x="2285640" y="3733920"/>
              <a:ext cx="2133720" cy="990360"/>
            </a:xfrm>
            <a:prstGeom prst="roundRect">
              <a:avLst>
                <a:gd name="adj" fmla="val 16667"/>
              </a:avLst>
            </a:prstGeom>
            <a:solidFill>
              <a:srgbClr val="cc00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Box 6"/>
            <p:cNvSpPr/>
            <p:nvPr/>
          </p:nvSpPr>
          <p:spPr>
            <a:xfrm>
              <a:off x="2209680" y="304812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Trebuchet MS"/>
                  <a:ea typeface="Trebuchet MS"/>
                </a:rPr>
                <a:t>What is going 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9"/>
          <p:cNvGrpSpPr/>
          <p:nvPr/>
        </p:nvGrpSpPr>
        <p:grpSpPr>
          <a:xfrm>
            <a:off x="5181480" y="1639800"/>
            <a:ext cx="1752840" cy="696960"/>
            <a:chOff x="5181480" y="1639800"/>
            <a:chExt cx="1752840" cy="696960"/>
          </a:xfrm>
        </p:grpSpPr>
        <p:sp>
          <p:nvSpPr>
            <p:cNvPr id="186" name="Freeform 16"/>
            <p:cNvSpPr/>
            <p:nvPr/>
          </p:nvSpPr>
          <p:spPr>
            <a:xfrm>
              <a:off x="5276160" y="1639800"/>
              <a:ext cx="1524240" cy="69696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traight Connector 18"/>
            <p:cNvSpPr/>
            <p:nvPr/>
          </p:nvSpPr>
          <p:spPr>
            <a:xfrm>
              <a:off x="5181480" y="1981800"/>
              <a:ext cx="1752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Mode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crambl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ack of purposeful activ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pportunist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ressing salient characterist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actica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llowing procedure, limited scop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rategi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oader scope and higher-level goal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EB33-3C88-4A2B-9CBE-CC85D9914EE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trol Characteristic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Goal Complexity (Number and Interaction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erceived Time Press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valuation of Outcom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lection of Ac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xpertis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amiliar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D077-5352-4559-86EF-2FADDCF8152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ogres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Joint Cognitive Systems</a:t>
            </a:r>
            <a:br>
              <a:rPr sz="3000"/>
            </a:b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Contextual Control Mod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udy De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eliminary Findi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rol characteristic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EC0B-28DE-4DD1-AF20-D8700CB8A97C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tudy Goal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mediate Ai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ranslate CoCoM to medication management for chronic diseas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plore associations between control characteristics and surrogate outcom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xt Aim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stablish validity of adapted CoCoM control characteristics as predictor of higher quality outcomes through simul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0750-7CAC-4C7F-9ACB-9F82C4F2B13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tudy Design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bjects: 40-50 physicians, mid-levels, residents, nurses, pharmacists in 5 outpatient clinics/4 states. Focus on HT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nk-aloud protocol + Interview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aturation coding for control characteristic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ntent analysi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ulti-dimensional scal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4475-9950-413D-9193-28A6CBF0E65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eliminary Finding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mi-Qualitativ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ories of control mode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rambl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portunist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ctic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rateg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BB09-3E2C-40CB-B93D-2B88CE9654A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Acknowledgement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120" y="1371240"/>
            <a:ext cx="392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harlene R. Wei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ank Drews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lly Leecaster, Ph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nd Rupper, MPH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nneth Boockvar, M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ittany Mallin, MS MP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6480" y="1371240"/>
            <a:ext cx="392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H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Lucida Grande"/>
              </a:rPr>
              <a:t>R18 HS017186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Lucida Grande"/>
              </a:rPr>
              <a:t>VA Salt Lake City GREC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Lucida Grande"/>
              </a:rPr>
              <a:t>VA Salt Lake City IDEAS Cent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C6A-47B0-4237-9EC5-A87612E7997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crambled Mo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Trial and error performa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ase of the new intern and forgetful patient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ow information quality and availability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ow experienc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D081-6365-4B3B-8944-2C812238A940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Opportunistic Mod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Reaction to salient characteristic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ave not seen yet for HT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action to SBP onl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ain syndromes even among experienced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or construct of proble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w information qua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gue goals: difficult to resolve competi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gue evaluation of outcome: not mentioned, then OK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64D4-F228-483B-954C-2409213D33E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Tactical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Following procedure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minant mode for HT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se of protoc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cus on procedure* (forget clinical goal)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inimal consideration of interacting go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ow use of feed-forward contro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oblem with information quality-clinical inertia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Less common in highly experienced M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4C9-A209-43C0-B22B-E1F42443473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Strategic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ype: Broad consideration of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lmost exclusively with experienced MD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wareness of protocols but deviation to accomplish conflicting patient goa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amiliarity with past therapy a key factor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eed forward strategies account for physiologic and organizational factor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ill, incomplete use of explicit control limit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08C0-91DB-464A-AB64-2BF794197F9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onclusion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CoM reveals interesting characteristics of system performanc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igh-mode characteristics have face validity for predicting better outcomes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mplications for software design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support efficient, rich reconstruction of mental model of pati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highlight interaction of goals and therapi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eed to increase time horizon including feed forwar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D4CC-0D96-43D1-904C-971DB7902829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1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F4E-9069-4B83-8BA2-8596DE818EB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Full view post change with projection.png"/>
          <p:cNvPicPr/>
          <p:nvPr/>
        </p:nvPicPr>
        <p:blipFill>
          <a:blip r:embed="rId2"/>
          <a:stretch/>
        </p:blipFill>
        <p:spPr>
          <a:xfrm>
            <a:off x="368280" y="312840"/>
            <a:ext cx="840744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Overview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urren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theory gets us to futu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tudy de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reliminary Findi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AF07-26F1-4815-8556-CA94A01A7A3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512-57B6-4253-AFEC-00C43061EB8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Current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1" name="Picture 7" descr="2"/>
          <p:cNvPicPr/>
          <p:nvPr/>
        </p:nvPicPr>
        <p:blipFill>
          <a:blip r:embed="rId2"/>
          <a:stretch/>
        </p:blipFill>
        <p:spPr>
          <a:xfrm>
            <a:off x="0" y="1600200"/>
            <a:ext cx="5715000" cy="44132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320" y="1371240"/>
            <a:ext cx="30862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acc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siloed in tab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661-5BD0-428D-BCA0-84BBA5E3196E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Future CPRS VistA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867280" y="1371240"/>
            <a:ext cx="285768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mphasis on contr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formation integrat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6" name="Picture 10" descr="3 Tier"/>
          <p:cNvPicPr/>
          <p:nvPr/>
        </p:nvPicPr>
        <p:blipFill>
          <a:blip r:embed="rId2"/>
          <a:stretch/>
        </p:blipFill>
        <p:spPr>
          <a:xfrm>
            <a:off x="0" y="1600200"/>
            <a:ext cx="588492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42A8-9BE2-4D6C-A29D-88BF8FB410C2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Goal: EHR of futu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59" name="Picture 4" descr="Kirk_talking_to_Sarek_in_Sickbay"/>
          <p:cNvPicPr/>
          <p:nvPr/>
        </p:nvPicPr>
        <p:blipFill>
          <a:blip r:embed="rId2"/>
          <a:stretch/>
        </p:blipFill>
        <p:spPr>
          <a:xfrm>
            <a:off x="1295280" y="1371600"/>
            <a:ext cx="64566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Decision Support v. Sense Making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omputerized decision support is typically normative and targets the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right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ecision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 CPRS of the future will emphasize an information-rich environment that targets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nse making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o support higher quality decisions in the highly variable context of patient care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88F-4341-4919-B595-5A613EEC1BF1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Progress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The Electronic Health Record contex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eoretical Framewor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The pathway to the futur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oint Cognitive Systems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gnitive Systems Engine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textual Control Mod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Study Design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3b2c1"/>
                </a:solidFill>
                <a:latin typeface="Trebuchet MS"/>
              </a:rPr>
              <a:t>Preliminary Finding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7776-92C7-4523-8255-7F167D69941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rebuchet MS"/>
              </a:rPr>
              <a:t>Towards the Future</a:t>
            </a:r>
            <a:endParaRPr b="1" lang="en-US" sz="3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12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pply Cognitive Systems Engineering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Human Factors in this talk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 about usa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bout the human-computer syste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400800"/>
            <a:ext cx="198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C49A-02ED-494F-B26F-2BDDD142AA27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11:13Z</dcterms:created>
  <dc:creator>Jonathan Nebeker</dc:creator>
  <dc:description/>
  <dc:language>en-US</dc:language>
  <cp:lastModifiedBy>Jonathan Nebeker</cp:lastModifiedBy>
  <cp:lastPrinted>2005-10-10T23:27:41Z</cp:lastPrinted>
  <dcterms:modified xsi:type="dcterms:W3CDTF">2008-09-08T01:56:29Z</dcterms:modified>
  <cp:revision>34</cp:revision>
  <dc:subject/>
  <dc:title>Human Factors in Prescription Medication Management</dc:title>
</cp:coreProperties>
</file>