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6012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ldImg"/>
          </p:nvPr>
        </p:nvSpPr>
        <p:spPr>
          <a:xfrm>
            <a:off x="1068480" y="700200"/>
            <a:ext cx="487368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76240" y="889596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6C6B41-4D38-45C1-B2FB-BE872DC47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68480" y="700200"/>
            <a:ext cx="4873680" cy="3481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immediately to the second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68480" y="698400"/>
            <a:ext cx="4878360" cy="3484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al – adverse drug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 –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– provider type; facility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sic Analogy regarding Common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400 AD, few if any standards in term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v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profound differences in tuning of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tune would sound different when played in different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Renaissance, musical scholars went back to Pythagoras’ original work on pitches, came up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m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ed, homogeneous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we have universal standards for tuning; the same piece sounds the same on any piano on th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39720" y="31888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4064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7724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1512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3972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7724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1512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44520" y="349200"/>
            <a:ext cx="7788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4064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39720" y="31888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4064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7724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1512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3972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47724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1512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44520" y="349200"/>
            <a:ext cx="7788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4064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36000" indent="-227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8480" indent="-148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81680" indent="-148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81680" indent="-148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81680" indent="-148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8386560" cy="19080"/>
            <a:chOff x="0" y="1333440"/>
            <a:chExt cx="8386560" cy="19080"/>
          </a:xfrm>
        </p:grpSpPr>
        <p:sp>
          <p:nvSpPr>
            <p:cNvPr id="3" name=""/>
            <p:cNvSpPr/>
            <p:nvPr/>
          </p:nvSpPr>
          <p:spPr>
            <a:xfrm>
              <a:off x="5760" y="135252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8078760" y="6219720"/>
            <a:ext cx="1201680" cy="369720"/>
            <a:chOff x="8078760" y="6219720"/>
            <a:chExt cx="1201680" cy="369720"/>
          </a:xfrm>
        </p:grpSpPr>
        <p:sp>
          <p:nvSpPr>
            <p:cNvPr id="6" name=""/>
            <p:cNvSpPr/>
            <p:nvPr/>
          </p:nvSpPr>
          <p:spPr>
            <a:xfrm>
              <a:off x="8421840" y="6294240"/>
              <a:ext cx="283680" cy="26928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115120" y="6219720"/>
              <a:ext cx="330840" cy="34416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02240" y="6312600"/>
              <a:ext cx="118800" cy="241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74880" y="6355800"/>
              <a:ext cx="122400" cy="3384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78760" y="6514920"/>
              <a:ext cx="131400" cy="522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98680" y="6294240"/>
              <a:ext cx="265320" cy="2718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9083520" y="6449760"/>
              <a:ext cx="196920" cy="1396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954280" y="6275880"/>
              <a:ext cx="302040" cy="30492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8199360" y="5986440"/>
            <a:ext cx="952560" cy="44604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77840" y="152280"/>
            <a:ext cx="923760" cy="94464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38088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76320" y="6400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239B-7511-4412-96C7-A28714AED786}" type="slidenum"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319880" y="380880"/>
            <a:ext cx="1671120" cy="848880"/>
            <a:chOff x="7319880" y="380880"/>
            <a:chExt cx="1671120" cy="848880"/>
          </a:xfrm>
        </p:grpSpPr>
        <p:grpSp>
          <p:nvGrpSpPr>
            <p:cNvPr id="56" name=""/>
            <p:cNvGrpSpPr/>
            <p:nvPr/>
          </p:nvGrpSpPr>
          <p:grpSpPr>
            <a:xfrm>
              <a:off x="7329240" y="394200"/>
              <a:ext cx="1661760" cy="835560"/>
              <a:chOff x="7329240" y="394200"/>
              <a:chExt cx="1661760" cy="835560"/>
            </a:xfrm>
          </p:grpSpPr>
          <p:sp>
            <p:nvSpPr>
              <p:cNvPr id="57" name=""/>
              <p:cNvSpPr/>
              <p:nvPr/>
            </p:nvSpPr>
            <p:spPr>
              <a:xfrm>
                <a:off x="7488360" y="394200"/>
                <a:ext cx="1317600" cy="616680"/>
              </a:xfrm>
              <a:custGeom>
                <a:avLst/>
                <a:gdLst/>
                <a:ahLst/>
                <a:rect l="l" t="t" r="r" b="b"/>
                <a:pathLst>
                  <a:path w="600" h="263">
                    <a:moveTo>
                      <a:pt x="552" y="263"/>
                    </a:moveTo>
                    <a:cubicBezTo>
                      <a:pt x="397" y="38"/>
                      <a:pt x="163" y="33"/>
                      <a:pt x="0" y="136"/>
                    </a:cubicBezTo>
                    <a:cubicBezTo>
                      <a:pt x="125" y="24"/>
                      <a:pt x="383" y="0"/>
                      <a:pt x="600" y="263"/>
                    </a:cubicBezTo>
                    <a:cubicBezTo>
                      <a:pt x="553" y="263"/>
                      <a:pt x="552" y="263"/>
                      <a:pt x="552" y="263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803360" y="820800"/>
                <a:ext cx="392760" cy="37332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380360" y="717840"/>
                <a:ext cx="457200" cy="47628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500600" y="846720"/>
                <a:ext cx="16416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461360" y="906480"/>
                <a:ext cx="169920" cy="4644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329240" y="1126800"/>
                <a:ext cx="181800" cy="7200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87120" y="820800"/>
                <a:ext cx="367200" cy="37656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18840" y="1036800"/>
                <a:ext cx="27216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539560" y="794880"/>
                <a:ext cx="418320" cy="42336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7479720" y="380880"/>
              <a:ext cx="1316880" cy="61704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7319880" y="704520"/>
              <a:ext cx="1661760" cy="511920"/>
              <a:chOff x="7319880" y="704520"/>
              <a:chExt cx="1661760" cy="511920"/>
            </a:xfrm>
          </p:grpSpPr>
          <p:sp>
            <p:nvSpPr>
              <p:cNvPr id="68" name=""/>
              <p:cNvSpPr/>
              <p:nvPr/>
            </p:nvSpPr>
            <p:spPr>
              <a:xfrm>
                <a:off x="7794720" y="807840"/>
                <a:ext cx="392400" cy="37296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370280" y="704520"/>
                <a:ext cx="457560" cy="47628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490880" y="833040"/>
                <a:ext cx="164160" cy="3384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452720" y="892800"/>
                <a:ext cx="169200" cy="4716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319880" y="1113120"/>
                <a:ext cx="181800" cy="7236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77400" y="807840"/>
                <a:ext cx="366840" cy="37620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709480" y="1023120"/>
                <a:ext cx="272160" cy="19332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530560" y="782280"/>
                <a:ext cx="417600" cy="42192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0" y="3714840"/>
            <a:ext cx="8386560" cy="19080"/>
            <a:chOff x="0" y="3714840"/>
            <a:chExt cx="8386560" cy="19080"/>
          </a:xfrm>
        </p:grpSpPr>
        <p:sp>
          <p:nvSpPr>
            <p:cNvPr id="77" name=""/>
            <p:cNvSpPr/>
            <p:nvPr/>
          </p:nvSpPr>
          <p:spPr>
            <a:xfrm>
              <a:off x="5760" y="373392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371484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3520" y="271440"/>
            <a:ext cx="1600200" cy="1633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79880" y="1604520"/>
            <a:ext cx="8640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 Common Formats fo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 Event Report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73152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HRQ Annual Conference 20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iam B Munier, MD, 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September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848720" cy="5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ularized Common Forma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42800" y="733320"/>
            <a:ext cx="8760960" cy="5988240"/>
            <a:chOff x="442800" y="733320"/>
            <a:chExt cx="8760960" cy="5988240"/>
          </a:xfrm>
        </p:grpSpPr>
        <p:grpSp>
          <p:nvGrpSpPr>
            <p:cNvPr id="178" name=""/>
            <p:cNvGrpSpPr/>
            <p:nvPr/>
          </p:nvGrpSpPr>
          <p:grpSpPr>
            <a:xfrm>
              <a:off x="1029240" y="1125360"/>
              <a:ext cx="1643040" cy="1590840"/>
              <a:chOff x="1029240" y="1125360"/>
              <a:chExt cx="1643040" cy="1590840"/>
            </a:xfrm>
          </p:grpSpPr>
          <p:sp>
            <p:nvSpPr>
              <p:cNvPr id="179" name=""/>
              <p:cNvSpPr/>
              <p:nvPr/>
            </p:nvSpPr>
            <p:spPr>
              <a:xfrm>
                <a:off x="1348920" y="1430280"/>
                <a:ext cx="1323360" cy="1285920"/>
              </a:xfrm>
              <a:prstGeom prst="rect">
                <a:avLst/>
              </a:prstGeom>
              <a:gradFill rotWithShape="0">
                <a:gsLst>
                  <a:gs pos="0">
                    <a:srgbClr val="993366"/>
                  </a:gs>
                  <a:gs pos="100000">
                    <a:srgbClr val="4617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89080" y="1278000"/>
                <a:ext cx="1323000" cy="1285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029240" y="1125360"/>
                <a:ext cx="132300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200" spc="-1" strike="noStrike">
                    <a:solidFill>
                      <a:srgbClr val="00279f"/>
                    </a:solidFill>
                    <a:latin typeface="Arial"/>
                  </a:rPr>
                  <a:t>Associated inpu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Administrables 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900" spc="-1" strike="noStrike">
                    <a:solidFill>
                      <a:srgbClr val="00279f"/>
                    </a:solidFill>
                    <a:latin typeface="Arial"/>
                  </a:rPr>
                  <a:t>   </a:t>
                </a:r>
                <a:r>
                  <a:rPr b="1" lang="en-US" sz="900" spc="-1" strike="noStrike">
                    <a:solidFill>
                      <a:srgbClr val="00279f"/>
                    </a:solidFill>
                    <a:latin typeface="Arial"/>
                  </a:rPr>
                  <a:t>(medications, etc)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Consumabl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Devic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Research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758640" y="1125360"/>
              <a:ext cx="1483200" cy="1438200"/>
              <a:chOff x="6758640" y="1125360"/>
              <a:chExt cx="1483200" cy="1438200"/>
            </a:xfrm>
          </p:grpSpPr>
          <p:sp>
            <p:nvSpPr>
              <p:cNvPr id="183" name=""/>
              <p:cNvSpPr/>
              <p:nvPr/>
            </p:nvSpPr>
            <p:spPr>
              <a:xfrm>
                <a:off x="6918840" y="1277640"/>
                <a:ext cx="1323000" cy="1285920"/>
              </a:xfrm>
              <a:prstGeom prst="rect">
                <a:avLst/>
              </a:prstGeom>
              <a:gradFill rotWithShape="0">
                <a:gsLst>
                  <a:gs pos="0">
                    <a:srgbClr val="666699"/>
                  </a:gs>
                  <a:gs pos="100000">
                    <a:srgbClr val="2f2f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58640" y="1125360"/>
                <a:ext cx="132336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200" spc="-1" strike="noStrike">
                    <a:solidFill>
                      <a:srgbClr val="00279f"/>
                    </a:solidFill>
                    <a:latin typeface="Arial"/>
                  </a:rPr>
                  <a:t>Mitigating action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Recovery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Rescu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7720920" y="2857320"/>
              <a:ext cx="1482840" cy="1438560"/>
              <a:chOff x="7720920" y="2857320"/>
              <a:chExt cx="1482840" cy="1438560"/>
            </a:xfrm>
          </p:grpSpPr>
          <p:sp>
            <p:nvSpPr>
              <p:cNvPr id="186" name=""/>
              <p:cNvSpPr/>
              <p:nvPr/>
            </p:nvSpPr>
            <p:spPr>
              <a:xfrm>
                <a:off x="7880760" y="3009960"/>
                <a:ext cx="1323000" cy="1285920"/>
              </a:xfrm>
              <a:prstGeom prst="rect">
                <a:avLst/>
              </a:prstGeom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20920" y="2857320"/>
                <a:ext cx="132264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200" spc="-1" strike="noStrike">
                    <a:solidFill>
                      <a:srgbClr val="00279f"/>
                    </a:solidFill>
                    <a:latin typeface="Arial"/>
                  </a:rPr>
                  <a:t>Consequential Action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Internal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External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7282440" y="4591080"/>
              <a:ext cx="1483200" cy="1437840"/>
              <a:chOff x="7282440" y="4591080"/>
              <a:chExt cx="1483200" cy="1437840"/>
            </a:xfrm>
          </p:grpSpPr>
          <p:sp>
            <p:nvSpPr>
              <p:cNvPr id="189" name=""/>
              <p:cNvSpPr/>
              <p:nvPr/>
            </p:nvSpPr>
            <p:spPr>
              <a:xfrm>
                <a:off x="7442640" y="4743360"/>
                <a:ext cx="1323000" cy="12855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82440" y="4591080"/>
                <a:ext cx="1323360" cy="128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200" spc="-1" strike="noStrike">
                    <a:solidFill>
                      <a:srgbClr val="00279f"/>
                    </a:solidFill>
                    <a:latin typeface="Arial"/>
                  </a:rPr>
                  <a:t>Immediate impact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Organizational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Care process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42800" y="3009960"/>
              <a:ext cx="1323360" cy="128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79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Staff inform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Demographic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Har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2" name=""/>
            <p:cNvCxnSpPr>
              <a:stCxn id="193" idx="2"/>
              <a:endCxn id="181" idx="3"/>
            </p:cNvCxnSpPr>
            <p:nvPr/>
          </p:nvCxnSpPr>
          <p:spPr>
            <a:xfrm flipH="1" flipV="1">
              <a:off x="2352600" y="1767600"/>
              <a:ext cx="2654280" cy="3452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93" idx="2"/>
              <a:endCxn id="184" idx="1"/>
            </p:cNvCxnSpPr>
            <p:nvPr/>
          </p:nvCxnSpPr>
          <p:spPr>
            <a:xfrm flipV="1">
              <a:off x="5006880" y="1767600"/>
              <a:ext cx="1752480" cy="3452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>
              <a:stCxn id="193" idx="2"/>
              <a:endCxn id="187" idx="1"/>
            </p:cNvCxnSpPr>
            <p:nvPr/>
          </p:nvCxnSpPr>
          <p:spPr>
            <a:xfrm>
              <a:off x="5006880" y="2112840"/>
              <a:ext cx="2714400" cy="13881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>
              <a:stCxn id="193" idx="2"/>
              <a:endCxn id="190" idx="1"/>
            </p:cNvCxnSpPr>
            <p:nvPr/>
          </p:nvCxnSpPr>
          <p:spPr>
            <a:xfrm>
              <a:off x="5006880" y="2112840"/>
              <a:ext cx="2275920" cy="3121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197" name=""/>
            <p:cNvGrpSpPr/>
            <p:nvPr/>
          </p:nvGrpSpPr>
          <p:grpSpPr>
            <a:xfrm>
              <a:off x="4345200" y="4978440"/>
              <a:ext cx="1775160" cy="1743120"/>
              <a:chOff x="4345200" y="4978440"/>
              <a:chExt cx="1775160" cy="1743120"/>
            </a:xfrm>
          </p:grpSpPr>
          <p:sp>
            <p:nvSpPr>
              <p:cNvPr id="198" name=""/>
              <p:cNvSpPr/>
              <p:nvPr/>
            </p:nvSpPr>
            <p:spPr>
              <a:xfrm>
                <a:off x="4797000" y="5435640"/>
                <a:ext cx="1323360" cy="1285920"/>
              </a:xfrm>
              <a:prstGeom prst="rect">
                <a:avLst/>
              </a:prstGeom>
              <a:gradFill rotWithShape="0">
                <a:gsLst>
                  <a:gs pos="0">
                    <a:srgbClr val="ccffff"/>
                  </a:gs>
                  <a:gs pos="100000">
                    <a:srgbClr val="5e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36800" y="5283000"/>
                <a:ext cx="1323360" cy="1285920"/>
              </a:xfrm>
              <a:prstGeom prst="rect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3b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476600" y="5130720"/>
                <a:ext cx="1323720" cy="12859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7575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45200" y="4978440"/>
                <a:ext cx="132336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200" spc="-1" strike="noStrike">
                    <a:solidFill>
                      <a:srgbClr val="00279f"/>
                    </a:solidFill>
                    <a:latin typeface="Arial"/>
                  </a:rPr>
                  <a:t>Event-specific detail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About 24 type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of event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202" name=""/>
            <p:cNvCxnSpPr>
              <a:stCxn id="193" idx="2"/>
              <a:endCxn id="201" idx="0"/>
            </p:cNvCxnSpPr>
            <p:nvPr/>
          </p:nvCxnSpPr>
          <p:spPr>
            <a:xfrm>
              <a:off x="5006520" y="2112840"/>
              <a:ext cx="1080" cy="28659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>
              <a:stCxn id="193" idx="2"/>
              <a:endCxn id="204" idx="0"/>
            </p:cNvCxnSpPr>
            <p:nvPr/>
          </p:nvCxnSpPr>
          <p:spPr>
            <a:xfrm flipH="1">
              <a:off x="1983960" y="2112840"/>
              <a:ext cx="3022920" cy="24786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>
              <a:stCxn id="193" idx="2"/>
              <a:endCxn id="191" idx="3"/>
            </p:cNvCxnSpPr>
            <p:nvPr/>
          </p:nvCxnSpPr>
          <p:spPr>
            <a:xfrm flipH="1">
              <a:off x="1765800" y="2112840"/>
              <a:ext cx="3241440" cy="1540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06" name=""/>
            <p:cNvGrpSpPr/>
            <p:nvPr/>
          </p:nvGrpSpPr>
          <p:grpSpPr>
            <a:xfrm>
              <a:off x="1322640" y="4591080"/>
              <a:ext cx="1795680" cy="1590480"/>
              <a:chOff x="1322640" y="4591080"/>
              <a:chExt cx="1795680" cy="1590480"/>
            </a:xfrm>
          </p:grpSpPr>
          <p:sp>
            <p:nvSpPr>
              <p:cNvPr id="207" name=""/>
              <p:cNvSpPr/>
              <p:nvPr/>
            </p:nvSpPr>
            <p:spPr>
              <a:xfrm>
                <a:off x="1782720" y="4895640"/>
                <a:ext cx="132372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552320" y="4743360"/>
                <a:ext cx="132408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322640" y="4591080"/>
                <a:ext cx="1323720" cy="128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200" spc="-1" strike="noStrike">
                    <a:solidFill>
                      <a:srgbClr val="00279f"/>
                    </a:solidFill>
                    <a:latin typeface="Arial"/>
                  </a:rPr>
                  <a:t>Patient informatio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Demographic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buClr>
                    <a:srgbClr val="00279f"/>
                  </a:buClr>
                  <a:buFont typeface="Arial"/>
                  <a:buChar char="•"/>
                  <a:tabLst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  </a:t>
                </a: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Harm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2867400" y="4900680"/>
                <a:ext cx="250920" cy="246240"/>
                <a:chOff x="2867400" y="4900680"/>
                <a:chExt cx="250920" cy="2462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896200" y="4933800"/>
                  <a:ext cx="19152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1d1d1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867400" y="4900680"/>
                  <a:ext cx="25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279f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2400480" y="4595760"/>
                <a:ext cx="250920" cy="246240"/>
                <a:chOff x="2400480" y="4595760"/>
                <a:chExt cx="250920" cy="2462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429280" y="4628880"/>
                  <a:ext cx="19152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1d1d1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400480" y="4595760"/>
                  <a:ext cx="25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279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2633760" y="4748040"/>
                <a:ext cx="250920" cy="246240"/>
                <a:chOff x="2633760" y="4748040"/>
                <a:chExt cx="250920" cy="2462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2662560" y="4781160"/>
                  <a:ext cx="19152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1d1d1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633760" y="4748040"/>
                  <a:ext cx="250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279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" name=""/>
            <p:cNvSpPr/>
            <p:nvPr/>
          </p:nvSpPr>
          <p:spPr>
            <a:xfrm>
              <a:off x="4286880" y="733320"/>
              <a:ext cx="1440000" cy="1379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79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PSE Overvie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Identit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Facilit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Tim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Loc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Report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Narrativ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Link to form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8153280" cy="5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ularized Common Forma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00760" y="3457440"/>
            <a:ext cx="2239200" cy="1571400"/>
            <a:chOff x="6800760" y="3457440"/>
            <a:chExt cx="2239200" cy="1571400"/>
          </a:xfrm>
        </p:grpSpPr>
        <p:sp>
          <p:nvSpPr>
            <p:cNvPr id="220" name=""/>
            <p:cNvSpPr/>
            <p:nvPr/>
          </p:nvSpPr>
          <p:spPr>
            <a:xfrm>
              <a:off x="7041960" y="3624120"/>
              <a:ext cx="199800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00760" y="3457440"/>
              <a:ext cx="1997640" cy="14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Arial"/>
                </a:rPr>
                <a:t>Final Assessment Form (FAF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Assessment of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preventability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Final narrative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Encodi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222" name=""/>
          <p:cNvCxnSpPr>
            <a:stCxn id="223" idx="2"/>
            <a:endCxn id="221" idx="0"/>
          </p:cNvCxnSpPr>
          <p:nvPr/>
        </p:nvCxnSpPr>
        <p:spPr>
          <a:xfrm>
            <a:off x="4920840" y="2752560"/>
            <a:ext cx="2880360" cy="7052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24" name=""/>
          <p:cNvGrpSpPr/>
          <p:nvPr/>
        </p:nvGrpSpPr>
        <p:grpSpPr>
          <a:xfrm>
            <a:off x="4000680" y="4734000"/>
            <a:ext cx="2218680" cy="1894680"/>
            <a:chOff x="4000680" y="4734000"/>
            <a:chExt cx="2218680" cy="1894680"/>
          </a:xfrm>
        </p:grpSpPr>
        <p:sp>
          <p:nvSpPr>
            <p:cNvPr id="225" name=""/>
            <p:cNvSpPr/>
            <p:nvPr/>
          </p:nvSpPr>
          <p:spPr>
            <a:xfrm>
              <a:off x="4565160" y="5230800"/>
              <a:ext cx="1654200" cy="139788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5e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65360" y="5064840"/>
              <a:ext cx="1654200" cy="139788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3b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64840" y="4899240"/>
              <a:ext cx="1654560" cy="13978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7575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00680" y="4734000"/>
              <a:ext cx="1654200" cy="139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Arial"/>
                </a:rPr>
                <a:t>Event-specific form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Nine types of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events, e.g.,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Fall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HAI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Medicatio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229" name=""/>
          <p:cNvCxnSpPr/>
          <p:nvPr/>
        </p:nvCxnSpPr>
        <p:spPr>
          <a:xfrm flipH="1">
            <a:off x="4876200" y="2743200"/>
            <a:ext cx="76680" cy="1991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3" idx="2"/>
            <a:endCxn id="231" idx="0"/>
          </p:cNvCxnSpPr>
          <p:nvPr/>
        </p:nvCxnSpPr>
        <p:spPr>
          <a:xfrm flipH="1">
            <a:off x="1585080" y="2752560"/>
            <a:ext cx="3336120" cy="6962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2" name=""/>
          <p:cNvGrpSpPr/>
          <p:nvPr/>
        </p:nvGrpSpPr>
        <p:grpSpPr>
          <a:xfrm>
            <a:off x="560520" y="3448080"/>
            <a:ext cx="2763360" cy="1590480"/>
            <a:chOff x="560520" y="3448080"/>
            <a:chExt cx="2763360" cy="1590480"/>
          </a:xfrm>
        </p:grpSpPr>
        <p:sp>
          <p:nvSpPr>
            <p:cNvPr id="233" name=""/>
            <p:cNvSpPr/>
            <p:nvPr/>
          </p:nvSpPr>
          <p:spPr>
            <a:xfrm>
              <a:off x="1273320" y="3752640"/>
              <a:ext cx="2050560" cy="128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16560" y="3600360"/>
              <a:ext cx="2050920" cy="128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0520" y="3448080"/>
              <a:ext cx="2050560" cy="128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Arial"/>
                </a:rPr>
                <a:t>Patient information Form (PIF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Demographic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Harm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Mitigating Action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279f"/>
                </a:buClr>
                <a:buFont typeface="Arial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279f"/>
                  </a:solidFill>
                  <a:latin typeface="Arial"/>
                </a:rPr>
                <a:t>Interventions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949120" y="3757680"/>
              <a:ext cx="345600" cy="246240"/>
              <a:chOff x="2949120" y="3757680"/>
              <a:chExt cx="345600" cy="246240"/>
            </a:xfrm>
          </p:grpSpPr>
          <p:sp>
            <p:nvSpPr>
              <p:cNvPr id="236" name=""/>
              <p:cNvSpPr/>
              <p:nvPr/>
            </p:nvSpPr>
            <p:spPr>
              <a:xfrm>
                <a:off x="2998440" y="3790800"/>
                <a:ext cx="296280" cy="18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949120" y="375768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2225880" y="3452760"/>
              <a:ext cx="345600" cy="246240"/>
              <a:chOff x="2225880" y="3452760"/>
              <a:chExt cx="345600" cy="246240"/>
            </a:xfrm>
          </p:grpSpPr>
          <p:sp>
            <p:nvSpPr>
              <p:cNvPr id="239" name=""/>
              <p:cNvSpPr/>
              <p:nvPr/>
            </p:nvSpPr>
            <p:spPr>
              <a:xfrm>
                <a:off x="2275200" y="3485880"/>
                <a:ext cx="296280" cy="18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225880" y="345276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587320" y="3605040"/>
              <a:ext cx="345600" cy="246240"/>
              <a:chOff x="2587320" y="3605040"/>
              <a:chExt cx="345600" cy="246240"/>
            </a:xfrm>
          </p:grpSpPr>
          <p:sp>
            <p:nvSpPr>
              <p:cNvPr id="242" name=""/>
              <p:cNvSpPr/>
              <p:nvPr/>
            </p:nvSpPr>
            <p:spPr>
              <a:xfrm>
                <a:off x="2636640" y="3638160"/>
                <a:ext cx="296280" cy="182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587320" y="3605040"/>
                <a:ext cx="25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>
            <a:off x="3679920" y="1000080"/>
            <a:ext cx="2481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>
              <a:lnSpc>
                <a:spcPct val="100000"/>
              </a:lnSpc>
              <a:spcAft>
                <a:spcPts val="8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</a:rPr>
              <a:t>Healthcare Event Reporting Form (HERF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Identi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Date, Tim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Loc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Report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Narrativ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79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279f"/>
                </a:solidFill>
                <a:latin typeface="Arial"/>
              </a:rPr>
              <a:t>Link to other form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 Evidence Bas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f Reporting System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25560" y="1574640"/>
            <a:ext cx="7927200" cy="4670280"/>
            <a:chOff x="925560" y="1574640"/>
            <a:chExt cx="7927200" cy="4670280"/>
          </a:xfrm>
        </p:grpSpPr>
        <p:grpSp>
          <p:nvGrpSpPr>
            <p:cNvPr id="246" name=""/>
            <p:cNvGrpSpPr/>
            <p:nvPr/>
          </p:nvGrpSpPr>
          <p:grpSpPr>
            <a:xfrm>
              <a:off x="1135440" y="1685880"/>
              <a:ext cx="7717320" cy="4559040"/>
              <a:chOff x="1135440" y="1685880"/>
              <a:chExt cx="7717320" cy="4559040"/>
            </a:xfrm>
          </p:grpSpPr>
          <p:sp>
            <p:nvSpPr>
              <p:cNvPr id="247" name=""/>
              <p:cNvSpPr/>
              <p:nvPr/>
            </p:nvSpPr>
            <p:spPr>
              <a:xfrm>
                <a:off x="3708720" y="1685880"/>
                <a:ext cx="2570400" cy="911160"/>
              </a:xfrm>
              <a:custGeom>
                <a:avLst/>
                <a:gdLst/>
                <a:ahLst/>
                <a:rect l="l" t="t" r="r" b="b"/>
                <a:pathLst>
                  <a:path w="1542" h="574">
                    <a:moveTo>
                      <a:pt x="1158" y="0"/>
                    </a:moveTo>
                    <a:lnTo>
                      <a:pt x="384" y="0"/>
                    </a:lnTo>
                    <a:lnTo>
                      <a:pt x="0" y="574"/>
                    </a:lnTo>
                    <a:lnTo>
                      <a:pt x="1542" y="574"/>
                    </a:lnTo>
                    <a:lnTo>
                      <a:pt x="1158" y="0"/>
                    </a:lnTo>
                    <a:close/>
                  </a:path>
                </a:pathLst>
              </a:custGeom>
              <a:solidFill>
                <a:srgbClr val="0027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68640" y="2597040"/>
                <a:ext cx="3850200" cy="904680"/>
              </a:xfrm>
              <a:custGeom>
                <a:avLst/>
                <a:gdLst/>
                <a:ahLst/>
                <a:rect l="l" t="t" r="r" b="b"/>
                <a:pathLst>
                  <a:path w="2310" h="570">
                    <a:moveTo>
                      <a:pt x="1926" y="0"/>
                    </a:moveTo>
                    <a:lnTo>
                      <a:pt x="384" y="0"/>
                    </a:lnTo>
                    <a:lnTo>
                      <a:pt x="0" y="570"/>
                    </a:lnTo>
                    <a:lnTo>
                      <a:pt x="2310" y="570"/>
                    </a:lnTo>
                    <a:lnTo>
                      <a:pt x="1926" y="0"/>
                    </a:lnTo>
                    <a:close/>
                  </a:path>
                </a:pathLst>
              </a:custGeom>
              <a:solidFill>
                <a:srgbClr val="0027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778760" y="4422600"/>
                <a:ext cx="6430680" cy="911160"/>
              </a:xfrm>
              <a:custGeom>
                <a:avLst/>
                <a:gdLst/>
                <a:ahLst/>
                <a:rect l="l" t="t" r="r" b="b"/>
                <a:pathLst>
                  <a:path w="3858" h="574">
                    <a:moveTo>
                      <a:pt x="3472" y="0"/>
                    </a:moveTo>
                    <a:lnTo>
                      <a:pt x="386" y="0"/>
                    </a:lnTo>
                    <a:lnTo>
                      <a:pt x="0" y="574"/>
                    </a:lnTo>
                    <a:lnTo>
                      <a:pt x="3858" y="574"/>
                    </a:lnTo>
                    <a:lnTo>
                      <a:pt x="3472" y="0"/>
                    </a:lnTo>
                    <a:close/>
                  </a:path>
                </a:pathLst>
              </a:custGeom>
              <a:solidFill>
                <a:srgbClr val="0027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135440" y="5333760"/>
                <a:ext cx="7717320" cy="911160"/>
              </a:xfrm>
              <a:custGeom>
                <a:avLst/>
                <a:gdLst/>
                <a:ahLst/>
                <a:rect l="l" t="t" r="r" b="b"/>
                <a:pathLst>
                  <a:path w="4630" h="574">
                    <a:moveTo>
                      <a:pt x="386" y="0"/>
                    </a:moveTo>
                    <a:lnTo>
                      <a:pt x="0" y="574"/>
                    </a:lnTo>
                    <a:lnTo>
                      <a:pt x="4630" y="574"/>
                    </a:lnTo>
                    <a:lnTo>
                      <a:pt x="4244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27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422080" y="3501720"/>
                <a:ext cx="5143680" cy="920880"/>
              </a:xfrm>
              <a:custGeom>
                <a:avLst/>
                <a:gdLst/>
                <a:ahLst/>
                <a:rect l="l" t="t" r="r" b="b"/>
                <a:pathLst>
                  <a:path w="3086" h="580">
                    <a:moveTo>
                      <a:pt x="2698" y="0"/>
                    </a:moveTo>
                    <a:lnTo>
                      <a:pt x="388" y="0"/>
                    </a:lnTo>
                    <a:lnTo>
                      <a:pt x="0" y="580"/>
                    </a:lnTo>
                    <a:lnTo>
                      <a:pt x="3086" y="580"/>
                    </a:lnTo>
                    <a:lnTo>
                      <a:pt x="2698" y="0"/>
                    </a:lnTo>
                    <a:close/>
                  </a:path>
                </a:pathLst>
              </a:custGeom>
              <a:solidFill>
                <a:srgbClr val="00279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3499200" y="1574640"/>
              <a:ext cx="2570400" cy="911520"/>
            </a:xfrm>
            <a:custGeom>
              <a:avLst/>
              <a:gdLst/>
              <a:ahLst/>
              <a:rect l="l" t="t" r="r" b="b"/>
              <a:pathLst>
                <a:path w="1542" h="574">
                  <a:moveTo>
                    <a:pt x="1158" y="0"/>
                  </a:moveTo>
                  <a:lnTo>
                    <a:pt x="384" y="0"/>
                  </a:lnTo>
                  <a:lnTo>
                    <a:pt x="0" y="574"/>
                  </a:lnTo>
                  <a:lnTo>
                    <a:pt x="1542" y="574"/>
                  </a:lnTo>
                  <a:lnTo>
                    <a:pt x="1158" y="0"/>
                  </a:lnTo>
                  <a:close/>
                </a:path>
              </a:pathLst>
            </a:custGeom>
            <a:solidFill>
              <a:srgbClr val="99cc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59120" y="2486160"/>
              <a:ext cx="3850200" cy="904680"/>
            </a:xfrm>
            <a:custGeom>
              <a:avLst/>
              <a:gdLst/>
              <a:ahLst/>
              <a:rect l="l" t="t" r="r" b="b"/>
              <a:pathLst>
                <a:path w="2310" h="570">
                  <a:moveTo>
                    <a:pt x="1926" y="0"/>
                  </a:moveTo>
                  <a:lnTo>
                    <a:pt x="384" y="0"/>
                  </a:lnTo>
                  <a:lnTo>
                    <a:pt x="0" y="570"/>
                  </a:lnTo>
                  <a:lnTo>
                    <a:pt x="2310" y="570"/>
                  </a:lnTo>
                  <a:lnTo>
                    <a:pt x="1926" y="0"/>
                  </a:lnTo>
                  <a:close/>
                </a:path>
              </a:pathLst>
            </a:custGeom>
            <a:solidFill>
              <a:srgbClr val="00cc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69240" y="4311720"/>
              <a:ext cx="6430320" cy="911160"/>
            </a:xfrm>
            <a:custGeom>
              <a:avLst/>
              <a:gdLst/>
              <a:ahLst/>
              <a:rect l="l" t="t" r="r" b="b"/>
              <a:pathLst>
                <a:path w="3858" h="574">
                  <a:moveTo>
                    <a:pt x="3472" y="0"/>
                  </a:moveTo>
                  <a:lnTo>
                    <a:pt x="386" y="0"/>
                  </a:lnTo>
                  <a:lnTo>
                    <a:pt x="0" y="574"/>
                  </a:lnTo>
                  <a:lnTo>
                    <a:pt x="3858" y="574"/>
                  </a:lnTo>
                  <a:lnTo>
                    <a:pt x="3472" y="0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25560" y="5222880"/>
              <a:ext cx="7717680" cy="911160"/>
            </a:xfrm>
            <a:custGeom>
              <a:avLst/>
              <a:gdLst/>
              <a:ahLst/>
              <a:rect l="l" t="t" r="r" b="b"/>
              <a:pathLst>
                <a:path w="4630" h="574">
                  <a:moveTo>
                    <a:pt x="386" y="0"/>
                  </a:moveTo>
                  <a:lnTo>
                    <a:pt x="0" y="574"/>
                  </a:lnTo>
                  <a:lnTo>
                    <a:pt x="4630" y="574"/>
                  </a:lnTo>
                  <a:lnTo>
                    <a:pt x="4244" y="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000080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2560" y="3390840"/>
              <a:ext cx="5143680" cy="920880"/>
            </a:xfrm>
            <a:custGeom>
              <a:avLst/>
              <a:gdLst/>
              <a:ahLst/>
              <a:rect l="l" t="t" r="r" b="b"/>
              <a:pathLst>
                <a:path w="3086" h="580">
                  <a:moveTo>
                    <a:pt x="2698" y="0"/>
                  </a:moveTo>
                  <a:lnTo>
                    <a:pt x="388" y="0"/>
                  </a:lnTo>
                  <a:lnTo>
                    <a:pt x="0" y="580"/>
                  </a:lnTo>
                  <a:lnTo>
                    <a:pt x="3086" y="580"/>
                  </a:lnTo>
                  <a:lnTo>
                    <a:pt x="2698" y="0"/>
                  </a:lnTo>
                  <a:close/>
                </a:path>
              </a:pathLst>
            </a:custGeom>
            <a:solidFill>
              <a:srgbClr val="3366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04560" y="1747800"/>
              <a:ext cx="1738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4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SERS*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04080" y="2649600"/>
              <a:ext cx="293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&gt;100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SE reporting form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35920" y="3552840"/>
              <a:ext cx="427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&gt;1,000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efinitions of PSE term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14200" y="4456080"/>
              <a:ext cx="5519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&gt;10,000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SE reporting variab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82080" y="5359320"/>
              <a:ext cx="7581240" cy="60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upporting documen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i="1" lang="en-US" sz="1300" spc="-1" strike="noStrike">
                  <a:solidFill>
                    <a:srgbClr val="ffffff"/>
                  </a:solidFill>
                  <a:latin typeface="Arial"/>
                </a:rPr>
                <a:t>(PSERS descriptions, PSE reporting forms, encoding schemes, patient safety reports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0" y="1333440"/>
            <a:ext cx="8386560" cy="19080"/>
            <a:chOff x="0" y="1333440"/>
            <a:chExt cx="8386560" cy="19080"/>
          </a:xfrm>
        </p:grpSpPr>
        <p:sp>
          <p:nvSpPr>
            <p:cNvPr id="263" name=""/>
            <p:cNvSpPr/>
            <p:nvPr/>
          </p:nvSpPr>
          <p:spPr>
            <a:xfrm>
              <a:off x="5760" y="135252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0" y="133344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723960" y="6465960"/>
            <a:ext cx="287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* Patient Safety Event Reporting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ventory Finding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w systems collect information on the complete improvement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ality found for some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bility found for 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event, e.g., adverse drug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ident, e.g., 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graphic, e.g., provider type, facility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39600" y="343080"/>
            <a:ext cx="7281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 Develop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48840" indent="-348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itial common formats with Federal agencies with reporting systems (CDC, FDA, VA, DoD, NI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ed two pilot tests in hospi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acted with the National Quality Forum (NQF) to receive coordinate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shed notice of availability of Common Formats, version 0.1 Beta, in Federal Register on August 2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on Forma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velopment Cyc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1587600"/>
            <a:ext cx="15354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Draft event descri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4226040"/>
            <a:ext cx="153540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Draft event re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68560" y="1587600"/>
            <a:ext cx="153504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Specify data elements, et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78520" y="1587600"/>
            <a:ext cx="153504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Update meta-data regis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09000" y="1587600"/>
            <a:ext cx="1535040" cy="914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Implement Common Forma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78520" y="2911320"/>
            <a:ext cx="1535040" cy="914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Implement CF paper for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09000" y="2911320"/>
            <a:ext cx="1535040" cy="914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Solicit Feed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18360" y="4226040"/>
            <a:ext cx="1535040" cy="9144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Analyze feedb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38080" y="2943360"/>
            <a:ext cx="1535400" cy="838080"/>
          </a:xfrm>
          <a:prstGeom prst="diamond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Complet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8280" y="2933640"/>
            <a:ext cx="1535040" cy="838440"/>
          </a:xfrm>
          <a:prstGeom prst="diamond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Complet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5533920"/>
            <a:ext cx="1535400" cy="838440"/>
          </a:xfrm>
          <a:prstGeom prst="diamond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Complet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78280" y="5524560"/>
            <a:ext cx="1535040" cy="838080"/>
          </a:xfrm>
          <a:prstGeom prst="diamond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Complet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78280" y="4226040"/>
            <a:ext cx="1535040" cy="9144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Pilot data elements, et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29520" y="5524560"/>
            <a:ext cx="1535040" cy="838080"/>
          </a:xfrm>
          <a:prstGeom prst="diamond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279f"/>
            </a:solidFill>
            <a:miter/>
          </a:ln>
          <a:effectLst>
            <a:outerShdw dist="107932" dir="2700000" blurRad="0" rotWithShape="0">
              <a:srgbClr val="00279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800" spc="-1" strike="noStrike">
                <a:solidFill>
                  <a:srgbClr val="00279f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Issu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1" idx="2"/>
            <a:endCxn id="279" idx="0"/>
          </p:cNvCxnSpPr>
          <p:nvPr/>
        </p:nvCxnSpPr>
        <p:spPr>
          <a:xfrm>
            <a:off x="1606320" y="2502000"/>
            <a:ext cx="1080" cy="442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9" idx="2"/>
            <a:endCxn id="272" idx="0"/>
          </p:cNvCxnSpPr>
          <p:nvPr/>
        </p:nvCxnSpPr>
        <p:spPr>
          <a:xfrm>
            <a:off x="1606320" y="3781080"/>
            <a:ext cx="1080" cy="445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2" idx="2"/>
            <a:endCxn id="281" idx="0"/>
          </p:cNvCxnSpPr>
          <p:nvPr/>
        </p:nvCxnSpPr>
        <p:spPr>
          <a:xfrm>
            <a:off x="1606320" y="5140080"/>
            <a:ext cx="1080" cy="394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1" idx="3"/>
            <a:endCxn id="272" idx="3"/>
          </p:cNvCxnSpPr>
          <p:nvPr/>
        </p:nvCxnSpPr>
        <p:spPr>
          <a:xfrm flipV="1">
            <a:off x="2373480" y="4682520"/>
            <a:ext cx="2160" cy="1270440"/>
          </a:xfrm>
          <a:prstGeom prst="bentConnector3">
            <a:avLst>
              <a:gd name="adj1" fmla="val 14300000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79" idx="3"/>
            <a:endCxn id="271" idx="3"/>
          </p:cNvCxnSpPr>
          <p:nvPr/>
        </p:nvCxnSpPr>
        <p:spPr>
          <a:xfrm flipV="1">
            <a:off x="2373480" y="2044440"/>
            <a:ext cx="2160" cy="1318320"/>
          </a:xfrm>
          <a:prstGeom prst="bentConnector3">
            <a:avLst>
              <a:gd name="adj1" fmla="val 14300000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1" idx="2"/>
            <a:endCxn id="273" idx="1"/>
          </p:cNvCxnSpPr>
          <p:nvPr/>
        </p:nvCxnSpPr>
        <p:spPr>
          <a:xfrm flipH="1" flipV="1" rot="5400000">
            <a:off x="122760" y="3526920"/>
            <a:ext cx="4328280" cy="1362600"/>
          </a:xfrm>
          <a:prstGeom prst="bentConnector4">
            <a:avLst>
              <a:gd name="adj1" fmla="val -5281"/>
              <a:gd name="adj2" fmla="val 7806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0" idx="3"/>
            <a:endCxn id="273" idx="3"/>
          </p:cNvCxnSpPr>
          <p:nvPr/>
        </p:nvCxnSpPr>
        <p:spPr>
          <a:xfrm flipH="1" flipV="1">
            <a:off x="4502880" y="2044080"/>
            <a:ext cx="10440" cy="1308600"/>
          </a:xfrm>
          <a:prstGeom prst="bentConnector3">
            <a:avLst>
              <a:gd name="adj1" fmla="val -2382142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73" idx="2"/>
            <a:endCxn id="280" idx="0"/>
          </p:cNvCxnSpPr>
          <p:nvPr/>
        </p:nvCxnSpPr>
        <p:spPr>
          <a:xfrm>
            <a:off x="3736440" y="2501640"/>
            <a:ext cx="10440" cy="4323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80" idx="2"/>
            <a:endCxn id="283" idx="0"/>
          </p:cNvCxnSpPr>
          <p:nvPr/>
        </p:nvCxnSpPr>
        <p:spPr>
          <a:xfrm>
            <a:off x="3746160" y="3771720"/>
            <a:ext cx="1080" cy="454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83" idx="2"/>
            <a:endCxn id="282" idx="0"/>
          </p:cNvCxnSpPr>
          <p:nvPr/>
        </p:nvCxnSpPr>
        <p:spPr>
          <a:xfrm>
            <a:off x="3746160" y="5140080"/>
            <a:ext cx="1080" cy="3848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82" idx="3"/>
            <a:endCxn id="283" idx="3"/>
          </p:cNvCxnSpPr>
          <p:nvPr/>
        </p:nvCxnSpPr>
        <p:spPr>
          <a:xfrm flipV="1">
            <a:off x="4513320" y="4682520"/>
            <a:ext cx="2160" cy="1261080"/>
          </a:xfrm>
          <a:prstGeom prst="bentConnector3">
            <a:avLst>
              <a:gd name="adj1" fmla="val 14300000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82" idx="2"/>
            <a:endCxn id="274" idx="1"/>
          </p:cNvCxnSpPr>
          <p:nvPr/>
        </p:nvCxnSpPr>
        <p:spPr>
          <a:xfrm flipH="1" flipV="1" rot="5400000">
            <a:off x="2253600" y="3537720"/>
            <a:ext cx="4318200" cy="1332720"/>
          </a:xfrm>
          <a:prstGeom prst="bentConnector4">
            <a:avLst>
              <a:gd name="adj1" fmla="val -5294"/>
              <a:gd name="adj2" fmla="val 78762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74" idx="2"/>
            <a:endCxn id="276" idx="0"/>
          </p:cNvCxnSpPr>
          <p:nvPr/>
        </p:nvCxnSpPr>
        <p:spPr>
          <a:xfrm>
            <a:off x="5846400" y="2501640"/>
            <a:ext cx="1080" cy="4100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74" idx="3"/>
            <a:endCxn id="275" idx="1"/>
          </p:cNvCxnSpPr>
          <p:nvPr/>
        </p:nvCxnSpPr>
        <p:spPr>
          <a:xfrm>
            <a:off x="6613560" y="2044440"/>
            <a:ext cx="5961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76" idx="3"/>
            <a:endCxn id="277" idx="1"/>
          </p:cNvCxnSpPr>
          <p:nvPr/>
        </p:nvCxnSpPr>
        <p:spPr>
          <a:xfrm>
            <a:off x="6613560" y="3368160"/>
            <a:ext cx="5961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75" idx="2"/>
            <a:endCxn id="277" idx="0"/>
          </p:cNvCxnSpPr>
          <p:nvPr/>
        </p:nvCxnSpPr>
        <p:spPr>
          <a:xfrm>
            <a:off x="7976880" y="2501640"/>
            <a:ext cx="1080" cy="4100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77" idx="2"/>
            <a:endCxn id="278" idx="0"/>
          </p:cNvCxnSpPr>
          <p:nvPr/>
        </p:nvCxnSpPr>
        <p:spPr>
          <a:xfrm>
            <a:off x="7977240" y="3825720"/>
            <a:ext cx="10080" cy="4010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78" idx="2"/>
            <a:endCxn id="284" idx="0"/>
          </p:cNvCxnSpPr>
          <p:nvPr/>
        </p:nvCxnSpPr>
        <p:spPr>
          <a:xfrm>
            <a:off x="7986240" y="5140080"/>
            <a:ext cx="11880" cy="3848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 flipV="1">
            <a:off x="2608200" y="3457440"/>
            <a:ext cx="0" cy="1114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738680" y="3457440"/>
            <a:ext cx="0" cy="1114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08920" y="6372360"/>
            <a:ext cx="0" cy="3524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78360" y="6734160"/>
            <a:ext cx="31305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848120" y="6581880"/>
            <a:ext cx="0" cy="16200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738680" y="1390680"/>
            <a:ext cx="0" cy="5810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06216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43760" y="305280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56624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760" y="56530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614080" y="565308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381492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1520" y="381492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01720" y="623412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1520" y="623412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645336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788320" y="5943600"/>
            <a:ext cx="2811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9078840" y="1390320"/>
            <a:ext cx="0" cy="455292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799160" y="1390680"/>
            <a:ext cx="427968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638360" y="1380960"/>
            <a:ext cx="31003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28640" y="1380960"/>
            <a:ext cx="0" cy="20016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on Format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velopment Cyc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0600" indent="-390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s will not be subject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0080" indent="-3330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regulatory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0080" indent="-3330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QF formal consensu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s 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0080" indent="-3330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updated annually as gu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0080" indent="-3330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tight versio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278240" y="3124080"/>
            <a:ext cx="41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Your questio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838080" y="2608200"/>
            <a:ext cx="2819520" cy="256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Patient Safety and Quality Improvement Act of 200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6404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s formation of PSOs to improve the quality &amp; safety of health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will administer rules for listing qualified P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HS Office for Civil Rights will be responsible for    enforcing confidenti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21320" y="1828800"/>
            <a:ext cx="3679920" cy="36576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83934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76560" indent="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her than a patchwork of state-by-state protections, there will now be national uniform protections; that is, confidentiality &amp; privilege for clinicians &amp; entities performing patient safet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on Forma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Os will collect, aggregate, &amp; analyze information on quality &amp; safety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te authorizes collection of this information in a standardized ma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aggregation of comparable data at local, PSO, &amp; nation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 the exchange of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lie the ability to compare &amp;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7464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 Formats can provide a common language for patient safety reporting across the 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on Forma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48840" indent="-348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for Common Formats was initiated by AHRQ in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ary Leavitt authorized their development &amp; deployment in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HRQ be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97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a conceptu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2240" indent="-2973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iling an inventory of reporting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320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O International Classification of Patient Safety (ICPS) Framewor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40040" y="1136520"/>
            <a:ext cx="8975160" cy="5672520"/>
            <a:chOff x="140040" y="1136520"/>
            <a:chExt cx="8975160" cy="5672520"/>
          </a:xfrm>
        </p:grpSpPr>
        <p:sp>
          <p:nvSpPr>
            <p:cNvPr id="134" name=""/>
            <p:cNvSpPr/>
            <p:nvPr/>
          </p:nvSpPr>
          <p:spPr>
            <a:xfrm>
              <a:off x="3468240" y="1536840"/>
              <a:ext cx="2439720" cy="5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Contributing Factors*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06520" y="1425600"/>
              <a:ext cx="0" cy="4600440"/>
            </a:xfrm>
            <a:prstGeom prst="line">
              <a:avLst/>
            </a:prstGeom>
            <a:ln w="507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75080" y="1422360"/>
              <a:ext cx="0" cy="4600440"/>
            </a:xfrm>
            <a:prstGeom prst="line">
              <a:avLst/>
            </a:prstGeom>
            <a:ln w="507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91600" y="2975040"/>
              <a:ext cx="1601280" cy="547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Event Typ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34" idx="2"/>
              <a:endCxn id="134" idx="2"/>
            </p:cNvCxnSpPr>
            <p:nvPr/>
          </p:nvCxnSpPr>
          <p:spPr>
            <a:xfrm>
              <a:off x="4688280" y="2084040"/>
              <a:ext cx="10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2"/>
              <a:endCxn id="137" idx="0"/>
            </p:cNvCxnSpPr>
            <p:nvPr/>
          </p:nvCxnSpPr>
          <p:spPr>
            <a:xfrm>
              <a:off x="4688280" y="2084400"/>
              <a:ext cx="5400" cy="89136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40" name=""/>
            <p:cNvSpPr/>
            <p:nvPr/>
          </p:nvSpPr>
          <p:spPr>
            <a:xfrm>
              <a:off x="3900240" y="5372280"/>
              <a:ext cx="1601280" cy="5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Actions take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58440" y="4516560"/>
              <a:ext cx="1601640" cy="5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Organization outcom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23320" y="4513320"/>
              <a:ext cx="1601640" cy="547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Patient impact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outcom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3160" y="3344760"/>
              <a:ext cx="1601640" cy="5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Event characterist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9560" y="2519280"/>
              <a:ext cx="1601640" cy="5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Patient characterist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78480" y="3479760"/>
              <a:ext cx="12502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Mitigating facto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86760" y="2476440"/>
              <a:ext cx="12502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Recovery facto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3520" y="1584360"/>
              <a:ext cx="12502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279f"/>
                  </a:solidFill>
                  <a:latin typeface="Arial"/>
                </a:rPr>
                <a:t>Preventative factors (+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8" name=""/>
            <p:cNvCxnSpPr>
              <a:stCxn id="147" idx="1"/>
              <a:endCxn id="134" idx="3"/>
            </p:cNvCxnSpPr>
            <p:nvPr/>
          </p:nvCxnSpPr>
          <p:spPr>
            <a:xfrm flipH="1" flipV="1">
              <a:off x="5907600" y="1810440"/>
              <a:ext cx="1375560" cy="25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49" name=""/>
            <p:cNvSpPr/>
            <p:nvPr/>
          </p:nvSpPr>
          <p:spPr>
            <a:xfrm>
              <a:off x="6092640" y="155412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fluen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37" idx="1"/>
              <a:endCxn id="144" idx="3"/>
            </p:cNvCxnSpPr>
            <p:nvPr/>
          </p:nvCxnSpPr>
          <p:spPr>
            <a:xfrm flipH="1" flipV="1">
              <a:off x="2040840" y="2793600"/>
              <a:ext cx="1850760" cy="4564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37" idx="1"/>
              <a:endCxn id="143" idx="3"/>
            </p:cNvCxnSpPr>
            <p:nvPr/>
          </p:nvCxnSpPr>
          <p:spPr>
            <a:xfrm flipH="1">
              <a:off x="2044440" y="3249360"/>
              <a:ext cx="1847520" cy="3704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37" idx="2"/>
              <a:endCxn id="140" idx="0"/>
            </p:cNvCxnSpPr>
            <p:nvPr/>
          </p:nvCxnSpPr>
          <p:spPr>
            <a:xfrm>
              <a:off x="4692960" y="3522600"/>
              <a:ext cx="9000" cy="18504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2" idx="0"/>
              <a:endCxn id="141" idx="0"/>
            </p:cNvCxnSpPr>
            <p:nvPr/>
          </p:nvCxnSpPr>
          <p:spPr>
            <a:xfrm flipH="1" rot="16200000">
              <a:off x="4690800" y="3246120"/>
              <a:ext cx="3960" cy="2535840"/>
            </a:xfrm>
            <a:prstGeom prst="bentConnector3">
              <a:avLst>
                <a:gd name="adj1" fmla="val -7200000"/>
              </a:avLst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4" name=""/>
            <p:cNvCxnSpPr>
              <a:stCxn id="142" idx="2"/>
              <a:endCxn id="140" idx="1"/>
            </p:cNvCxnSpPr>
            <p:nvPr/>
          </p:nvCxnSpPr>
          <p:spPr>
            <a:xfrm>
              <a:off x="3424680" y="5060520"/>
              <a:ext cx="475560" cy="5864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1" idx="2"/>
              <a:endCxn id="140" idx="3"/>
            </p:cNvCxnSpPr>
            <p:nvPr/>
          </p:nvCxnSpPr>
          <p:spPr>
            <a:xfrm flipH="1">
              <a:off x="5500800" y="5064120"/>
              <a:ext cx="459000" cy="5832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/>
            <p:nvPr/>
          </p:nvCxnSpPr>
          <p:spPr>
            <a:xfrm flipH="1" flipV="1">
              <a:off x="5904720" y="2685240"/>
              <a:ext cx="1375560" cy="25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/>
            <p:nvPr/>
          </p:nvCxnSpPr>
          <p:spPr>
            <a:xfrm flipH="1" flipV="1">
              <a:off x="5904720" y="3696480"/>
              <a:ext cx="1375560" cy="25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6089400" y="242892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fluen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85800" y="344808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fluen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51280" y="2673360"/>
              <a:ext cx="72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ead 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2520" y="5969160"/>
              <a:ext cx="120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ramework clas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19640" y="3090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av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86560" y="1136520"/>
              <a:ext cx="85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Ev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Modifie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4" name=""/>
            <p:cNvCxnSpPr>
              <a:stCxn id="147" idx="3"/>
              <a:endCxn id="140" idx="2"/>
            </p:cNvCxnSpPr>
            <p:nvPr/>
          </p:nvCxnSpPr>
          <p:spPr>
            <a:xfrm flipH="1">
              <a:off x="4701600" y="1812960"/>
              <a:ext cx="3832560" cy="4107600"/>
            </a:xfrm>
            <a:prstGeom prst="bentConnector4">
              <a:avLst>
                <a:gd name="adj1" fmla="val -15171"/>
                <a:gd name="adj2" fmla="val 114532"/>
              </a:avLst>
            </a:prstGeom>
            <a:ln w="12600">
              <a:solidFill>
                <a:srgbClr val="ffffff"/>
              </a:solidFill>
              <a:prstDash val="dash"/>
              <a:miter/>
              <a:headEnd len="med" type="triangle" w="med"/>
            </a:ln>
          </p:spPr>
        </p:cxnSp>
        <p:cxnSp>
          <p:nvCxnSpPr>
            <p:cNvPr id="165" name=""/>
            <p:cNvCxnSpPr>
              <a:stCxn id="140" idx="2"/>
              <a:endCxn id="146" idx="3"/>
            </p:cNvCxnSpPr>
            <p:nvPr/>
          </p:nvCxnSpPr>
          <p:spPr>
            <a:xfrm flipH="1" flipV="1" rot="5400000">
              <a:off x="5010840" y="2394360"/>
              <a:ext cx="3215520" cy="3835800"/>
            </a:xfrm>
            <a:prstGeom prst="bentConnector4">
              <a:avLst>
                <a:gd name="adj1" fmla="val -13727"/>
                <a:gd name="adj2" fmla="val 111376"/>
              </a:avLst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40" idx="2"/>
              <a:endCxn id="145" idx="3"/>
            </p:cNvCxnSpPr>
            <p:nvPr/>
          </p:nvCxnSpPr>
          <p:spPr>
            <a:xfrm flipH="1" flipV="1" rot="5400000">
              <a:off x="5509440" y="2900160"/>
              <a:ext cx="2212200" cy="3827520"/>
            </a:xfrm>
            <a:prstGeom prst="bentConnector4">
              <a:avLst>
                <a:gd name="adj1" fmla="val -13053"/>
                <a:gd name="adj2" fmla="val 107572"/>
              </a:avLst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</p:cxnSp>
        <p:sp>
          <p:nvSpPr>
            <p:cNvPr id="167" name=""/>
            <p:cNvSpPr/>
            <p:nvPr/>
          </p:nvSpPr>
          <p:spPr>
            <a:xfrm>
              <a:off x="201600" y="5975280"/>
              <a:ext cx="383040" cy="18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9440" y="6310440"/>
              <a:ext cx="383040" cy="182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279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6480" y="6288120"/>
              <a:ext cx="149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re framework clas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0040" y="6562800"/>
              <a:ext cx="258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* Includes active factors &amp; latent factor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06360" y="3639960"/>
              <a:ext cx="72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Lead 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sign Go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6080" indent="-316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as short &amp; simple as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driven by envisioned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dynamic; meet altered needs &amp; circum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mod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it controlled expansion/re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existing definitions &amp; data elements to the extent consistent with conceptual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eptual Framework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marL="269640" indent="-269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 scope to safety: preventing harm to patients from the delivery of health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9640" indent="-269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for specific delivery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9640" indent="-269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 in mod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30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concerns that apply to all events being reported, e.g., who, what, when, 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2300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concerns that pertain to specific types of events, e.g., falls, medica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9640" indent="-269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 requirements adequately to support software system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William B Munier</dc:creator>
  <dc:description>Presented on Sunday, 7 Sep 08.</dc:description>
  <dc:language>en-US</dc:language>
  <cp:lastModifiedBy>AHRQ</cp:lastModifiedBy>
  <cp:lastPrinted>2003-01-21T20:19:23Z</cp:lastPrinted>
  <dcterms:modified xsi:type="dcterms:W3CDTF">2008-09-07T14:55:42Z</dcterms:modified>
  <cp:revision>461</cp:revision>
  <dc:subject/>
  <dc:title>AHRQ Annual Meeting 2008 - Common Formats</dc:title>
</cp:coreProperties>
</file>