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624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ECAC81-C705-49B8-8283-085B6F309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mmediately to the second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68480" y="698400"/>
            <a:ext cx="487836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al – adverse drug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 –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– provider type; facility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ic Analogy regarding Common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400 AD, few if any standards in ter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profound differences in tuning of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tune would sound different when played in different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naissance, musical scholars went back to Pythagoras’ original work on pitches, came up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ed, homogeneous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we have universal standards for tuning; the same piece sounds the same on any piano on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02240" y="6312600"/>
              <a:ext cx="11880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74880" y="6355800"/>
              <a:ext cx="12240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54280" y="6275880"/>
              <a:ext cx="3020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8199360" y="5986440"/>
            <a:ext cx="95256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3808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63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7C9D-8C58-436A-AC6D-EAA0A7697FF2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319880" y="380880"/>
            <a:ext cx="1671120" cy="848880"/>
            <a:chOff x="7319880" y="380880"/>
            <a:chExt cx="1671120" cy="848880"/>
          </a:xfrm>
        </p:grpSpPr>
        <p:grpSp>
          <p:nvGrpSpPr>
            <p:cNvPr id="56" name=""/>
            <p:cNvGrpSpPr/>
            <p:nvPr/>
          </p:nvGrpSpPr>
          <p:grpSpPr>
            <a:xfrm>
              <a:off x="7329240" y="394200"/>
              <a:ext cx="1661760" cy="835560"/>
              <a:chOff x="7329240" y="394200"/>
              <a:chExt cx="1661760" cy="835560"/>
            </a:xfrm>
          </p:grpSpPr>
          <p:sp>
            <p:nvSpPr>
              <p:cNvPr id="57" name=""/>
              <p:cNvSpPr/>
              <p:nvPr/>
            </p:nvSpPr>
            <p:spPr>
              <a:xfrm>
                <a:off x="7488360" y="394200"/>
                <a:ext cx="131760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03360" y="820800"/>
                <a:ext cx="39276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380360" y="71784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00600" y="846720"/>
                <a:ext cx="16416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461360" y="906480"/>
                <a:ext cx="16992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329240" y="1126800"/>
                <a:ext cx="18180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87120" y="820800"/>
                <a:ext cx="36720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18840" y="1036800"/>
                <a:ext cx="27216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539560" y="794880"/>
                <a:ext cx="41832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7479720" y="380880"/>
              <a:ext cx="1316880" cy="6170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319880" y="704520"/>
              <a:ext cx="1661760" cy="511920"/>
              <a:chOff x="7319880" y="704520"/>
              <a:chExt cx="1661760" cy="511920"/>
            </a:xfrm>
          </p:grpSpPr>
          <p:sp>
            <p:nvSpPr>
              <p:cNvPr id="68" name=""/>
              <p:cNvSpPr/>
              <p:nvPr/>
            </p:nvSpPr>
            <p:spPr>
              <a:xfrm>
                <a:off x="7794720" y="807840"/>
                <a:ext cx="392400" cy="37296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70280" y="704520"/>
                <a:ext cx="45756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90880" y="833040"/>
                <a:ext cx="164160" cy="3384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452720" y="892800"/>
                <a:ext cx="16920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19880" y="1113120"/>
                <a:ext cx="181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77400" y="807840"/>
                <a:ext cx="36684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09480" y="1023120"/>
                <a:ext cx="272160" cy="19332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530560" y="782280"/>
                <a:ext cx="41760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7" name="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271440"/>
            <a:ext cx="1600200" cy="1633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Common Formats fo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Event Report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7315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Annual Conference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B Munier, MD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Septem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2800" y="733320"/>
            <a:ext cx="8760960" cy="5988240"/>
            <a:chOff x="442800" y="733320"/>
            <a:chExt cx="8760960" cy="5988240"/>
          </a:xfrm>
        </p:grpSpPr>
        <p:grpSp>
          <p:nvGrpSpPr>
            <p:cNvPr id="178" name=""/>
            <p:cNvGrpSpPr/>
            <p:nvPr/>
          </p:nvGrpSpPr>
          <p:grpSpPr>
            <a:xfrm>
              <a:off x="1029240" y="1125360"/>
              <a:ext cx="1643040" cy="1590840"/>
              <a:chOff x="1029240" y="1125360"/>
              <a:chExt cx="1643040" cy="15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1348920" y="143028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89080" y="1278000"/>
                <a:ext cx="1323000" cy="1285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29240" y="1125360"/>
                <a:ext cx="132300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Associated inpu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Administrables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9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900" spc="-1" strike="noStrike">
                    <a:solidFill>
                      <a:srgbClr val="00279f"/>
                    </a:solidFill>
                    <a:latin typeface="Arial"/>
                  </a:rPr>
                  <a:t>(medications, etc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sumabl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De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search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758640" y="1125360"/>
              <a:ext cx="1483200" cy="1438200"/>
              <a:chOff x="6758640" y="1125360"/>
              <a:chExt cx="1483200" cy="1438200"/>
            </a:xfrm>
          </p:grpSpPr>
          <p:sp>
            <p:nvSpPr>
              <p:cNvPr id="183" name=""/>
              <p:cNvSpPr/>
              <p:nvPr/>
            </p:nvSpPr>
            <p:spPr>
              <a:xfrm>
                <a:off x="6918840" y="1277640"/>
                <a:ext cx="1323000" cy="128592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58640" y="1125360"/>
                <a:ext cx="13233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Mitigating ac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covery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scu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720920" y="2857320"/>
              <a:ext cx="1482840" cy="1438560"/>
              <a:chOff x="7720920" y="2857320"/>
              <a:chExt cx="1482840" cy="1438560"/>
            </a:xfrm>
          </p:grpSpPr>
          <p:sp>
            <p:nvSpPr>
              <p:cNvPr id="186" name=""/>
              <p:cNvSpPr/>
              <p:nvPr/>
            </p:nvSpPr>
            <p:spPr>
              <a:xfrm>
                <a:off x="7880760" y="3009960"/>
                <a:ext cx="1323000" cy="1285920"/>
              </a:xfrm>
              <a:prstGeom prst="rect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0920" y="2857320"/>
                <a:ext cx="132264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Consequential Ac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Inter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Exter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282440" y="4591080"/>
              <a:ext cx="1483200" cy="1437840"/>
              <a:chOff x="7282440" y="4591080"/>
              <a:chExt cx="1483200" cy="1437840"/>
            </a:xfrm>
          </p:grpSpPr>
          <p:sp>
            <p:nvSpPr>
              <p:cNvPr id="189" name=""/>
              <p:cNvSpPr/>
              <p:nvPr/>
            </p:nvSpPr>
            <p:spPr>
              <a:xfrm>
                <a:off x="7442640" y="4743360"/>
                <a:ext cx="1323000" cy="12855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82440" y="4591080"/>
                <a:ext cx="1323360" cy="128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Immediate impac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Organizatio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are process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42800" y="3009960"/>
              <a:ext cx="13233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Staff inform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Demographic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Har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3" idx="2"/>
              <a:endCxn id="181" idx="3"/>
            </p:cNvCxnSpPr>
            <p:nvPr/>
          </p:nvCxnSpPr>
          <p:spPr>
            <a:xfrm flipH="1" flipV="1">
              <a:off x="2352600" y="1767600"/>
              <a:ext cx="2654280" cy="3452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3" idx="2"/>
              <a:endCxn id="184" idx="1"/>
            </p:cNvCxnSpPr>
            <p:nvPr/>
          </p:nvCxnSpPr>
          <p:spPr>
            <a:xfrm flipV="1">
              <a:off x="5006880" y="1767600"/>
              <a:ext cx="1752480" cy="3452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3" idx="2"/>
              <a:endCxn id="187" idx="1"/>
            </p:cNvCxnSpPr>
            <p:nvPr/>
          </p:nvCxnSpPr>
          <p:spPr>
            <a:xfrm>
              <a:off x="5006880" y="2112840"/>
              <a:ext cx="2714400" cy="1388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93" idx="2"/>
              <a:endCxn id="190" idx="1"/>
            </p:cNvCxnSpPr>
            <p:nvPr/>
          </p:nvCxnSpPr>
          <p:spPr>
            <a:xfrm>
              <a:off x="5006880" y="2112840"/>
              <a:ext cx="2275920" cy="3121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97" name=""/>
            <p:cNvGrpSpPr/>
            <p:nvPr/>
          </p:nvGrpSpPr>
          <p:grpSpPr>
            <a:xfrm>
              <a:off x="4345200" y="4978440"/>
              <a:ext cx="1775160" cy="1743120"/>
              <a:chOff x="4345200" y="4978440"/>
              <a:chExt cx="1775160" cy="1743120"/>
            </a:xfrm>
          </p:grpSpPr>
          <p:sp>
            <p:nvSpPr>
              <p:cNvPr id="198" name=""/>
              <p:cNvSpPr/>
              <p:nvPr/>
            </p:nvSpPr>
            <p:spPr>
              <a:xfrm>
                <a:off x="4797000" y="543564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5e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6800" y="528300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76600" y="5130720"/>
                <a:ext cx="1323720" cy="1285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5200" y="4978440"/>
                <a:ext cx="13233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Event-specific detai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About 24 typ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of ev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stCxn id="193" idx="2"/>
              <a:endCxn id="201" idx="0"/>
            </p:cNvCxnSpPr>
            <p:nvPr/>
          </p:nvCxnSpPr>
          <p:spPr>
            <a:xfrm>
              <a:off x="5006520" y="2112840"/>
              <a:ext cx="1080" cy="28659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3" idx="2"/>
              <a:endCxn id="204" idx="0"/>
            </p:cNvCxnSpPr>
            <p:nvPr/>
          </p:nvCxnSpPr>
          <p:spPr>
            <a:xfrm flipH="1">
              <a:off x="1983960" y="2112840"/>
              <a:ext cx="3022920" cy="2478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3" idx="2"/>
              <a:endCxn id="191" idx="3"/>
            </p:cNvCxnSpPr>
            <p:nvPr/>
          </p:nvCxnSpPr>
          <p:spPr>
            <a:xfrm flipH="1">
              <a:off x="1765800" y="2112840"/>
              <a:ext cx="3241440" cy="154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06" name=""/>
            <p:cNvGrpSpPr/>
            <p:nvPr/>
          </p:nvGrpSpPr>
          <p:grpSpPr>
            <a:xfrm>
              <a:off x="1322640" y="4591080"/>
              <a:ext cx="1795680" cy="1590480"/>
              <a:chOff x="1322640" y="4591080"/>
              <a:chExt cx="1795680" cy="1590480"/>
            </a:xfrm>
          </p:grpSpPr>
          <p:sp>
            <p:nvSpPr>
              <p:cNvPr id="207" name=""/>
              <p:cNvSpPr/>
              <p:nvPr/>
            </p:nvSpPr>
            <p:spPr>
              <a:xfrm>
                <a:off x="1782720" y="4895640"/>
                <a:ext cx="13237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52320" y="4743360"/>
                <a:ext cx="132408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22640" y="4591080"/>
                <a:ext cx="13237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Patient inform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Demographic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ar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867400" y="4900680"/>
                <a:ext cx="250920" cy="246240"/>
                <a:chOff x="2867400" y="4900680"/>
                <a:chExt cx="250920" cy="246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96200" y="493380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67400" y="490068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400480" y="4595760"/>
                <a:ext cx="250920" cy="246240"/>
                <a:chOff x="2400480" y="4595760"/>
                <a:chExt cx="250920" cy="246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429280" y="462888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00480" y="459576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633760" y="4748040"/>
                <a:ext cx="250920" cy="246240"/>
                <a:chOff x="2633760" y="4748040"/>
                <a:chExt cx="250920" cy="24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662560" y="478116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633760" y="474804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4286880" y="733320"/>
              <a:ext cx="14400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SE Overvie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Ident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Report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Narrati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Link to form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15328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00760" y="3457440"/>
            <a:ext cx="2239200" cy="1571400"/>
            <a:chOff x="6800760" y="3457440"/>
            <a:chExt cx="2239200" cy="1571400"/>
          </a:xfrm>
        </p:grpSpPr>
        <p:sp>
          <p:nvSpPr>
            <p:cNvPr id="220" name=""/>
            <p:cNvSpPr/>
            <p:nvPr/>
          </p:nvSpPr>
          <p:spPr>
            <a:xfrm>
              <a:off x="7041960" y="3624120"/>
              <a:ext cx="199800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00760" y="3457440"/>
              <a:ext cx="1997640" cy="14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Final Assessment Form (FA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Assessment of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preventabilit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Final narrativ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Encod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2" name=""/>
          <p:cNvCxnSpPr>
            <a:stCxn id="223" idx="2"/>
            <a:endCxn id="221" idx="0"/>
          </p:cNvCxnSpPr>
          <p:nvPr/>
        </p:nvCxnSpPr>
        <p:spPr>
          <a:xfrm>
            <a:off x="4920840" y="2752560"/>
            <a:ext cx="2880360" cy="705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4000680" y="4734000"/>
            <a:ext cx="2218680" cy="1894680"/>
            <a:chOff x="4000680" y="4734000"/>
            <a:chExt cx="2218680" cy="1894680"/>
          </a:xfrm>
        </p:grpSpPr>
        <p:sp>
          <p:nvSpPr>
            <p:cNvPr id="225" name=""/>
            <p:cNvSpPr/>
            <p:nvPr/>
          </p:nvSpPr>
          <p:spPr>
            <a:xfrm>
              <a:off x="4565160" y="5230800"/>
              <a:ext cx="1654200" cy="13978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65360" y="5064840"/>
              <a:ext cx="1654200" cy="13978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4840" y="4899240"/>
              <a:ext cx="1654560" cy="1397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0680" y="4734000"/>
              <a:ext cx="1654200" cy="139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Event-specific for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Nine types of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events, e.g.,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Fal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HA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Medicatio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9" name=""/>
          <p:cNvCxnSpPr/>
          <p:nvPr/>
        </p:nvCxnSpPr>
        <p:spPr>
          <a:xfrm flipH="1">
            <a:off x="4876200" y="2743200"/>
            <a:ext cx="76680" cy="1991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3" idx="2"/>
            <a:endCxn id="231" idx="0"/>
          </p:cNvCxnSpPr>
          <p:nvPr/>
        </p:nvCxnSpPr>
        <p:spPr>
          <a:xfrm flipH="1">
            <a:off x="1585080" y="2752560"/>
            <a:ext cx="3336120" cy="696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2" name=""/>
          <p:cNvGrpSpPr/>
          <p:nvPr/>
        </p:nvGrpSpPr>
        <p:grpSpPr>
          <a:xfrm>
            <a:off x="560520" y="3448080"/>
            <a:ext cx="2763360" cy="1590480"/>
            <a:chOff x="560520" y="3448080"/>
            <a:chExt cx="2763360" cy="1590480"/>
          </a:xfrm>
        </p:grpSpPr>
        <p:sp>
          <p:nvSpPr>
            <p:cNvPr id="233" name=""/>
            <p:cNvSpPr/>
            <p:nvPr/>
          </p:nvSpPr>
          <p:spPr>
            <a:xfrm>
              <a:off x="1273320" y="3752640"/>
              <a:ext cx="20505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6560" y="3600360"/>
              <a:ext cx="205092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520" y="3448080"/>
              <a:ext cx="20505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Patient information Form (PI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Demographic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Har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Mitigating Action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Intervention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949120" y="3757680"/>
              <a:ext cx="345600" cy="246240"/>
              <a:chOff x="2949120" y="3757680"/>
              <a:chExt cx="345600" cy="246240"/>
            </a:xfrm>
          </p:grpSpPr>
          <p:sp>
            <p:nvSpPr>
              <p:cNvPr id="236" name=""/>
              <p:cNvSpPr/>
              <p:nvPr/>
            </p:nvSpPr>
            <p:spPr>
              <a:xfrm>
                <a:off x="2998440" y="379080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49120" y="375768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225880" y="3452760"/>
              <a:ext cx="345600" cy="246240"/>
              <a:chOff x="2225880" y="3452760"/>
              <a:chExt cx="345600" cy="246240"/>
            </a:xfrm>
          </p:grpSpPr>
          <p:sp>
            <p:nvSpPr>
              <p:cNvPr id="239" name=""/>
              <p:cNvSpPr/>
              <p:nvPr/>
            </p:nvSpPr>
            <p:spPr>
              <a:xfrm>
                <a:off x="2275200" y="348588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25880" y="345276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87320" y="3605040"/>
              <a:ext cx="345600" cy="246240"/>
              <a:chOff x="2587320" y="3605040"/>
              <a:chExt cx="345600" cy="246240"/>
            </a:xfrm>
          </p:grpSpPr>
          <p:sp>
            <p:nvSpPr>
              <p:cNvPr id="242" name=""/>
              <p:cNvSpPr/>
              <p:nvPr/>
            </p:nvSpPr>
            <p:spPr>
              <a:xfrm>
                <a:off x="2636640" y="363816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87320" y="36050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3679920" y="1000080"/>
            <a:ext cx="2481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</a:rPr>
              <a:t>Healthcare Event Reporting Form (HER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Identi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Date, Tim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Loc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Narrativ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Link to other for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Evidence Bas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Reporting Syste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25560" y="1574640"/>
            <a:ext cx="7927200" cy="4670280"/>
            <a:chOff x="925560" y="1574640"/>
            <a:chExt cx="7927200" cy="4670280"/>
          </a:xfrm>
        </p:grpSpPr>
        <p:grpSp>
          <p:nvGrpSpPr>
            <p:cNvPr id="246" name=""/>
            <p:cNvGrpSpPr/>
            <p:nvPr/>
          </p:nvGrpSpPr>
          <p:grpSpPr>
            <a:xfrm>
              <a:off x="1135440" y="1685880"/>
              <a:ext cx="7717320" cy="4559040"/>
              <a:chOff x="1135440" y="1685880"/>
              <a:chExt cx="7717320" cy="4559040"/>
            </a:xfrm>
          </p:grpSpPr>
          <p:sp>
            <p:nvSpPr>
              <p:cNvPr id="247" name=""/>
              <p:cNvSpPr/>
              <p:nvPr/>
            </p:nvSpPr>
            <p:spPr>
              <a:xfrm>
                <a:off x="3708720" y="1685880"/>
                <a:ext cx="2570400" cy="911160"/>
              </a:xfrm>
              <a:custGeom>
                <a:avLst/>
                <a:gdLst/>
                <a:ahLst/>
                <a:rect l="l" t="t" r="r" b="b"/>
                <a:pathLst>
                  <a:path w="1542" h="574">
                    <a:moveTo>
                      <a:pt x="1158" y="0"/>
                    </a:moveTo>
                    <a:lnTo>
                      <a:pt x="384" y="0"/>
                    </a:lnTo>
                    <a:lnTo>
                      <a:pt x="0" y="574"/>
                    </a:lnTo>
                    <a:lnTo>
                      <a:pt x="1542" y="574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68640" y="2597040"/>
                <a:ext cx="3850200" cy="904680"/>
              </a:xfrm>
              <a:custGeom>
                <a:avLst/>
                <a:gdLst/>
                <a:ahLst/>
                <a:rect l="l" t="t" r="r" b="b"/>
                <a:pathLst>
                  <a:path w="2310" h="570">
                    <a:moveTo>
                      <a:pt x="1926" y="0"/>
                    </a:moveTo>
                    <a:lnTo>
                      <a:pt x="384" y="0"/>
                    </a:lnTo>
                    <a:lnTo>
                      <a:pt x="0" y="570"/>
                    </a:lnTo>
                    <a:lnTo>
                      <a:pt x="2310" y="570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78760" y="4422600"/>
                <a:ext cx="6430680" cy="911160"/>
              </a:xfrm>
              <a:custGeom>
                <a:avLst/>
                <a:gdLst/>
                <a:ahLst/>
                <a:rect l="l" t="t" r="r" b="b"/>
                <a:pathLst>
                  <a:path w="3858" h="574">
                    <a:moveTo>
                      <a:pt x="3472" y="0"/>
                    </a:moveTo>
                    <a:lnTo>
                      <a:pt x="386" y="0"/>
                    </a:lnTo>
                    <a:lnTo>
                      <a:pt x="0" y="574"/>
                    </a:lnTo>
                    <a:lnTo>
                      <a:pt x="3858" y="574"/>
                    </a:lnTo>
                    <a:lnTo>
                      <a:pt x="3472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35440" y="5333760"/>
                <a:ext cx="7717320" cy="911160"/>
              </a:xfrm>
              <a:custGeom>
                <a:avLst/>
                <a:gdLst/>
                <a:ahLst/>
                <a:rect l="l" t="t" r="r" b="b"/>
                <a:pathLst>
                  <a:path w="4630" h="574">
                    <a:moveTo>
                      <a:pt x="386" y="0"/>
                    </a:moveTo>
                    <a:lnTo>
                      <a:pt x="0" y="574"/>
                    </a:lnTo>
                    <a:lnTo>
                      <a:pt x="4630" y="574"/>
                    </a:lnTo>
                    <a:lnTo>
                      <a:pt x="4244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22080" y="3501720"/>
                <a:ext cx="5143680" cy="920880"/>
              </a:xfrm>
              <a:custGeom>
                <a:avLst/>
                <a:gdLst/>
                <a:ahLst/>
                <a:rect l="l" t="t" r="r" b="b"/>
                <a:pathLst>
                  <a:path w="3086" h="580">
                    <a:moveTo>
                      <a:pt x="2698" y="0"/>
                    </a:moveTo>
                    <a:lnTo>
                      <a:pt x="388" y="0"/>
                    </a:lnTo>
                    <a:lnTo>
                      <a:pt x="0" y="580"/>
                    </a:lnTo>
                    <a:lnTo>
                      <a:pt x="3086" y="580"/>
                    </a:lnTo>
                    <a:lnTo>
                      <a:pt x="2698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499200" y="1574640"/>
              <a:ext cx="2570400" cy="911520"/>
            </a:xfrm>
            <a:custGeom>
              <a:avLst/>
              <a:gdLst/>
              <a:ahLst/>
              <a:rect l="l" t="t" r="r" b="b"/>
              <a:pathLst>
                <a:path w="1542" h="574">
                  <a:moveTo>
                    <a:pt x="1158" y="0"/>
                  </a:moveTo>
                  <a:lnTo>
                    <a:pt x="384" y="0"/>
                  </a:lnTo>
                  <a:lnTo>
                    <a:pt x="0" y="574"/>
                  </a:lnTo>
                  <a:lnTo>
                    <a:pt x="1542" y="574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99cc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9120" y="2486160"/>
              <a:ext cx="3850200" cy="904680"/>
            </a:xfrm>
            <a:custGeom>
              <a:avLst/>
              <a:gdLst/>
              <a:ahLst/>
              <a:rect l="l" t="t" r="r" b="b"/>
              <a:pathLst>
                <a:path w="2310" h="570">
                  <a:moveTo>
                    <a:pt x="1926" y="0"/>
                  </a:moveTo>
                  <a:lnTo>
                    <a:pt x="384" y="0"/>
                  </a:lnTo>
                  <a:lnTo>
                    <a:pt x="0" y="570"/>
                  </a:lnTo>
                  <a:lnTo>
                    <a:pt x="2310" y="570"/>
                  </a:lnTo>
                  <a:lnTo>
                    <a:pt x="1926" y="0"/>
                  </a:lnTo>
                  <a:close/>
                </a:path>
              </a:pathLst>
            </a:custGeom>
            <a:solidFill>
              <a:srgbClr val="00cc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69240" y="4311720"/>
              <a:ext cx="6430320" cy="911160"/>
            </a:xfrm>
            <a:custGeom>
              <a:avLst/>
              <a:gdLst/>
              <a:ahLst/>
              <a:rect l="l" t="t" r="r" b="b"/>
              <a:pathLst>
                <a:path w="3858" h="574">
                  <a:moveTo>
                    <a:pt x="3472" y="0"/>
                  </a:moveTo>
                  <a:lnTo>
                    <a:pt x="386" y="0"/>
                  </a:lnTo>
                  <a:lnTo>
                    <a:pt x="0" y="574"/>
                  </a:lnTo>
                  <a:lnTo>
                    <a:pt x="3858" y="574"/>
                  </a:lnTo>
                  <a:lnTo>
                    <a:pt x="3472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5560" y="5222880"/>
              <a:ext cx="7717680" cy="911160"/>
            </a:xfrm>
            <a:custGeom>
              <a:avLst/>
              <a:gdLst/>
              <a:ahLst/>
              <a:rect l="l" t="t" r="r" b="b"/>
              <a:pathLst>
                <a:path w="4630" h="574">
                  <a:moveTo>
                    <a:pt x="386" y="0"/>
                  </a:moveTo>
                  <a:lnTo>
                    <a:pt x="0" y="574"/>
                  </a:lnTo>
                  <a:lnTo>
                    <a:pt x="4630" y="574"/>
                  </a:lnTo>
                  <a:lnTo>
                    <a:pt x="4244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8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2560" y="3390840"/>
              <a:ext cx="5143680" cy="920880"/>
            </a:xfrm>
            <a:custGeom>
              <a:avLst/>
              <a:gdLst/>
              <a:ahLst/>
              <a:rect l="l" t="t" r="r" b="b"/>
              <a:pathLst>
                <a:path w="3086" h="580">
                  <a:moveTo>
                    <a:pt x="2698" y="0"/>
                  </a:moveTo>
                  <a:lnTo>
                    <a:pt x="388" y="0"/>
                  </a:lnTo>
                  <a:lnTo>
                    <a:pt x="0" y="580"/>
                  </a:lnTo>
                  <a:lnTo>
                    <a:pt x="3086" y="580"/>
                  </a:lnTo>
                  <a:lnTo>
                    <a:pt x="2698" y="0"/>
                  </a:lnTo>
                  <a:close/>
                </a:path>
              </a:pathLst>
            </a:custGeom>
            <a:solidFill>
              <a:srgbClr val="336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04560" y="1747800"/>
              <a:ext cx="17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4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RS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04080" y="2649600"/>
              <a:ext cx="293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 reporting for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35920" y="3552840"/>
              <a:ext cx="427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,0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initions of PSE ter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14200" y="4456080"/>
              <a:ext cx="551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0,0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 reporting variab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82080" y="5359320"/>
              <a:ext cx="758124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porting docu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"/>
                </a:rPr>
                <a:t>(PSERS descriptions, PSE reporting forms, encoding schemes, patient safety reports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26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23960" y="6465960"/>
            <a:ext cx="28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Patient Safety Event Reporting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ventory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systems collect information on the complete improv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ality found for some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ility found for 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event, e.g., adverse drug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, e.g.,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graphic, e.g., provider type, facility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9600" y="343080"/>
            <a:ext cx="728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 Develop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itial common formats with Federal agencies with reporting systems (CDC, FDA, VA, DoD, NI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ed two pilot tests in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ed with the National Quality Forum (NQF) to receive coordinat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notice of availability of Common Formats, version 0.1 Beta, in Federal Register on August 2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1587600"/>
            <a:ext cx="1535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Draft event descri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4226040"/>
            <a:ext cx="15354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Draft event re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68560" y="1587600"/>
            <a:ext cx="15350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Specify data elements, e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78520" y="1587600"/>
            <a:ext cx="153504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Update meta-data regis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09000" y="1587600"/>
            <a:ext cx="153504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 Common Forma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78520" y="2911320"/>
            <a:ext cx="153504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 CF paper for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9000" y="2911320"/>
            <a:ext cx="153504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Solicit 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18360" y="4226040"/>
            <a:ext cx="153504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Analyze 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2943360"/>
            <a:ext cx="1535400" cy="838080"/>
          </a:xfrm>
          <a:prstGeom prst="diamond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8280" y="2933640"/>
            <a:ext cx="1535040" cy="838440"/>
          </a:xfrm>
          <a:prstGeom prst="diamond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533920"/>
            <a:ext cx="1535400" cy="838440"/>
          </a:xfrm>
          <a:prstGeom prst="diamond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8280" y="5524560"/>
            <a:ext cx="1535040" cy="83808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4226040"/>
            <a:ext cx="1535040" cy="914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ilot data elements, e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29520" y="5524560"/>
            <a:ext cx="1535040" cy="83808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ssu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1" idx="2"/>
            <a:endCxn id="279" idx="0"/>
          </p:cNvCxnSpPr>
          <p:nvPr/>
        </p:nvCxnSpPr>
        <p:spPr>
          <a:xfrm>
            <a:off x="1606320" y="2502000"/>
            <a:ext cx="1080" cy="442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9" idx="2"/>
            <a:endCxn id="272" idx="0"/>
          </p:cNvCxnSpPr>
          <p:nvPr/>
        </p:nvCxnSpPr>
        <p:spPr>
          <a:xfrm>
            <a:off x="1606320" y="3781080"/>
            <a:ext cx="1080" cy="445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2" idx="2"/>
            <a:endCxn id="281" idx="0"/>
          </p:cNvCxnSpPr>
          <p:nvPr/>
        </p:nvCxnSpPr>
        <p:spPr>
          <a:xfrm>
            <a:off x="1606320" y="5140080"/>
            <a:ext cx="1080" cy="394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1" idx="3"/>
            <a:endCxn id="272" idx="3"/>
          </p:cNvCxnSpPr>
          <p:nvPr/>
        </p:nvCxnSpPr>
        <p:spPr>
          <a:xfrm flipV="1">
            <a:off x="2373480" y="4682520"/>
            <a:ext cx="2160" cy="127044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9" idx="3"/>
            <a:endCxn id="271" idx="3"/>
          </p:cNvCxnSpPr>
          <p:nvPr/>
        </p:nvCxnSpPr>
        <p:spPr>
          <a:xfrm flipV="1">
            <a:off x="2373480" y="2044440"/>
            <a:ext cx="2160" cy="131832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1" idx="2"/>
            <a:endCxn id="273" idx="1"/>
          </p:cNvCxnSpPr>
          <p:nvPr/>
        </p:nvCxnSpPr>
        <p:spPr>
          <a:xfrm flipH="1" flipV="1" rot="5400000">
            <a:off x="122760" y="3526920"/>
            <a:ext cx="4328280" cy="1362600"/>
          </a:xfrm>
          <a:prstGeom prst="bentConnector4">
            <a:avLst>
              <a:gd name="adj1" fmla="val -5281"/>
              <a:gd name="adj2" fmla="val 7806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0" idx="3"/>
            <a:endCxn id="273" idx="3"/>
          </p:cNvCxnSpPr>
          <p:nvPr/>
        </p:nvCxnSpPr>
        <p:spPr>
          <a:xfrm flipH="1" flipV="1">
            <a:off x="4502880" y="2044080"/>
            <a:ext cx="10440" cy="1308600"/>
          </a:xfrm>
          <a:prstGeom prst="bentConnector3">
            <a:avLst>
              <a:gd name="adj1" fmla="val -2382142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3" idx="2"/>
            <a:endCxn id="280" idx="0"/>
          </p:cNvCxnSpPr>
          <p:nvPr/>
        </p:nvCxnSpPr>
        <p:spPr>
          <a:xfrm>
            <a:off x="3736440" y="2501640"/>
            <a:ext cx="10440" cy="4323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0" idx="2"/>
            <a:endCxn id="283" idx="0"/>
          </p:cNvCxnSpPr>
          <p:nvPr/>
        </p:nvCxnSpPr>
        <p:spPr>
          <a:xfrm>
            <a:off x="3746160" y="3771720"/>
            <a:ext cx="1080" cy="45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3" idx="2"/>
            <a:endCxn id="282" idx="0"/>
          </p:cNvCxnSpPr>
          <p:nvPr/>
        </p:nvCxnSpPr>
        <p:spPr>
          <a:xfrm>
            <a:off x="3746160" y="5140080"/>
            <a:ext cx="1080" cy="384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2" idx="3"/>
            <a:endCxn id="283" idx="3"/>
          </p:cNvCxnSpPr>
          <p:nvPr/>
        </p:nvCxnSpPr>
        <p:spPr>
          <a:xfrm flipV="1">
            <a:off x="4513320" y="4682520"/>
            <a:ext cx="2160" cy="126108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2" idx="2"/>
            <a:endCxn id="274" idx="1"/>
          </p:cNvCxnSpPr>
          <p:nvPr/>
        </p:nvCxnSpPr>
        <p:spPr>
          <a:xfrm flipH="1" flipV="1" rot="5400000">
            <a:off x="2253600" y="3537720"/>
            <a:ext cx="4318200" cy="1332720"/>
          </a:xfrm>
          <a:prstGeom prst="bentConnector4">
            <a:avLst>
              <a:gd name="adj1" fmla="val -5294"/>
              <a:gd name="adj2" fmla="val 78762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4" idx="2"/>
            <a:endCxn id="276" idx="0"/>
          </p:cNvCxnSpPr>
          <p:nvPr/>
        </p:nvCxnSpPr>
        <p:spPr>
          <a:xfrm>
            <a:off x="5846400" y="2501640"/>
            <a:ext cx="108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4" idx="3"/>
            <a:endCxn id="275" idx="1"/>
          </p:cNvCxnSpPr>
          <p:nvPr/>
        </p:nvCxnSpPr>
        <p:spPr>
          <a:xfrm>
            <a:off x="6613560" y="2044440"/>
            <a:ext cx="596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6" idx="3"/>
            <a:endCxn id="277" idx="1"/>
          </p:cNvCxnSpPr>
          <p:nvPr/>
        </p:nvCxnSpPr>
        <p:spPr>
          <a:xfrm>
            <a:off x="6613560" y="3368160"/>
            <a:ext cx="596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5" idx="2"/>
            <a:endCxn id="277" idx="0"/>
          </p:cNvCxnSpPr>
          <p:nvPr/>
        </p:nvCxnSpPr>
        <p:spPr>
          <a:xfrm>
            <a:off x="7976880" y="2501640"/>
            <a:ext cx="108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7" idx="2"/>
            <a:endCxn id="278" idx="0"/>
          </p:cNvCxnSpPr>
          <p:nvPr/>
        </p:nvCxnSpPr>
        <p:spPr>
          <a:xfrm>
            <a:off x="7977240" y="3825720"/>
            <a:ext cx="10080" cy="401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78" idx="2"/>
            <a:endCxn id="284" idx="0"/>
          </p:cNvCxnSpPr>
          <p:nvPr/>
        </p:nvCxnSpPr>
        <p:spPr>
          <a:xfrm>
            <a:off x="7986240" y="5140080"/>
            <a:ext cx="11880" cy="384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 flipV="1">
            <a:off x="2608200" y="3457440"/>
            <a:ext cx="0" cy="111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738680" y="3457440"/>
            <a:ext cx="0" cy="111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637236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8360" y="6734160"/>
            <a:ext cx="3130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848120" y="6581880"/>
            <a:ext cx="0" cy="16200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738680" y="139068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06216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760" y="30528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662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760" y="5653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14080" y="5653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38149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1520" y="38149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01720" y="62341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1520" y="62341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645336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788320" y="5943600"/>
            <a:ext cx="2811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078840" y="1390320"/>
            <a:ext cx="0" cy="45529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799160" y="1390680"/>
            <a:ext cx="42796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638360" y="1380960"/>
            <a:ext cx="3100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28640" y="1380960"/>
            <a:ext cx="0" cy="20016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 not be subje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gulatory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formal consensu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updated annually as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ight vers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278240" y="312408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our questio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080" y="260820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640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formation of PSOs to improve the quality &amp; safety of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will administer rules for listing qualified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HS Office for Civil Rights will be responsible for    enforcing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21320" y="1828800"/>
            <a:ext cx="3679920" cy="3657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a patchwork of state-by-state protections, there will now be national uniform protections; that is, confidentiality &amp; privilege for clinicians &amp; entities performing patient safet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s will collect, aggregate, &amp; analyze information on quality &amp; safe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te authorizes collection of this information in a standardiz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he exchang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e the ability to compare &amp;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7464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Formats can provide a common language for patient safety reporting across the 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Common Formats was initiated by AHRQ in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Leavitt authorized their development &amp; deployment in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conceptu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ing an inventory of repor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320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International Classification of Patient Safety (ICPS) Frame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0040" y="1136520"/>
            <a:ext cx="8975160" cy="5672520"/>
            <a:chOff x="140040" y="1136520"/>
            <a:chExt cx="8975160" cy="5672520"/>
          </a:xfrm>
        </p:grpSpPr>
        <p:sp>
          <p:nvSpPr>
            <p:cNvPr id="134" name=""/>
            <p:cNvSpPr/>
            <p:nvPr/>
          </p:nvSpPr>
          <p:spPr>
            <a:xfrm>
              <a:off x="3468240" y="1536840"/>
              <a:ext cx="243972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Contributing Factors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6520" y="1425600"/>
              <a:ext cx="0" cy="460044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75080" y="1422360"/>
              <a:ext cx="0" cy="460044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1600" y="2975040"/>
              <a:ext cx="160128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Event Typ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4" idx="2"/>
              <a:endCxn id="134" idx="2"/>
            </p:cNvCxnSpPr>
            <p:nvPr/>
          </p:nvCxnSpPr>
          <p:spPr>
            <a:xfrm>
              <a:off x="4688280" y="2084040"/>
              <a:ext cx="10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2"/>
              <a:endCxn id="137" idx="0"/>
            </p:cNvCxnSpPr>
            <p:nvPr/>
          </p:nvCxnSpPr>
          <p:spPr>
            <a:xfrm>
              <a:off x="4688280" y="2084400"/>
              <a:ext cx="5400" cy="8913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3900240" y="5372280"/>
              <a:ext cx="160128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Actions tak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58440" y="4516560"/>
              <a:ext cx="160164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Organization 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3320" y="4513320"/>
              <a:ext cx="1601640" cy="547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atient impact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160" y="3344760"/>
              <a:ext cx="1601640" cy="5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Event characterist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560" y="2519280"/>
              <a:ext cx="1601640" cy="5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atient characterist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78480" y="347976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Mitigating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86760" y="247644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Recovery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3520" y="158436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reventative factors (+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7" idx="1"/>
              <a:endCxn id="134" idx="3"/>
            </p:cNvCxnSpPr>
            <p:nvPr/>
          </p:nvCxnSpPr>
          <p:spPr>
            <a:xfrm flipH="1" flipV="1">
              <a:off x="5907600" y="181044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6092640" y="15541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37" idx="1"/>
              <a:endCxn id="144" idx="3"/>
            </p:cNvCxnSpPr>
            <p:nvPr/>
          </p:nvCxnSpPr>
          <p:spPr>
            <a:xfrm flipH="1" flipV="1">
              <a:off x="2040840" y="2793600"/>
              <a:ext cx="1850760" cy="4564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37" idx="1"/>
              <a:endCxn id="143" idx="3"/>
            </p:cNvCxnSpPr>
            <p:nvPr/>
          </p:nvCxnSpPr>
          <p:spPr>
            <a:xfrm flipH="1">
              <a:off x="2044440" y="3249360"/>
              <a:ext cx="1847520" cy="370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37" idx="2"/>
              <a:endCxn id="140" idx="0"/>
            </p:cNvCxnSpPr>
            <p:nvPr/>
          </p:nvCxnSpPr>
          <p:spPr>
            <a:xfrm>
              <a:off x="4692960" y="3522600"/>
              <a:ext cx="9000" cy="1850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2" idx="0"/>
              <a:endCxn id="141" idx="0"/>
            </p:cNvCxnSpPr>
            <p:nvPr/>
          </p:nvCxnSpPr>
          <p:spPr>
            <a:xfrm flipH="1" rot="16200000">
              <a:off x="4690800" y="3246120"/>
              <a:ext cx="3960" cy="253584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2" idx="2"/>
              <a:endCxn id="140" idx="1"/>
            </p:cNvCxnSpPr>
            <p:nvPr/>
          </p:nvCxnSpPr>
          <p:spPr>
            <a:xfrm>
              <a:off x="3424680" y="5060520"/>
              <a:ext cx="475560" cy="586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1" idx="2"/>
              <a:endCxn id="140" idx="3"/>
            </p:cNvCxnSpPr>
            <p:nvPr/>
          </p:nvCxnSpPr>
          <p:spPr>
            <a:xfrm flipH="1">
              <a:off x="5500800" y="5064120"/>
              <a:ext cx="459000" cy="583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/>
            <p:nvPr/>
          </p:nvCxnSpPr>
          <p:spPr>
            <a:xfrm flipH="1" flipV="1">
              <a:off x="5904720" y="268524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/>
            <p:nvPr/>
          </p:nvCxnSpPr>
          <p:spPr>
            <a:xfrm flipH="1" flipV="1">
              <a:off x="5904720" y="369648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6089400" y="24289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5800" y="34480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1280" y="267336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d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520" y="5969160"/>
              <a:ext cx="12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ramework cla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9640" y="3090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86560" y="113652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Modifi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47" idx="3"/>
              <a:endCxn id="140" idx="2"/>
            </p:cNvCxnSpPr>
            <p:nvPr/>
          </p:nvCxnSpPr>
          <p:spPr>
            <a:xfrm flipH="1">
              <a:off x="4701600" y="1812960"/>
              <a:ext cx="3832560" cy="4107600"/>
            </a:xfrm>
            <a:prstGeom prst="bentConnector4">
              <a:avLst>
                <a:gd name="adj1" fmla="val -15171"/>
                <a:gd name="adj2" fmla="val 114532"/>
              </a:avLst>
            </a:prstGeom>
            <a:ln w="12600">
              <a:solidFill>
                <a:srgbClr val="ffffff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165" name=""/>
            <p:cNvCxnSpPr>
              <a:stCxn id="140" idx="2"/>
              <a:endCxn id="146" idx="3"/>
            </p:cNvCxnSpPr>
            <p:nvPr/>
          </p:nvCxnSpPr>
          <p:spPr>
            <a:xfrm flipH="1" flipV="1" rot="5400000">
              <a:off x="5010840" y="2394360"/>
              <a:ext cx="3215520" cy="3835800"/>
            </a:xfrm>
            <a:prstGeom prst="bentConnector4">
              <a:avLst>
                <a:gd name="adj1" fmla="val -13727"/>
                <a:gd name="adj2" fmla="val 111376"/>
              </a:avLst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40" idx="2"/>
              <a:endCxn id="145" idx="3"/>
            </p:cNvCxnSpPr>
            <p:nvPr/>
          </p:nvCxnSpPr>
          <p:spPr>
            <a:xfrm flipH="1" flipV="1" rot="5400000">
              <a:off x="5509440" y="2900160"/>
              <a:ext cx="2212200" cy="3827520"/>
            </a:xfrm>
            <a:prstGeom prst="bentConnector4">
              <a:avLst>
                <a:gd name="adj1" fmla="val -13053"/>
                <a:gd name="adj2" fmla="val 107572"/>
              </a:avLst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01600" y="5975280"/>
              <a:ext cx="383040" cy="18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440" y="6310440"/>
              <a:ext cx="383040" cy="182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480" y="6288120"/>
              <a:ext cx="149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re framework cla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0040" y="6562800"/>
              <a:ext cx="25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* Includes active factors &amp; latent facto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6360" y="363996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d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s short &amp; simple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riven by envisioned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ynamic; meet altered needs &amp; circum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mo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it controlled expansion/re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existing definitions &amp; data elements to the extent consistent with conceptu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ptual Frame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scope to safety: preventing harm to patients from the delivery of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for specific delivery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in mo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30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concerns that apply to all events being reported, e.g., who, what, when, 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30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concerns that pertain to specific types of events, e.g., falls, med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requirements adequately to support software system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William B Munier</dc:creator>
  <dc:description>Presented on Sunday, 7 Sep 08.</dc:description>
  <dc:language>en-US</dc:language>
  <cp:lastModifiedBy>AHRQ</cp:lastModifiedBy>
  <cp:lastPrinted>2003-01-21T20:19:23Z</cp:lastPrinted>
  <dcterms:modified xsi:type="dcterms:W3CDTF">2008-09-07T14:55:42Z</dcterms:modified>
  <cp:revision>461</cp:revision>
  <dc:subject/>
  <dc:title>AHRQ Annual Meeting 2008 - Common Formats</dc:title>
</cp:coreProperties>
</file>