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8A530-EA8A-420A-91A8-06245497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184F6-66ED-40A9-8E14-CF3771917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24EB5-E291-4612-A097-A2BCC986E6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FF70C-6EC5-4FA3-B865-4AAD7F3A4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4238E-7AFB-4DE3-8E79-9A198AE39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B7EF2-4870-4FCC-9779-884A38DAF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5D83C-4E09-4495-B80F-37F38B2F5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8E164-43A3-422D-A217-C2E90BEAFA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AED16-1130-47D5-AF31-503F718BD3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ahps.ahrq.gov/" TargetMode="External"/><Relationship Id="rId2" Type="http://schemas.openxmlformats.org/officeDocument/2006/relationships/hyperlink" Target="mailto:CAHPS1@ahrq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HP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®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Assessment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care Provider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M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Quality Improvement &amp;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Clinician &amp; Group Surve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Top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Appointments &amp; Health Care When Nee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ll Doctors Communic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eous and  Helpful Office Staf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Rating of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Benchmarking Database: Strengths &amp; Weakness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600200"/>
          <a:ext cx="8686800" cy="5030640"/>
        </p:xfrm>
        <a:graphic>
          <a:graphicData uri="http://schemas.openxmlformats.org/drawingml/2006/table">
            <a:tbl>
              <a:tblPr/>
              <a:tblGrid>
                <a:gridCol w="4378320"/>
                <a:gridCol w="43084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akn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through patient’s e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technical qua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tudying access, timeliness, patient centeredness, &amp; care coordi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useful for studying effectiveness, safety, &amp; effici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study dispar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ways repo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g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random respond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HPS Reporting Too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22860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7 Health Plan Survey Chartbook: Getting care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71840" y="518112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7 Hospital Survey Chartbook: All compo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Chart combines responses from four questions regarding how often consumers received various types of care in a timely manner. For details, go to [D] Text Description."/>
          <p:cNvPicPr/>
          <p:nvPr/>
        </p:nvPicPr>
        <p:blipFill>
          <a:blip r:embed="rId1"/>
          <a:stretch/>
        </p:blipFill>
        <p:spPr>
          <a:xfrm>
            <a:off x="2286000" y="1371600"/>
            <a:ext cx="6858000" cy="262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Chart 1: Distribution of Responses for H-CAHPS Composite Measures. For details go to [D] Text Description"/>
          <p:cNvPicPr/>
          <p:nvPr/>
        </p:nvPicPr>
        <p:blipFill>
          <a:blip r:embed="rId2"/>
          <a:srcRect l="1477" t="3087" r="1477" b="3087"/>
          <a:stretch/>
        </p:blipFill>
        <p:spPr>
          <a:xfrm>
            <a:off x="0" y="4079880"/>
            <a:ext cx="60069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11545" r="3000" b="28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ical Assistance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of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field a CAHPS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raw a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analyz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report ou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participate in the benchmarking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al with media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844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Inf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website (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cahps.ahrq.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urvey and reporting 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email address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CAHPS1@ahrq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l free 1-800-492-9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.moy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ne.crofton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measures patient experiences of care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" name="Rectangle 3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809880" y="3733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Survey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nciples of Develop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5235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ous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assessment of the quality of their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ssues for which patients are the best or only sourc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patients care the most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Family of Survey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529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lan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dialysis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44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ulatory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ian &amp;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Primar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 Primar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t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O (behavioral heal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lementation o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Survey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rveys and other products in the public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ation across core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item sets to meet sponso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English and Spanish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support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option of CAHPS Survey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Health Plan Survey – 138,000,000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Hospital Survey – Nearly every eligible hospital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Clinician &amp; Group Survey – growing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use of CAHPS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-38160"/>
            <a:ext cx="769608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nchmark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lan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: ~100K patient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: ~100K patient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: ~100K patient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Survey: ~200K patients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ian &amp; Group Survey: 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by researchers to de-identif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bd1@ahrq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808-71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Health Plan Surve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needed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care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ll doctors communic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lan customer service, information &amp; paper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doctor or 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st they saw most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are received from all health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Hospital Surve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Top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with N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with Do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about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veness of Hospital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nliness and Quiet of Hospita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Rating of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ngness to Recomm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8:19:45Z</dcterms:created>
  <dc:creator>JDeLaMar</dc:creator>
  <dc:description/>
  <dc:language>en-US</dc:language>
  <cp:lastModifiedBy>bcambridge</cp:lastModifiedBy>
  <dcterms:modified xsi:type="dcterms:W3CDTF">2008-10-17T13:41:20Z</dcterms:modified>
  <cp:revision>31</cp:revision>
  <dc:subject/>
  <dc:title>Slide 1</dc:title>
</cp:coreProperties>
</file>