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0643D-8EF8-4C62-9B9A-1FF79D57F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54698-F4FA-4D40-8863-2602878F80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2B021B-FBDD-4F87-91EE-210F231F66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298285-CE61-4102-8337-0A86B05B1F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EC79E-79CB-455C-BA7E-A5A991B5CB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257DA2-5AD6-4236-85A7-ACF22B5C9C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67910-9D15-4C48-AC78-9A5650C9AC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130B6F-6526-42A1-8DEF-F5C5335E1E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EAB947-7361-4A9B-8E13-02F124BBD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ahps.ahrq.gov/" TargetMode="External"/><Relationship Id="rId2" Type="http://schemas.openxmlformats.org/officeDocument/2006/relationships/hyperlink" Target="mailto:CAHPS1@ahrq.g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HPS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®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39621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Assessment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care Providers an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 Mo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er for Quality Improvement &amp; Patient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Clinician &amp; Group Surve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Top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Appointments &amp; Health Care When Nee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ll Doctors Communic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eous and  Helpful Office Staf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Rating of Do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Benchmarking Database: Strengths &amp; Weakness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1600200"/>
          <a:ext cx="8686800" cy="5030640"/>
        </p:xfrm>
        <a:graphic>
          <a:graphicData uri="http://schemas.openxmlformats.org/drawingml/2006/table">
            <a:tbl>
              <a:tblPr/>
              <a:tblGrid>
                <a:gridCol w="4378320"/>
                <a:gridCol w="430848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akne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through patient’s e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technical qual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tudying access, timeliness, patient centeredness, &amp; care coordin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 useful for studying effectiveness, safety, &amp; efficien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study dispar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ways repor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g 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-random respond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HPS Reporting Too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22860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7 Health Plan Survey Chartbook: Getting care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71840" y="5181120"/>
            <a:ext cx="29718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7 Hospital Survey Chartbook: All compo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Chart combines responses from four questions regarding how often consumers received various types of care in a timely manner. For details, go to [D] Text Description."/>
          <p:cNvPicPr/>
          <p:nvPr/>
        </p:nvPicPr>
        <p:blipFill>
          <a:blip r:embed="rId1"/>
          <a:stretch/>
        </p:blipFill>
        <p:spPr>
          <a:xfrm>
            <a:off x="2286000" y="1371600"/>
            <a:ext cx="6858000" cy="262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Chart 1: Distribution of Responses for H-CAHPS Composite Measures. For details go to [D] Text Description"/>
          <p:cNvPicPr/>
          <p:nvPr/>
        </p:nvPicPr>
        <p:blipFill>
          <a:blip r:embed="rId2"/>
          <a:srcRect l="1477" t="3087" r="1477" b="3087"/>
          <a:stretch/>
        </p:blipFill>
        <p:spPr>
          <a:xfrm>
            <a:off x="0" y="4079880"/>
            <a:ext cx="60069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11545" r="3000" b="288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echnical Assistance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of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field a CAHPS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raw a s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analyz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report ou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participate in the benchmarking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deal with media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844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Inf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website (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www.cahps.ahrq.go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able survey and reporting k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email address 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CAHPS1@ahrq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l free 1-800-492-926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nest.moy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ine.crofton@ahrq.hhs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measures patient experiences of care.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6" name="Rectangle 3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809880" y="3733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Survey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nciples of Developmen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5235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ous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in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assessment of the quality of their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ssues for which patients are the best or only sourc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patients care the most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Family of Survey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5291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lan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dialysis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 Fami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676160"/>
            <a:ext cx="44625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ulatory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ian &amp;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 Primar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 Primar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t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HO (behavioral heal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lementation of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Survey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rveys and other products in the public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ation across core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item sets to meet sponsor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English and Spanish langu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support for us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option of CAHPS Survey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Health Plan Survey – 138,000,000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Hospital Survey – Nearly every eligible hospital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HPS Clinician &amp; Group Survey – growing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use of CAHPS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7200" indent="-36720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-38160"/>
            <a:ext cx="7696080" cy="13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enchmark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lan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: ~100K patient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id : ~100K patient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 : ~100K patients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Survey: ~200K patients in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ian &amp; Group Survey: 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by researchers to de-identifi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cbd1@ahrq.g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888-808-71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Health Plan Surve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p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needed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care quic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ell doctors communic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lan customer service, information &amp; paper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doctor or 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ist they saw most of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are received from all health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HPS Hospital Survey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Topic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with Nur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with Do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about Med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iveness of Hospital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nliness and Quiet of Hospital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Rating of Hospi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ngness to Recomm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8:19:45Z</dcterms:created>
  <dc:creator>JDeLaMar</dc:creator>
  <dc:description/>
  <dc:language>en-US</dc:language>
  <cp:lastModifiedBy>bcambridge</cp:lastModifiedBy>
  <dcterms:modified xsi:type="dcterms:W3CDTF">2008-10-17T13:41:20Z</dcterms:modified>
  <cp:revision>31</cp:revision>
  <dc:subject/>
  <dc:title>Slide 1</dc:title>
</cp:coreProperties>
</file>