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3.wmf" ContentType="image/x-wmf"/>
  <Override PartName="/ppt/media/image9.png" ContentType="image/png"/>
  <Override PartName="/ppt/media/image14.png" ContentType="image/png"/>
  <Override PartName="/ppt/media/image8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85840" y="699840"/>
            <a:ext cx="4648320" cy="348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3800" y="8906040"/>
            <a:ext cx="93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ctr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53AF888-847B-4FB4-9B72-E7711C9A7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nic disparities in colorectal cancer 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7900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ing Health Disparities Among Hispanic Elder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Report to Suppor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0384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nest M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Department of Health and Huma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nest.moy@ahrq.hhs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Houston may focus on specific census tra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3750" t="13125" r="3750" b="11250"/>
          <a:stretch/>
        </p:blipFill>
        <p:spPr>
          <a:xfrm>
            <a:off x="1371600" y="1666800"/>
            <a:ext cx="6489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1249" t="14065" r="11249" b="121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por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≠ Better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s can support planning f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case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populations in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methods can support targeting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specific part of a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unity teams do th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06080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Reports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etter Health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533760" cy="225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533760" cy="224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19720" y="35812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523880"/>
            <a:ext cx="8686800" cy="5181840"/>
          </a:xfrm>
          <a:prstGeom prst="rightArrow">
            <a:avLst>
              <a:gd name="adj1" fmla="val 78926"/>
              <a:gd name="adj2" fmla="val 41910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om NHDR to A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2057400"/>
          <a:ext cx="6477120" cy="4078440"/>
        </p:xfrm>
        <a:graphic>
          <a:graphicData uri="http://schemas.openxmlformats.org/drawingml/2006/table">
            <a:tbl>
              <a:tblPr/>
              <a:tblGrid>
                <a:gridCol w="2311560"/>
                <a:gridCol w="2160360"/>
                <a:gridCol w="2005200"/>
              </a:tblGrid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p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ee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R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Net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Te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Re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Chartboo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 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781680" y="3429000"/>
            <a:ext cx="14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Heal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eps from NHDR to A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ealthcare Disparities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m to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Network Plann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o foc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Network Community 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hould each team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n the community should each team foc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68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action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are preval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3080" y="1450800"/>
          <a:ext cx="904248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450800"/>
                    <a:ext cx="904248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action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are not improv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1520" y="1503360"/>
          <a:ext cx="904248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03360"/>
                    <a:ext cx="904248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m to focus on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spanic disparities getting wor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ss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provide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vary across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727280"/>
          <a:ext cx="79869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7280"/>
                    <a:ext cx="79869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905120" y="3886200"/>
            <a:ext cx="6858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133720"/>
            <a:ext cx="7632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600" y="3886200"/>
            <a:ext cx="5335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2133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ch variation within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7322" t="0" r="17322" b="0"/>
          <a:stretch/>
        </p:blipFill>
        <p:spPr>
          <a:xfrm>
            <a:off x="4619520" y="1523880"/>
            <a:ext cx="4524480" cy="533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17322" t="0" r="17322" b="0"/>
          <a:stretch/>
        </p:blipFill>
        <p:spPr>
          <a:xfrm>
            <a:off x="0" y="1523880"/>
            <a:ext cx="452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Carolyn Clancy, MD (w/ Mike Tucker)</dc:creator>
  <dc:description>2nd Annual Conference on Disparties and Quality of Care, Robert Wood Johnson Foundation, June 22, 2006, Arlington, VA</dc:description>
  <cp:keywords/>
  <dc:language>en-US</dc:language>
  <cp:lastModifiedBy>william.hyde</cp:lastModifiedBy>
  <cp:lastPrinted>2003-01-21T20:19:23Z</cp:lastPrinted>
  <dcterms:modified xsi:type="dcterms:W3CDTF">2008-12-29T21:39:34Z</dcterms:modified>
  <cp:revision>379</cp:revision>
  <dc:subject>Health care disparities</dc:subject>
  <dc:title>State of the Field: Disparities and Quality</dc:title>
</cp:coreProperties>
</file>