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3.wmf" ContentType="image/x-wmf"/>
  <Override PartName="/ppt/media/image9.png" ContentType="image/png"/>
  <Override PartName="/ppt/media/image14.png" ContentType="image/png"/>
  <Override PartName="/ppt/media/image8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85840" y="699840"/>
            <a:ext cx="4648320" cy="348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3800" y="8906040"/>
            <a:ext cx="93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anchor="ctr">
            <a:spAutoFit/>
          </a:bodyPr>
          <a:p>
            <a:pPr algn="r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06DCD21D-1CF7-4E47-A270-9D9FD8C29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nic disparities in colorectal cancer scre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79004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ing Health Disparities Among Hispanic Elder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rom Report to Suppor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03848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nest Mo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Department of Health and Human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nest.moy@ahrq.hhs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0"/>
          <a:ext cx="9144000" cy="69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focus? Houston may focus on specific census tra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3750" t="13125" r="3750" b="11250"/>
          <a:stretch/>
        </p:blipFill>
        <p:spPr>
          <a:xfrm>
            <a:off x="1371600" y="1666800"/>
            <a:ext cx="64897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1249" t="14065" r="11249" b="121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epor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≠ Better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s can support planning for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e case for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dentify populations in 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ort methods can support targeting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ch commu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ch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specific part of a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munity teams do th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060800" cy="5257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tional Reports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Better Health Ca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533760" cy="2257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533760" cy="224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19720" y="3581280"/>
            <a:ext cx="83808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523880"/>
            <a:ext cx="8686800" cy="5181840"/>
          </a:xfrm>
          <a:prstGeom prst="rightArrow">
            <a:avLst>
              <a:gd name="adj1" fmla="val 78926"/>
              <a:gd name="adj2" fmla="val 41910"/>
            </a:avLst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rom NHDR to A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2057400"/>
          <a:ext cx="6477120" cy="4078440"/>
        </p:xfrm>
        <a:graphic>
          <a:graphicData uri="http://schemas.openxmlformats.org/drawingml/2006/table">
            <a:tbl>
              <a:tblPr/>
              <a:tblGrid>
                <a:gridCol w="2311560"/>
                <a:gridCol w="2160360"/>
                <a:gridCol w="2005200"/>
              </a:tblGrid>
              <a:tr h="4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n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 it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lp it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it hap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een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HRQ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ing Netwo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 Tea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onal Rep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ty Chartboo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 Dat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781680" y="3429000"/>
            <a:ext cx="146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Health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eps from NHDR to Ac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67616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Healthcare Disparities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ac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m to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Network Plann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to foc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Network Community T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hould each team focus 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in the community should each team foc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6858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action?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parities are preval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3080" y="1450800"/>
          <a:ext cx="904248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450800"/>
                    <a:ext cx="904248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action?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parities are not improv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1520" y="1503360"/>
          <a:ext cx="904248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03360"/>
                    <a:ext cx="904248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m to focus on?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ispanic disparities getting wor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ult vacc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tal health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liness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-provide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focus?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parities vary across Sta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727280"/>
          <a:ext cx="798696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27280"/>
                    <a:ext cx="798696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905120" y="3886200"/>
            <a:ext cx="6858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3048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133720"/>
            <a:ext cx="7632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371600" y="3886200"/>
            <a:ext cx="53352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213372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focus?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ch variation within Sta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17322" t="0" r="17322" b="0"/>
          <a:stretch/>
        </p:blipFill>
        <p:spPr>
          <a:xfrm>
            <a:off x="4619520" y="1523880"/>
            <a:ext cx="4524480" cy="533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17322" t="0" r="17322" b="0"/>
          <a:stretch/>
        </p:blipFill>
        <p:spPr>
          <a:xfrm>
            <a:off x="0" y="1523880"/>
            <a:ext cx="4524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Carolyn Clancy, MD (w/ Mike Tucker)</dc:creator>
  <dc:description>2nd Annual Conference on Disparties and Quality of Care, Robert Wood Johnson Foundation, June 22, 2006, Arlington, VA</dc:description>
  <cp:keywords/>
  <dc:language>en-US</dc:language>
  <cp:lastModifiedBy>william.hyde</cp:lastModifiedBy>
  <cp:lastPrinted>2003-01-21T20:19:23Z</cp:lastPrinted>
  <dcterms:modified xsi:type="dcterms:W3CDTF">2008-12-29T21:39:34Z</dcterms:modified>
  <cp:revision>379</cp:revision>
  <dc:subject>Health care disparities</dc:subject>
  <dc:title>State of the Field: Disparities and Quality</dc:title>
</cp:coreProperties>
</file>