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9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65D01-649A-45EF-8070-2B9BCDA313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71CD8-CB18-48CB-852D-A5D1B57334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BC234-9F1B-4B70-B176-0594190165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0B075-C82F-467C-A8DC-D1682271B2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616A8-1AA7-4F3B-BC1E-B513AF62C4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5EA9D-E1F6-49A8-BD8B-2AE1304081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E6C00-CEE9-499F-AD51-A9B87D9F36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05CB5-4BB3-4BFA-93B8-6C005557B1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EF102-AA9F-4822-8FE3-811E268FDC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52033-4399-462A-9A6F-BDE74D242F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0B2B0-5C87-45E8-B029-C2AFC8F5A5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4621E-FFD8-4A6E-8DBF-848644E575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5081A-4103-4E49-A3AA-4A4D282977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CA19D38-521F-46E8-884E-0770CF4977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AAC2F-B365-4AFA-ACF3-D0962BC9EE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BBE74-A1F9-46A0-A79D-796732B43B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87AD6-9BCF-4DAD-92C9-F8229D8A8F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3DABA-5205-40C2-8099-B1586AFC47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DC264-13E7-487D-9AD7-C68860913B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29C2B-B845-47C2-89F1-A106380430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4A6D5-4193-4E01-882C-BE1D0EAAEC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B708E-3C0C-46FD-A198-B98F76D3E5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AD165AF-E3F0-4896-9B0D-18FA83F018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A0579-CBC4-48BE-BDB5-CE03445343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E590D2-334D-4886-AB2B-0FFCF9261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98600" y="68544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8600" y="1676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86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6C4379-E995-4FA3-9C64-2CB8BD45F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98600" y="68544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86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156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86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156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647AD4-496D-426C-AC12-6F813CF7C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98600" y="68544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9860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8104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6348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860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8104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6348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9DE3A-5753-4118-8FAC-3122D39A7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535AC-3F74-415F-A361-1D3515772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8600" y="68544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986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B5BEB-D222-4ACF-895A-97F52FEA6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8600" y="68544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986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1754E-5473-4886-9F1B-F0D72C515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8600" y="68544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986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156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85AD7-A708-443F-88D1-49C13AA0C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8600" y="68544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C978F-DA84-4997-857C-8C7A00F7D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98600" y="685440"/>
            <a:ext cx="8229600" cy="36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BED30-B5B0-4CC3-9665-07722F7E9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98600" y="68544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986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156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986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2C65E-0CAF-476A-9439-8C70E0F71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8600" y="68544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986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CDC5F7-1924-459A-A80C-4D5385D93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98600" y="68544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986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156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156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20070-9E7E-4278-97B8-94DD9A4EF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98600" y="68544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86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156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86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53369-AAEA-4650-874C-FCE2A1C32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98600" y="68544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8600" y="1676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86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14CDE-0C9D-4E32-93A8-5A74C005D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8600" y="68544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86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56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986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156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8AB7D-2BFF-4860-A54D-F5DB9C478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98600" y="68544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9860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8104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6348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860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8104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6348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45BCB-B70C-4F7F-A79F-43C010ACF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ABF44D-A11F-4398-B14F-2AF3C9994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98600" y="68544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986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60FF9E-E31B-45E1-A5D4-10D1B277C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98600" y="68544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986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84B522-E3EF-4C45-8E87-DCF082A77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98600" y="68544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986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7156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A1A990-02C6-4087-9B48-BF141F202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98600" y="68544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A841F8-0250-4975-8FA6-A891D82E4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8600" y="68544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86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B2A11B-270B-44DF-9942-C10329834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98600" y="685440"/>
            <a:ext cx="8229600" cy="36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913D8F-F9FA-498A-89C9-7CDE6DC67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98600" y="68544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986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156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986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3C1297-2B4D-4E07-9413-AAA6D8997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98600" y="68544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986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156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7156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E84422-F383-4D41-B233-76C3B2E90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98600" y="68544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986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156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986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FDB63F-19FD-4AE0-B7F7-B2FB7D5F8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98600" y="68544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98600" y="1676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86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76C5F7-4665-4493-BEC1-87AF5CD35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98600" y="68544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986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156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986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7156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B79E4A-BFEA-4D3A-A41C-A65EBCFC3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98600" y="68544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9860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8104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6348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9860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8104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6348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6B6C25-E5FA-42F3-A6AA-365A6A1AA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8600" y="68544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986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156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79AD5F-AF76-4DC1-8542-38B722DC2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8600" y="68544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20FCDB-56E0-4AEE-BD41-BD723CFFE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98600" y="685440"/>
            <a:ext cx="8229600" cy="36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5BD7E4-80A8-455B-AEEF-9C0229220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8600" y="68544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86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156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86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D885D9-FCCB-4BCD-936F-39F10FCE5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98600" y="68544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986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56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56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682197-8539-4051-B4EC-4826E672E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98600" y="68544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986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56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86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9B1E28-2E69-47F0-AE19-01DC73742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inside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98600" y="68544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986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2" marL="1020600" indent="-21456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3" marL="1342800" indent="-214560">
              <a:spcBef>
                <a:spcPts val="7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4" marL="1665000" indent="-214560">
              <a:spcBef>
                <a:spcPts val="799"/>
              </a:spcBef>
              <a:buClr>
                <a:srgbClr val="00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5" marL="166500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6" marL="166500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276720" y="57909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629040" y="5714640"/>
            <a:ext cx="2133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5E3D9-774F-4CF5-904C-0B8B3462EA9D}" type="slidenum">
              <a:rPr b="0" lang="en-US" sz="1000" spc="-1" strike="noStrike">
                <a:solidFill>
                  <a:srgbClr val="003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533160" y="5790960"/>
            <a:ext cx="19810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25122-4E1C-4BA3-A929-ADDF9871215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bottom_10"/>
          <p:cNvPicPr/>
          <p:nvPr/>
        </p:nvPicPr>
        <p:blipFill>
          <a:blip r:embed="rId2"/>
          <a:stretch/>
        </p:blipFill>
        <p:spPr>
          <a:xfrm>
            <a:off x="3240" y="4435560"/>
            <a:ext cx="9140760" cy="24224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top_top"/>
          <p:cNvPicPr/>
          <p:nvPr/>
        </p:nvPicPr>
        <p:blipFill>
          <a:blip r:embed="rId3"/>
          <a:stretch/>
        </p:blipFill>
        <p:spPr>
          <a:xfrm>
            <a:off x="0" y="0"/>
            <a:ext cx="9144000" cy="31752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98600" y="68544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986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2" marL="1020600" indent="-21456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3" marL="1342800" indent="-214560">
              <a:spcBef>
                <a:spcPts val="7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4" marL="1665000" indent="-214560">
              <a:spcBef>
                <a:spcPts val="799"/>
              </a:spcBef>
              <a:buClr>
                <a:srgbClr val="00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5" marL="166500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6" marL="166500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136080" y="6473880"/>
            <a:ext cx="2133720" cy="2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65120" y="6473880"/>
            <a:ext cx="2895480" cy="2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934320" y="6473880"/>
            <a:ext cx="2133360" cy="2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c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5230D-DBA0-4295-998A-87BFBB641595}" type="slidenum">
              <a:rPr b="0" lang="en-US" sz="1400" spc="-1" strike="noStrike">
                <a:solidFill>
                  <a:srgbClr val="99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7772400" cy="183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nical Decision 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upport Consortium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5" name="Rectangle 5"/>
          <p:cNvSpPr/>
          <p:nvPr/>
        </p:nvSpPr>
        <p:spPr>
          <a:xfrm>
            <a:off x="228600" y="3200400"/>
            <a:ext cx="8915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ackford Middleton, MD, MPH, MS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nical Informatics Research &amp; Develop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ners Healthc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righam &amp; Women’s Hospi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vard Medical Sch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51920" y="685440"/>
            <a:ext cx="8915400" cy="79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Multilayered Knowledge Representation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986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Provides balance between the competing requirements for flexibility in representation for various IT environments,…  and the ability to deliver precise, executable knowledge that can be rapidly implemented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Make available a machine executable level knowledge artifact for where it can be used (easy implementation, rapid updates)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r others, it may be more appropriate to use an artifact from the Semi-structured Recommendation or Abstract layers, to allow rapid implementation of their own executable knowledge.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Provides a path to achieve logical consistency from the narrative guideline to the execution layer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Box 22"/>
          <p:cNvSpPr/>
          <p:nvPr/>
        </p:nvSpPr>
        <p:spPr>
          <a:xfrm>
            <a:off x="1295280" y="3200400"/>
            <a:ext cx="6782040" cy="1752480"/>
          </a:xfrm>
          <a:prstGeom prst="rect">
            <a:avLst/>
          </a:prstGeom>
          <a:gradFill rotWithShape="0">
            <a:gsLst>
              <a:gs pos="0">
                <a:srgbClr val="f5ffe6"/>
              </a:gs>
              <a:gs pos="100000">
                <a:srgbClr val="dafda7"/>
              </a:gs>
            </a:gsLst>
            <a:lin ang="5400000"/>
          </a:gradFill>
          <a:ln w="9360">
            <a:solidFill>
              <a:srgbClr val="98b954"/>
            </a:solidFill>
            <a:round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Narrative Recommendation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arrative text of the recommendation from the published guideli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23"/>
          <p:cNvSpPr/>
          <p:nvPr/>
        </p:nvSpPr>
        <p:spPr>
          <a:xfrm>
            <a:off x="1422360" y="3505320"/>
            <a:ext cx="6781680" cy="1828800"/>
          </a:xfrm>
          <a:prstGeom prst="rect">
            <a:avLst/>
          </a:prstGeom>
          <a:gradFill rotWithShape="0">
            <a:gsLst>
              <a:gs pos="0">
                <a:srgbClr val="f5ffe6"/>
              </a:gs>
              <a:gs pos="100000">
                <a:srgbClr val="dafda7"/>
              </a:gs>
            </a:gsLst>
            <a:lin ang="5400000"/>
          </a:gradFill>
          <a:ln w="9360">
            <a:solidFill>
              <a:srgbClr val="98b954"/>
            </a:solidFill>
            <a:round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mi-Structured Recommendation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eaks down the text into various slots such as those for applicable clinical scenario, the recommended intervention, and evidence basis for the recommend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andard vocabulary codes for data and more precise criteria (pseudocod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24"/>
          <p:cNvSpPr/>
          <p:nvPr/>
        </p:nvSpPr>
        <p:spPr>
          <a:xfrm>
            <a:off x="1600200" y="3809880"/>
            <a:ext cx="6781680" cy="1981440"/>
          </a:xfrm>
          <a:prstGeom prst="rect">
            <a:avLst/>
          </a:prstGeom>
          <a:gradFill rotWithShape="0">
            <a:gsLst>
              <a:gs pos="0">
                <a:srgbClr val="f5ffe6"/>
              </a:gs>
              <a:gs pos="100000">
                <a:srgbClr val="dafda7"/>
              </a:gs>
            </a:gsLst>
            <a:lin ang="5400000"/>
          </a:gradFill>
          <a:ln w="9360">
            <a:solidFill>
              <a:srgbClr val="98b954"/>
            </a:solidFill>
            <a:round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bstract Representation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tructures the recommendation for use in particular kinds of CDS too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eminder and alert ru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Order 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 recommendation could have several different artifacts created in this layer, one for each kind of CDS t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25"/>
          <p:cNvSpPr/>
          <p:nvPr/>
        </p:nvSpPr>
        <p:spPr>
          <a:xfrm>
            <a:off x="1752480" y="4114800"/>
            <a:ext cx="6782040" cy="1905120"/>
          </a:xfrm>
          <a:prstGeom prst="rect">
            <a:avLst/>
          </a:prstGeom>
          <a:gradFill rotWithShape="0">
            <a:gsLst>
              <a:gs pos="0">
                <a:srgbClr val="f5ffe6"/>
              </a:gs>
              <a:gs pos="100000">
                <a:srgbClr val="dafda7"/>
              </a:gs>
            </a:gsLst>
            <a:lin ang="5400000"/>
          </a:gradFill>
          <a:ln w="9360">
            <a:solidFill>
              <a:srgbClr val="98b954"/>
            </a:solidFill>
            <a:round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achine Executable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nowledge encoded in a format that can be rapidly integrated into a CDS tool on a specific HIT plat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.g., rule could be encoded in Arden Synt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recommendation could have several different artifacts created in this layer, one for each of the different HIT plat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98600" y="45684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Multilayered model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0" name="TextBox 4"/>
          <p:cNvSpPr/>
          <p:nvPr/>
        </p:nvSpPr>
        <p:spPr>
          <a:xfrm>
            <a:off x="1981080" y="2590920"/>
            <a:ext cx="4800600" cy="368280"/>
          </a:xfrm>
          <a:prstGeom prst="rect">
            <a:avLst/>
          </a:prstGeom>
          <a:solidFill>
            <a:srgbClr val="e9f4f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arrative Guide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5"/>
          <p:cNvSpPr/>
          <p:nvPr/>
        </p:nvSpPr>
        <p:spPr>
          <a:xfrm>
            <a:off x="1981080" y="2220840"/>
            <a:ext cx="4800600" cy="36828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mistructured Recommend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6"/>
          <p:cNvSpPr/>
          <p:nvPr/>
        </p:nvSpPr>
        <p:spPr>
          <a:xfrm>
            <a:off x="1981080" y="1905120"/>
            <a:ext cx="4800600" cy="36828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bstract Repres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7"/>
          <p:cNvSpPr/>
          <p:nvPr/>
        </p:nvSpPr>
        <p:spPr>
          <a:xfrm>
            <a:off x="1981080" y="1523880"/>
            <a:ext cx="4800600" cy="368280"/>
          </a:xfrm>
          <a:prstGeom prst="rect">
            <a:avLst/>
          </a:prstGeom>
          <a:solidFill>
            <a:srgbClr val="f0f8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chine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Group 26"/>
          <p:cNvGrpSpPr/>
          <p:nvPr/>
        </p:nvGrpSpPr>
        <p:grpSpPr>
          <a:xfrm>
            <a:off x="323280" y="509760"/>
            <a:ext cx="1653480" cy="2798640"/>
            <a:chOff x="323280" y="509760"/>
            <a:chExt cx="1653480" cy="2798640"/>
          </a:xfrm>
        </p:grpSpPr>
        <p:cxnSp>
          <p:nvCxnSpPr>
            <p:cNvPr id="225" name="Straight Arrow Connector 10"/>
            <p:cNvCxnSpPr/>
            <p:nvPr/>
          </p:nvCxnSpPr>
          <p:spPr>
            <a:xfrm flipV="1">
              <a:off x="935280" y="1066680"/>
              <a:ext cx="1041840" cy="2207520"/>
            </a:xfrm>
            <a:prstGeom prst="straightConnector1">
              <a:avLst/>
            </a:prstGeom>
            <a:ln w="38160">
              <a:solidFill>
                <a:srgbClr val="b6dcdf"/>
              </a:solidFill>
              <a:miter/>
              <a:tailEnd len="med" type="arrow" w="med"/>
            </a:ln>
          </p:spPr>
        </p:cxnSp>
        <p:sp>
          <p:nvSpPr>
            <p:cNvPr id="226" name="TextBox 12"/>
            <p:cNvSpPr/>
            <p:nvPr/>
          </p:nvSpPr>
          <p:spPr>
            <a:xfrm rot="17713800">
              <a:off x="-329760" y="1709640"/>
              <a:ext cx="2905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0"/>
                  </a:solidFill>
                  <a:latin typeface="Calibri"/>
                </a:rPr>
                <a:t>Precision </a:t>
              </a:r>
              <a:r>
                <a:rPr b="0" lang="en-US" sz="1800" spc="-1" strike="noStrike">
                  <a:solidFill>
                    <a:srgbClr val="000090"/>
                  </a:solidFill>
                  <a:latin typeface="Calibri"/>
                </a:rPr>
                <a:t>and</a:t>
              </a:r>
              <a:r>
                <a:rPr b="0" lang="en-US" sz="2000" spc="-1" strike="noStrike">
                  <a:solidFill>
                    <a:srgbClr val="000090"/>
                  </a:solidFill>
                  <a:latin typeface="Calibri"/>
                </a:rPr>
                <a:t> executabil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Group 27"/>
          <p:cNvGrpSpPr/>
          <p:nvPr/>
        </p:nvGrpSpPr>
        <p:grpSpPr>
          <a:xfrm>
            <a:off x="6838200" y="713160"/>
            <a:ext cx="1738800" cy="2438280"/>
            <a:chOff x="6838200" y="713160"/>
            <a:chExt cx="1738800" cy="2438280"/>
          </a:xfrm>
        </p:grpSpPr>
        <p:cxnSp>
          <p:nvCxnSpPr>
            <p:cNvPr id="228" name="Straight Arrow Connector 13"/>
            <p:cNvCxnSpPr/>
            <p:nvPr/>
          </p:nvCxnSpPr>
          <p:spPr>
            <a:xfrm flipH="1">
              <a:off x="7296480" y="945720"/>
              <a:ext cx="1280880" cy="2162880"/>
            </a:xfrm>
            <a:prstGeom prst="straightConnector1">
              <a:avLst/>
            </a:prstGeom>
            <a:ln w="38160">
              <a:solidFill>
                <a:srgbClr val="b6dcdf"/>
              </a:solidFill>
              <a:miter/>
              <a:tailEnd len="med" type="arrow" w="med"/>
            </a:ln>
          </p:spPr>
        </p:cxnSp>
        <p:sp>
          <p:nvSpPr>
            <p:cNvPr id="229" name="TextBox 14"/>
            <p:cNvSpPr/>
            <p:nvPr/>
          </p:nvSpPr>
          <p:spPr>
            <a:xfrm rot="18035400">
              <a:off x="6354360" y="1747800"/>
              <a:ext cx="261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0"/>
                  </a:solidFill>
                  <a:latin typeface="Calibri"/>
                </a:rPr>
                <a:t>Flexibility and adaptabili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98600" y="68544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Knowledge Pack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986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For each knowledge representation layer in CDS stack: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Data standard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rolled medical terminology, concept definitions, allowable values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Logic specification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statement of rule logic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Functional requirement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specification of IT feature requirements for expression of knowledge – rule, order set, template, etc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Report specification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description of method for CDS impact measurement and assessment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98600" y="80460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omplete CDS Knowledge Specification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498600" y="2286000"/>
          <a:ext cx="8229600" cy="3349800"/>
        </p:xfrm>
        <a:graphic>
          <a:graphicData uri="http://schemas.openxmlformats.org/drawingml/2006/table">
            <a:tbl>
              <a:tblPr/>
              <a:tblGrid>
                <a:gridCol w="1646280"/>
                <a:gridCol w="1645920"/>
                <a:gridCol w="1644840"/>
                <a:gridCol w="1646280"/>
                <a:gridCol w="1646280"/>
              </a:tblGrid>
              <a:tr h="669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90"/>
                          </a:solidFill>
                          <a:latin typeface="Arial"/>
                        </a:rPr>
                        <a:t>D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90"/>
                          </a:solidFill>
                          <a:latin typeface="Arial"/>
                        </a:rPr>
                        <a:t>Log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90"/>
                          </a:solidFill>
                          <a:latin typeface="Arial"/>
                        </a:rPr>
                        <a:t>Fun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90"/>
                          </a:solidFill>
                          <a:latin typeface="Arial"/>
                        </a:rPr>
                        <a:t>Meas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69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90"/>
                          </a:solidFill>
                          <a:latin typeface="Arial"/>
                        </a:rPr>
                        <a:t>Narra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69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90"/>
                          </a:solidFill>
                          <a:latin typeface="Arial"/>
                        </a:rPr>
                        <a:t>Semi-structur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69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90"/>
                          </a:solidFill>
                          <a:latin typeface="Arial"/>
                        </a:rPr>
                        <a:t>Abstra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69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90"/>
                          </a:solidFill>
                          <a:latin typeface="Arial"/>
                        </a:rPr>
                        <a:t>Machine interpre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sp>
        <p:nvSpPr>
          <p:cNvPr id="234" name="TextBox 6"/>
          <p:cNvSpPr/>
          <p:nvPr/>
        </p:nvSpPr>
        <p:spPr>
          <a:xfrm>
            <a:off x="2037960" y="3657600"/>
            <a:ext cx="6750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A complete functional specif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to accommodate and facilitate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variety of implementation methods in H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98600" y="80460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omplete CDS Knowledge Specification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498600" y="1981080"/>
          <a:ext cx="8229600" cy="4023000"/>
        </p:xfrm>
        <a:graphic>
          <a:graphicData uri="http://schemas.openxmlformats.org/drawingml/2006/table">
            <a:tbl>
              <a:tblPr/>
              <a:tblGrid>
                <a:gridCol w="1646280"/>
                <a:gridCol w="1645920"/>
                <a:gridCol w="1644840"/>
                <a:gridCol w="1646280"/>
                <a:gridCol w="1646280"/>
              </a:tblGrid>
              <a:tr h="66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90"/>
                          </a:solidFill>
                          <a:latin typeface="Arial"/>
                        </a:rPr>
                        <a:t>D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90"/>
                          </a:solidFill>
                          <a:latin typeface="Arial"/>
                        </a:rPr>
                        <a:t>Log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90"/>
                          </a:solidFill>
                          <a:latin typeface="Arial"/>
                        </a:rPr>
                        <a:t>Fun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90"/>
                          </a:solidFill>
                          <a:latin typeface="Arial"/>
                        </a:rPr>
                        <a:t>Meas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90"/>
                          </a:solidFill>
                          <a:latin typeface="Arial"/>
                        </a:rPr>
                        <a:t>Narra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f the patient’s creatini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s elevated th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void metformin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ility to show an alert (on screen or paper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of metformin pts w/ high C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90"/>
                          </a:solidFill>
                          <a:latin typeface="Arial"/>
                        </a:rPr>
                        <a:t>Semi-structur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b value: creatini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nical scenario: Elevated Cr… Action: avoid metfor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b results, medication li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databas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: all metformin p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nom: high Cr &amp; metfor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90"/>
                          </a:solidFill>
                          <a:latin typeface="Arial"/>
                        </a:rPr>
                        <a:t>Abstra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INC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59-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 cr &gt; 1.2 mg/dL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ll user “d/c metformin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S with rule evaluation capability, alerting fun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Set = {med=metformin}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nomSet = {cr &gt; 1.2}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90"/>
                          </a:solidFill>
                          <a:latin typeface="Arial"/>
                        </a:rPr>
                        <a:t>Machine interpre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lect * from labs where ID = 2159-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(cr&gt;1.2)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nt(“d/c metformin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POE with lab, meds and alerting capability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lect count(*) where 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sp>
        <p:nvSpPr>
          <p:cNvPr id="237" name="Line 85"/>
          <p:cNvSpPr/>
          <p:nvPr/>
        </p:nvSpPr>
        <p:spPr>
          <a:xfrm>
            <a:off x="380880" y="2666880"/>
            <a:ext cx="0" cy="327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86"/>
          <p:cNvSpPr/>
          <p:nvPr/>
        </p:nvSpPr>
        <p:spPr>
          <a:xfrm rot="16200000">
            <a:off x="-188640" y="2954880"/>
            <a:ext cx="820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genera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87"/>
          <p:cNvSpPr/>
          <p:nvPr/>
        </p:nvSpPr>
        <p:spPr>
          <a:xfrm rot="16200000">
            <a:off x="-188640" y="5448240"/>
            <a:ext cx="820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pecific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89"/>
          <p:cNvSpPr/>
          <p:nvPr/>
        </p:nvSpPr>
        <p:spPr>
          <a:xfrm>
            <a:off x="8839080" y="2666880"/>
            <a:ext cx="0" cy="327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90"/>
          <p:cNvSpPr/>
          <p:nvPr/>
        </p:nvSpPr>
        <p:spPr>
          <a:xfrm rot="16200000">
            <a:off x="8435880" y="2946960"/>
            <a:ext cx="10965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knowledg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91"/>
          <p:cNvSpPr/>
          <p:nvPr/>
        </p:nvSpPr>
        <p:spPr>
          <a:xfrm rot="16200000">
            <a:off x="8637840" y="5443200"/>
            <a:ext cx="6926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26"/>
          <p:cNvSpPr/>
          <p:nvPr/>
        </p:nvSpPr>
        <p:spPr>
          <a:xfrm>
            <a:off x="6707160" y="1447920"/>
            <a:ext cx="2209680" cy="44956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25"/>
          <p:cNvSpPr/>
          <p:nvPr/>
        </p:nvSpPr>
        <p:spPr>
          <a:xfrm>
            <a:off x="4421160" y="1447920"/>
            <a:ext cx="2286000" cy="44956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24"/>
          <p:cNvSpPr/>
          <p:nvPr/>
        </p:nvSpPr>
        <p:spPr>
          <a:xfrm>
            <a:off x="2287440" y="1447920"/>
            <a:ext cx="2133720" cy="44956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23"/>
          <p:cNvSpPr/>
          <p:nvPr/>
        </p:nvSpPr>
        <p:spPr>
          <a:xfrm>
            <a:off x="230040" y="1447920"/>
            <a:ext cx="2057400" cy="44956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11" descr=""/>
          <p:cNvPicPr/>
          <p:nvPr/>
        </p:nvPicPr>
        <p:blipFill>
          <a:blip r:embed="rId1"/>
          <a:stretch/>
        </p:blipFill>
        <p:spPr>
          <a:xfrm>
            <a:off x="7240680" y="1600200"/>
            <a:ext cx="1342800" cy="1057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98600" y="68544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Knowledge Artifacts by Layer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9" name="Documents"/>
          <p:cNvSpPr/>
          <p:nvPr/>
        </p:nvSpPr>
        <p:spPr>
          <a:xfrm>
            <a:off x="534960" y="1676520"/>
            <a:ext cx="838080" cy="13716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3" descr=""/>
          <p:cNvPicPr/>
          <p:nvPr/>
        </p:nvPicPr>
        <p:blipFill>
          <a:blip r:embed="rId2"/>
          <a:stretch/>
        </p:blipFill>
        <p:spPr>
          <a:xfrm>
            <a:off x="2630520" y="1676520"/>
            <a:ext cx="1333440" cy="1238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51" name="Picture 4" descr=""/>
          <p:cNvPicPr/>
          <p:nvPr/>
        </p:nvPicPr>
        <p:blipFill>
          <a:blip r:embed="rId3"/>
          <a:stretch/>
        </p:blipFill>
        <p:spPr>
          <a:xfrm>
            <a:off x="4573440" y="1600200"/>
            <a:ext cx="1371600" cy="13622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7" descr=""/>
          <p:cNvPicPr/>
          <p:nvPr/>
        </p:nvPicPr>
        <p:blipFill>
          <a:blip r:embed="rId4"/>
          <a:stretch/>
        </p:blipFill>
        <p:spPr>
          <a:xfrm>
            <a:off x="6935760" y="4038480"/>
            <a:ext cx="1609920" cy="92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53" name="Picture 7" descr=""/>
          <p:cNvPicPr/>
          <p:nvPr/>
        </p:nvPicPr>
        <p:blipFill>
          <a:blip r:embed="rId5"/>
          <a:stretch/>
        </p:blipFill>
        <p:spPr>
          <a:xfrm>
            <a:off x="7088040" y="4267080"/>
            <a:ext cx="1609920" cy="92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54" name="Picture 9" descr=""/>
          <p:cNvPicPr/>
          <p:nvPr/>
        </p:nvPicPr>
        <p:blipFill>
          <a:blip r:embed="rId6"/>
          <a:stretch/>
        </p:blipFill>
        <p:spPr>
          <a:xfrm>
            <a:off x="4726080" y="3809880"/>
            <a:ext cx="971280" cy="1049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55" name="Picture 12" descr=""/>
          <p:cNvPicPr/>
          <p:nvPr/>
        </p:nvPicPr>
        <p:blipFill>
          <a:blip r:embed="rId7"/>
          <a:stretch/>
        </p:blipFill>
        <p:spPr>
          <a:xfrm>
            <a:off x="7773840" y="2171880"/>
            <a:ext cx="990720" cy="1104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cxnSp>
        <p:nvCxnSpPr>
          <p:cNvPr id="256" name="Straight Arrow Connector 28"/>
          <p:cNvCxnSpPr>
            <a:stCxn id="249" idx="12"/>
          </p:cNvCxnSpPr>
          <p:nvPr/>
        </p:nvCxnSpPr>
        <p:spPr>
          <a:xfrm flipV="1">
            <a:off x="1372680" y="2295000"/>
            <a:ext cx="1258200" cy="67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7" name="Straight Arrow Connector 30"/>
          <p:cNvCxnSpPr/>
          <p:nvPr/>
        </p:nvCxnSpPr>
        <p:spPr>
          <a:xfrm flipV="1">
            <a:off x="3963600" y="2280600"/>
            <a:ext cx="610200" cy="14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8" name="Straight Arrow Connector 32"/>
          <p:cNvCxnSpPr/>
          <p:nvPr/>
        </p:nvCxnSpPr>
        <p:spPr>
          <a:xfrm flipV="1">
            <a:off x="5944680" y="2128320"/>
            <a:ext cx="129636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9" name="Straight Arrow Connector 34"/>
          <p:cNvCxnSpPr/>
          <p:nvPr/>
        </p:nvCxnSpPr>
        <p:spPr>
          <a:xfrm>
            <a:off x="5945040" y="2281320"/>
            <a:ext cx="1829520" cy="44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0" name="Straight Arrow Connector 36"/>
          <p:cNvCxnSpPr/>
          <p:nvPr/>
        </p:nvCxnSpPr>
        <p:spPr>
          <a:xfrm>
            <a:off x="3963600" y="2295000"/>
            <a:ext cx="762840" cy="2040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Straight Arrow Connector 38"/>
          <p:cNvCxnSpPr>
            <a:endCxn id="248" idx="1"/>
          </p:cNvCxnSpPr>
          <p:nvPr/>
        </p:nvCxnSpPr>
        <p:spPr>
          <a:xfrm>
            <a:off x="5697360" y="4335120"/>
            <a:ext cx="1239120" cy="167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2" name="Straight Arrow Connector 42"/>
          <p:cNvCxnSpPr/>
          <p:nvPr/>
        </p:nvCxnSpPr>
        <p:spPr>
          <a:xfrm>
            <a:off x="5697000" y="4335480"/>
            <a:ext cx="1391040" cy="396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Box 44"/>
          <p:cNvSpPr/>
          <p:nvPr/>
        </p:nvSpPr>
        <p:spPr>
          <a:xfrm>
            <a:off x="385920" y="3200400"/>
            <a:ext cx="118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ubl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uide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45"/>
          <p:cNvSpPr/>
          <p:nvPr/>
        </p:nvSpPr>
        <p:spPr>
          <a:xfrm>
            <a:off x="2278800" y="3124080"/>
            <a:ext cx="19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mi-structu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commend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46"/>
          <p:cNvSpPr/>
          <p:nvPr/>
        </p:nvSpPr>
        <p:spPr>
          <a:xfrm>
            <a:off x="4604400" y="3048120"/>
            <a:ext cx="155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bstract R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47"/>
          <p:cNvSpPr/>
          <p:nvPr/>
        </p:nvSpPr>
        <p:spPr>
          <a:xfrm>
            <a:off x="4497120" y="4952880"/>
            <a:ext cx="207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bstract Order 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48"/>
          <p:cNvSpPr/>
          <p:nvPr/>
        </p:nvSpPr>
        <p:spPr>
          <a:xfrm>
            <a:off x="6863040" y="3314880"/>
            <a:ext cx="195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xecutable R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49"/>
          <p:cNvSpPr/>
          <p:nvPr/>
        </p:nvSpPr>
        <p:spPr>
          <a:xfrm>
            <a:off x="6934320" y="525780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rder Sets in CPO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98600" y="6854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Accomplishments to Dat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(start 3/08)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533520" y="1461960"/>
          <a:ext cx="8229600" cy="4556160"/>
        </p:xfrm>
        <a:graphic>
          <a:graphicData uri="http://schemas.openxmlformats.org/drawingml/2006/table">
            <a:tbl>
              <a:tblPr/>
              <a:tblGrid>
                <a:gridCol w="2701800"/>
                <a:gridCol w="5527800"/>
              </a:tblGrid>
              <a:tr h="117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KM Lifecycle Assessment Tea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buClr>
                          <a:srgbClr val="0033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Completed Knowledge Management and CDS Survey and sent it out to the Consortium sites.  PHS and Regenstrief have returned the surve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33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PHS Site Visit, June 16-20.  Interviewed and shadowed Partners physicians about their knowledge management and CDS practic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33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Site visits to Regenstrief and VA scheduled and shepherds identifi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9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Knowledge Translation and Specification Tea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buClr>
                          <a:srgbClr val="0033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Completed semi structured representation and presented work to AHRQ and TEP on July 11, 2008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33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Draft clinical action model developed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6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KM Por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buClr>
                          <a:srgbClr val="0033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Delivered eRoom as a collaborative environment for CDSC activities and finalized KM Portal design hardw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2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Vendor Generalization and CCHIT Tea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buClr>
                          <a:srgbClr val="0033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Completed capability reviews of nine EHR systems through customer interviews to assess their decision support features.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9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CDS Services Develop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buClr>
                          <a:srgbClr val="0033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Completed literature review on current service-oriented architectures for clinical decision support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33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Beginning service development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Joint Information Modeling Working Grou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buClr>
                          <a:srgbClr val="0033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Patient data model and terminologies selected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33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Developing conceptual mod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33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Developing localization mod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98600" y="68544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  <a:ea typeface="SimSun"/>
              </a:rPr>
              <a:t>Timeline Overview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498600" y="1806480"/>
          <a:ext cx="8194680" cy="3337200"/>
        </p:xfrm>
        <a:graphic>
          <a:graphicData uri="http://schemas.openxmlformats.org/drawingml/2006/table">
            <a:tbl>
              <a:tblPr/>
              <a:tblGrid>
                <a:gridCol w="2209680"/>
                <a:gridCol w="2341440"/>
                <a:gridCol w="1544760"/>
                <a:gridCol w="2098800"/>
              </a:tblGrid>
              <a:tr h="42084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Year 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Year I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504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owledge Management Lifecycle Assess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360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owledge  Translation and Specific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3600"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owledge Portal &amp; Reposit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S Web Services Develop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ndor Recommendation/CCH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5040"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mo Phase 1: LM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65400"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valu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3600"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ssemin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98600" y="68544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74" name="Picture 3" descr="You_are_here"/>
          <p:cNvPicPr/>
          <p:nvPr/>
        </p:nvPicPr>
        <p:blipFill>
          <a:blip r:embed="rId1"/>
          <a:stretch/>
        </p:blipFill>
        <p:spPr>
          <a:xfrm>
            <a:off x="1900080" y="1523880"/>
            <a:ext cx="5426280" cy="3584520"/>
          </a:xfrm>
          <a:prstGeom prst="rect">
            <a:avLst/>
          </a:prstGeom>
          <a:ln w="0">
            <a:noFill/>
          </a:ln>
        </p:spPr>
      </p:pic>
      <p:sp>
        <p:nvSpPr>
          <p:cNvPr id="275" name="TextBox 3"/>
          <p:cNvSpPr/>
          <p:nvPr/>
        </p:nvSpPr>
        <p:spPr>
          <a:xfrm>
            <a:off x="2940480" y="5257800"/>
            <a:ext cx="571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Thank you!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90"/>
                </a:solidFill>
                <a:latin typeface="Arial"/>
              </a:rPr>
              <a:t>Blackford Middleton, MD, MPH, MS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9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9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90"/>
                </a:solidFill>
                <a:latin typeface="Arial"/>
              </a:rPr>
              <a:t>bmiddleton1@partners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HRQ CDS Demonstration Projects</a:t>
            </a:r>
            <a:br>
              <a:rPr sz="40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________________________________________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bjectiv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develop, implement, and evaluate projects that advance the understanding of how best to incorporate CDS into health care delive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verall go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ore how the translation of clinical knowledge into CDS can be routinized in practice and taken to scale in order to improve the quality of healthcare delivery in the U.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u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1.25 million per project per year for two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8" descr="horizontalbw"/>
          <p:cNvPicPr/>
          <p:nvPr/>
        </p:nvPicPr>
        <p:blipFill>
          <a:blip r:embed="rId1"/>
          <a:stretch/>
        </p:blipFill>
        <p:spPr>
          <a:xfrm>
            <a:off x="6248520" y="5791320"/>
            <a:ext cx="263988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98600" y="68544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DS Background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986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nical decision support (CDS) has been applied to 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increase quality and patient safety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improve adherence to guidelines for prevention and treatment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avoid medication error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Systematic reviews have shown that CDS can be useful across a variety of clinical purposes and topic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Barriers to effective CD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98600" y="16761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Current adoption of advanced clinical decision support is limited due to a variety of reasons, including: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572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99"/>
              </a:solidFill>
              <a:latin typeface="Arial"/>
            </a:endParaRPr>
          </a:p>
          <a:p>
            <a:pPr lvl="1" marL="914400" indent="-285840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imited implementation of EMR, CPOE, PHR, etc.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914400" indent="-285840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fficulty developing clinical practice guidelin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914400" indent="-285840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 lack of standards for knowledge represent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914400" indent="-285840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bsence of a central repository for knowledge resour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914400" indent="-285840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oor support for CDS in commercial EH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914400" indent="-285840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fficulty tailoring CDS to context of car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914400" indent="-285840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hallenges in integrating CDS into the clinical workflo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914400" indent="-285840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 limited understanding of organizational, and cultural issues relating to clinical decision support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98600" y="68544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The CDS Consortium Primary Goal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86840" y="1752120"/>
            <a:ext cx="8271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To 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assess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define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demonstrate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, and 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evaluate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 best practices for knowledge management and clinical decision support in healthcare information technology at scale – across multiple ambulatory care settings and EHR technology platforms.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98600" y="68544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CDS Consortium: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Founding Member Institutions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98600" y="182844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Partners HealthCare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Regenstrief Institute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Veterans Health Administration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Kaiser Permanente Center for Health Research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Oregon Health and Science University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University of Texas 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689000" y="1828440"/>
            <a:ext cx="4038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Siemens Medical Solution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GE Healthcare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MassPro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NextGen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98600" y="609480"/>
            <a:ext cx="822960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  <a:ea typeface="SimSun"/>
              </a:rPr>
              <a:t>Six Specific Research Objectives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822960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75"/>
              </a:spcBef>
              <a:spcAft>
                <a:spcPts val="414"/>
              </a:spcAft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SimSun"/>
              </a:rPr>
              <a:t>Knowledge management lifecycl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spcAft>
                <a:spcPts val="414"/>
              </a:spcAft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SimSun"/>
              </a:rPr>
              <a:t>Knowledge specific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spcAft>
                <a:spcPts val="414"/>
              </a:spcAft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SimSun"/>
              </a:rPr>
              <a:t>Knowledge Portal and Repositor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spcAft>
                <a:spcPts val="414"/>
              </a:spcAft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SimSun"/>
              </a:rPr>
              <a:t>CDS Knowledge Content and Public Web Services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spcAft>
                <a:spcPts val="414"/>
              </a:spcAft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SimSun"/>
              </a:rPr>
              <a:t>Evalu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spcAft>
                <a:spcPts val="414"/>
              </a:spcAft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SimSun"/>
              </a:rPr>
              <a:t>Dissemin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98600" y="3924360"/>
          <a:ext cx="8229600" cy="186696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952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. Knowledge Management Life Cycl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ec0000"/>
                        </a:gs>
                        <a:gs pos="50000">
                          <a:srgbClr val="ff0000"/>
                        </a:gs>
                        <a:gs pos="100000">
                          <a:srgbClr val="ec0000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3399"/>
                          </a:solidFill>
                          <a:latin typeface="Arial"/>
                          <a:ea typeface="Times New Roman"/>
                        </a:rPr>
                        <a:t>2. Knowledge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3399"/>
                          </a:solidFill>
                          <a:latin typeface="Arial"/>
                          <a:ea typeface="Times New Roman"/>
                        </a:rPr>
                        <a:t>Specificati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3399"/>
                          </a:solidFill>
                          <a:latin typeface="Arial"/>
                          <a:ea typeface="Times New Roman"/>
                        </a:rPr>
                        <a:t>3. Knowledge Portal and Repository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3399"/>
                          </a:solidFill>
                          <a:latin typeface="Arial"/>
                          <a:ea typeface="Times New Roman"/>
                        </a:rPr>
                        <a:t>4. CDS Public Services and Content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84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3399"/>
                          </a:solidFill>
                          <a:latin typeface="Arial"/>
                          <a:ea typeface="Times New Roman"/>
                        </a:rPr>
                        <a:t>5. Evaluation Process for each CDS Assessment and Research Area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52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3399"/>
                          </a:solidFill>
                          <a:latin typeface="Arial"/>
                          <a:ea typeface="Times New Roman"/>
                        </a:rPr>
                        <a:t>6. Dissemination Process for each Assessment and Research Are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CDS Consortium Teams chart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986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53" name="Picture 5" descr=""/>
          <p:cNvPicPr/>
          <p:nvPr/>
        </p:nvPicPr>
        <p:blipFill>
          <a:blip r:embed="rId1"/>
          <a:stretch/>
        </p:blipFill>
        <p:spPr>
          <a:xfrm>
            <a:off x="152280" y="1260360"/>
            <a:ext cx="8839440" cy="450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7"/>
          <p:cNvSpPr/>
          <p:nvPr/>
        </p:nvSpPr>
        <p:spPr>
          <a:xfrm>
            <a:off x="57240" y="1289160"/>
            <a:ext cx="8915400" cy="457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98600" y="5331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Workflow Diagram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6227640" y="331308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pu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val 4"/>
          <p:cNvSpPr/>
          <p:nvPr/>
        </p:nvSpPr>
        <p:spPr>
          <a:xfrm>
            <a:off x="122400" y="2660760"/>
            <a:ext cx="1523880" cy="761760"/>
          </a:xfrm>
          <a:prstGeom prst="ellipse">
            <a:avLst/>
          </a:prstGeom>
          <a:solidFill>
            <a:srgbClr val="eafdc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M Lifecycle Assess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5"/>
          <p:cNvSpPr/>
          <p:nvPr/>
        </p:nvSpPr>
        <p:spPr>
          <a:xfrm>
            <a:off x="4933800" y="2584440"/>
            <a:ext cx="1524240" cy="762120"/>
          </a:xfrm>
          <a:prstGeom prst="ellipse">
            <a:avLst/>
          </a:prstGeom>
          <a:solidFill>
            <a:srgbClr val="eafdc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cution 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4048200" y="266076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ls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7"/>
          <p:cNvSpPr/>
          <p:nvPr/>
        </p:nvSpPr>
        <p:spPr>
          <a:xfrm>
            <a:off x="3952800" y="299412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Errors and Gaps Feedb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8"/>
          <p:cNvSpPr/>
          <p:nvPr/>
        </p:nvSpPr>
        <p:spPr>
          <a:xfrm>
            <a:off x="4019400" y="29653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9"/>
          <p:cNvSpPr/>
          <p:nvPr/>
        </p:nvSpPr>
        <p:spPr>
          <a:xfrm>
            <a:off x="6791400" y="2612880"/>
            <a:ext cx="1752480" cy="762120"/>
          </a:xfrm>
          <a:prstGeom prst="ellipse">
            <a:avLst/>
          </a:prstGeom>
          <a:solidFill>
            <a:srgbClr val="eafdc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DS Demonst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10"/>
          <p:cNvSpPr/>
          <p:nvPr/>
        </p:nvSpPr>
        <p:spPr>
          <a:xfrm>
            <a:off x="6432480" y="29131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11"/>
          <p:cNvSpPr/>
          <p:nvPr/>
        </p:nvSpPr>
        <p:spPr>
          <a:xfrm>
            <a:off x="2517840" y="2584440"/>
            <a:ext cx="1523880" cy="838080"/>
          </a:xfrm>
          <a:prstGeom prst="ellipse">
            <a:avLst/>
          </a:prstGeom>
          <a:solidFill>
            <a:srgbClr val="eafdc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Translation and Spec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12"/>
          <p:cNvSpPr/>
          <p:nvPr/>
        </p:nvSpPr>
        <p:spPr>
          <a:xfrm>
            <a:off x="7248600" y="1593720"/>
            <a:ext cx="1523880" cy="762120"/>
          </a:xfrm>
          <a:prstGeom prst="ellipse">
            <a:avLst/>
          </a:prstGeom>
          <a:solidFill>
            <a:srgbClr val="eafdc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DS Dashboa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13"/>
          <p:cNvSpPr/>
          <p:nvPr/>
        </p:nvSpPr>
        <p:spPr>
          <a:xfrm>
            <a:off x="2523960" y="4413240"/>
            <a:ext cx="1524240" cy="762120"/>
          </a:xfrm>
          <a:prstGeom prst="ellipse">
            <a:avLst/>
          </a:prstGeom>
          <a:solidFill>
            <a:srgbClr val="eafdc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M Por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14"/>
          <p:cNvSpPr/>
          <p:nvPr/>
        </p:nvSpPr>
        <p:spPr>
          <a:xfrm>
            <a:off x="5800680" y="3705120"/>
            <a:ext cx="1523880" cy="762120"/>
          </a:xfrm>
          <a:prstGeom prst="ellipse">
            <a:avLst/>
          </a:prstGeom>
          <a:solidFill>
            <a:srgbClr val="eafdc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CHIT/HITS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P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ecomm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15"/>
          <p:cNvSpPr/>
          <p:nvPr/>
        </p:nvSpPr>
        <p:spPr>
          <a:xfrm>
            <a:off x="5724360" y="3336840"/>
            <a:ext cx="60984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16"/>
          <p:cNvSpPr/>
          <p:nvPr/>
        </p:nvSpPr>
        <p:spPr>
          <a:xfrm flipH="1">
            <a:off x="6867360" y="334656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8"/>
          <p:cNvSpPr/>
          <p:nvPr/>
        </p:nvSpPr>
        <p:spPr>
          <a:xfrm>
            <a:off x="114480" y="1546200"/>
            <a:ext cx="8791560" cy="403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19"/>
          <p:cNvSpPr/>
          <p:nvPr/>
        </p:nvSpPr>
        <p:spPr>
          <a:xfrm>
            <a:off x="5726160" y="2443320"/>
            <a:ext cx="1676520" cy="1522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reeform 20"/>
          <p:cNvSpPr/>
          <p:nvPr/>
        </p:nvSpPr>
        <p:spPr>
          <a:xfrm>
            <a:off x="6159600" y="3292560"/>
            <a:ext cx="914400" cy="759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21"/>
          <p:cNvSpPr/>
          <p:nvPr/>
        </p:nvSpPr>
        <p:spPr>
          <a:xfrm>
            <a:off x="4048200" y="3346560"/>
            <a:ext cx="4190760" cy="16761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reeform 22"/>
          <p:cNvSpPr/>
          <p:nvPr/>
        </p:nvSpPr>
        <p:spPr>
          <a:xfrm>
            <a:off x="4016520" y="2279520"/>
            <a:ext cx="4876560" cy="32767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23"/>
          <p:cNvSpPr/>
          <p:nvPr/>
        </p:nvSpPr>
        <p:spPr>
          <a:xfrm>
            <a:off x="6934320" y="3465360"/>
            <a:ext cx="92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ommend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24"/>
          <p:cNvSpPr/>
          <p:nvPr/>
        </p:nvSpPr>
        <p:spPr>
          <a:xfrm>
            <a:off x="6118200" y="221472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pu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25"/>
          <p:cNvSpPr/>
          <p:nvPr/>
        </p:nvSpPr>
        <p:spPr>
          <a:xfrm>
            <a:off x="6180120" y="2565360"/>
            <a:ext cx="1019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vice Defini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reeform 26"/>
          <p:cNvSpPr/>
          <p:nvPr/>
        </p:nvSpPr>
        <p:spPr>
          <a:xfrm>
            <a:off x="3819600" y="1778040"/>
            <a:ext cx="3429000" cy="9144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27"/>
          <p:cNvSpPr/>
          <p:nvPr/>
        </p:nvSpPr>
        <p:spPr>
          <a:xfrm>
            <a:off x="5224320" y="164772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pec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28"/>
          <p:cNvSpPr/>
          <p:nvPr/>
        </p:nvSpPr>
        <p:spPr>
          <a:xfrm>
            <a:off x="5195880" y="1919160"/>
            <a:ext cx="1085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Gaps Feedb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29"/>
          <p:cNvSpPr/>
          <p:nvPr/>
        </p:nvSpPr>
        <p:spPr>
          <a:xfrm rot="20045400">
            <a:off x="7629480" y="5098680"/>
            <a:ext cx="1085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Gaps Feedb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30"/>
          <p:cNvSpPr/>
          <p:nvPr/>
        </p:nvSpPr>
        <p:spPr>
          <a:xfrm rot="19726800">
            <a:off x="7324920" y="4565160"/>
            <a:ext cx="15256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uality Data Elements Catalo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Group 31"/>
          <p:cNvGrpSpPr/>
          <p:nvPr/>
        </p:nvGrpSpPr>
        <p:grpSpPr>
          <a:xfrm>
            <a:off x="3362400" y="3422520"/>
            <a:ext cx="438840" cy="990360"/>
            <a:chOff x="3362400" y="3422520"/>
            <a:chExt cx="438840" cy="990360"/>
          </a:xfrm>
        </p:grpSpPr>
        <p:sp>
          <p:nvSpPr>
            <p:cNvPr id="184" name="Freeform 32"/>
            <p:cNvSpPr/>
            <p:nvPr/>
          </p:nvSpPr>
          <p:spPr>
            <a:xfrm>
              <a:off x="3362400" y="3422520"/>
              <a:ext cx="152280" cy="9903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33"/>
            <p:cNvSpPr/>
            <p:nvPr/>
          </p:nvSpPr>
          <p:spPr>
            <a:xfrm rot="4905600">
              <a:off x="3330720" y="3756240"/>
              <a:ext cx="609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pec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Line 34"/>
          <p:cNvSpPr/>
          <p:nvPr/>
        </p:nvSpPr>
        <p:spPr>
          <a:xfrm flipH="1">
            <a:off x="3742920" y="3270240"/>
            <a:ext cx="1600200" cy="1219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35"/>
          <p:cNvSpPr/>
          <p:nvPr/>
        </p:nvSpPr>
        <p:spPr>
          <a:xfrm rot="19291800">
            <a:off x="3515040" y="365076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talogs (rules and servic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36"/>
          <p:cNvGrpSpPr/>
          <p:nvPr/>
        </p:nvGrpSpPr>
        <p:grpSpPr>
          <a:xfrm>
            <a:off x="3879720" y="3974760"/>
            <a:ext cx="2008080" cy="601920"/>
            <a:chOff x="3879720" y="3974760"/>
            <a:chExt cx="2008080" cy="601920"/>
          </a:xfrm>
        </p:grpSpPr>
        <p:sp>
          <p:nvSpPr>
            <p:cNvPr id="189" name="Line 37"/>
            <p:cNvSpPr/>
            <p:nvPr/>
          </p:nvSpPr>
          <p:spPr>
            <a:xfrm flipH="1">
              <a:off x="3879720" y="4238640"/>
              <a:ext cx="2008080" cy="33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38"/>
            <p:cNvSpPr/>
            <p:nvPr/>
          </p:nvSpPr>
          <p:spPr>
            <a:xfrm rot="21056400">
              <a:off x="4395600" y="4075200"/>
              <a:ext cx="1295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ecommendation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Text Box 39"/>
          <p:cNvSpPr/>
          <p:nvPr/>
        </p:nvSpPr>
        <p:spPr>
          <a:xfrm>
            <a:off x="3971880" y="5616720"/>
            <a:ext cx="120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sem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40"/>
          <p:cNvSpPr/>
          <p:nvPr/>
        </p:nvSpPr>
        <p:spPr>
          <a:xfrm>
            <a:off x="4048200" y="5327640"/>
            <a:ext cx="98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41"/>
          <p:cNvSpPr/>
          <p:nvPr/>
        </p:nvSpPr>
        <p:spPr>
          <a:xfrm rot="2794200">
            <a:off x="1616400" y="3719160"/>
            <a:ext cx="83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ssons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42"/>
          <p:cNvSpPr/>
          <p:nvPr/>
        </p:nvSpPr>
        <p:spPr>
          <a:xfrm>
            <a:off x="1305000" y="3346560"/>
            <a:ext cx="1371600" cy="12189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43"/>
          <p:cNvSpPr/>
          <p:nvPr/>
        </p:nvSpPr>
        <p:spPr>
          <a:xfrm rot="2653800">
            <a:off x="1304640" y="395568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Suggestions for Survey Cre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44"/>
          <p:cNvSpPr/>
          <p:nvPr/>
        </p:nvSpPr>
        <p:spPr>
          <a:xfrm>
            <a:off x="2219400" y="2279520"/>
            <a:ext cx="1523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Lessons for Survey Cre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reeform 45"/>
          <p:cNvSpPr/>
          <p:nvPr/>
        </p:nvSpPr>
        <p:spPr>
          <a:xfrm>
            <a:off x="923760" y="2268360"/>
            <a:ext cx="4365720" cy="3924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46"/>
          <p:cNvSpPr/>
          <p:nvPr/>
        </p:nvSpPr>
        <p:spPr>
          <a:xfrm>
            <a:off x="2371680" y="197496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ssons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47"/>
          <p:cNvSpPr/>
          <p:nvPr/>
        </p:nvSpPr>
        <p:spPr>
          <a:xfrm>
            <a:off x="1619280" y="3059280"/>
            <a:ext cx="103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Suggestions for Survey Cre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Group 48"/>
          <p:cNvGrpSpPr/>
          <p:nvPr/>
        </p:nvGrpSpPr>
        <p:grpSpPr>
          <a:xfrm>
            <a:off x="1643040" y="2738520"/>
            <a:ext cx="885960" cy="303120"/>
            <a:chOff x="1643040" y="2738520"/>
            <a:chExt cx="885960" cy="303120"/>
          </a:xfrm>
        </p:grpSpPr>
        <p:sp>
          <p:nvSpPr>
            <p:cNvPr id="201" name="Text Box 49"/>
            <p:cNvSpPr/>
            <p:nvPr/>
          </p:nvSpPr>
          <p:spPr>
            <a:xfrm>
              <a:off x="1685880" y="2738520"/>
              <a:ext cx="83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essons 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50"/>
            <p:cNvSpPr/>
            <p:nvPr/>
          </p:nvSpPr>
          <p:spPr>
            <a:xfrm>
              <a:off x="1643040" y="3041640"/>
              <a:ext cx="88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Text Box 51"/>
          <p:cNvSpPr/>
          <p:nvPr/>
        </p:nvSpPr>
        <p:spPr>
          <a:xfrm rot="4135200">
            <a:off x="2288160" y="3776400"/>
            <a:ext cx="107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99"/>
                </a:solidFill>
                <a:latin typeface="Arial"/>
              </a:rPr>
              <a:t>Errors and Gaps Feedbac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52"/>
          <p:cNvSpPr/>
          <p:nvPr/>
        </p:nvSpPr>
        <p:spPr>
          <a:xfrm>
            <a:off x="2828880" y="3346560"/>
            <a:ext cx="457200" cy="1066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53"/>
          <p:cNvSpPr/>
          <p:nvPr/>
        </p:nvSpPr>
        <p:spPr>
          <a:xfrm rot="3970200">
            <a:off x="2775240" y="3718800"/>
            <a:ext cx="83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ls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54"/>
          <p:cNvSpPr/>
          <p:nvPr/>
        </p:nvSpPr>
        <p:spPr>
          <a:xfrm>
            <a:off x="5415120" y="3427560"/>
            <a:ext cx="909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ommend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Group 55"/>
          <p:cNvGrpSpPr/>
          <p:nvPr/>
        </p:nvGrpSpPr>
        <p:grpSpPr>
          <a:xfrm>
            <a:off x="7620120" y="2333520"/>
            <a:ext cx="552240" cy="304560"/>
            <a:chOff x="7620120" y="2333520"/>
            <a:chExt cx="552240" cy="304560"/>
          </a:xfrm>
        </p:grpSpPr>
        <p:sp>
          <p:nvSpPr>
            <p:cNvPr id="208" name="Line 56"/>
            <p:cNvSpPr/>
            <p:nvPr/>
          </p:nvSpPr>
          <p:spPr>
            <a:xfrm flipV="1">
              <a:off x="7620120" y="2333520"/>
              <a:ext cx="1522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 Box 57"/>
            <p:cNvSpPr/>
            <p:nvPr/>
          </p:nvSpPr>
          <p:spPr>
            <a:xfrm>
              <a:off x="7705800" y="2366640"/>
              <a:ext cx="466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Text Box 58"/>
          <p:cNvSpPr/>
          <p:nvPr/>
        </p:nvSpPr>
        <p:spPr>
          <a:xfrm>
            <a:off x="6138720" y="4881600"/>
            <a:ext cx="83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Feedb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59"/>
          <p:cNvSpPr/>
          <p:nvPr/>
        </p:nvSpPr>
        <p:spPr>
          <a:xfrm>
            <a:off x="6159600" y="46432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eedb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60"/>
          <p:cNvSpPr/>
          <p:nvPr/>
        </p:nvSpPr>
        <p:spPr>
          <a:xfrm rot="19308000">
            <a:off x="4200840" y="3727080"/>
            <a:ext cx="1085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Gaps Feedb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6T20:03:38Z</dcterms:created>
  <dc:creator>Partners Information Systems</dc:creator>
  <dc:description/>
  <cp:keywords/>
  <dc:language>en-US</dc:language>
  <cp:lastModifiedBy>Blackford Middleton</cp:lastModifiedBy>
  <dcterms:modified xsi:type="dcterms:W3CDTF">2008-09-07T13:18:51Z</dcterms:modified>
  <cp:revision>90</cp:revision>
  <dc:subject/>
  <dc:title>AHRQ Clinical Decision  Support (CDS) Consortiu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