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239F-51F7-44B3-BA18-B927E839A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197A-7DE1-4F56-9B5C-D8FD8E862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1F65-9EF3-4742-A043-BD38882A9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6196-0BB5-4B58-9E45-B463EF494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4C27-86ED-45D8-B02D-64B3909CC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A34F-1A6D-4F35-A3C0-B98B13EA3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5019-C78E-4090-9D20-969E8F34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8CEC-2526-43F4-B7FD-DD58E1F69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F49-1B72-40E5-A115-9E95A5437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86D-50C2-4EFE-80F3-9EB8A7C5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93B-60CA-4FA1-81B5-ECD3E32CA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91CF-2BD7-4E8B-A136-73DE4C20C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0649-714D-4DDC-B8A3-B4B85411C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590F86-F22A-4E0E-82BD-7FBFF1E04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F1DC-9D0C-4902-AF5E-683AF2A98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104B-561B-4690-9B08-D06203432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DE0F-22BD-4298-83E3-9D2441C3C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7B49-1114-4F1D-88EA-F515B983A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9470-8C73-44E3-B39E-E95A7E7C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A744-C68D-49B1-818E-664E0DBC0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761B-9EDF-49C1-9DD2-6773B995E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6A21-BCE4-4675-A247-C9C1A1FE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E5868D-EE1F-45FC-915E-ED7EC0609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F3E9-F3BB-4590-A226-B371F485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1E62-DE45-4E50-B01D-5927AD17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969F-203D-49AB-A349-17C99C2C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9AFC-8BAD-4072-92CA-A08246CC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10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34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86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10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34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BAF1-7B73-4C6C-A1AF-79BE5BF0C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1F3C-92D8-4C0D-9930-B98A8C06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DA60-160A-48EE-9933-E15A1345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5FD8-C4E7-421D-8A47-382CE6ED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3696-D86A-4668-A253-A17DA561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1964-197A-4620-903B-0484866E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8600" y="6854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B236-AFF9-4B11-9024-550D01D2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5065-094F-4F5B-9930-EC8060D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D6C5-D3E7-4668-A68A-BEA7FA14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88DA-7A0A-4AD8-AC9A-4EC73B5E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A48F-5459-4792-A53A-CE5A210B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8BC9-B3E2-4B3E-A820-A601D55E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88F4-A503-4CBE-A4C1-C73062BD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10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34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86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10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34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3364-EDF8-48B2-97F8-FC7E6584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99FE9-5359-4E59-BD7D-92F5C46D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38DFC-4326-480D-B723-A62C2E9C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7672-747E-40CC-A89A-2423696C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B6FD-D050-44A6-9A32-A0BC9430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7E8F-0350-4FA9-AD2C-AEEFCC6B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FF4C-9F8A-4249-B8DA-12DF9215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8600" y="6854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0A948-DE46-4339-91E0-84EE2CC9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FC37A-A8E1-46DC-9F92-2837E9F0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368B0-9253-40C6-92FA-DB7505F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10C4-9F45-4AA7-A924-7DB2C9F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E4EA6-21BD-4154-9A23-BC205ADE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4C78-7662-4E25-BEE5-B2E144F7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10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634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86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10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634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7B4D-9A0E-4F18-9358-A0AABB95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F3A1-6865-4C8C-A3DE-24F25A87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FF823-57D2-4FBC-A1ED-F076A0B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8600" y="6854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1F26-6EF8-47EC-B062-D351834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B3DA-DEC8-45A7-91EC-09E0B257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56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E738-1587-40EE-B4BF-E77D74CB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6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86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C5F3-566E-4FB8-BB2F-510A3052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nside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276720" y="57909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629040" y="57146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1AE-0EC5-40B1-AE92-6977CAC2C224}" type="slidenum"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533160" y="579096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1859-0C1F-4319-A178-7E9FF7AAFD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ottom_10"/>
          <p:cNvPicPr/>
          <p:nvPr/>
        </p:nvPicPr>
        <p:blipFill>
          <a:blip r:embed="rId2"/>
          <a:stretch/>
        </p:blipFill>
        <p:spPr>
          <a:xfrm>
            <a:off x="3240" y="4435560"/>
            <a:ext cx="9140760" cy="242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top_top"/>
          <p:cNvPicPr/>
          <p:nvPr/>
        </p:nvPicPr>
        <p:blipFill>
          <a:blip r:embed="rId3"/>
          <a:stretch/>
        </p:blipFill>
        <p:spPr>
          <a:xfrm>
            <a:off x="0" y="0"/>
            <a:ext cx="9144000" cy="317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36080" y="6473880"/>
            <a:ext cx="213372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65120" y="6473880"/>
            <a:ext cx="28954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34320" y="6473880"/>
            <a:ext cx="21333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8E81-7AF7-42A2-B9EE-F6BBF5B036F9}" type="slidenum"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3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nical Decision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pport Consortium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8600" y="320040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ford Middleton, MD, MPH, M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nical Informatics Research &amp;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ners Health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gham &amp; Women’s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vard Medical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15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ultilayered Knowledge Representation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s balance between the competing requirements for flexibility in representation for various IT environments,…  and the ability to deliver precise, executable knowledge that can be rapidly implemented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e available a machine executable level knowledge artifact for where it can be used (easy implementation, rapid updates)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r others, it may be more appropriate to use an artifact from the Semi-structured Recommendation or Abstract layers, to allow rapid implementation of their own executable knowledge.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s a path to achieve logical consistency from the narrative guideline to the execution lay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22"/>
          <p:cNvSpPr/>
          <p:nvPr/>
        </p:nvSpPr>
        <p:spPr>
          <a:xfrm>
            <a:off x="1295280" y="3200400"/>
            <a:ext cx="6782040" cy="175248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rrative Recommend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text of the recommendation from the published guide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1422360" y="3505320"/>
            <a:ext cx="6781680" cy="18288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mi-Structured Recommend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s down the text into various slots such as those for applicable clinical scenario, the recommended intervention, and evidence basis for the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vocabulary codes for data and more precise criteria (pseudo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4"/>
          <p:cNvSpPr/>
          <p:nvPr/>
        </p:nvSpPr>
        <p:spPr>
          <a:xfrm>
            <a:off x="1600200" y="3809880"/>
            <a:ext cx="6781680" cy="198144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bstract Representation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uctures the recommendation for use in particular kinds of CDS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minder and alert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der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recommendation could have several different artifacts created in this layer, one for each kind of CDS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5"/>
          <p:cNvSpPr/>
          <p:nvPr/>
        </p:nvSpPr>
        <p:spPr>
          <a:xfrm>
            <a:off x="1752480" y="4114800"/>
            <a:ext cx="6782040" cy="19051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chine Executabl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nowledge encoded in a format that can be rapidly integrated into a CDS tool on a specific HIT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rule could be encoded in Arden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recommendation could have several different artifacts created in this layer, one for each of the different HIT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600" y="4568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ultilayered model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981080" y="2590920"/>
            <a:ext cx="4800600" cy="368280"/>
          </a:xfrm>
          <a:prstGeom prst="rect">
            <a:avLst/>
          </a:prstGeom>
          <a:solidFill>
            <a:srgbClr val="e9f4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Guid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1981080" y="2220840"/>
            <a:ext cx="4800600" cy="368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mistructured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1981080" y="1905120"/>
            <a:ext cx="4800600" cy="368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1981080" y="1523880"/>
            <a:ext cx="4800600" cy="368280"/>
          </a:xfrm>
          <a:prstGeom prst="rect">
            <a:avLst/>
          </a:prstGeom>
          <a:solidFill>
            <a:srgbClr val="f0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chine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26"/>
          <p:cNvGrpSpPr/>
          <p:nvPr/>
        </p:nvGrpSpPr>
        <p:grpSpPr>
          <a:xfrm>
            <a:off x="323280" y="509760"/>
            <a:ext cx="1653480" cy="2798640"/>
            <a:chOff x="323280" y="509760"/>
            <a:chExt cx="1653480" cy="2798640"/>
          </a:xfrm>
        </p:grpSpPr>
        <p:cxnSp>
          <p:nvCxnSpPr>
            <p:cNvPr id="225" name="Straight Arrow Connector 10"/>
            <p:cNvCxnSpPr/>
            <p:nvPr/>
          </p:nvCxnSpPr>
          <p:spPr>
            <a:xfrm flipV="1">
              <a:off x="935280" y="1066680"/>
              <a:ext cx="1041840" cy="2207520"/>
            </a:xfrm>
            <a:prstGeom prst="straightConnector1">
              <a:avLst/>
            </a:prstGeom>
            <a:ln w="381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26" name="TextBox 12"/>
            <p:cNvSpPr/>
            <p:nvPr/>
          </p:nvSpPr>
          <p:spPr>
            <a:xfrm rot="17713800">
              <a:off x="-329760" y="1709640"/>
              <a:ext cx="290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0"/>
                  </a:solidFill>
                  <a:latin typeface="Calibri"/>
                </a:rPr>
                <a:t>Precision </a:t>
              </a:r>
              <a:r>
                <a:rPr b="0" lang="en-US" sz="1800" spc="-1" strike="noStrike">
                  <a:solidFill>
                    <a:srgbClr val="000090"/>
                  </a:solidFill>
                  <a:latin typeface="Calibri"/>
                </a:rPr>
                <a:t>and</a:t>
              </a:r>
              <a:r>
                <a:rPr b="0" lang="en-US" sz="2000" spc="-1" strike="noStrike">
                  <a:solidFill>
                    <a:srgbClr val="000090"/>
                  </a:solidFill>
                  <a:latin typeface="Calibri"/>
                </a:rPr>
                <a:t> execut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27"/>
          <p:cNvGrpSpPr/>
          <p:nvPr/>
        </p:nvGrpSpPr>
        <p:grpSpPr>
          <a:xfrm>
            <a:off x="6838200" y="713160"/>
            <a:ext cx="1738800" cy="2438280"/>
            <a:chOff x="6838200" y="713160"/>
            <a:chExt cx="1738800" cy="2438280"/>
          </a:xfrm>
        </p:grpSpPr>
        <p:cxnSp>
          <p:nvCxnSpPr>
            <p:cNvPr id="228" name="Straight Arrow Connector 13"/>
            <p:cNvCxnSpPr/>
            <p:nvPr/>
          </p:nvCxnSpPr>
          <p:spPr>
            <a:xfrm flipH="1">
              <a:off x="7296480" y="945720"/>
              <a:ext cx="1280880" cy="2162880"/>
            </a:xfrm>
            <a:prstGeom prst="straightConnector1">
              <a:avLst/>
            </a:prstGeom>
            <a:ln w="381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229" name="TextBox 14"/>
            <p:cNvSpPr/>
            <p:nvPr/>
          </p:nvSpPr>
          <p:spPr>
            <a:xfrm rot="18035400">
              <a:off x="6354360" y="174780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0"/>
                  </a:solidFill>
                  <a:latin typeface="Calibri"/>
                </a:rPr>
                <a:t>Flexibility and adap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nowledge Pack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or each knowledge representation layer in CDS stack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ata standar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rolled medical terminology, concept definitions, allowable values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ogic specificat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statement of rule logic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unctional requirement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specification of IT feature requirements for expression of knowledge – rule, order set, template, etc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port specificat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description of method for CDS impact measurement and assessment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8600" y="8046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te CDS Knowledge Spec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98600" y="2286000"/>
          <a:ext cx="8229600" cy="334980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Mea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Nar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Semi-struct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bs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Machine interpre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34" name="TextBox 6"/>
          <p:cNvSpPr/>
          <p:nvPr/>
        </p:nvSpPr>
        <p:spPr>
          <a:xfrm>
            <a:off x="2037960" y="3657600"/>
            <a:ext cx="675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 complete functional spec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to accommodate and facilitate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variety of implementation methods in H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8046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te CDS Knowledge Specificat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98600" y="1981080"/>
          <a:ext cx="8229600" cy="4023000"/>
        </p:xfrm>
        <a:graphic>
          <a:graphicData uri="http://schemas.openxmlformats.org/drawingml/2006/table">
            <a:tbl>
              <a:tblPr/>
              <a:tblGrid>
                <a:gridCol w="1646280"/>
                <a:gridCol w="1645920"/>
                <a:gridCol w="1644840"/>
                <a:gridCol w="1646280"/>
                <a:gridCol w="16462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Log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Mea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Nar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f the patient’s creatin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 elevated th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void metformi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show an alert (on screen or pap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metformin pts w/ high C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Semi-struct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value: creatin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 scenario: Elevated Cr… Action: avoid metfor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 results, medication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ta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: all metformin 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: high Cr &amp; metfor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Abstr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INC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9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cr &gt; 1.2 mg/d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 user “d/c metformin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 with rule evaluation capability, alerting fun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Set = {med=metformin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omSet = {cr &gt; 1.2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90"/>
                          </a:solidFill>
                          <a:latin typeface="Arial"/>
                        </a:rPr>
                        <a:t>Machine interpre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* from labs where ID = 2159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(cr&gt;1.2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t(“d/c metformin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OE with lab, meds and alerting capab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 count(*) where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37" name="Line 85"/>
          <p:cNvSpPr/>
          <p:nvPr/>
        </p:nvSpPr>
        <p:spPr>
          <a:xfrm>
            <a:off x="380880" y="26668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6"/>
          <p:cNvSpPr/>
          <p:nvPr/>
        </p:nvSpPr>
        <p:spPr>
          <a:xfrm rot="16200000">
            <a:off x="-188640" y="2954880"/>
            <a:ext cx="82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7"/>
          <p:cNvSpPr/>
          <p:nvPr/>
        </p:nvSpPr>
        <p:spPr>
          <a:xfrm rot="16200000">
            <a:off x="-188640" y="5448240"/>
            <a:ext cx="820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9"/>
          <p:cNvSpPr/>
          <p:nvPr/>
        </p:nvSpPr>
        <p:spPr>
          <a:xfrm>
            <a:off x="8839080" y="26668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0"/>
          <p:cNvSpPr/>
          <p:nvPr/>
        </p:nvSpPr>
        <p:spPr>
          <a:xfrm rot="16200000">
            <a:off x="8435880" y="2946960"/>
            <a:ext cx="1096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1"/>
          <p:cNvSpPr/>
          <p:nvPr/>
        </p:nvSpPr>
        <p:spPr>
          <a:xfrm rot="16200000">
            <a:off x="8637840" y="5443200"/>
            <a:ext cx="69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6"/>
          <p:cNvSpPr/>
          <p:nvPr/>
        </p:nvSpPr>
        <p:spPr>
          <a:xfrm>
            <a:off x="6707160" y="1447920"/>
            <a:ext cx="2209680" cy="449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4421160" y="1447920"/>
            <a:ext cx="2286000" cy="449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4"/>
          <p:cNvSpPr/>
          <p:nvPr/>
        </p:nvSpPr>
        <p:spPr>
          <a:xfrm>
            <a:off x="2287440" y="1447920"/>
            <a:ext cx="2133720" cy="449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230040" y="1447920"/>
            <a:ext cx="2057400" cy="4495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1" descr=""/>
          <p:cNvPicPr/>
          <p:nvPr/>
        </p:nvPicPr>
        <p:blipFill>
          <a:blip r:embed="rId1"/>
          <a:stretch/>
        </p:blipFill>
        <p:spPr>
          <a:xfrm>
            <a:off x="7240680" y="1600200"/>
            <a:ext cx="1342800" cy="10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Knowledge Artifacts by Layer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Documents"/>
          <p:cNvSpPr/>
          <p:nvPr/>
        </p:nvSpPr>
        <p:spPr>
          <a:xfrm>
            <a:off x="534960" y="1676520"/>
            <a:ext cx="838080" cy="1371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2"/>
          <a:stretch/>
        </p:blipFill>
        <p:spPr>
          <a:xfrm>
            <a:off x="2630520" y="1676520"/>
            <a:ext cx="1333440" cy="123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4573440" y="1600200"/>
            <a:ext cx="1371600" cy="1362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4"/>
          <a:stretch/>
        </p:blipFill>
        <p:spPr>
          <a:xfrm>
            <a:off x="6935760" y="4038480"/>
            <a:ext cx="1609920" cy="9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3" name="Picture 7" descr=""/>
          <p:cNvPicPr/>
          <p:nvPr/>
        </p:nvPicPr>
        <p:blipFill>
          <a:blip r:embed="rId5"/>
          <a:stretch/>
        </p:blipFill>
        <p:spPr>
          <a:xfrm>
            <a:off x="7088040" y="4267080"/>
            <a:ext cx="1609920" cy="92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4" name="Picture 9" descr=""/>
          <p:cNvPicPr/>
          <p:nvPr/>
        </p:nvPicPr>
        <p:blipFill>
          <a:blip r:embed="rId6"/>
          <a:stretch/>
        </p:blipFill>
        <p:spPr>
          <a:xfrm>
            <a:off x="4726080" y="3809880"/>
            <a:ext cx="97128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5" name="Picture 12" descr=""/>
          <p:cNvPicPr/>
          <p:nvPr/>
        </p:nvPicPr>
        <p:blipFill>
          <a:blip r:embed="rId7"/>
          <a:stretch/>
        </p:blipFill>
        <p:spPr>
          <a:xfrm>
            <a:off x="7773840" y="2171880"/>
            <a:ext cx="99072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256" name="Straight Arrow Connector 28"/>
          <p:cNvCxnSpPr>
            <a:stCxn id="249" idx="12"/>
          </p:cNvCxnSpPr>
          <p:nvPr/>
        </p:nvCxnSpPr>
        <p:spPr>
          <a:xfrm flipV="1">
            <a:off x="1372680" y="2295000"/>
            <a:ext cx="1258200" cy="6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Straight Arrow Connector 30"/>
          <p:cNvCxnSpPr/>
          <p:nvPr/>
        </p:nvCxnSpPr>
        <p:spPr>
          <a:xfrm flipV="1">
            <a:off x="3963600" y="2280600"/>
            <a:ext cx="61020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Straight Arrow Connector 32"/>
          <p:cNvCxnSpPr/>
          <p:nvPr/>
        </p:nvCxnSpPr>
        <p:spPr>
          <a:xfrm flipV="1">
            <a:off x="5944680" y="2128320"/>
            <a:ext cx="12963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Straight Arrow Connector 34"/>
          <p:cNvCxnSpPr/>
          <p:nvPr/>
        </p:nvCxnSpPr>
        <p:spPr>
          <a:xfrm>
            <a:off x="5945040" y="2281320"/>
            <a:ext cx="1829520" cy="44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Straight Arrow Connector 36"/>
          <p:cNvCxnSpPr/>
          <p:nvPr/>
        </p:nvCxnSpPr>
        <p:spPr>
          <a:xfrm>
            <a:off x="3963600" y="2295000"/>
            <a:ext cx="762840" cy="204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Straight Arrow Connector 38"/>
          <p:cNvCxnSpPr>
            <a:endCxn id="248" idx="1"/>
          </p:cNvCxnSpPr>
          <p:nvPr/>
        </p:nvCxnSpPr>
        <p:spPr>
          <a:xfrm>
            <a:off x="5697360" y="4335120"/>
            <a:ext cx="1239120" cy="16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Straight Arrow Connector 42"/>
          <p:cNvCxnSpPr/>
          <p:nvPr/>
        </p:nvCxnSpPr>
        <p:spPr>
          <a:xfrm>
            <a:off x="5697000" y="4335480"/>
            <a:ext cx="13910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Box 44"/>
          <p:cNvSpPr/>
          <p:nvPr/>
        </p:nvSpPr>
        <p:spPr>
          <a:xfrm>
            <a:off x="385920" y="3200400"/>
            <a:ext cx="11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id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5"/>
          <p:cNvSpPr/>
          <p:nvPr/>
        </p:nvSpPr>
        <p:spPr>
          <a:xfrm>
            <a:off x="2278800" y="3124080"/>
            <a:ext cx="19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mi-struct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46"/>
          <p:cNvSpPr/>
          <p:nvPr/>
        </p:nvSpPr>
        <p:spPr>
          <a:xfrm>
            <a:off x="4604400" y="30481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7"/>
          <p:cNvSpPr/>
          <p:nvPr/>
        </p:nvSpPr>
        <p:spPr>
          <a:xfrm>
            <a:off x="4497120" y="49528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Order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8"/>
          <p:cNvSpPr/>
          <p:nvPr/>
        </p:nvSpPr>
        <p:spPr>
          <a:xfrm>
            <a:off x="6863040" y="33148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able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9"/>
          <p:cNvSpPr/>
          <p:nvPr/>
        </p:nvSpPr>
        <p:spPr>
          <a:xfrm>
            <a:off x="6934320" y="5257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der Sets in CPO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omplishments to Dat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start 3/08)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533520" y="1461960"/>
          <a:ext cx="8229600" cy="4556160"/>
        </p:xfrm>
        <a:graphic>
          <a:graphicData uri="http://schemas.openxmlformats.org/drawingml/2006/table">
            <a:tbl>
              <a:tblPr/>
              <a:tblGrid>
                <a:gridCol w="2701800"/>
                <a:gridCol w="5527800"/>
              </a:tblGrid>
              <a:tr h="11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M Lifecycle Assessmen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d Knowledge Management and CDS Survey and sent it out to the Consortium sites.  PHS and Regenstrief have returned the surv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HS Site Visit, June 16-20.  Interviewed and shadowed Partners physicians about their knowledge management and CDS pract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ite visits to Regenstrief and VA scheduled and shepherds identi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nowledge Translation and Specification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d semi structured representation and presented work to AHRQ and TEP on July 11, 200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raft clinical action model develop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KM Por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livered eRoom as a collaborative environment for CDSC activities and finalized KM Portal design hard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Vendor Generalization and CCHIT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d capability reviews of nine EHR systems through customer interviews to assess their decision support feature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DS Services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ompleted literature review on current service-oriented architectures for clinical decision suppor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eginning service develop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Joint Information Modeling Working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Patient data model and terminologies selec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veloping conceptual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veloping localization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SimSun"/>
              </a:rPr>
              <a:t>Timeline Overview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98600" y="1806480"/>
          <a:ext cx="8194680" cy="3337200"/>
        </p:xfrm>
        <a:graphic>
          <a:graphicData uri="http://schemas.openxmlformats.org/drawingml/2006/table">
            <a:tbl>
              <a:tblPr/>
              <a:tblGrid>
                <a:gridCol w="2209680"/>
                <a:gridCol w="2341440"/>
                <a:gridCol w="1544760"/>
                <a:gridCol w="2098800"/>
              </a:tblGrid>
              <a:tr h="4208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ar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Year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 Management Lifecycl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  Translation and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ledge Portal &amp; Reposi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S Web Services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dor Recommendation/CCH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o Phase 1: L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54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semi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4" name="Picture 3" descr="You_are_here"/>
          <p:cNvPicPr/>
          <p:nvPr/>
        </p:nvPicPr>
        <p:blipFill>
          <a:blip r:embed="rId1"/>
          <a:stretch/>
        </p:blipFill>
        <p:spPr>
          <a:xfrm>
            <a:off x="1900080" y="1523880"/>
            <a:ext cx="5426280" cy="3584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2940480" y="5257800"/>
            <a:ext cx="571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Thank you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Blackford Middleton, MD, MPH, 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0"/>
                </a:solidFill>
                <a:latin typeface="Arial"/>
              </a:rPr>
              <a:t>bmiddleton1@partner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HRQ CDS Demonstration Project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je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, implement, and evaluate projects that advance the understanding of how best to incorporate CDS into health care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verall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 how the translation of clinical knowledge into CDS can be routinized in practice and taken to scale in order to improve the quality of healthcare delivery in the U.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25 million per project per year for two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horizontalbw"/>
          <p:cNvPicPr/>
          <p:nvPr/>
        </p:nvPicPr>
        <p:blipFill>
          <a:blip r:embed="rId1"/>
          <a:stretch/>
        </p:blipFill>
        <p:spPr>
          <a:xfrm>
            <a:off x="6248520" y="5791320"/>
            <a:ext cx="263988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DS Background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nical decision support (CDS) has been applied to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crease quality and patient safet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mprove adherence to guidelines for prevention and treatme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void medication erro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ystematic reviews have shown that CDS can be useful across a variety of clinical purposes and topic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rriers to effective CD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86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urrent adoption of advanced clinical decision support is limited due to a variety of reasons, including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572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implementation of EMR, CPOE, PHR, etc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 developing clinical practice guideli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lack of standards for knowledge represen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bsence of a central repository for knowledge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or support for CDS in commercial EH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 tailoring CDS to context of c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s in integrating CDS into the clinical work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91440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limited understanding of organizational, and cultural issues relating to clinical decision support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he CDS Consortium Primary Goal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6840" y="1752120"/>
            <a:ext cx="827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sses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monstrat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valuat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best practices for knowledge management and clinical decision support in healthcare information technology at scale – across multiple ambulatory care settings and EHR technology platforms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6854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DS Consortium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Founding Member Institution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8600" y="1828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artners HealthCa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genstrief Institu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Veterans Health Administrat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Kaiser Permanente Center for Health Research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regon Health and Science Universit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niversity of Texas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9000" y="182844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emens Medical Solution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GE Healthcar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assPro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extGe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8600" y="60948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SimSun"/>
              </a:rPr>
              <a:t>Six Specific Research Objective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Knowledge management lifecyc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Knowledge spec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Knowledge Portal and Repos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CDS Knowledge Content and Public Web Servic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Evalu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spcAft>
                <a:spcPts val="41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SimSun"/>
              </a:rPr>
              <a:t>Dissemin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98600" y="3924360"/>
          <a:ext cx="8229600" cy="18669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. Knowledge Management Life Cyc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c0000"/>
                        </a:gs>
                        <a:gs pos="50000">
                          <a:srgbClr val="ff0000"/>
                        </a:gs>
                        <a:gs pos="100000">
                          <a:srgbClr val="ec00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2. Knowledg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Specif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3. Knowledge Portal and Reposito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4. CDS Public Services and Cont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5. Evaluation Process for each CDS Assessment and Research Are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6. Dissemination Process for each Assessment and Research Are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DS Consortium Teams chart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86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52280" y="1260360"/>
            <a:ext cx="883944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7"/>
          <p:cNvSpPr/>
          <p:nvPr/>
        </p:nvSpPr>
        <p:spPr>
          <a:xfrm>
            <a:off x="57240" y="1289160"/>
            <a:ext cx="8915400" cy="45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orkflow Diagram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227640" y="33130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122400" y="2660760"/>
            <a:ext cx="1523880" cy="76176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Lifecycle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"/>
          <p:cNvSpPr/>
          <p:nvPr/>
        </p:nvSpPr>
        <p:spPr>
          <a:xfrm>
            <a:off x="4933800" y="2584440"/>
            <a:ext cx="152424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048200" y="26607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952800" y="299412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Errors and Gaps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019400" y="2965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9"/>
          <p:cNvSpPr/>
          <p:nvPr/>
        </p:nvSpPr>
        <p:spPr>
          <a:xfrm>
            <a:off x="6791400" y="2612880"/>
            <a:ext cx="175248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6432480" y="2913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1"/>
          <p:cNvSpPr/>
          <p:nvPr/>
        </p:nvSpPr>
        <p:spPr>
          <a:xfrm>
            <a:off x="2517840" y="2584440"/>
            <a:ext cx="1523880" cy="83808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Translation 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"/>
          <p:cNvSpPr/>
          <p:nvPr/>
        </p:nvSpPr>
        <p:spPr>
          <a:xfrm>
            <a:off x="7248600" y="1593720"/>
            <a:ext cx="152388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S Dashbo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3"/>
          <p:cNvSpPr/>
          <p:nvPr/>
        </p:nvSpPr>
        <p:spPr>
          <a:xfrm>
            <a:off x="2523960" y="4413240"/>
            <a:ext cx="152424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 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5800680" y="3705120"/>
            <a:ext cx="1523880" cy="762120"/>
          </a:xfrm>
          <a:prstGeom prst="ellipse">
            <a:avLst/>
          </a:prstGeom>
          <a:solidFill>
            <a:srgbClr val="ea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HIT/HIT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P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comm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5724360" y="333684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 flipH="1">
            <a:off x="6867360" y="33465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114480" y="1546200"/>
            <a:ext cx="879156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9"/>
          <p:cNvSpPr/>
          <p:nvPr/>
        </p:nvSpPr>
        <p:spPr>
          <a:xfrm>
            <a:off x="5726160" y="2443320"/>
            <a:ext cx="167652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0"/>
          <p:cNvSpPr/>
          <p:nvPr/>
        </p:nvSpPr>
        <p:spPr>
          <a:xfrm>
            <a:off x="6159600" y="3292560"/>
            <a:ext cx="914400" cy="75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1"/>
          <p:cNvSpPr/>
          <p:nvPr/>
        </p:nvSpPr>
        <p:spPr>
          <a:xfrm>
            <a:off x="4048200" y="3346560"/>
            <a:ext cx="4190760" cy="1676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2"/>
          <p:cNvSpPr/>
          <p:nvPr/>
        </p:nvSpPr>
        <p:spPr>
          <a:xfrm>
            <a:off x="4016520" y="2279520"/>
            <a:ext cx="487656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6934320" y="3465360"/>
            <a:ext cx="92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6118200" y="2214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6180120" y="2565360"/>
            <a:ext cx="101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ice Defin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26"/>
          <p:cNvSpPr/>
          <p:nvPr/>
        </p:nvSpPr>
        <p:spPr>
          <a:xfrm>
            <a:off x="3819600" y="1778040"/>
            <a:ext cx="3429000" cy="914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>
            <a:off x="5224320" y="164772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195880" y="191916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Gaps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 rot="20045400">
            <a:off x="7629480" y="509868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Gaps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9726800">
            <a:off x="7324920" y="4565160"/>
            <a:ext cx="15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 Data Elements Cat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1"/>
          <p:cNvGrpSpPr/>
          <p:nvPr/>
        </p:nvGrpSpPr>
        <p:grpSpPr>
          <a:xfrm>
            <a:off x="3362400" y="3422520"/>
            <a:ext cx="438840" cy="990360"/>
            <a:chOff x="3362400" y="3422520"/>
            <a:chExt cx="438840" cy="990360"/>
          </a:xfrm>
        </p:grpSpPr>
        <p:sp>
          <p:nvSpPr>
            <p:cNvPr id="184" name="Freeform 32"/>
            <p:cNvSpPr/>
            <p:nvPr/>
          </p:nvSpPr>
          <p:spPr>
            <a:xfrm>
              <a:off x="3362400" y="3422520"/>
              <a:ext cx="152280" cy="990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3"/>
            <p:cNvSpPr/>
            <p:nvPr/>
          </p:nvSpPr>
          <p:spPr>
            <a:xfrm rot="4905600">
              <a:off x="3330720" y="3756240"/>
              <a:ext cx="609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e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34"/>
          <p:cNvSpPr/>
          <p:nvPr/>
        </p:nvSpPr>
        <p:spPr>
          <a:xfrm flipH="1">
            <a:off x="3742920" y="3270240"/>
            <a:ext cx="16002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/>
          <p:cNvSpPr/>
          <p:nvPr/>
        </p:nvSpPr>
        <p:spPr>
          <a:xfrm rot="19291800">
            <a:off x="3515040" y="365076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alogs (rules and servi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36"/>
          <p:cNvGrpSpPr/>
          <p:nvPr/>
        </p:nvGrpSpPr>
        <p:grpSpPr>
          <a:xfrm>
            <a:off x="3879720" y="3974760"/>
            <a:ext cx="2008080" cy="601920"/>
            <a:chOff x="3879720" y="3974760"/>
            <a:chExt cx="2008080" cy="601920"/>
          </a:xfrm>
        </p:grpSpPr>
        <p:sp>
          <p:nvSpPr>
            <p:cNvPr id="189" name="Line 37"/>
            <p:cNvSpPr/>
            <p:nvPr/>
          </p:nvSpPr>
          <p:spPr>
            <a:xfrm flipH="1">
              <a:off x="3879720" y="4238640"/>
              <a:ext cx="200808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8"/>
            <p:cNvSpPr/>
            <p:nvPr/>
          </p:nvSpPr>
          <p:spPr>
            <a:xfrm rot="21056400">
              <a:off x="4395600" y="407520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commenda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39"/>
          <p:cNvSpPr/>
          <p:nvPr/>
        </p:nvSpPr>
        <p:spPr>
          <a:xfrm>
            <a:off x="3971880" y="56167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0"/>
          <p:cNvSpPr/>
          <p:nvPr/>
        </p:nvSpPr>
        <p:spPr>
          <a:xfrm>
            <a:off x="4048200" y="532764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"/>
          <p:cNvSpPr/>
          <p:nvPr/>
        </p:nvSpPr>
        <p:spPr>
          <a:xfrm rot="2794200">
            <a:off x="1616400" y="371916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sons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2"/>
          <p:cNvSpPr/>
          <p:nvPr/>
        </p:nvSpPr>
        <p:spPr>
          <a:xfrm>
            <a:off x="1305000" y="3346560"/>
            <a:ext cx="1371600" cy="12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3"/>
          <p:cNvSpPr/>
          <p:nvPr/>
        </p:nvSpPr>
        <p:spPr>
          <a:xfrm rot="2653800">
            <a:off x="1304640" y="39556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uggestions for Survey Cre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2219400" y="2279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Lessons for Survey Cre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45"/>
          <p:cNvSpPr/>
          <p:nvPr/>
        </p:nvSpPr>
        <p:spPr>
          <a:xfrm>
            <a:off x="923760" y="2268360"/>
            <a:ext cx="4365720" cy="392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6"/>
          <p:cNvSpPr/>
          <p:nvPr/>
        </p:nvSpPr>
        <p:spPr>
          <a:xfrm>
            <a:off x="2371680" y="197496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ssons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7"/>
          <p:cNvSpPr/>
          <p:nvPr/>
        </p:nvSpPr>
        <p:spPr>
          <a:xfrm>
            <a:off x="1619280" y="3059280"/>
            <a:ext cx="10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Suggestions for Survey Cre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8"/>
          <p:cNvGrpSpPr/>
          <p:nvPr/>
        </p:nvGrpSpPr>
        <p:grpSpPr>
          <a:xfrm>
            <a:off x="1643040" y="2738520"/>
            <a:ext cx="885960" cy="303120"/>
            <a:chOff x="1643040" y="2738520"/>
            <a:chExt cx="885960" cy="303120"/>
          </a:xfrm>
        </p:grpSpPr>
        <p:sp>
          <p:nvSpPr>
            <p:cNvPr id="201" name="Text Box 49"/>
            <p:cNvSpPr/>
            <p:nvPr/>
          </p:nvSpPr>
          <p:spPr>
            <a:xfrm>
              <a:off x="1685880" y="2738520"/>
              <a:ext cx="83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esson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50"/>
            <p:cNvSpPr/>
            <p:nvPr/>
          </p:nvSpPr>
          <p:spPr>
            <a:xfrm>
              <a:off x="1643040" y="3041640"/>
              <a:ext cx="8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51"/>
          <p:cNvSpPr/>
          <p:nvPr/>
        </p:nvSpPr>
        <p:spPr>
          <a:xfrm rot="4135200">
            <a:off x="2288160" y="3776400"/>
            <a:ext cx="10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Arial"/>
              </a:rPr>
              <a:t>Errors and Gaps Feedb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2"/>
          <p:cNvSpPr/>
          <p:nvPr/>
        </p:nvSpPr>
        <p:spPr>
          <a:xfrm>
            <a:off x="2828880" y="33465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 rot="3970200">
            <a:off x="2775240" y="37188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s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4"/>
          <p:cNvSpPr/>
          <p:nvPr/>
        </p:nvSpPr>
        <p:spPr>
          <a:xfrm>
            <a:off x="5415120" y="3427560"/>
            <a:ext cx="909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5"/>
          <p:cNvGrpSpPr/>
          <p:nvPr/>
        </p:nvGrpSpPr>
        <p:grpSpPr>
          <a:xfrm>
            <a:off x="7620120" y="2333520"/>
            <a:ext cx="552240" cy="304560"/>
            <a:chOff x="7620120" y="2333520"/>
            <a:chExt cx="552240" cy="304560"/>
          </a:xfrm>
        </p:grpSpPr>
        <p:sp>
          <p:nvSpPr>
            <p:cNvPr id="208" name="Line 56"/>
            <p:cNvSpPr/>
            <p:nvPr/>
          </p:nvSpPr>
          <p:spPr>
            <a:xfrm flipV="1">
              <a:off x="7620120" y="23335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7"/>
            <p:cNvSpPr/>
            <p:nvPr/>
          </p:nvSpPr>
          <p:spPr>
            <a:xfrm>
              <a:off x="7705800" y="2366640"/>
              <a:ext cx="466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 Box 58"/>
          <p:cNvSpPr/>
          <p:nvPr/>
        </p:nvSpPr>
        <p:spPr>
          <a:xfrm>
            <a:off x="6138720" y="48816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9"/>
          <p:cNvSpPr/>
          <p:nvPr/>
        </p:nvSpPr>
        <p:spPr>
          <a:xfrm>
            <a:off x="6159600" y="4643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0"/>
          <p:cNvSpPr/>
          <p:nvPr/>
        </p:nvSpPr>
        <p:spPr>
          <a:xfrm rot="19308000">
            <a:off x="4200840" y="3727080"/>
            <a:ext cx="108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Gaps Feedb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20:03:38Z</dcterms:created>
  <dc:creator>Partners Information Systems</dc:creator>
  <dc:description/>
  <cp:keywords/>
  <dc:language>en-US</dc:language>
  <cp:lastModifiedBy>Blackford Middleton</cp:lastModifiedBy>
  <dcterms:modified xsi:type="dcterms:W3CDTF">2008-09-07T13:18:51Z</dcterms:modified>
  <cp:revision>90</cp:revision>
  <dc:subject/>
  <dc:title>AHRQ Clinical Decision  Support (CDS) Consorti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