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 type="sldNum" idx="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4B36-016F-4A89-941D-A664138DC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enhancing-peer-review.nih.gov/Meetings/NIHPeerReviewReportFINALDRAFT.pdf" TargetMode="External"/><Relationship Id="rId2" Type="http://schemas.openxmlformats.org/officeDocument/2006/relationships/hyperlink" Target="http://www.cancer.gov/" TargetMode="External"/><Relationship Id="rId3" Type="http://schemas.openxmlformats.org/officeDocument/2006/relationships/slide" Target="../slides/slide12.xml"/><Relationship Id="rId4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792F-D6FC-4189-AD15-AEA71C6F275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5418-4206-419A-A6A6-942B342932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6C11-6355-4DBF-87E2-A09C41FC3FA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hristian, M. C., &amp; Trimble, E. L. (2003)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ung, N.S., Crowley, W.F. Jr, Genel, M. et al. (2003). Central challenges facing the national clinical research enterprise.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</a:rPr>
              <a:t> JAMA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89(10):1305-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NIH Director's Council of Public Representatives. 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</a:rPr>
              <a:t>Public Trust in Clinical Research.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(2004)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stitute of Medicine. (2003). 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</a:rPr>
              <a:t>Exploring Challenges, Progress, and New Models for Engaging the Public in the Clinical Research Enterprise: Clinical Research Roundtable Workshop Summary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.  National Academy of Sciences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National Institutes Of Health 2007-2008 Peer Review Self-Study Final Draft. Available: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nhancing-Peer-Review.Nih.Gov/Meetings/NIHPeerReviewReportFINALDRAFT.pd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esident’s Cancer Panel.(2005).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</a:rPr>
              <a:t> Translating Research into Cancer Care: Delivering on the Promise. (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005)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stitute of Medicine. (1999)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stitute of Medicine. (2008) National Cancer Policy Forum Multi-Center Phase III Clinical Trials and NCI Cooperative Grou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National Cancer Institute. Clinical Trials Working Group (CTWG) 2005 report. Available: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ancer.go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 –Change. A Guidance Document for Implementing Effective Cancer Clinical Trials: Executive Summary. (2005)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223A-9F10-4425-9316-296676B2AC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4502-868C-4D1A-91E0-1EE4127CB8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F50D-512C-4C4A-B691-04E6F960561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B71A-8543-4DDF-B6B9-5AFFE20A7A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70BB-3612-432F-B125-EA2BAEC155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30D6-A2A9-4907-8262-28A2272839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1BEC-F3E2-428B-AB52-A94B2E9234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FF22-213D-4AE9-9923-ED528EB8BBC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 on medically under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57C9-00D6-464A-B2F5-8AFF0A6BDF6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 on medically under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28C6-260D-4BFF-A3FF-F46742BB5E3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05A8-E86F-4992-A74F-798AC7F5B8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DBC8-F681-436C-99F2-E68778C0FF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0425-92D6-48DF-A7F6-406E2BAAD46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2CA6-631B-4A8B-B53E-C4102728CB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864C-F10B-47E0-B7FB-37FF88EDD5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1BB6-5A04-4B58-8735-36DC2858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48A-4CFF-4D90-9CDA-0C4609BA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243-4FB5-402E-8E74-BA03554D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E66-EE4C-45CE-B723-A4418B30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9B5B-A88A-4724-BAA3-FB0C41BB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0680-9A18-4EF3-98AE-8D2D2B46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6AF7-9993-4040-BE75-80BD7E7B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8F8F-1DB3-4002-896F-177C5E2B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28A5-1EB8-474F-A811-2A2DCE8F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88C0-1B25-4D1F-9684-53EA35C5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AB63-6090-4DEA-A6AE-6EB74920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4E5-C4FE-4CDD-9EDC-A46E37C8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8F10-6084-4B00-B02F-289F869C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E0D8-8453-43FF-BF47-3DDD7377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0E82-9AB0-40C0-8112-94AE9ADB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D99D-5A6F-4891-8EE5-64608309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3376-9BBE-4535-A764-446B9809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C9986-EDD0-4B68-937E-6A010EEE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A489-706E-4293-816C-593445B2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274C3-C16C-4437-9038-32074138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1D0DE-0B9E-4620-8536-26D8A4CA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D9DF1-4B0F-4F8B-91C6-EC4A10F5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49DC-94AD-4C92-B8AA-EF6AEBC2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3E755-B3A7-46D2-96EE-C6F6AFDD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7CE92-3F81-403B-9356-FC51E43A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21815-22CC-48DF-9E8B-267AF958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3DC7A-94B2-46FF-B42F-AA0A117A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D7506-A89B-4C9F-82CE-773483E8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EB1FD-A392-40C7-8E1E-A731ED15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A17FD-B84F-4A74-AC31-8B762E6D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53F3B-3E0A-4727-B907-B420A047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03040-64BA-4C2A-B928-7226F32A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1F720-C4BC-44EE-980E-4F7FFA4A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CD34-D452-4A88-9B91-8B1DB939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34177-F539-4C08-833F-6804CA6D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FFFAC-9DC3-4C4F-A879-EED7A22D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289EE-0A3F-4C1E-AD74-7BE3BD6C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C6796-ADD7-4D08-AD97-01CAD1E5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61FEC-D6A2-4BB5-8B68-2B52C305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B6461-4022-48E4-9AEE-36CAC946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4AB0F-43ED-4374-A306-773D607A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AE6E0-6074-48D7-B2D3-03288301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F6D48-F6C8-4CDF-AD7D-4E3017AB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2F547-0502-41D1-9D5B-9A74C8C1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7D95-6FBB-415C-8204-E927C9A6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17D0C-7EBE-4D61-97DC-B7B0A2E5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5DCA1-58C7-4A34-9FFD-5430FA82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AB5F0-A9E2-438D-98A0-4B471817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EBAAA-A153-4DE7-910A-D5DC2035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29060-645C-4AC0-9336-2E195D7E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ADA50-68E3-49FA-9843-7571657F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FC88C-5DD2-46BE-9279-73ED5DD0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CA3BB-BEC0-430E-9303-B7443E21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16592-0F3F-48CA-A516-212263CB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C72B8-2C7B-4373-B133-44D73D05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96D6-3E76-44C1-8388-4FBF3200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9793D-5FC9-4399-A13D-4163D6DD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195CE-1161-430E-8866-9E184176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5F27A-4C03-45F8-A5F3-210896D8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2C631-9F05-4E9D-9117-7B113343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32975-74BB-466E-8D6F-D6429247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857B8-1BED-4862-84C1-5C7A2465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4DD57-0159-4967-B937-1C0B0E00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06895-5064-4577-8A52-2BC2CB40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D890E-E862-4E04-A720-011A177E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742AE-BA4B-4FE0-AE9C-ED388DA4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2E2D-317E-402C-B2E2-D7E9AA32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A1B93-7CAD-45EF-A0C7-B348DD42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57709-3218-4609-8F2B-A80AF472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A3C17-F07B-4A58-AB05-414144CB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9D60DA-A9FB-41C0-BCBF-A6B0EC5692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F32D68-2DF7-4B88-8280-EF000123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C6D949-3382-4FD4-B471-FD3A821D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B30AE8-B9A8-4222-A9E3-06C21E0A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B270BA-1292-476D-BEFE-C83F901B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F1CC48-D81D-4A1F-9AF3-55D56C3B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F48421-96C2-4E51-8B59-7A813703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CA0C-2795-4F8C-95C2-589C59D6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8F2194-8987-43C9-AE36-33AB0ACA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3F1A44-F65D-404C-902C-F27EAE4C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A07736-7C03-4CC1-AE36-CE7C41D8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8B9550-5D9D-47AC-AF07-74667626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C7629D-E00D-4EFD-A8BD-A9F32CDF42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240-98CC-4E5A-943C-E73B65F7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DF19-EF68-4A69-ACE5-81D34FB5A2E5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1FD2-7916-4703-80A2-67BC97345B1D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ADEE-73A9-4564-A65D-B927D1B6E274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0C35-6129-475A-9DA3-775F56C6A23B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8E48-3A18-4BE5-8292-7AD9F63B1C60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8C5E-BC3B-419B-9808-2E3839FED089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2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F222-50C2-4AB5-8292-AC755B73F3C1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bprcurriculum.info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nacct.org/" TargetMode="External"/><Relationship Id="rId2" Type="http://schemas.openxmlformats.org/officeDocument/2006/relationships/hyperlink" Target="http://www.ccph.net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0" y="4876920"/>
            <a:ext cx="91440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go Michaels, M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ve Director, ENAC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 PI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unities as Partners in Cancer Clinical Tri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R13-HS01647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0" y="3123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Franklin Gothic Book"/>
              </a:rPr>
              <a:t>Panel on Use and Implementation of EHC and EPC  Research Products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Franklin Gothic Book"/>
              </a:rPr>
              <a:t>September 10, 2008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Title 2"/>
          <p:cNvSpPr/>
          <p:nvPr/>
        </p:nvSpPr>
        <p:spPr>
          <a:xfrm>
            <a:off x="0" y="14479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Using EPC Reports to Promote Changes in Research, Practice and Policy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A Perspective from Two NG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ENACCT’s 3-pronged training program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805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barriers relate to lack of knowledge and underlying attitudes and beliefs among patients, communities, primary care providers, oncology team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order to increase CCT participation, it is critical to enhance the knowledge, attitude, and skills of </a:t>
            </a: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each of these grou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Use of the EPCs by our Respective Organizations: CCPH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vidence Report on CBP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004: Disseminated report through CCPH website, listservs &amp; newsletter (4000+ audienc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004: Sponsored first teleconference on the report, featuring authors as speakers (300 attende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005-2007: Incorporated findings into CBPR institutes at APHA and CCPH conferences (500 attende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005-2008: Incorporated review guidelines into merit review for Healthier Wisconsin Partnership 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006: Incorporated findings into evidence-based curriculum, </a:t>
            </a:r>
            <a:r>
              <a:rPr b="0" lang="en-US" sz="26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www.cbprcurriculum.inf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2000+ hit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Use of the EPCs by ENACCT &amp; CCPH together: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nale for Conference Grant Application to AHRQ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IH, NCI, IOM and the literature have called for the inclusion of public representatives in research design and implementation to address low accrual and improve research outco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can we leverage the findings of these two evidence reports into action recommendations that will lead to changes in design and implementation of Pha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 treatment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nical trial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0" y="30481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80440" indent="-2563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ational strategic planning effort with core funding from the Agency for Healthcare Research and Quality and the National Cancer Institute (NCI)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0440" indent="-2563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core financial support fr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83840" indent="-18252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nce Armstrong Found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83840" indent="-18252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Society of Clinical Oncolog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83840" indent="-18252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nte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83840" indent="-18252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xoSmithKl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Franklin Gothic Book"/>
              </a:rPr>
              <a:t>Communities as Partners in Cancer Clinical Trial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500" name="Picture 4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4038480" cy="11905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" descr=""/>
          <p:cNvPicPr/>
          <p:nvPr/>
        </p:nvPicPr>
        <p:blipFill>
          <a:blip r:embed="rId2"/>
          <a:stretch/>
        </p:blipFill>
        <p:spPr>
          <a:xfrm>
            <a:off x="0" y="1752480"/>
            <a:ext cx="510552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ject Purpo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bring together a diverse group of stakeholders to explore ways to improve Phase III cancer treatment trials, utilizing the principles &amp; approaches of  CBP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develop a national strategic plan for research, practice &amp; policy for incorporating CBPR principles &amp; approaches into Phase III cancer clinical trial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5 steps, 3 yea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505" name="Content Placeholder 3" descr=""/>
          <p:cNvPicPr/>
          <p:nvPr/>
        </p:nvPicPr>
        <p:blipFill>
          <a:blip r:embed="rId1"/>
          <a:stretch/>
        </p:blipFill>
        <p:spPr>
          <a:xfrm>
            <a:off x="-12600" y="225360"/>
            <a:ext cx="917568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4594320" cy="5851800"/>
          </a:xfrm>
          <a:prstGeom prst="rect">
            <a:avLst/>
          </a:prstGeom>
          <a:ln w="0">
            <a:noFill/>
          </a:ln>
        </p:spPr>
      </p:pic>
      <p:sp>
        <p:nvSpPr>
          <p:cNvPr id="507" name="Title 1"/>
          <p:cNvSpPr/>
          <p:nvPr/>
        </p:nvSpPr>
        <p:spPr>
          <a:xfrm>
            <a:off x="4572000" y="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ort Release-9/30/0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4952880" y="1315440"/>
            <a:ext cx="4191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 report to detai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Calibri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 the cancer clinical trial process would involve communities affected by cancer– from trial design to implementation to dissemination of results - with a strong focus on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  <a:ea typeface="Calibri"/>
              </a:rPr>
              <a:t>community engagement and CBP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Seven Areas of Recommendation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-360" y="1066680"/>
            <a:ext cx="9372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618480" indent="-26100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.  Ensuring a Meaningful Role for Community Representatives/Patient Advocates in Trial De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18480" indent="-26100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I. Ensuring Community Perspectives in the IRB Review Proces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18480" indent="-26100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II. Improving the Informed Consent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18480" indent="-26100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V. Ensuring Community Perspectives in Protocol Development, Trial Design and Imple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18480" indent="-26100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. Improving Trial Participant Recruitment, Accrual and Reten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18480" indent="-26100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. Enhancing Local Community Support for Cancer Re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18480" indent="-26100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I. Enhancing Community Interpretation, Dissemination and Implementation of Trial Outcom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4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ext Steps: Dissemination and Implementation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5238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ponso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CI and the pharmaceutical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ose designing and implementing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national Cooperative Groups, industry, and local clinical research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versight and quality improvement agenc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FDA, OHRP, AHRQ, and local Institutional Review Board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ccreditation organiz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ssociation for the Accreditation of Human Research Protection Programs and the American College of Surgeons’ Commission on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Franklin Gothic Book"/>
              </a:rPr>
              <a:t>Thank You!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761760" y="3504960"/>
            <a:ext cx="7467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www.enacct.or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www.ccph.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3"/>
          <a:stretch/>
        </p:blipFill>
        <p:spPr>
          <a:xfrm>
            <a:off x="0" y="2057400"/>
            <a:ext cx="4038480" cy="11905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"/>
          <p:cNvPicPr/>
          <p:nvPr/>
        </p:nvPicPr>
        <p:blipFill>
          <a:blip r:embed="rId4"/>
          <a:stretch/>
        </p:blipFill>
        <p:spPr>
          <a:xfrm>
            <a:off x="4038480" y="2133720"/>
            <a:ext cx="510552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04560" y="236196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903960" indent="-230040">
              <a:spcBef>
                <a:spcPts val="79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national organization solely devoted to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community-centered approach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cancer clinical trials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03960" indent="-230040">
              <a:spcBef>
                <a:spcPts val="79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dicated to finding evidence based approaches that work to change attitudes, behaviors and ultimately, accr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B83F-25F1-4E81-943D-03C2CC2B05B3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4" descr="logo"/>
          <p:cNvPicPr/>
          <p:nvPr/>
        </p:nvPicPr>
        <p:blipFill>
          <a:blip r:embed="rId1"/>
          <a:stretch/>
        </p:blipFill>
        <p:spPr>
          <a:xfrm>
            <a:off x="2057400" y="228600"/>
            <a:ext cx="4203720" cy="129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09" name="Rectangle 5"/>
          <p:cNvSpPr/>
          <p:nvPr/>
        </p:nvSpPr>
        <p:spPr>
          <a:xfrm>
            <a:off x="457200" y="6324480"/>
            <a:ext cx="83818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04920" y="190476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lvl="1" marL="505440" indent="-190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out 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05440" indent="-190800">
              <a:spcBef>
                <a:spcPts val="7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national organization devoted solely to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promoting health through partnerships between communities and higher educational institutions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ing community-based participatory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05440" indent="-190800">
              <a:spcBef>
                <a:spcPts val="7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s research &amp; evaluation, provides training &amp; technical assistance, convenes stakeholders, disseminates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05440" indent="-190800">
              <a:spcBef>
                <a:spcPts val="7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903A-3465-4222-9057-633B727238F9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457200" y="6324480"/>
            <a:ext cx="83818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53076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mmunity Based Participatory Research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88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fic inquiry …in which community members, persons affected by condition or issue under study and other key stakeholders … (are)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ll participants in each phase of the work – conception, design, conduct, analysi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pretation, conclusions and communication of result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ition of CBPR. Federal Interagency Working Group on CBPR. Retrieved 2007 from National Institute of Environmental Health Sciences Web site: http://www.niehs.nih.gov/translat/IWG/iwghome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vidence Report #99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56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tilization of CBPR can improve research quality, enhance intervention quality, improve outcomes, and enhance research recruitment effo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4341960" y="304920"/>
            <a:ext cx="4802040" cy="6172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SummaryPage"/>
          <p:cNvPicPr/>
          <p:nvPr/>
        </p:nvPicPr>
        <p:blipFill>
          <a:blip r:embed="rId2"/>
          <a:stretch/>
        </p:blipFill>
        <p:spPr>
          <a:xfrm rot="996000">
            <a:off x="5410080" y="609120"/>
            <a:ext cx="3005280" cy="38862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28760" y="3336840"/>
            <a:ext cx="6480000" cy="230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5"/>
          <p:cNvGrpSpPr/>
          <p:nvPr/>
        </p:nvGrpSpPr>
        <p:grpSpPr>
          <a:xfrm>
            <a:off x="-25560" y="-4680"/>
            <a:ext cx="11684160" cy="8743320"/>
            <a:chOff x="-25560" y="-4680"/>
            <a:chExt cx="11684160" cy="8743320"/>
          </a:xfrm>
        </p:grpSpPr>
        <p:sp>
          <p:nvSpPr>
            <p:cNvPr id="323" name="AutoShape 4"/>
            <p:cNvSpPr/>
            <p:nvPr/>
          </p:nvSpPr>
          <p:spPr>
            <a:xfrm>
              <a:off x="-21240" y="-360"/>
              <a:ext cx="11679840" cy="87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6"/>
            <p:cNvSpPr/>
            <p:nvPr/>
          </p:nvSpPr>
          <p:spPr>
            <a:xfrm>
              <a:off x="-25560" y="-4680"/>
              <a:ext cx="11680200" cy="873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Group 9"/>
            <p:cNvGrpSpPr/>
            <p:nvPr/>
          </p:nvGrpSpPr>
          <p:grpSpPr>
            <a:xfrm>
              <a:off x="265680" y="1937520"/>
              <a:ext cx="11388600" cy="1649880"/>
              <a:chOff x="265680" y="1937520"/>
              <a:chExt cx="11388600" cy="1649880"/>
            </a:xfrm>
          </p:grpSpPr>
          <p:sp>
            <p:nvSpPr>
              <p:cNvPr id="326" name="Freeform 7"/>
              <p:cNvSpPr/>
              <p:nvPr/>
            </p:nvSpPr>
            <p:spPr>
              <a:xfrm>
                <a:off x="265680" y="1937520"/>
                <a:ext cx="11388600" cy="1649880"/>
              </a:xfrm>
              <a:prstGeom prst="pie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8"/>
              <p:cNvSpPr/>
              <p:nvPr/>
            </p:nvSpPr>
            <p:spPr>
              <a:xfrm>
                <a:off x="265680" y="1937520"/>
                <a:ext cx="11388600" cy="1649880"/>
              </a:xfrm>
              <a:prstGeom prst="pie">
                <a:avLst/>
              </a:prstGeom>
              <a:noFill/>
              <a:ln cap="rnd"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Rectangle 10"/>
            <p:cNvSpPr/>
            <p:nvPr/>
          </p:nvSpPr>
          <p:spPr>
            <a:xfrm>
              <a:off x="265680" y="4364640"/>
              <a:ext cx="1266480" cy="946800"/>
            </a:xfrm>
            <a:prstGeom prst="rect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1"/>
            <p:cNvSpPr/>
            <p:nvPr/>
          </p:nvSpPr>
          <p:spPr>
            <a:xfrm>
              <a:off x="702720" y="44496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lt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572760" y="4722840"/>
              <a:ext cx="81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cern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Rectangle 13"/>
            <p:cNvSpPr/>
            <p:nvPr/>
          </p:nvSpPr>
          <p:spPr>
            <a:xfrm>
              <a:off x="592560" y="4993920"/>
              <a:ext cx="72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dentifi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14"/>
            <p:cNvSpPr/>
            <p:nvPr/>
          </p:nvSpPr>
          <p:spPr>
            <a:xfrm>
              <a:off x="1823760" y="4073400"/>
              <a:ext cx="1460160" cy="1488960"/>
            </a:xfrm>
            <a:prstGeom prst="rect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15"/>
            <p:cNvSpPr/>
            <p:nvPr/>
          </p:nvSpPr>
          <p:spPr>
            <a:xfrm>
              <a:off x="2378520" y="4154400"/>
              <a:ext cx="50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udy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16"/>
            <p:cNvSpPr/>
            <p:nvPr/>
          </p:nvSpPr>
          <p:spPr>
            <a:xfrm>
              <a:off x="2234880" y="4427640"/>
              <a:ext cx="80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17"/>
            <p:cNvSpPr/>
            <p:nvPr/>
          </p:nvSpPr>
          <p:spPr>
            <a:xfrm>
              <a:off x="2464200" y="469872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2295000" y="4971600"/>
              <a:ext cx="69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din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2331720" y="524268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20"/>
            <p:cNvSpPr/>
            <p:nvPr/>
          </p:nvSpPr>
          <p:spPr>
            <a:xfrm>
              <a:off x="3672720" y="4170600"/>
              <a:ext cx="1654920" cy="1488600"/>
            </a:xfrm>
            <a:prstGeom prst="rect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21"/>
            <p:cNvSpPr/>
            <p:nvPr/>
          </p:nvSpPr>
          <p:spPr>
            <a:xfrm>
              <a:off x="4084560" y="4255560"/>
              <a:ext cx="985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rticipant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22"/>
            <p:cNvSpPr/>
            <p:nvPr/>
          </p:nvSpPr>
          <p:spPr>
            <a:xfrm>
              <a:off x="4033080" y="4528440"/>
              <a:ext cx="1093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ruited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23"/>
            <p:cNvSpPr/>
            <p:nvPr/>
          </p:nvSpPr>
          <p:spPr>
            <a:xfrm>
              <a:off x="4208040" y="4799520"/>
              <a:ext cx="74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tentio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4"/>
            <p:cNvSpPr/>
            <p:nvPr/>
          </p:nvSpPr>
          <p:spPr>
            <a:xfrm>
              <a:off x="4222080" y="5070600"/>
              <a:ext cx="70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stem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25"/>
            <p:cNvSpPr/>
            <p:nvPr/>
          </p:nvSpPr>
          <p:spPr>
            <a:xfrm>
              <a:off x="4035240" y="5343480"/>
              <a:ext cx="1020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plement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26"/>
            <p:cNvSpPr/>
            <p:nvPr/>
          </p:nvSpPr>
          <p:spPr>
            <a:xfrm>
              <a:off x="5618880" y="4267800"/>
              <a:ext cx="1946160" cy="1217160"/>
            </a:xfrm>
            <a:prstGeom prst="rect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27"/>
            <p:cNvSpPr/>
            <p:nvPr/>
          </p:nvSpPr>
          <p:spPr>
            <a:xfrm>
              <a:off x="6100560" y="4348440"/>
              <a:ext cx="114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asureme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28"/>
            <p:cNvSpPr/>
            <p:nvPr/>
          </p:nvSpPr>
          <p:spPr>
            <a:xfrm>
              <a:off x="6184080" y="4621680"/>
              <a:ext cx="97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strument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29"/>
            <p:cNvSpPr/>
            <p:nvPr/>
          </p:nvSpPr>
          <p:spPr>
            <a:xfrm>
              <a:off x="6117840" y="4892760"/>
              <a:ext cx="112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ed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30"/>
            <p:cNvSpPr/>
            <p:nvPr/>
          </p:nvSpPr>
          <p:spPr>
            <a:xfrm>
              <a:off x="6091560" y="5165640"/>
              <a:ext cx="110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collect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31"/>
            <p:cNvSpPr/>
            <p:nvPr/>
          </p:nvSpPr>
          <p:spPr>
            <a:xfrm>
              <a:off x="7858800" y="4364640"/>
              <a:ext cx="1654920" cy="946800"/>
            </a:xfrm>
            <a:prstGeom prst="rect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32"/>
            <p:cNvSpPr/>
            <p:nvPr/>
          </p:nvSpPr>
          <p:spPr>
            <a:xfrm>
              <a:off x="8276400" y="4449600"/>
              <a:ext cx="985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ventio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33"/>
            <p:cNvSpPr/>
            <p:nvPr/>
          </p:nvSpPr>
          <p:spPr>
            <a:xfrm>
              <a:off x="8211600" y="4722840"/>
              <a:ext cx="112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ed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34"/>
            <p:cNvSpPr/>
            <p:nvPr/>
          </p:nvSpPr>
          <p:spPr>
            <a:xfrm>
              <a:off x="8223480" y="4993920"/>
              <a:ext cx="1020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plement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35"/>
            <p:cNvSpPr/>
            <p:nvPr/>
          </p:nvSpPr>
          <p:spPr>
            <a:xfrm>
              <a:off x="9805320" y="3976560"/>
              <a:ext cx="1558080" cy="1895040"/>
            </a:xfrm>
            <a:prstGeom prst="rect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36"/>
            <p:cNvSpPr/>
            <p:nvPr/>
          </p:nvSpPr>
          <p:spPr>
            <a:xfrm>
              <a:off x="10455120" y="406152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37"/>
            <p:cNvSpPr/>
            <p:nvPr/>
          </p:nvSpPr>
          <p:spPr>
            <a:xfrm>
              <a:off x="10284840" y="4334400"/>
              <a:ext cx="76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yz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38"/>
            <p:cNvSpPr/>
            <p:nvPr/>
          </p:nvSpPr>
          <p:spPr>
            <a:xfrm>
              <a:off x="10498680" y="460548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39"/>
            <p:cNvSpPr/>
            <p:nvPr/>
          </p:nvSpPr>
          <p:spPr>
            <a:xfrm>
              <a:off x="10216800" y="4876560"/>
              <a:ext cx="90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pret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40"/>
            <p:cNvSpPr/>
            <p:nvPr/>
          </p:nvSpPr>
          <p:spPr>
            <a:xfrm>
              <a:off x="10229400" y="5281200"/>
              <a:ext cx="93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latio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41"/>
            <p:cNvSpPr/>
            <p:nvPr/>
          </p:nvSpPr>
          <p:spPr>
            <a:xfrm>
              <a:off x="10226520" y="5554080"/>
              <a:ext cx="81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 finding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42"/>
            <p:cNvSpPr/>
            <p:nvPr/>
          </p:nvSpPr>
          <p:spPr>
            <a:xfrm>
              <a:off x="702720" y="1039320"/>
              <a:ext cx="75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.  help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43"/>
            <p:cNvSpPr/>
            <p:nvPr/>
          </p:nvSpPr>
          <p:spPr>
            <a:xfrm>
              <a:off x="606240" y="1312200"/>
              <a:ext cx="94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dentify key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44"/>
            <p:cNvSpPr/>
            <p:nvPr/>
          </p:nvSpPr>
          <p:spPr>
            <a:xfrm>
              <a:off x="794520" y="1583280"/>
              <a:ext cx="50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su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45"/>
            <p:cNvSpPr/>
            <p:nvPr/>
          </p:nvSpPr>
          <p:spPr>
            <a:xfrm>
              <a:off x="760680" y="199584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46"/>
            <p:cNvSpPr/>
            <p:nvPr/>
          </p:nvSpPr>
          <p:spPr>
            <a:xfrm>
              <a:off x="1028880" y="1995840"/>
              <a:ext cx="39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Incr.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47"/>
            <p:cNvSpPr/>
            <p:nvPr/>
          </p:nvSpPr>
          <p:spPr>
            <a:xfrm>
              <a:off x="647280" y="2259000"/>
              <a:ext cx="86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motivatio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48"/>
            <p:cNvSpPr/>
            <p:nvPr/>
          </p:nvSpPr>
          <p:spPr>
            <a:xfrm>
              <a:off x="979560" y="253188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49"/>
            <p:cNvSpPr/>
            <p:nvPr/>
          </p:nvSpPr>
          <p:spPr>
            <a:xfrm>
              <a:off x="636120" y="2802960"/>
              <a:ext cx="82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participa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50"/>
            <p:cNvSpPr/>
            <p:nvPr/>
          </p:nvSpPr>
          <p:spPr>
            <a:xfrm>
              <a:off x="4470120" y="8319600"/>
              <a:ext cx="351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ditional Research Approac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51"/>
            <p:cNvSpPr/>
            <p:nvPr/>
          </p:nvSpPr>
          <p:spPr>
            <a:xfrm>
              <a:off x="2249640" y="75168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. helps wit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52"/>
            <p:cNvSpPr/>
            <p:nvPr/>
          </p:nvSpPr>
          <p:spPr>
            <a:xfrm>
              <a:off x="2232720" y="1024920"/>
              <a:ext cx="1105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udy design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53"/>
            <p:cNvSpPr/>
            <p:nvPr/>
          </p:nvSpPr>
          <p:spPr>
            <a:xfrm>
              <a:off x="2464920" y="129600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dget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54"/>
            <p:cNvSpPr/>
            <p:nvPr/>
          </p:nvSpPr>
          <p:spPr>
            <a:xfrm>
              <a:off x="2413080" y="1569240"/>
              <a:ext cx="73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posal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55"/>
            <p:cNvSpPr/>
            <p:nvPr/>
          </p:nvSpPr>
          <p:spPr>
            <a:xfrm>
              <a:off x="2302920" y="1840320"/>
              <a:ext cx="89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miss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56"/>
            <p:cNvSpPr/>
            <p:nvPr/>
          </p:nvSpPr>
          <p:spPr>
            <a:xfrm>
              <a:off x="2466360" y="224496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57"/>
            <p:cNvSpPr/>
            <p:nvPr/>
          </p:nvSpPr>
          <p:spPr>
            <a:xfrm>
              <a:off x="2732400" y="2244960"/>
              <a:ext cx="39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Incr.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58"/>
            <p:cNvSpPr/>
            <p:nvPr/>
          </p:nvSpPr>
          <p:spPr>
            <a:xfrm>
              <a:off x="2268000" y="2516040"/>
              <a:ext cx="103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cceptability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Rectangle 59"/>
            <p:cNvSpPr/>
            <p:nvPr/>
          </p:nvSpPr>
          <p:spPr>
            <a:xfrm>
              <a:off x="2191320" y="278712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60"/>
            <p:cNvSpPr/>
            <p:nvPr/>
          </p:nvSpPr>
          <p:spPr>
            <a:xfrm>
              <a:off x="2591280" y="2787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61"/>
            <p:cNvSpPr/>
            <p:nvPr/>
          </p:nvSpPr>
          <p:spPr>
            <a:xfrm>
              <a:off x="2700000" y="2787120"/>
              <a:ext cx="28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bu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62"/>
            <p:cNvSpPr/>
            <p:nvPr/>
          </p:nvSpPr>
          <p:spPr>
            <a:xfrm>
              <a:off x="3036600" y="2787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63"/>
            <p:cNvSpPr/>
            <p:nvPr/>
          </p:nvSpPr>
          <p:spPr>
            <a:xfrm>
              <a:off x="3124800" y="2787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64"/>
            <p:cNvSpPr/>
            <p:nvPr/>
          </p:nvSpPr>
          <p:spPr>
            <a:xfrm>
              <a:off x="3289320" y="2787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65"/>
            <p:cNvSpPr/>
            <p:nvPr/>
          </p:nvSpPr>
          <p:spPr>
            <a:xfrm>
              <a:off x="747720" y="6577560"/>
              <a:ext cx="56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su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66"/>
            <p:cNvSpPr/>
            <p:nvPr/>
          </p:nvSpPr>
          <p:spPr>
            <a:xfrm>
              <a:off x="673560" y="6851160"/>
              <a:ext cx="71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67"/>
            <p:cNvSpPr/>
            <p:nvPr/>
          </p:nvSpPr>
          <p:spPr>
            <a:xfrm>
              <a:off x="541440" y="712224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o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68"/>
            <p:cNvSpPr/>
            <p:nvPr/>
          </p:nvSpPr>
          <p:spPr>
            <a:xfrm>
              <a:off x="959760" y="712224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p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69"/>
            <p:cNvSpPr/>
            <p:nvPr/>
          </p:nvSpPr>
          <p:spPr>
            <a:xfrm>
              <a:off x="1473480" y="71222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70"/>
            <p:cNvSpPr/>
            <p:nvPr/>
          </p:nvSpPr>
          <p:spPr>
            <a:xfrm>
              <a:off x="827640" y="739512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71"/>
            <p:cNvSpPr/>
            <p:nvPr/>
          </p:nvSpPr>
          <p:spPr>
            <a:xfrm>
              <a:off x="2030760" y="6577560"/>
              <a:ext cx="131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: scienc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Rectangle 72"/>
            <p:cNvSpPr/>
            <p:nvPr/>
          </p:nvSpPr>
          <p:spPr>
            <a:xfrm>
              <a:off x="2114640" y="6851160"/>
              <a:ext cx="108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feasi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Rectangle 73"/>
            <p:cNvSpPr/>
            <p:nvPr/>
          </p:nvSpPr>
          <p:spPr>
            <a:xfrm>
              <a:off x="2358000" y="7255800"/>
              <a:ext cx="66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dget: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74"/>
            <p:cNvSpPr/>
            <p:nvPr/>
          </p:nvSpPr>
          <p:spPr>
            <a:xfrm>
              <a:off x="2314080" y="7526880"/>
              <a:ext cx="74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a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75"/>
            <p:cNvSpPr/>
            <p:nvPr/>
          </p:nvSpPr>
          <p:spPr>
            <a:xfrm>
              <a:off x="2277000" y="7797600"/>
              <a:ext cx="76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pens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76"/>
            <p:cNvSpPr/>
            <p:nvPr/>
          </p:nvSpPr>
          <p:spPr>
            <a:xfrm>
              <a:off x="993960" y="100080"/>
              <a:ext cx="154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Communit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77"/>
            <p:cNvSpPr/>
            <p:nvPr/>
          </p:nvSpPr>
          <p:spPr>
            <a:xfrm>
              <a:off x="977760" y="84240"/>
              <a:ext cx="154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Rectangle 78"/>
            <p:cNvSpPr/>
            <p:nvPr/>
          </p:nvSpPr>
          <p:spPr>
            <a:xfrm>
              <a:off x="2765160" y="100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Rectangle 79"/>
            <p:cNvSpPr/>
            <p:nvPr/>
          </p:nvSpPr>
          <p:spPr>
            <a:xfrm>
              <a:off x="2749320" y="842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80"/>
            <p:cNvSpPr/>
            <p:nvPr/>
          </p:nvSpPr>
          <p:spPr>
            <a:xfrm>
              <a:off x="3448800" y="100080"/>
              <a:ext cx="411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Based Participatory Research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81"/>
            <p:cNvSpPr/>
            <p:nvPr/>
          </p:nvSpPr>
          <p:spPr>
            <a:xfrm>
              <a:off x="3435120" y="84240"/>
              <a:ext cx="411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sed Participatory Research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82"/>
            <p:cNvSpPr/>
            <p:nvPr/>
          </p:nvSpPr>
          <p:spPr>
            <a:xfrm>
              <a:off x="8071920" y="294840"/>
              <a:ext cx="220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c0c0"/>
                  </a:solidFill>
                  <a:latin typeface="Arial"/>
                </a:rPr>
                <a:t>(from AHRQ evidence report on CBPR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83"/>
            <p:cNvSpPr/>
            <p:nvPr/>
          </p:nvSpPr>
          <p:spPr>
            <a:xfrm>
              <a:off x="8063640" y="286560"/>
              <a:ext cx="220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from AHRQ evidence report on CBPR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84"/>
            <p:cNvSpPr/>
            <p:nvPr/>
          </p:nvSpPr>
          <p:spPr>
            <a:xfrm>
              <a:off x="4285800" y="1039320"/>
              <a:ext cx="69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. giv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ectangle 85"/>
            <p:cNvSpPr/>
            <p:nvPr/>
          </p:nvSpPr>
          <p:spPr>
            <a:xfrm>
              <a:off x="4145760" y="1312200"/>
              <a:ext cx="98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uidance r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86"/>
            <p:cNvSpPr/>
            <p:nvPr/>
          </p:nvSpPr>
          <p:spPr>
            <a:xfrm>
              <a:off x="4162680" y="158328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ruitme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87"/>
            <p:cNvSpPr/>
            <p:nvPr/>
          </p:nvSpPr>
          <p:spPr>
            <a:xfrm>
              <a:off x="4081680" y="1856160"/>
              <a:ext cx="104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reten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88"/>
            <p:cNvSpPr/>
            <p:nvPr/>
          </p:nvSpPr>
          <p:spPr>
            <a:xfrm>
              <a:off x="4024080" y="225900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89"/>
            <p:cNvSpPr/>
            <p:nvPr/>
          </p:nvSpPr>
          <p:spPr>
            <a:xfrm>
              <a:off x="4343040" y="225900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Enhanc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90"/>
            <p:cNvSpPr/>
            <p:nvPr/>
          </p:nvSpPr>
          <p:spPr>
            <a:xfrm>
              <a:off x="4162680" y="253188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recruitme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91"/>
            <p:cNvSpPr/>
            <p:nvPr/>
          </p:nvSpPr>
          <p:spPr>
            <a:xfrm>
              <a:off x="4081680" y="2802960"/>
              <a:ext cx="104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nd reten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92"/>
            <p:cNvSpPr/>
            <p:nvPr/>
          </p:nvSpPr>
          <p:spPr>
            <a:xfrm>
              <a:off x="6041160" y="10393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. helps wit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93"/>
            <p:cNvSpPr/>
            <p:nvPr/>
          </p:nvSpPr>
          <p:spPr>
            <a:xfrm>
              <a:off x="6156720" y="1312200"/>
              <a:ext cx="83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asur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94"/>
            <p:cNvSpPr/>
            <p:nvPr/>
          </p:nvSpPr>
          <p:spPr>
            <a:xfrm>
              <a:off x="6050160" y="1583280"/>
              <a:ext cx="107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velopme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95"/>
            <p:cNvSpPr/>
            <p:nvPr/>
          </p:nvSpPr>
          <p:spPr>
            <a:xfrm>
              <a:off x="6117120" y="1856160"/>
              <a:ext cx="87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tes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96"/>
            <p:cNvSpPr/>
            <p:nvPr/>
          </p:nvSpPr>
          <p:spPr>
            <a:xfrm>
              <a:off x="5986800" y="225900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97"/>
            <p:cNvSpPr/>
            <p:nvPr/>
          </p:nvSpPr>
          <p:spPr>
            <a:xfrm>
              <a:off x="6311880" y="2259000"/>
              <a:ext cx="83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Increas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98"/>
            <p:cNvSpPr/>
            <p:nvPr/>
          </p:nvSpPr>
          <p:spPr>
            <a:xfrm>
              <a:off x="6033960" y="2531880"/>
              <a:ext cx="1093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reliability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99"/>
            <p:cNvSpPr/>
            <p:nvPr/>
          </p:nvSpPr>
          <p:spPr>
            <a:xfrm>
              <a:off x="6276600" y="2802960"/>
              <a:ext cx="5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valid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100"/>
            <p:cNvSpPr/>
            <p:nvPr/>
          </p:nvSpPr>
          <p:spPr>
            <a:xfrm>
              <a:off x="7925400" y="1039320"/>
              <a:ext cx="119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. helps gui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101"/>
            <p:cNvSpPr/>
            <p:nvPr/>
          </p:nvSpPr>
          <p:spPr>
            <a:xfrm>
              <a:off x="8045280" y="1312200"/>
              <a:ext cx="97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ventio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102"/>
            <p:cNvSpPr/>
            <p:nvPr/>
          </p:nvSpPr>
          <p:spPr>
            <a:xfrm>
              <a:off x="7981920" y="1583280"/>
              <a:ext cx="102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103"/>
            <p:cNvSpPr/>
            <p:nvPr/>
          </p:nvSpPr>
          <p:spPr>
            <a:xfrm>
              <a:off x="8042400" y="199584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104"/>
            <p:cNvSpPr/>
            <p:nvPr/>
          </p:nvSpPr>
          <p:spPr>
            <a:xfrm>
              <a:off x="8336160" y="1995840"/>
              <a:ext cx="65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Greate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105"/>
            <p:cNvSpPr/>
            <p:nvPr/>
          </p:nvSpPr>
          <p:spPr>
            <a:xfrm>
              <a:off x="7936920" y="2259000"/>
              <a:ext cx="1172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relevance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106"/>
            <p:cNvSpPr/>
            <p:nvPr/>
          </p:nvSpPr>
          <p:spPr>
            <a:xfrm>
              <a:off x="7993440" y="2531880"/>
              <a:ext cx="1053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likelihood fo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107"/>
            <p:cNvSpPr/>
            <p:nvPr/>
          </p:nvSpPr>
          <p:spPr>
            <a:xfrm>
              <a:off x="8163720" y="2802960"/>
              <a:ext cx="64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ucces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Rectangle 108"/>
            <p:cNvSpPr/>
            <p:nvPr/>
          </p:nvSpPr>
          <p:spPr>
            <a:xfrm>
              <a:off x="9975600" y="1039320"/>
              <a:ext cx="147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. helps with data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Rectangle 109"/>
            <p:cNvSpPr/>
            <p:nvPr/>
          </p:nvSpPr>
          <p:spPr>
            <a:xfrm>
              <a:off x="10000080" y="1312200"/>
              <a:ext cx="144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pretation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Rectangle 110"/>
            <p:cNvSpPr/>
            <p:nvPr/>
          </p:nvSpPr>
          <p:spPr>
            <a:xfrm>
              <a:off x="10206000" y="158328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ub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111"/>
            <p:cNvSpPr/>
            <p:nvPr/>
          </p:nvSpPr>
          <p:spPr>
            <a:xfrm>
              <a:off x="10103760" y="199584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Rectangle 112"/>
            <p:cNvSpPr/>
            <p:nvPr/>
          </p:nvSpPr>
          <p:spPr>
            <a:xfrm>
              <a:off x="10424880" y="199584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Enhanc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Rectangle 113"/>
            <p:cNvSpPr/>
            <p:nvPr/>
          </p:nvSpPr>
          <p:spPr>
            <a:xfrm>
              <a:off x="10227240" y="2259000"/>
              <a:ext cx="985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potential fo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Rectangle 114"/>
            <p:cNvSpPr/>
            <p:nvPr/>
          </p:nvSpPr>
          <p:spPr>
            <a:xfrm>
              <a:off x="10099800" y="2531880"/>
              <a:ext cx="122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ranslation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115"/>
            <p:cNvSpPr/>
            <p:nvPr/>
          </p:nvSpPr>
          <p:spPr>
            <a:xfrm>
              <a:off x="10130040" y="2802960"/>
              <a:ext cx="1091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issemina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116"/>
            <p:cNvSpPr/>
            <p:nvPr/>
          </p:nvSpPr>
          <p:spPr>
            <a:xfrm>
              <a:off x="10226520" y="6772320"/>
              <a:ext cx="106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archer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117"/>
            <p:cNvSpPr/>
            <p:nvPr/>
          </p:nvSpPr>
          <p:spPr>
            <a:xfrm>
              <a:off x="10167480" y="7045200"/>
              <a:ext cx="1183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finding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118"/>
            <p:cNvSpPr/>
            <p:nvPr/>
          </p:nvSpPr>
          <p:spPr>
            <a:xfrm>
              <a:off x="10207080" y="7316280"/>
              <a:ext cx="110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om analysi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Rectangle 119"/>
            <p:cNvSpPr/>
            <p:nvPr/>
          </p:nvSpPr>
          <p:spPr>
            <a:xfrm>
              <a:off x="10185840" y="7589160"/>
              <a:ext cx="115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publish i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Rectangle 120"/>
            <p:cNvSpPr/>
            <p:nvPr/>
          </p:nvSpPr>
          <p:spPr>
            <a:xfrm>
              <a:off x="10275480" y="7860240"/>
              <a:ext cx="97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er review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Rectangle 121"/>
            <p:cNvSpPr/>
            <p:nvPr/>
          </p:nvSpPr>
          <p:spPr>
            <a:xfrm>
              <a:off x="10411560" y="8125560"/>
              <a:ext cx="62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ourna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Rectangle 122"/>
            <p:cNvSpPr/>
            <p:nvPr/>
          </p:nvSpPr>
          <p:spPr>
            <a:xfrm>
              <a:off x="8322840" y="6577560"/>
              <a:ext cx="985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ventio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Rectangle 123"/>
            <p:cNvSpPr/>
            <p:nvPr/>
          </p:nvSpPr>
          <p:spPr>
            <a:xfrm>
              <a:off x="8313840" y="6851160"/>
              <a:ext cx="101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ed by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Rectangle 124"/>
            <p:cNvSpPr/>
            <p:nvPr/>
          </p:nvSpPr>
          <p:spPr>
            <a:xfrm>
              <a:off x="8318520" y="7122240"/>
              <a:ext cx="99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archer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Rectangle 125"/>
            <p:cNvSpPr/>
            <p:nvPr/>
          </p:nvSpPr>
          <p:spPr>
            <a:xfrm>
              <a:off x="8423640" y="7395120"/>
              <a:ext cx="78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d o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Rectangle 126"/>
            <p:cNvSpPr/>
            <p:nvPr/>
          </p:nvSpPr>
          <p:spPr>
            <a:xfrm>
              <a:off x="8269920" y="7666200"/>
              <a:ext cx="1093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terature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Rectangle 127"/>
            <p:cNvSpPr/>
            <p:nvPr/>
          </p:nvSpPr>
          <p:spPr>
            <a:xfrm>
              <a:off x="8540640" y="7931520"/>
              <a:ext cx="49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or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Rectangle 128"/>
            <p:cNvSpPr/>
            <p:nvPr/>
          </p:nvSpPr>
          <p:spPr>
            <a:xfrm>
              <a:off x="6257880" y="6577560"/>
              <a:ext cx="83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asur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129"/>
            <p:cNvSpPr/>
            <p:nvPr/>
          </p:nvSpPr>
          <p:spPr>
            <a:xfrm>
              <a:off x="6230880" y="6851160"/>
              <a:ext cx="90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opted o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Rectangle 130"/>
            <p:cNvSpPr/>
            <p:nvPr/>
          </p:nvSpPr>
          <p:spPr>
            <a:xfrm>
              <a:off x="6130800" y="7122240"/>
              <a:ext cx="110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apted fro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Rectangle 131"/>
            <p:cNvSpPr/>
            <p:nvPr/>
          </p:nvSpPr>
          <p:spPr>
            <a:xfrm>
              <a:off x="6116400" y="7395120"/>
              <a:ext cx="112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 studies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32"/>
            <p:cNvSpPr/>
            <p:nvPr/>
          </p:nvSpPr>
          <p:spPr>
            <a:xfrm>
              <a:off x="6117840" y="7666200"/>
              <a:ext cx="110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sychometric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133"/>
            <p:cNvSpPr/>
            <p:nvPr/>
          </p:nvSpPr>
          <p:spPr>
            <a:xfrm>
              <a:off x="6379560" y="7931520"/>
              <a:ext cx="52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134"/>
            <p:cNvSpPr/>
            <p:nvPr/>
          </p:nvSpPr>
          <p:spPr>
            <a:xfrm>
              <a:off x="3997080" y="6577560"/>
              <a:ext cx="13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ruitment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Rectangle 135"/>
            <p:cNvSpPr/>
            <p:nvPr/>
          </p:nvSpPr>
          <p:spPr>
            <a:xfrm>
              <a:off x="4005360" y="6851160"/>
              <a:ext cx="135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tention bas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136"/>
            <p:cNvSpPr/>
            <p:nvPr/>
          </p:nvSpPr>
          <p:spPr>
            <a:xfrm>
              <a:off x="4054320" y="7122240"/>
              <a:ext cx="125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 science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Rectangle 137"/>
            <p:cNvSpPr/>
            <p:nvPr/>
          </p:nvSpPr>
          <p:spPr>
            <a:xfrm>
              <a:off x="4059360" y="7395120"/>
              <a:ext cx="117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st guesses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38"/>
            <p:cNvSpPr/>
            <p:nvPr/>
          </p:nvSpPr>
          <p:spPr>
            <a:xfrm>
              <a:off x="1532520" y="4801680"/>
              <a:ext cx="291240" cy="9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139"/>
            <p:cNvSpPr/>
            <p:nvPr/>
          </p:nvSpPr>
          <p:spPr>
            <a:xfrm>
              <a:off x="3284280" y="4801680"/>
              <a:ext cx="388440" cy="9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140"/>
            <p:cNvSpPr/>
            <p:nvPr/>
          </p:nvSpPr>
          <p:spPr>
            <a:xfrm>
              <a:off x="5327640" y="4801680"/>
              <a:ext cx="291240" cy="9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41"/>
            <p:cNvSpPr/>
            <p:nvPr/>
          </p:nvSpPr>
          <p:spPr>
            <a:xfrm>
              <a:off x="7565400" y="4801680"/>
              <a:ext cx="293400" cy="9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42"/>
            <p:cNvSpPr/>
            <p:nvPr/>
          </p:nvSpPr>
          <p:spPr>
            <a:xfrm>
              <a:off x="9513720" y="4801680"/>
              <a:ext cx="291240" cy="9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143"/>
            <p:cNvSpPr/>
            <p:nvPr/>
          </p:nvSpPr>
          <p:spPr>
            <a:xfrm>
              <a:off x="802080" y="3296880"/>
              <a:ext cx="291240" cy="679680"/>
            </a:xfrm>
            <a:prstGeom prst="pie">
              <a:avLst/>
            </a:prstGeom>
            <a:solidFill>
              <a:srgbClr val="ffff89"/>
            </a:solidFill>
            <a:ln w="0">
              <a:solidFill>
                <a:srgbClr val="ffff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144"/>
            <p:cNvSpPr/>
            <p:nvPr/>
          </p:nvSpPr>
          <p:spPr>
            <a:xfrm>
              <a:off x="2457000" y="3296880"/>
              <a:ext cx="291240" cy="679680"/>
            </a:xfrm>
            <a:prstGeom prst="pie">
              <a:avLst/>
            </a:prstGeom>
            <a:solidFill>
              <a:srgbClr val="ffff89"/>
            </a:solidFill>
            <a:ln w="0">
              <a:solidFill>
                <a:srgbClr val="ffff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145"/>
            <p:cNvSpPr/>
            <p:nvPr/>
          </p:nvSpPr>
          <p:spPr>
            <a:xfrm>
              <a:off x="4403160" y="3296880"/>
              <a:ext cx="291240" cy="679680"/>
            </a:xfrm>
            <a:prstGeom prst="pie">
              <a:avLst/>
            </a:prstGeom>
            <a:solidFill>
              <a:srgbClr val="ffff89"/>
            </a:solidFill>
            <a:ln w="0">
              <a:solidFill>
                <a:srgbClr val="ffff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146"/>
            <p:cNvSpPr/>
            <p:nvPr/>
          </p:nvSpPr>
          <p:spPr>
            <a:xfrm>
              <a:off x="10438200" y="3199320"/>
              <a:ext cx="291240" cy="679680"/>
            </a:xfrm>
            <a:prstGeom prst="pie">
              <a:avLst/>
            </a:prstGeom>
            <a:solidFill>
              <a:srgbClr val="ffff89"/>
            </a:solidFill>
            <a:ln w="0">
              <a:solidFill>
                <a:srgbClr val="ffff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147"/>
            <p:cNvSpPr/>
            <p:nvPr/>
          </p:nvSpPr>
          <p:spPr>
            <a:xfrm>
              <a:off x="8393040" y="3394080"/>
              <a:ext cx="293040" cy="679320"/>
            </a:xfrm>
            <a:prstGeom prst="pie">
              <a:avLst/>
            </a:prstGeom>
            <a:solidFill>
              <a:srgbClr val="ffff89"/>
            </a:solidFill>
            <a:ln w="0">
              <a:solidFill>
                <a:srgbClr val="ffff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48"/>
            <p:cNvSpPr/>
            <p:nvPr/>
          </p:nvSpPr>
          <p:spPr>
            <a:xfrm>
              <a:off x="6446520" y="3296880"/>
              <a:ext cx="293040" cy="679680"/>
            </a:xfrm>
            <a:prstGeom prst="pie">
              <a:avLst/>
            </a:prstGeom>
            <a:solidFill>
              <a:srgbClr val="ffff89"/>
            </a:solidFill>
            <a:ln w="0">
              <a:solidFill>
                <a:srgbClr val="ffff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149"/>
            <p:cNvSpPr/>
            <p:nvPr/>
          </p:nvSpPr>
          <p:spPr>
            <a:xfrm>
              <a:off x="802080" y="5821200"/>
              <a:ext cx="291240" cy="582480"/>
            </a:xfrm>
            <a:prstGeom prst="pie">
              <a:avLst/>
            </a:prstGeom>
            <a:solidFill>
              <a:srgbClr val="f16dde"/>
            </a:solidFill>
            <a:ln w="0">
              <a:solidFill>
                <a:srgbClr val="f16d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50"/>
            <p:cNvSpPr/>
            <p:nvPr/>
          </p:nvSpPr>
          <p:spPr>
            <a:xfrm>
              <a:off x="10438200" y="6015600"/>
              <a:ext cx="291240" cy="582480"/>
            </a:xfrm>
            <a:prstGeom prst="pie">
              <a:avLst/>
            </a:prstGeom>
            <a:solidFill>
              <a:srgbClr val="f16dde"/>
            </a:solidFill>
            <a:ln w="0">
              <a:solidFill>
                <a:srgbClr val="f16d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151"/>
            <p:cNvSpPr/>
            <p:nvPr/>
          </p:nvSpPr>
          <p:spPr>
            <a:xfrm>
              <a:off x="8589240" y="5821200"/>
              <a:ext cx="291240" cy="582480"/>
            </a:xfrm>
            <a:prstGeom prst="pie">
              <a:avLst/>
            </a:prstGeom>
            <a:solidFill>
              <a:srgbClr val="f16dde"/>
            </a:solidFill>
            <a:ln w="0">
              <a:solidFill>
                <a:srgbClr val="f16d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152"/>
            <p:cNvSpPr/>
            <p:nvPr/>
          </p:nvSpPr>
          <p:spPr>
            <a:xfrm>
              <a:off x="6446520" y="5821200"/>
              <a:ext cx="293040" cy="582480"/>
            </a:xfrm>
            <a:prstGeom prst="pie">
              <a:avLst/>
            </a:prstGeom>
            <a:solidFill>
              <a:srgbClr val="f16dde"/>
            </a:solidFill>
            <a:ln w="0">
              <a:solidFill>
                <a:srgbClr val="f16d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53"/>
            <p:cNvSpPr/>
            <p:nvPr/>
          </p:nvSpPr>
          <p:spPr>
            <a:xfrm>
              <a:off x="4403160" y="5821200"/>
              <a:ext cx="291240" cy="582480"/>
            </a:xfrm>
            <a:prstGeom prst="pie">
              <a:avLst/>
            </a:prstGeom>
            <a:solidFill>
              <a:srgbClr val="f16dde"/>
            </a:solidFill>
            <a:ln w="0">
              <a:solidFill>
                <a:srgbClr val="f16d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54"/>
            <p:cNvSpPr/>
            <p:nvPr/>
          </p:nvSpPr>
          <p:spPr>
            <a:xfrm>
              <a:off x="2457000" y="5821200"/>
              <a:ext cx="291240" cy="582480"/>
            </a:xfrm>
            <a:prstGeom prst="pie">
              <a:avLst/>
            </a:prstGeom>
            <a:solidFill>
              <a:srgbClr val="f16dde"/>
            </a:solidFill>
            <a:ln w="0">
              <a:solidFill>
                <a:srgbClr val="f16d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oter Placeholder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Slide Number Placeholder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C937-9EC3-4DD9-AEB1-3312DBE99807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idence Report #122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581280" y="1371600"/>
            <a:ext cx="556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ertainty about effective approaches for cancer clinical trials recru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urther investigation of effective communication and trust-building strate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BPR should be explor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way to address persistent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Picture 7" descr=""/>
          <p:cNvPicPr/>
          <p:nvPr/>
        </p:nvPicPr>
        <p:blipFill>
          <a:blip r:embed="rId1"/>
          <a:stretch/>
        </p:blipFill>
        <p:spPr>
          <a:xfrm>
            <a:off x="0" y="1600200"/>
            <a:ext cx="3809880" cy="4925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5"/>
          <p:cNvSpPr/>
          <p:nvPr/>
        </p:nvSpPr>
        <p:spPr>
          <a:xfrm>
            <a:off x="380880" y="530280"/>
            <a:ext cx="2535480" cy="2997000"/>
          </a:xfrm>
          <a:prstGeom prst="rect">
            <a:avLst/>
          </a:prstGeom>
          <a:solidFill>
            <a:srgbClr val="00c8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wareness Barriers/Promo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itudes/Belie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al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Literac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46"/>
          <p:cNvSpPr/>
          <p:nvPr/>
        </p:nvSpPr>
        <p:spPr>
          <a:xfrm>
            <a:off x="3233880" y="485640"/>
            <a:ext cx="2557440" cy="4057920"/>
          </a:xfrm>
          <a:prstGeom prst="rect">
            <a:avLst/>
          </a:prstGeom>
          <a:solidFill>
            <a:srgbClr val="00c8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pportunity Barriers/Promo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 Attitudes/Belie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gibility/Exclusions by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morbid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al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47"/>
          <p:cNvSpPr/>
          <p:nvPr/>
        </p:nvSpPr>
        <p:spPr>
          <a:xfrm>
            <a:off x="5946840" y="506520"/>
            <a:ext cx="2938320" cy="4460400"/>
          </a:xfrm>
          <a:prstGeom prst="rect">
            <a:avLst/>
          </a:prstGeom>
          <a:solidFill>
            <a:srgbClr val="00c8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eptance/Refusal Barriers/Promo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ived Harms/Benef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in Sponsor/Investig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ru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gious Belie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st Trea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Incen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48"/>
          <p:cNvSpPr/>
          <p:nvPr/>
        </p:nvSpPr>
        <p:spPr>
          <a:xfrm flipH="1">
            <a:off x="4495680" y="4572000"/>
            <a:ext cx="76320" cy="380880"/>
          </a:xfrm>
          <a:prstGeom prst="line">
            <a:avLst/>
          </a:prstGeom>
          <a:ln w="76320">
            <a:solidFill>
              <a:srgbClr val="00c8c3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49"/>
          <p:cNvSpPr/>
          <p:nvPr/>
        </p:nvSpPr>
        <p:spPr>
          <a:xfrm>
            <a:off x="7445520" y="4267080"/>
            <a:ext cx="10800" cy="1446480"/>
          </a:xfrm>
          <a:prstGeom prst="line">
            <a:avLst/>
          </a:prstGeom>
          <a:ln w="76320">
            <a:solidFill>
              <a:srgbClr val="00c8c3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50"/>
          <p:cNvSpPr/>
          <p:nvPr/>
        </p:nvSpPr>
        <p:spPr>
          <a:xfrm>
            <a:off x="1752480" y="3352680"/>
            <a:ext cx="46080" cy="1981440"/>
          </a:xfrm>
          <a:prstGeom prst="line">
            <a:avLst/>
          </a:prstGeom>
          <a:ln w="76320">
            <a:solidFill>
              <a:srgbClr val="00c8c3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3495600" y="5045040"/>
            <a:ext cx="1990800" cy="459720"/>
          </a:xfrm>
          <a:prstGeom prst="rect">
            <a:avLst/>
          </a:prstGeom>
          <a:solidFill>
            <a:srgbClr val="d4d2d0"/>
          </a:solidFill>
          <a:ln w="19080">
            <a:solidFill>
              <a:srgbClr val="00c8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port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533520" y="5781600"/>
            <a:ext cx="2133360" cy="520560"/>
          </a:xfrm>
          <a:prstGeom prst="rect">
            <a:avLst/>
          </a:prstGeom>
          <a:solidFill>
            <a:srgbClr val="d4d2d0"/>
          </a:solidFill>
          <a:ln w="19080">
            <a:solidFill>
              <a:srgbClr val="00c8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6402240" y="5769000"/>
            <a:ext cx="2284560" cy="1015920"/>
          </a:xfrm>
          <a:prstGeom prst="rect">
            <a:avLst/>
          </a:prstGeom>
          <a:solidFill>
            <a:srgbClr val="d4d2d0"/>
          </a:solidFill>
          <a:ln w="19080">
            <a:solidFill>
              <a:srgbClr val="00c8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ptance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u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54"/>
          <p:cNvSpPr/>
          <p:nvPr/>
        </p:nvSpPr>
        <p:spPr>
          <a:xfrm flipV="1">
            <a:off x="2655720" y="5413320"/>
            <a:ext cx="774720" cy="365040"/>
          </a:xfrm>
          <a:prstGeom prst="line">
            <a:avLst/>
          </a:prstGeom>
          <a:ln w="76320">
            <a:solidFill>
              <a:srgbClr val="00c8c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55"/>
          <p:cNvSpPr/>
          <p:nvPr/>
        </p:nvSpPr>
        <p:spPr>
          <a:xfrm>
            <a:off x="4495680" y="5486400"/>
            <a:ext cx="0" cy="493560"/>
          </a:xfrm>
          <a:prstGeom prst="line">
            <a:avLst/>
          </a:prstGeom>
          <a:ln w="76320">
            <a:solidFill>
              <a:srgbClr val="00c8c3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56"/>
          <p:cNvSpPr/>
          <p:nvPr/>
        </p:nvSpPr>
        <p:spPr>
          <a:xfrm>
            <a:off x="2666880" y="6095880"/>
            <a:ext cx="3649680" cy="0"/>
          </a:xfrm>
          <a:prstGeom prst="line">
            <a:avLst/>
          </a:prstGeom>
          <a:ln w="76320">
            <a:solidFill>
              <a:srgbClr val="00c8c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Use of the EPCs by our Respective Organizations: ENACCT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unity Leaders Community Health Care Providers Training of Trainers Program:  “What do you see as the greatest barrier to CCTs in your community?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nale for Gra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ining Mod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4:14:49Z</dcterms:created>
  <dc:creator>margo michaels</dc:creator>
  <dc:description/>
  <dc:language>en-US</dc:language>
  <cp:lastModifiedBy>william.hyde</cp:lastModifiedBy>
  <dcterms:modified xsi:type="dcterms:W3CDTF">2009-01-02T15:18:41Z</dcterms:modified>
  <cp:revision>20</cp:revision>
  <dc:subject/>
  <dc:title>Slide 1</dc:title>
</cp:coreProperties>
</file>