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2A92-4423-4955-9DEA-31BAAA1B8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hancing-peer-review.nih.gov/Meetings/NIHPeerReviewReportFINALDRAFT.pdf" TargetMode="External"/><Relationship Id="rId2" Type="http://schemas.openxmlformats.org/officeDocument/2006/relationships/hyperlink" Target="http://www.cancer.gov/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61F-5A25-433F-ABA1-3835B2A15C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321B-4B96-49A6-912E-B1CFD2CF5F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314-C4F8-4E3F-A7E6-29D4DDB022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hristian, M. C., &amp; Trimble, E. L. (2003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ung, N.S., Crowley, W.F. Jr, Genel, M. et al. (2003). Central challenges facing the national clinical research enterprise.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JAMA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89(10):1305-6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IH Director's Council of Public Representatives.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Public Trust in Clinical Research.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(2004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2003).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Exploring Challenges, Progress, and New Models for Engaging the Public in the Clinical Research Enterprise: Clinical Research Roundtable Workshop Summary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 National Academy of Science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ational Institutes Of Health 2007-2008 Peer Review Self-Study Final Draft. Available: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hancing-Peer-Review.Nih.Gov/Meetings/NIHPeerReviewReportFINALDRAFT.pd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esident’s Cancer Panel.(2005).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 Translating Research into Cancer Care: Delivering on the Promise. 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005)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1999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stitute of Medicine. (2008) National Cancer Policy Forum Multi-Center Phase III Clinical Trials and NCI Cooperative Group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ational Cancer Institute. Clinical Trials Working Group (CTWG) 2005 report. Available: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ancer.gov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 –Change. A Guidance Document for Implementing Effective Cancer Clinical Trials: Executive Summary. (2005)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B6FF-CC9C-45D5-8E6D-F3659BB822E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E201-56AF-4D49-8A52-2767BF33A5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0224-C122-48A6-9431-CDB0F87D1B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44F-2C18-4BBC-8491-73871971F8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A12D-E244-4E1E-AF49-974B3CC798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61A8-6084-428D-B0AD-C8EEE5BF45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245E-7FE9-4221-A13A-8559EB1320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C89-4084-4D96-9375-EDF79FEAF30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medically under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B7AF-201C-47DC-B4B3-FB6CE7E084E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 on medically underser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3A7-13CD-4B6A-9FD7-E10BC6A7D2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9116-FF69-49E1-88F0-B4FBAFF1883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F7DF-8BA1-495F-B6E6-69F0A36133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2CE-FA67-4315-B95C-D5C55DE1C98E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ED7-5468-41CD-9AE1-252B6C77D9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2647-4306-48CB-A81E-9056B58990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A06-2B9D-40DF-8C7E-AC400C27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CA6-67AD-4133-956F-ADCA41F6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6E5D-E468-4C86-A744-F66E67FD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083-93AF-46C0-8630-FB6A033B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B3AA-030F-4338-B01A-3B0AD947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86B1-E729-4F71-A921-0AEC9593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BDD5-097F-4A74-99EB-CE210A8E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C62-8194-4FE1-8044-B257DA70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98B3-F502-4A20-B198-AF10A0C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076A-749B-42BA-B083-4218B0FD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B52-E7EA-43F1-8817-64D3554C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A95-B6F3-4785-8CC8-25906102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4EEA-1AA6-4E29-ADCD-47A75B3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4B9-5F3E-4B54-B847-9D9F6B8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BC5D-FEF7-48BF-A5B2-A7F6FC28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9C82-5BAE-4FB8-BA2A-B729F12F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9DC-BB06-462C-93B3-2122A546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E5ADF-CE77-4494-812B-782BA343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AFC3E-B0B2-4148-BC31-41990A5F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19B0-EB34-4C9C-A5AF-C4446A88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E32C-45ED-4BA7-8AC5-F4BFA35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4924-BDBF-4A9F-8D2E-B1C16CCF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19F-7739-4FE5-8152-34B99BC7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06FB-B29D-40FF-8A1D-EA17EA21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9C80-FB43-4382-9D0D-07BCC25F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AE4A-380D-49C3-8E0C-54F3CAA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4FE86-1F6B-4402-B0AC-04B31501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B172-8092-4AE8-A9F3-32DFC3F9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1C1B-5817-4F3F-974C-7588ADF9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671F-75EE-463A-8364-7720E000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DD7E-9F8E-4E5E-B617-2C0C24FF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BEA7-FDA2-45FE-A4BD-A61D6DDF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F768-5525-4588-9984-36D6126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EBB-23A6-47B1-82EC-CF96EC62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DCDE-E31F-425D-8AE9-74501E39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D6684-4E92-4CD9-99B9-0067573B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C2B77-0799-492A-9E9C-C61AB349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F28B-94D3-4FB4-BA19-34AB5C3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AC0F-8455-4132-A57D-E23AF2ED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8181F-EF1A-4D6B-8227-59A2D457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84386-F740-45C0-91C8-2D29F46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D526-CD70-4310-9AD9-791C814D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03FD-37CF-4709-824D-13C12FD4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26EF-DB87-488C-970C-CABED85D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13D-FD49-46B5-9320-2A3DD75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44876-2CCF-46B1-886D-FDC5419D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F1E1-AE47-4C36-82FB-847B7BE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C9035-5CE5-44E3-8084-CE2C469E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7434-871C-4DBE-946D-73383D53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EB16-8F20-4FD1-9F87-A4C74F9C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27825-9296-4487-B4A0-2A4671D7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1635-E891-49AE-8712-454F87E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042B-351E-4971-B3CF-DAF9403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069C-46CB-4BB6-921F-3B249FF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55BC-59F5-437B-B256-3ED40DA6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0FA-20E7-4A9D-9366-3AD93410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42938-127F-42EA-81F8-C287D667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C918-098F-4F9D-9E44-1E5DAFF3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AC8AD-44A5-42A1-AA9C-B2CE2211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F08BC-CDDD-4BA9-BA11-F84B0151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FC852-BFC6-40C3-8B53-4444018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B1959-659E-42ED-9610-0F82C09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31478-5024-4419-8FC8-F397B3B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21374-41C7-4205-B620-6D080291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54DC9-FD1E-4A0A-B01F-4CBC29A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84A88-3EC4-43EB-8E9C-5150B9B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617-E012-4B8D-9C40-6F719E95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88C0-0F23-4810-99F6-D1E7006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DCEAA-E8A2-4E93-AE04-E2EC7846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4FA18-4F38-4A1E-A15D-DDF05797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1549B-4A7F-4FEC-A8A4-B60418509F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3748C0-8BEE-4FA7-A2CC-85E03C84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F6F514-7DB7-4E28-B2B7-74B7AF74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C29E4-B427-43C0-8D46-A79A38F4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55B3F-A164-435D-9000-C05C9301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AA7973-6241-4F84-A3CF-96410748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3A0E6-6C14-4966-8DCD-6AF99E77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C4F-CF2E-4EA3-BF29-F3D14E1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AACF6-4C25-4DFA-BF6F-A52BC6DE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2B1BC-F187-4668-9C40-DC77B249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D6099-02C1-41BA-8551-2483003D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3BFDB-2E48-42EB-BA26-8CE815B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EF4BE-F54B-422D-9372-EB7261B1B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8CE0-C3A2-4E05-8E8E-4FDCA9A0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ACC1-FDD0-4D5B-8D43-6CB7CCF5953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F731-7298-44F1-9685-52AAD15FEF7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98D5-0D6A-429B-9EB9-3492351EAA2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A7E6-B73A-45F4-B0B2-E245F61DE97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3C6A-D9DE-4F79-9168-98842FA55DB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2F12-E193-4A30-898A-2DEB3C819F4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B293-955B-4681-BE5F-5BC0F69C87C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bprcurriculum.inf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nacct.org/" TargetMode="External"/><Relationship Id="rId2" Type="http://schemas.openxmlformats.org/officeDocument/2006/relationships/hyperlink" Target="http://www.ccph.net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0" y="4876920"/>
            <a:ext cx="91440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go Michaels, M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Director, ENAC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 PI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unities as Partners in Cancer Clinical Tri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R13-HS01647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0" y="3123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Franklin Gothic Book"/>
              </a:rPr>
              <a:t>Panel on Use and Implementation of EHC and EPC  Research Products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Franklin Gothic Book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Title 2"/>
          <p:cNvSpPr/>
          <p:nvPr/>
        </p:nvSpPr>
        <p:spPr>
          <a:xfrm>
            <a:off x="0" y="144792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Using EPC Reports to Promote Changes in Research, Practice and Polic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Franklin Gothic Book"/>
              </a:rPr>
              <a:t>A Perspective from Two NG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ENACCT’s 3-pronged training progra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05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barriers relate to lack of knowledge and underlying attitudes and beliefs among patients, communities, primary care providers, oncology team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order to increase CCT participation, it is critical to enhance the knowledge, attitude, and skills of </a:t>
            </a:r>
            <a:r>
              <a:rPr b="0" lang="en-US" sz="3000" spc="-1" strike="noStrike">
                <a:solidFill>
                  <a:srgbClr val="ffc000"/>
                </a:solidFill>
                <a:latin typeface="Arial"/>
              </a:rPr>
              <a:t>each of these grou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our Respective Organizations: CCPH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vidence Report on CBP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4: Disseminated report through CCPH website, listservs &amp; newsletter (4000+ audie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4: Sponsored first teleconference on the report, featuring authors as speakers (300 attende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5-2007: Incorporated findings into CBPR institutes at APHA and CCPH conferences (500 attende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5-2008: Incorporated review guidelines into merit review for Healthier Wisconsin Partnership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57000" indent="-24804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06: Incorporated findings into evidence-based curriculum, </a:t>
            </a:r>
            <a:r>
              <a:rPr b="0" lang="en-US" sz="2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cbprcurriculum.inf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2000+ hit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ENACCT &amp; CCPH together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nale for Conference Grant Application to AHRQ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IH, NCI, IOM and the literature have called for the inclusion of public representatives in research design and implementation to address low accrual and improve research outco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can we leverage the findings of these two evidence reports into action recommendations that will lead to changes in design and implementation of Ph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treatment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nical trial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30481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80440" indent="-2563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ational strategic planning effort with core funding from the Agency for Healthcare Research and Quality and the National Cancer Institute (NCI)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0440" indent="-2563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core financial support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nce Armstrong Found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Society of Clinical Onc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nte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83840" indent="-1825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xoSmithKl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0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Communities as Partners in Cancer Clinical Tria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4038480" cy="1190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"/>
          <p:cNvPicPr/>
          <p:nvPr/>
        </p:nvPicPr>
        <p:blipFill>
          <a:blip r:embed="rId2"/>
          <a:stretch/>
        </p:blipFill>
        <p:spPr>
          <a:xfrm>
            <a:off x="0" y="1752480"/>
            <a:ext cx="510552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Project Purpo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ring together a diverse group of stakeholders to explore ways to improve Phase III cancer treatment trials, utilizing the principles &amp; approaches of  CBP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develop a national strategic plan for research, practice &amp; policy for incorporating CBPR principles &amp; approaches into Phase III cancer clinical trial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5 steps, 3 yea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05" name="Content Placeholder 3" descr=""/>
          <p:cNvPicPr/>
          <p:nvPr/>
        </p:nvPicPr>
        <p:blipFill>
          <a:blip r:embed="rId1"/>
          <a:stretch/>
        </p:blipFill>
        <p:spPr>
          <a:xfrm>
            <a:off x="-12600" y="225360"/>
            <a:ext cx="917568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4594320" cy="5851800"/>
          </a:xfrm>
          <a:prstGeom prst="rect">
            <a:avLst/>
          </a:prstGeom>
          <a:ln w="0">
            <a:noFill/>
          </a:ln>
        </p:spPr>
      </p:pic>
      <p:sp>
        <p:nvSpPr>
          <p:cNvPr id="507" name="Title 1"/>
          <p:cNvSpPr/>
          <p:nvPr/>
        </p:nvSpPr>
        <p:spPr>
          <a:xfrm>
            <a:off x="4572000" y="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ort Release-9/30/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952880" y="1315440"/>
            <a:ext cx="4191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  <a:ea typeface="Calibri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report to detail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the cancer clinical trial process would involve communities affected by cancer– from trial design to implementation to dissemination of results - with a strong focus o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Calibri"/>
              </a:rPr>
              <a:t>community engagement and CB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Seven Areas of Recommend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1066680"/>
            <a:ext cx="93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.  Ensuring a Meaningful Role for Community Representatives/Patient Advocates in Trial Desig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. Ensuring Community Perspectives in the IRB Review Proces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II. Improving the Informed Consent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V. Ensuring Community Perspectives in Protocol Development, Trial Design and Imple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. Improving Trial Participant Recruitment, Accrual and Reten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. Enhancing Local Community Support for Cancer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18480" indent="-26100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I. Enhancing Community Interpretation, Dissemination and Implementation of Trial Outcom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ext Steps: Dissemination and Implement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nso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CI and the pharmaceutical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se designing and implement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ational Cooperative Groups, industry, and local clinical research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versight and quality improvement agenc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DA, OHRP, AHRQ, and local Institutional Review Board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ccreditation organiz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ssociation for the Accreditation of Human Research Protection Programs and the American College of Surgeons’ Commission on Can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481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Franklin Gothic Book"/>
              </a:rPr>
              <a:t>Thank You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1760" y="3504960"/>
            <a:ext cx="7467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www.enacct.or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www.ccph.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3"/>
          <a:stretch/>
        </p:blipFill>
        <p:spPr>
          <a:xfrm>
            <a:off x="0" y="2057400"/>
            <a:ext cx="4038480" cy="11905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"/>
          <p:cNvPicPr/>
          <p:nvPr/>
        </p:nvPicPr>
        <p:blipFill>
          <a:blip r:embed="rId4"/>
          <a:stretch/>
        </p:blipFill>
        <p:spPr>
          <a:xfrm>
            <a:off x="4038480" y="2133720"/>
            <a:ext cx="510552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04560" y="236196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903960" indent="-230040">
              <a:spcBef>
                <a:spcPts val="7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national organization solely devoted to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community-centered approach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ancer clinical trials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03960" indent="-230040">
              <a:spcBef>
                <a:spcPts val="79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icated to finding evidence based approaches that work to change attitudes, behaviors and ultimately, accr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8647-4440-425F-83E5-A4507FDFC98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4" descr="logo"/>
          <p:cNvPicPr/>
          <p:nvPr/>
        </p:nvPicPr>
        <p:blipFill>
          <a:blip r:embed="rId1"/>
          <a:stretch/>
        </p:blipFill>
        <p:spPr>
          <a:xfrm>
            <a:off x="2057400" y="228600"/>
            <a:ext cx="4203720" cy="129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09" name="Rectangle 5"/>
          <p:cNvSpPr/>
          <p:nvPr/>
        </p:nvSpPr>
        <p:spPr>
          <a:xfrm>
            <a:off x="457200" y="6324480"/>
            <a:ext cx="8381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04920" y="19047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505440" indent="-190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out 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national organization devoted solely to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promoting health through partnerships between communities and higher educational institution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ing community-based participatory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s research &amp; evaluation, provides training &amp; technical assistance, convenes stakeholders, disseminates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5440" indent="-190800">
              <a:spcBef>
                <a:spcPts val="7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AC60-D2C6-4E22-9B1E-3CC1C4CD981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6324480"/>
            <a:ext cx="83818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530760" cy="11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ommunity Based Participatory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ientific inquiry …in which community members, persons affected by condition or issue under study and other key stakeholders … (are)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 participants in each phase of the work – conception, design, conduct, analysi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pretation, conclusions and communication of resul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ition of CBPR. Federal Interagency Working Group on CBPR. Retrieved 2007 from National Institute of Environmental Health Sciences Web site: http://www.niehs.nih.gov/translat/IWG/iwghom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Evidence Report #99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zation of CBPR can improve research quality, enhance intervention quality, improve outcomes, and enhance research recruitment effo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4341960" y="304920"/>
            <a:ext cx="4802040" cy="6172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SummaryPage"/>
          <p:cNvPicPr/>
          <p:nvPr/>
        </p:nvPicPr>
        <p:blipFill>
          <a:blip r:embed="rId2"/>
          <a:stretch/>
        </p:blipFill>
        <p:spPr>
          <a:xfrm rot="996000">
            <a:off x="5410080" y="609120"/>
            <a:ext cx="3005280" cy="38862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5"/>
          <p:cNvGrpSpPr/>
          <p:nvPr/>
        </p:nvGrpSpPr>
        <p:grpSpPr>
          <a:xfrm>
            <a:off x="-25560" y="-4680"/>
            <a:ext cx="11684160" cy="8743320"/>
            <a:chOff x="-25560" y="-4680"/>
            <a:chExt cx="11684160" cy="8743320"/>
          </a:xfrm>
        </p:grpSpPr>
        <p:sp>
          <p:nvSpPr>
            <p:cNvPr id="323" name="AutoShape 4"/>
            <p:cNvSpPr/>
            <p:nvPr/>
          </p:nvSpPr>
          <p:spPr>
            <a:xfrm>
              <a:off x="-21240" y="-360"/>
              <a:ext cx="11679840" cy="87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-25560" y="-4680"/>
              <a:ext cx="11680200" cy="873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9"/>
            <p:cNvGrpSpPr/>
            <p:nvPr/>
          </p:nvGrpSpPr>
          <p:grpSpPr>
            <a:xfrm>
              <a:off x="265680" y="1937520"/>
              <a:ext cx="11388600" cy="1649880"/>
              <a:chOff x="265680" y="1937520"/>
              <a:chExt cx="11388600" cy="1649880"/>
            </a:xfrm>
          </p:grpSpPr>
          <p:sp>
            <p:nvSpPr>
              <p:cNvPr id="326" name="Freeform 7"/>
              <p:cNvSpPr/>
              <p:nvPr/>
            </p:nvSpPr>
            <p:spPr>
              <a:xfrm>
                <a:off x="265680" y="1937520"/>
                <a:ext cx="11388600" cy="1649880"/>
              </a:xfrm>
              <a:prstGeom prst="pie">
                <a:avLst/>
              </a:pr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8"/>
              <p:cNvSpPr/>
              <p:nvPr/>
            </p:nvSpPr>
            <p:spPr>
              <a:xfrm>
                <a:off x="265680" y="1937520"/>
                <a:ext cx="11388600" cy="1649880"/>
              </a:xfrm>
              <a:prstGeom prst="pie">
                <a:avLst/>
              </a:prstGeom>
              <a:noFill/>
              <a:ln cap="rnd"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Rectangle 10"/>
            <p:cNvSpPr/>
            <p:nvPr/>
          </p:nvSpPr>
          <p:spPr>
            <a:xfrm>
              <a:off x="265680" y="4364640"/>
              <a:ext cx="1266480" cy="9468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702720" y="44496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al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572760" y="4722840"/>
              <a:ext cx="81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rn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592560" y="49939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fi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1823760" y="4073400"/>
              <a:ext cx="1460160" cy="148896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2378520" y="415440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d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2234880" y="4427640"/>
              <a:ext cx="80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2464200" y="46987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2295000" y="497160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ding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2331720" y="52426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u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3672720" y="4170600"/>
              <a:ext cx="1654920" cy="14886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4084560" y="425556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rticipant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4033080" y="452844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23"/>
            <p:cNvSpPr/>
            <p:nvPr/>
          </p:nvSpPr>
          <p:spPr>
            <a:xfrm>
              <a:off x="4208040" y="479952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>
              <a:off x="4222080" y="5070600"/>
              <a:ext cx="70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ystem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5"/>
            <p:cNvSpPr/>
            <p:nvPr/>
          </p:nvSpPr>
          <p:spPr>
            <a:xfrm>
              <a:off x="4035240" y="5343480"/>
              <a:ext cx="102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26"/>
            <p:cNvSpPr/>
            <p:nvPr/>
          </p:nvSpPr>
          <p:spPr>
            <a:xfrm>
              <a:off x="5618880" y="4267800"/>
              <a:ext cx="1946160" cy="121716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27"/>
            <p:cNvSpPr/>
            <p:nvPr/>
          </p:nvSpPr>
          <p:spPr>
            <a:xfrm>
              <a:off x="6100560" y="4348440"/>
              <a:ext cx="114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28"/>
            <p:cNvSpPr/>
            <p:nvPr/>
          </p:nvSpPr>
          <p:spPr>
            <a:xfrm>
              <a:off x="6184080" y="462168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strument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29"/>
            <p:cNvSpPr/>
            <p:nvPr/>
          </p:nvSpPr>
          <p:spPr>
            <a:xfrm>
              <a:off x="6117840" y="489276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0"/>
            <p:cNvSpPr/>
            <p:nvPr/>
          </p:nvSpPr>
          <p:spPr>
            <a:xfrm>
              <a:off x="6091560" y="516564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collec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1"/>
            <p:cNvSpPr/>
            <p:nvPr/>
          </p:nvSpPr>
          <p:spPr>
            <a:xfrm>
              <a:off x="7858800" y="4364640"/>
              <a:ext cx="1654920" cy="94680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2"/>
            <p:cNvSpPr/>
            <p:nvPr/>
          </p:nvSpPr>
          <p:spPr>
            <a:xfrm>
              <a:off x="8276400" y="444960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33"/>
            <p:cNvSpPr/>
            <p:nvPr/>
          </p:nvSpPr>
          <p:spPr>
            <a:xfrm>
              <a:off x="8211600" y="4722840"/>
              <a:ext cx="1122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34"/>
            <p:cNvSpPr/>
            <p:nvPr/>
          </p:nvSpPr>
          <p:spPr>
            <a:xfrm>
              <a:off x="8223480" y="4993920"/>
              <a:ext cx="102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lement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35"/>
            <p:cNvSpPr/>
            <p:nvPr/>
          </p:nvSpPr>
          <p:spPr>
            <a:xfrm>
              <a:off x="9805320" y="3976560"/>
              <a:ext cx="1558080" cy="1895040"/>
            </a:xfrm>
            <a:prstGeom prst="rect">
              <a:avLst/>
            </a:prstGeom>
            <a:noFill/>
            <a:ln cap="rnd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36"/>
            <p:cNvSpPr/>
            <p:nvPr/>
          </p:nvSpPr>
          <p:spPr>
            <a:xfrm>
              <a:off x="10455120" y="4061520"/>
              <a:ext cx="42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37"/>
            <p:cNvSpPr/>
            <p:nvPr/>
          </p:nvSpPr>
          <p:spPr>
            <a:xfrm>
              <a:off x="10284840" y="433440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alyz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8"/>
            <p:cNvSpPr/>
            <p:nvPr/>
          </p:nvSpPr>
          <p:spPr>
            <a:xfrm>
              <a:off x="10498680" y="46054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39"/>
            <p:cNvSpPr/>
            <p:nvPr/>
          </p:nvSpPr>
          <p:spPr>
            <a:xfrm>
              <a:off x="10216800" y="487656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pre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40"/>
            <p:cNvSpPr/>
            <p:nvPr/>
          </p:nvSpPr>
          <p:spPr>
            <a:xfrm>
              <a:off x="10229400" y="5281200"/>
              <a:ext cx="93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nsla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41"/>
            <p:cNvSpPr/>
            <p:nvPr/>
          </p:nvSpPr>
          <p:spPr>
            <a:xfrm>
              <a:off x="10226520" y="5554080"/>
              <a:ext cx="81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finding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42"/>
            <p:cNvSpPr/>
            <p:nvPr/>
          </p:nvSpPr>
          <p:spPr>
            <a:xfrm>
              <a:off x="702720" y="1039320"/>
              <a:ext cx="75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 help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3"/>
            <p:cNvSpPr/>
            <p:nvPr/>
          </p:nvSpPr>
          <p:spPr>
            <a:xfrm>
              <a:off x="606240" y="1312200"/>
              <a:ext cx="94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dentify ke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4"/>
            <p:cNvSpPr/>
            <p:nvPr/>
          </p:nvSpPr>
          <p:spPr>
            <a:xfrm>
              <a:off x="794520" y="1583280"/>
              <a:ext cx="50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76068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6"/>
            <p:cNvSpPr/>
            <p:nvPr/>
          </p:nvSpPr>
          <p:spPr>
            <a:xfrm>
              <a:off x="1028880" y="1995840"/>
              <a:ext cx="39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47"/>
            <p:cNvSpPr/>
            <p:nvPr/>
          </p:nvSpPr>
          <p:spPr>
            <a:xfrm>
              <a:off x="647280" y="2259000"/>
              <a:ext cx="864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motiva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48"/>
            <p:cNvSpPr/>
            <p:nvPr/>
          </p:nvSpPr>
          <p:spPr>
            <a:xfrm>
              <a:off x="979560" y="253188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49"/>
            <p:cNvSpPr/>
            <p:nvPr/>
          </p:nvSpPr>
          <p:spPr>
            <a:xfrm>
              <a:off x="636120" y="2802960"/>
              <a:ext cx="82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articipa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50"/>
            <p:cNvSpPr/>
            <p:nvPr/>
          </p:nvSpPr>
          <p:spPr>
            <a:xfrm>
              <a:off x="4470120" y="8319600"/>
              <a:ext cx="351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ditional Research Approa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51"/>
            <p:cNvSpPr/>
            <p:nvPr/>
          </p:nvSpPr>
          <p:spPr>
            <a:xfrm>
              <a:off x="2249640" y="75168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52"/>
            <p:cNvSpPr/>
            <p:nvPr/>
          </p:nvSpPr>
          <p:spPr>
            <a:xfrm>
              <a:off x="2232720" y="1024920"/>
              <a:ext cx="110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udy design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53"/>
            <p:cNvSpPr/>
            <p:nvPr/>
          </p:nvSpPr>
          <p:spPr>
            <a:xfrm>
              <a:off x="2464920" y="129600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dget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4"/>
            <p:cNvSpPr/>
            <p:nvPr/>
          </p:nvSpPr>
          <p:spPr>
            <a:xfrm>
              <a:off x="2413080" y="1569240"/>
              <a:ext cx="735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al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55"/>
            <p:cNvSpPr/>
            <p:nvPr/>
          </p:nvSpPr>
          <p:spPr>
            <a:xfrm>
              <a:off x="2302920" y="1840320"/>
              <a:ext cx="89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miss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56"/>
            <p:cNvSpPr/>
            <p:nvPr/>
          </p:nvSpPr>
          <p:spPr>
            <a:xfrm>
              <a:off x="2466360" y="224496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57"/>
            <p:cNvSpPr/>
            <p:nvPr/>
          </p:nvSpPr>
          <p:spPr>
            <a:xfrm>
              <a:off x="2732400" y="2244960"/>
              <a:ext cx="39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58"/>
            <p:cNvSpPr/>
            <p:nvPr/>
          </p:nvSpPr>
          <p:spPr>
            <a:xfrm>
              <a:off x="2268000" y="2516040"/>
              <a:ext cx="103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cceptabilit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59"/>
            <p:cNvSpPr/>
            <p:nvPr/>
          </p:nvSpPr>
          <p:spPr>
            <a:xfrm>
              <a:off x="2191320" y="2787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0"/>
            <p:cNvSpPr/>
            <p:nvPr/>
          </p:nvSpPr>
          <p:spPr>
            <a:xfrm>
              <a:off x="259128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61"/>
            <p:cNvSpPr/>
            <p:nvPr/>
          </p:nvSpPr>
          <p:spPr>
            <a:xfrm>
              <a:off x="2700000" y="2787120"/>
              <a:ext cx="28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u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62"/>
            <p:cNvSpPr/>
            <p:nvPr/>
          </p:nvSpPr>
          <p:spPr>
            <a:xfrm>
              <a:off x="303660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63"/>
            <p:cNvSpPr/>
            <p:nvPr/>
          </p:nvSpPr>
          <p:spPr>
            <a:xfrm>
              <a:off x="3124800" y="278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4"/>
            <p:cNvSpPr/>
            <p:nvPr/>
          </p:nvSpPr>
          <p:spPr>
            <a:xfrm>
              <a:off x="3289320" y="27871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65"/>
            <p:cNvSpPr/>
            <p:nvPr/>
          </p:nvSpPr>
          <p:spPr>
            <a:xfrm>
              <a:off x="747720" y="6577560"/>
              <a:ext cx="56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su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6"/>
            <p:cNvSpPr/>
            <p:nvPr/>
          </p:nvSpPr>
          <p:spPr>
            <a:xfrm>
              <a:off x="673560" y="6851160"/>
              <a:ext cx="71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67"/>
            <p:cNvSpPr/>
            <p:nvPr/>
          </p:nvSpPr>
          <p:spPr>
            <a:xfrm>
              <a:off x="541440" y="712224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68"/>
            <p:cNvSpPr/>
            <p:nvPr/>
          </p:nvSpPr>
          <p:spPr>
            <a:xfrm>
              <a:off x="959760" y="71222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pi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69"/>
            <p:cNvSpPr/>
            <p:nvPr/>
          </p:nvSpPr>
          <p:spPr>
            <a:xfrm>
              <a:off x="1473480" y="71222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70"/>
            <p:cNvSpPr/>
            <p:nvPr/>
          </p:nvSpPr>
          <p:spPr>
            <a:xfrm>
              <a:off x="827640" y="739512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71"/>
            <p:cNvSpPr/>
            <p:nvPr/>
          </p:nvSpPr>
          <p:spPr>
            <a:xfrm>
              <a:off x="2030760" y="6577560"/>
              <a:ext cx="131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: scienc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Rectangle 72"/>
            <p:cNvSpPr/>
            <p:nvPr/>
          </p:nvSpPr>
          <p:spPr>
            <a:xfrm>
              <a:off x="2114640" y="6851160"/>
              <a:ext cx="108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feasi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73"/>
            <p:cNvSpPr/>
            <p:nvPr/>
          </p:nvSpPr>
          <p:spPr>
            <a:xfrm>
              <a:off x="2358000" y="7255800"/>
              <a:ext cx="66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dget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74"/>
            <p:cNvSpPr/>
            <p:nvPr/>
          </p:nvSpPr>
          <p:spPr>
            <a:xfrm>
              <a:off x="2314080" y="7526880"/>
              <a:ext cx="74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75"/>
            <p:cNvSpPr/>
            <p:nvPr/>
          </p:nvSpPr>
          <p:spPr>
            <a:xfrm>
              <a:off x="2277000" y="7797600"/>
              <a:ext cx="76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pens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76"/>
            <p:cNvSpPr/>
            <p:nvPr/>
          </p:nvSpPr>
          <p:spPr>
            <a:xfrm>
              <a:off x="993960" y="10008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Commun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77"/>
            <p:cNvSpPr/>
            <p:nvPr/>
          </p:nvSpPr>
          <p:spPr>
            <a:xfrm>
              <a:off x="977760" y="8424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78"/>
            <p:cNvSpPr/>
            <p:nvPr/>
          </p:nvSpPr>
          <p:spPr>
            <a:xfrm>
              <a:off x="2765160" y="10008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79"/>
            <p:cNvSpPr/>
            <p:nvPr/>
          </p:nvSpPr>
          <p:spPr>
            <a:xfrm>
              <a:off x="2749320" y="842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80"/>
            <p:cNvSpPr/>
            <p:nvPr/>
          </p:nvSpPr>
          <p:spPr>
            <a:xfrm>
              <a:off x="3448800" y="100080"/>
              <a:ext cx="411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Based Participatory Research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81"/>
            <p:cNvSpPr/>
            <p:nvPr/>
          </p:nvSpPr>
          <p:spPr>
            <a:xfrm>
              <a:off x="3435120" y="84240"/>
              <a:ext cx="411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d Participatory Research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82"/>
            <p:cNvSpPr/>
            <p:nvPr/>
          </p:nvSpPr>
          <p:spPr>
            <a:xfrm>
              <a:off x="8071920" y="294840"/>
              <a:ext cx="22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0c0c0"/>
                  </a:solidFill>
                  <a:latin typeface="Arial"/>
                </a:rPr>
                <a:t>(from AHRQ evidence report on CBPR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83"/>
            <p:cNvSpPr/>
            <p:nvPr/>
          </p:nvSpPr>
          <p:spPr>
            <a:xfrm>
              <a:off x="8063640" y="286560"/>
              <a:ext cx="22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from AHRQ evidence report on CBPR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84"/>
            <p:cNvSpPr/>
            <p:nvPr/>
          </p:nvSpPr>
          <p:spPr>
            <a:xfrm>
              <a:off x="4285800" y="1039320"/>
              <a:ext cx="69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giv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85"/>
            <p:cNvSpPr/>
            <p:nvPr/>
          </p:nvSpPr>
          <p:spPr>
            <a:xfrm>
              <a:off x="4145760" y="131220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uidance r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86"/>
            <p:cNvSpPr/>
            <p:nvPr/>
          </p:nvSpPr>
          <p:spPr>
            <a:xfrm>
              <a:off x="4162680" y="15832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87"/>
            <p:cNvSpPr/>
            <p:nvPr/>
          </p:nvSpPr>
          <p:spPr>
            <a:xfrm>
              <a:off x="4081680" y="18561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ret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88"/>
            <p:cNvSpPr/>
            <p:nvPr/>
          </p:nvSpPr>
          <p:spPr>
            <a:xfrm>
              <a:off x="4024080" y="22590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89"/>
            <p:cNvSpPr/>
            <p:nvPr/>
          </p:nvSpPr>
          <p:spPr>
            <a:xfrm>
              <a:off x="4343040" y="225900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90"/>
            <p:cNvSpPr/>
            <p:nvPr/>
          </p:nvSpPr>
          <p:spPr>
            <a:xfrm>
              <a:off x="4162680" y="25318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cruit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91"/>
            <p:cNvSpPr/>
            <p:nvPr/>
          </p:nvSpPr>
          <p:spPr>
            <a:xfrm>
              <a:off x="4081680" y="2802960"/>
              <a:ext cx="1043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and reten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92"/>
            <p:cNvSpPr/>
            <p:nvPr/>
          </p:nvSpPr>
          <p:spPr>
            <a:xfrm>
              <a:off x="6041160" y="1039320"/>
              <a:ext cx="107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93"/>
            <p:cNvSpPr/>
            <p:nvPr/>
          </p:nvSpPr>
          <p:spPr>
            <a:xfrm>
              <a:off x="6156720" y="131220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94"/>
            <p:cNvSpPr/>
            <p:nvPr/>
          </p:nvSpPr>
          <p:spPr>
            <a:xfrm>
              <a:off x="6050160" y="1583280"/>
              <a:ext cx="107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95"/>
            <p:cNvSpPr/>
            <p:nvPr/>
          </p:nvSpPr>
          <p:spPr>
            <a:xfrm>
              <a:off x="6117120" y="185616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96"/>
            <p:cNvSpPr/>
            <p:nvPr/>
          </p:nvSpPr>
          <p:spPr>
            <a:xfrm>
              <a:off x="5986800" y="22590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97"/>
            <p:cNvSpPr/>
            <p:nvPr/>
          </p:nvSpPr>
          <p:spPr>
            <a:xfrm>
              <a:off x="6311880" y="225900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Increas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98"/>
            <p:cNvSpPr/>
            <p:nvPr/>
          </p:nvSpPr>
          <p:spPr>
            <a:xfrm>
              <a:off x="6033960" y="253188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liability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99"/>
            <p:cNvSpPr/>
            <p:nvPr/>
          </p:nvSpPr>
          <p:spPr>
            <a:xfrm>
              <a:off x="6276600" y="2802960"/>
              <a:ext cx="54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valid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100"/>
            <p:cNvSpPr/>
            <p:nvPr/>
          </p:nvSpPr>
          <p:spPr>
            <a:xfrm>
              <a:off x="7925400" y="103932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gui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101"/>
            <p:cNvSpPr/>
            <p:nvPr/>
          </p:nvSpPr>
          <p:spPr>
            <a:xfrm>
              <a:off x="8045280" y="1312200"/>
              <a:ext cx="97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102"/>
            <p:cNvSpPr/>
            <p:nvPr/>
          </p:nvSpPr>
          <p:spPr>
            <a:xfrm>
              <a:off x="7981920" y="1583280"/>
              <a:ext cx="102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103"/>
            <p:cNvSpPr/>
            <p:nvPr/>
          </p:nvSpPr>
          <p:spPr>
            <a:xfrm>
              <a:off x="804240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104"/>
            <p:cNvSpPr/>
            <p:nvPr/>
          </p:nvSpPr>
          <p:spPr>
            <a:xfrm>
              <a:off x="8336160" y="1995840"/>
              <a:ext cx="65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Greate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105"/>
            <p:cNvSpPr/>
            <p:nvPr/>
          </p:nvSpPr>
          <p:spPr>
            <a:xfrm>
              <a:off x="7936920" y="2259000"/>
              <a:ext cx="117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relevanc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106"/>
            <p:cNvSpPr/>
            <p:nvPr/>
          </p:nvSpPr>
          <p:spPr>
            <a:xfrm>
              <a:off x="7993440" y="2531880"/>
              <a:ext cx="1053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likelihood f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107"/>
            <p:cNvSpPr/>
            <p:nvPr/>
          </p:nvSpPr>
          <p:spPr>
            <a:xfrm>
              <a:off x="8163720" y="2802960"/>
              <a:ext cx="64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108"/>
            <p:cNvSpPr/>
            <p:nvPr/>
          </p:nvSpPr>
          <p:spPr>
            <a:xfrm>
              <a:off x="9975600" y="1039320"/>
              <a:ext cx="147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. helps with data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109"/>
            <p:cNvSpPr/>
            <p:nvPr/>
          </p:nvSpPr>
          <p:spPr>
            <a:xfrm>
              <a:off x="10000080" y="1312200"/>
              <a:ext cx="144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pretation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110"/>
            <p:cNvSpPr/>
            <p:nvPr/>
          </p:nvSpPr>
          <p:spPr>
            <a:xfrm>
              <a:off x="10206000" y="1583280"/>
              <a:ext cx="94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ublic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111"/>
            <p:cNvSpPr/>
            <p:nvPr/>
          </p:nvSpPr>
          <p:spPr>
            <a:xfrm>
              <a:off x="10103760" y="199584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112"/>
            <p:cNvSpPr/>
            <p:nvPr/>
          </p:nvSpPr>
          <p:spPr>
            <a:xfrm>
              <a:off x="10424880" y="1995840"/>
              <a:ext cx="85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Enhanc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113"/>
            <p:cNvSpPr/>
            <p:nvPr/>
          </p:nvSpPr>
          <p:spPr>
            <a:xfrm>
              <a:off x="10227240" y="225900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potential f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114"/>
            <p:cNvSpPr/>
            <p:nvPr/>
          </p:nvSpPr>
          <p:spPr>
            <a:xfrm>
              <a:off x="10099800" y="2531880"/>
              <a:ext cx="122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ranslation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115"/>
            <p:cNvSpPr/>
            <p:nvPr/>
          </p:nvSpPr>
          <p:spPr>
            <a:xfrm>
              <a:off x="10130040" y="2802960"/>
              <a:ext cx="1091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issemin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116"/>
            <p:cNvSpPr/>
            <p:nvPr/>
          </p:nvSpPr>
          <p:spPr>
            <a:xfrm>
              <a:off x="10226520" y="6772320"/>
              <a:ext cx="106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117"/>
            <p:cNvSpPr/>
            <p:nvPr/>
          </p:nvSpPr>
          <p:spPr>
            <a:xfrm>
              <a:off x="10167480" y="7045200"/>
              <a:ext cx="118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finding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118"/>
            <p:cNvSpPr/>
            <p:nvPr/>
          </p:nvSpPr>
          <p:spPr>
            <a:xfrm>
              <a:off x="10207080" y="731628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om analysi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119"/>
            <p:cNvSpPr/>
            <p:nvPr/>
          </p:nvSpPr>
          <p:spPr>
            <a:xfrm>
              <a:off x="10185840" y="7589160"/>
              <a:ext cx="115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d publish i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120"/>
            <p:cNvSpPr/>
            <p:nvPr/>
          </p:nvSpPr>
          <p:spPr>
            <a:xfrm>
              <a:off x="10275480" y="786024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er review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121"/>
            <p:cNvSpPr/>
            <p:nvPr/>
          </p:nvSpPr>
          <p:spPr>
            <a:xfrm>
              <a:off x="10411560" y="812556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ourn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122"/>
            <p:cNvSpPr/>
            <p:nvPr/>
          </p:nvSpPr>
          <p:spPr>
            <a:xfrm>
              <a:off x="8322840" y="6577560"/>
              <a:ext cx="985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123"/>
            <p:cNvSpPr/>
            <p:nvPr/>
          </p:nvSpPr>
          <p:spPr>
            <a:xfrm>
              <a:off x="8313840" y="6851160"/>
              <a:ext cx="101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ed by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124"/>
            <p:cNvSpPr/>
            <p:nvPr/>
          </p:nvSpPr>
          <p:spPr>
            <a:xfrm>
              <a:off x="8318520" y="7122240"/>
              <a:ext cx="99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archer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125"/>
            <p:cNvSpPr/>
            <p:nvPr/>
          </p:nvSpPr>
          <p:spPr>
            <a:xfrm>
              <a:off x="8423640" y="7395120"/>
              <a:ext cx="78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d 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126"/>
            <p:cNvSpPr/>
            <p:nvPr/>
          </p:nvSpPr>
          <p:spPr>
            <a:xfrm>
              <a:off x="8269920" y="7666200"/>
              <a:ext cx="1093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teratur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127"/>
            <p:cNvSpPr/>
            <p:nvPr/>
          </p:nvSpPr>
          <p:spPr>
            <a:xfrm>
              <a:off x="8540640" y="793152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or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128"/>
            <p:cNvSpPr/>
            <p:nvPr/>
          </p:nvSpPr>
          <p:spPr>
            <a:xfrm>
              <a:off x="6257880" y="657756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asure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129"/>
            <p:cNvSpPr/>
            <p:nvPr/>
          </p:nvSpPr>
          <p:spPr>
            <a:xfrm>
              <a:off x="6230880" y="6851160"/>
              <a:ext cx="90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opted or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130"/>
            <p:cNvSpPr/>
            <p:nvPr/>
          </p:nvSpPr>
          <p:spPr>
            <a:xfrm>
              <a:off x="6130800" y="7122240"/>
              <a:ext cx="110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apted from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131"/>
            <p:cNvSpPr/>
            <p:nvPr/>
          </p:nvSpPr>
          <p:spPr>
            <a:xfrm>
              <a:off x="6116400" y="7395120"/>
              <a:ext cx="112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studies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32"/>
            <p:cNvSpPr/>
            <p:nvPr/>
          </p:nvSpPr>
          <p:spPr>
            <a:xfrm>
              <a:off x="6117840" y="7666200"/>
              <a:ext cx="1104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sychometric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133"/>
            <p:cNvSpPr/>
            <p:nvPr/>
          </p:nvSpPr>
          <p:spPr>
            <a:xfrm>
              <a:off x="6379560" y="79315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134"/>
            <p:cNvSpPr/>
            <p:nvPr/>
          </p:nvSpPr>
          <p:spPr>
            <a:xfrm>
              <a:off x="3997080" y="6577560"/>
              <a:ext cx="13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cruitment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135"/>
            <p:cNvSpPr/>
            <p:nvPr/>
          </p:nvSpPr>
          <p:spPr>
            <a:xfrm>
              <a:off x="4005360" y="6851160"/>
              <a:ext cx="135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tention base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136"/>
            <p:cNvSpPr/>
            <p:nvPr/>
          </p:nvSpPr>
          <p:spPr>
            <a:xfrm>
              <a:off x="4054320" y="7122240"/>
              <a:ext cx="125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science and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137"/>
            <p:cNvSpPr/>
            <p:nvPr/>
          </p:nvSpPr>
          <p:spPr>
            <a:xfrm>
              <a:off x="4059360" y="7395120"/>
              <a:ext cx="117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est guesses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8"/>
            <p:cNvSpPr/>
            <p:nvPr/>
          </p:nvSpPr>
          <p:spPr>
            <a:xfrm>
              <a:off x="153252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9"/>
            <p:cNvSpPr/>
            <p:nvPr/>
          </p:nvSpPr>
          <p:spPr>
            <a:xfrm>
              <a:off x="3284280" y="4801680"/>
              <a:ext cx="3884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0"/>
            <p:cNvSpPr/>
            <p:nvPr/>
          </p:nvSpPr>
          <p:spPr>
            <a:xfrm>
              <a:off x="532764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41"/>
            <p:cNvSpPr/>
            <p:nvPr/>
          </p:nvSpPr>
          <p:spPr>
            <a:xfrm>
              <a:off x="7565400" y="4801680"/>
              <a:ext cx="29340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42"/>
            <p:cNvSpPr/>
            <p:nvPr/>
          </p:nvSpPr>
          <p:spPr>
            <a:xfrm>
              <a:off x="9513720" y="4801680"/>
              <a:ext cx="291240" cy="9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143"/>
            <p:cNvSpPr/>
            <p:nvPr/>
          </p:nvSpPr>
          <p:spPr>
            <a:xfrm>
              <a:off x="80208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144"/>
            <p:cNvSpPr/>
            <p:nvPr/>
          </p:nvSpPr>
          <p:spPr>
            <a:xfrm>
              <a:off x="245700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145"/>
            <p:cNvSpPr/>
            <p:nvPr/>
          </p:nvSpPr>
          <p:spPr>
            <a:xfrm>
              <a:off x="4403160" y="329688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46"/>
            <p:cNvSpPr/>
            <p:nvPr/>
          </p:nvSpPr>
          <p:spPr>
            <a:xfrm>
              <a:off x="10438200" y="3199320"/>
              <a:ext cx="2912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47"/>
            <p:cNvSpPr/>
            <p:nvPr/>
          </p:nvSpPr>
          <p:spPr>
            <a:xfrm>
              <a:off x="8393040" y="3394080"/>
              <a:ext cx="293040" cy="67932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148"/>
            <p:cNvSpPr/>
            <p:nvPr/>
          </p:nvSpPr>
          <p:spPr>
            <a:xfrm>
              <a:off x="6446520" y="3296880"/>
              <a:ext cx="293040" cy="679680"/>
            </a:xfrm>
            <a:prstGeom prst="pie">
              <a:avLst/>
            </a:prstGeom>
            <a:solidFill>
              <a:srgbClr val="ffff89"/>
            </a:solidFill>
            <a:ln w="0">
              <a:solidFill>
                <a:srgbClr val="ffff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149"/>
            <p:cNvSpPr/>
            <p:nvPr/>
          </p:nvSpPr>
          <p:spPr>
            <a:xfrm>
              <a:off x="80208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150"/>
            <p:cNvSpPr/>
            <p:nvPr/>
          </p:nvSpPr>
          <p:spPr>
            <a:xfrm>
              <a:off x="10438200" y="60156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151"/>
            <p:cNvSpPr/>
            <p:nvPr/>
          </p:nvSpPr>
          <p:spPr>
            <a:xfrm>
              <a:off x="858924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152"/>
            <p:cNvSpPr/>
            <p:nvPr/>
          </p:nvSpPr>
          <p:spPr>
            <a:xfrm>
              <a:off x="6446520" y="5821200"/>
              <a:ext cx="2930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153"/>
            <p:cNvSpPr/>
            <p:nvPr/>
          </p:nvSpPr>
          <p:spPr>
            <a:xfrm>
              <a:off x="440316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154"/>
            <p:cNvSpPr/>
            <p:nvPr/>
          </p:nvSpPr>
          <p:spPr>
            <a:xfrm>
              <a:off x="2457000" y="5821200"/>
              <a:ext cx="291240" cy="582480"/>
            </a:xfrm>
            <a:prstGeom prst="pie">
              <a:avLst/>
            </a:prstGeom>
            <a:solidFill>
              <a:srgbClr val="f16dde"/>
            </a:solidFill>
            <a:ln w="0">
              <a:solidFill>
                <a:srgbClr val="f16dd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Slide Number Placeholder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CB60-27F4-4B68-BA1E-D519260977C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0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dence Report #122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81280" y="137160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ertainty about effective approaches for cancer clinical trials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rther investigation of effective communication and trust-building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BPR should be explo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a way to address persistent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7" descr=""/>
          <p:cNvPicPr/>
          <p:nvPr/>
        </p:nvPicPr>
        <p:blipFill>
          <a:blip r:embed="rId1"/>
          <a:stretch/>
        </p:blipFill>
        <p:spPr>
          <a:xfrm>
            <a:off x="0" y="1600200"/>
            <a:ext cx="3809880" cy="4925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5"/>
          <p:cNvSpPr/>
          <p:nvPr/>
        </p:nvSpPr>
        <p:spPr>
          <a:xfrm>
            <a:off x="380880" y="530280"/>
            <a:ext cx="2535480" cy="299700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wareness Barriers/Promo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s/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Literac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46"/>
          <p:cNvSpPr/>
          <p:nvPr/>
        </p:nvSpPr>
        <p:spPr>
          <a:xfrm>
            <a:off x="3233880" y="485640"/>
            <a:ext cx="2557440" cy="405792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pportunity Barriers/Promo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 Attitudes/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gibility/Exclusions by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morbid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al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7"/>
          <p:cNvSpPr/>
          <p:nvPr/>
        </p:nvSpPr>
        <p:spPr>
          <a:xfrm>
            <a:off x="5946840" y="506520"/>
            <a:ext cx="2938320" cy="4460400"/>
          </a:xfrm>
          <a:prstGeom prst="rect">
            <a:avLst/>
          </a:prstGeom>
          <a:solidFill>
            <a:srgbClr val="00c8c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eptance/Refusal Barriers/Promo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ived Harms/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in Sponsor/Investig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ru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st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8"/>
          <p:cNvSpPr/>
          <p:nvPr/>
        </p:nvSpPr>
        <p:spPr>
          <a:xfrm flipH="1">
            <a:off x="4495680" y="4572000"/>
            <a:ext cx="76320" cy="38088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49"/>
          <p:cNvSpPr/>
          <p:nvPr/>
        </p:nvSpPr>
        <p:spPr>
          <a:xfrm>
            <a:off x="7445520" y="4267080"/>
            <a:ext cx="10800" cy="144648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0"/>
          <p:cNvSpPr/>
          <p:nvPr/>
        </p:nvSpPr>
        <p:spPr>
          <a:xfrm>
            <a:off x="1752480" y="3352680"/>
            <a:ext cx="46080" cy="198144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3495600" y="5045040"/>
            <a:ext cx="1990800" cy="45972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533520" y="5781600"/>
            <a:ext cx="2133360" cy="52056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6402240" y="5769000"/>
            <a:ext cx="2284560" cy="1015920"/>
          </a:xfrm>
          <a:prstGeom prst="rect">
            <a:avLst/>
          </a:prstGeom>
          <a:solidFill>
            <a:srgbClr val="d4d2d0"/>
          </a:solidFill>
          <a:ln w="19080">
            <a:solidFill>
              <a:srgbClr val="00c8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ptanc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4"/>
          <p:cNvSpPr/>
          <p:nvPr/>
        </p:nvSpPr>
        <p:spPr>
          <a:xfrm flipV="1">
            <a:off x="2655720" y="5413320"/>
            <a:ext cx="774720" cy="365040"/>
          </a:xfrm>
          <a:prstGeom prst="line">
            <a:avLst/>
          </a:prstGeom>
          <a:ln w="76320">
            <a:solidFill>
              <a:srgbClr val="00c8c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5"/>
          <p:cNvSpPr/>
          <p:nvPr/>
        </p:nvSpPr>
        <p:spPr>
          <a:xfrm>
            <a:off x="4495680" y="5486400"/>
            <a:ext cx="0" cy="49356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6"/>
          <p:cNvSpPr/>
          <p:nvPr/>
        </p:nvSpPr>
        <p:spPr>
          <a:xfrm>
            <a:off x="2666880" y="6095880"/>
            <a:ext cx="3649680" cy="0"/>
          </a:xfrm>
          <a:prstGeom prst="line">
            <a:avLst/>
          </a:prstGeom>
          <a:ln w="76320">
            <a:solidFill>
              <a:srgbClr val="00c8c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Use of the EPCs by our Respective Organizations: ENAC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unity Leaders Community Health Care Providers Training of Trainers Program:  “What do you see as the greatest barrier to CCTs in your community?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nale for Gr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4:14:49Z</dcterms:created>
  <dc:creator>margo michaels</dc:creator>
  <dc:description/>
  <dc:language>en-US</dc:language>
  <cp:lastModifiedBy>william.hyde</cp:lastModifiedBy>
  <dcterms:modified xsi:type="dcterms:W3CDTF">2009-01-02T15:18:41Z</dcterms:modified>
  <cp:revision>20</cp:revision>
  <dc:subject/>
  <dc:title>Slide 1</dc:title>
</cp:coreProperties>
</file>