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CC5-E181-4D94-87AE-6205EA18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546-0FDA-4F5E-B708-A02B2CF6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4B3-6BA1-4603-A06D-1F71E377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CE09-CE3C-48B4-95F3-0F332723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AAC-8087-4C9B-9FC6-90D817C8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284-36D0-4F6F-96E1-CFF31B91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62A-DE20-42AB-85F7-CF073DC9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028-B355-4F4A-B4F8-1DC5BA60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8306-260D-4587-A281-5060A07C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FF1A-2B2B-4AA3-A74E-8D9A92D0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E85-4045-44C1-B8DD-07B932EC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89D8-2631-49E6-A1D0-4CDCF706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6A0F-30CC-403D-9778-209CB23DE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Validation and Improvement of the AHRQ Q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Annu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10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hesda, 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d by Kathryn McDona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ycle Benefit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mproving the Indic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codes were imported into new pediatric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HRI directed study identified children with expected extended intubations not related to respiratory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ing with experts and through data analysis AHRQ team identified specific operations for which intubation is extended (e.g. tracheal proced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ases generalizable to the adult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 work with NACHRI team to ensure that the solution truly improves specificity of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th for Futur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user experiences, small and large validation studies happening outside of AHR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studies allow us to improve indicators and ultimately hospital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us about your research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(sensitivity and specific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Improvement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Po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id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we have b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RQ QI team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 validity of indicators through panel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validity through chart review of selected P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on Admission (POA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ing val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lid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we are headed n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 chart re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PSIs, estimating false pos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ation of under-reporting of P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on of chart revi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Quality Indicators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ing the face validity of the indicators through pane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ools for using the PQ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work on Patient Safe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 of new coding and P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work on Neonatal Indicators/Pediatric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 of coding validity for B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adjustment development and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Progress Depends on Collab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 feedback loop from validation work and user feedbac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ates better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s all types of research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reviewed to individual hospital invest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s potential feedback on coding, guidance on indicator use, and in some cases indicator re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additional validation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and Use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190600" y="1951200"/>
            <a:ext cx="4764600" cy="4125960"/>
            <a:chOff x="2190600" y="1951200"/>
            <a:chExt cx="4764600" cy="4125960"/>
          </a:xfrm>
        </p:grpSpPr>
        <p:sp>
          <p:nvSpPr>
            <p:cNvPr id="51" name="_s14345"/>
            <p:cNvSpPr/>
            <p:nvPr/>
          </p:nvSpPr>
          <p:spPr>
            <a:xfrm>
              <a:off x="3119400" y="195120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4346"/>
            <p:cNvSpPr/>
            <p:nvPr/>
          </p:nvSpPr>
          <p:spPr>
            <a:xfrm rot="7200000">
              <a:off x="3516480" y="263808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4348"/>
            <p:cNvSpPr/>
            <p:nvPr/>
          </p:nvSpPr>
          <p:spPr>
            <a:xfrm rot="14400000">
              <a:off x="2722320" y="263844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4343"/>
            <p:cNvSpPr/>
            <p:nvPr/>
          </p:nvSpPr>
          <p:spPr>
            <a:xfrm>
              <a:off x="5367240" y="2482920"/>
              <a:ext cx="11653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ess th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neralizabilit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f the Experienc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 Findin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4344"/>
            <p:cNvSpPr/>
            <p:nvPr/>
          </p:nvSpPr>
          <p:spPr>
            <a:xfrm>
              <a:off x="3989520" y="4870440"/>
              <a:ext cx="116496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ig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T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dicat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rov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4347"/>
            <p:cNvSpPr/>
            <p:nvPr/>
          </p:nvSpPr>
          <p:spPr>
            <a:xfrm>
              <a:off x="2611440" y="2484360"/>
              <a:ext cx="11653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I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er Feedback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alidity Research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ycle Benefit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ndicator Re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ications of Anesth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user reports noted that minor reactions such as pruritis were c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ion of coding guidelines found that E-codes used in this indicator allowed for coding of these minor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way to “fix” indicator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will be reassigned as an “experimental indica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ycle Benefit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Modifying Gui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on Admission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recent studies have highlighted POA rates in the Patient Safet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aled indicators for which POA is an important data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ance to use these indicators only with POA, software modified to require POA in some cases, and NQF endorsement conditional on P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ycle Benefit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Modifying Coding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usio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icacies in coding aren’t always obvious in ICD-9-CM co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HRI supported research of the PDIs identified cases of transfusion reaction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nor antige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ead of A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antigens indexed to ABO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 to separate transfusion reactions due to ABO from those due to minor antigens to improve the specificity of this ind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Cycle Benefit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mproving the Indic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definition relied on diagnosis code for identifying numerator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 based study found low sensitivity for dx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investigation by VA team identified procedure codes for delayed extubation and post-operative re-intubation improved sensitivity without significantly decreasing specif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RQ team investigated generalizability of these findings using the HCUP data 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the new procedure codes to the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story doesn’t end the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7:41:29Z</dcterms:created>
  <dc:creator>davies</dc:creator>
  <dc:description/>
  <dc:language>en-US</dc:language>
  <cp:lastModifiedBy>davies</cp:lastModifiedBy>
  <dcterms:modified xsi:type="dcterms:W3CDTF">2008-09-03T01:52:50Z</dcterms:modified>
  <cp:revision>15</cp:revision>
  <dc:subject/>
  <dc:title>Slide 1</dc:title>
</cp:coreProperties>
</file>