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80C5-6851-4473-84FE-0C26FAE8C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EC00-0BE5-4B58-A162-7D3C89AD9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40E4-67CE-4642-AECF-3C95CB492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30E6-174A-4E47-B021-DC55856E8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49D4-02C9-4946-ABFE-76DB841A2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B6BA-BDF5-44CF-BCBF-0AB9CD7F7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3A7F-391E-4906-8208-B14F85C38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A834-C7E9-431B-A070-F3B8C2A0B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1B49-7ABA-4CE6-97C6-15A2E2A8F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CA54-6819-446B-99B9-03DAE5F58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15CF-8B10-4451-9ABA-8B1F163D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5323-F005-4D7E-A285-954EABA2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FCA90-A47B-43FB-B8FA-203C09AE86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Validation and Improvement of the AHRQ Q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HRQ Annual Co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tember 10,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hesda, M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ed by Kathryn McDona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 of Cycle Benefit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Improving the Indica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iratory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dure codes were imported into new pediatric ind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CHRI directed study identified children with expected extended intubations not related to respiratory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lting with experts and through data analysis AHRQ team identified specific operations for which intubation is extended (e.g. tracheal procedu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ases generalizable to the adult ind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d work with NACHRI team to ensure that the solution truly improves specificity of ind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ath for Future 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user experiences, small and large validation studies happening outside of AHR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studies allow us to improve indicators and ultimately hospital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l us about your research 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idation (sensitivity and specific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lity Improvement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Pop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alid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re we have be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HRQ QI team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e validity of indicators through panel 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ing validity through chart review of selected P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side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 on Admission (POA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ing valid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 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alid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re we are headed nex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d chart revi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PSIs, estimating false posi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ination of under-reporting of P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ion of chart review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ion Quality Indicators vali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ding the face validity of the indicators through panel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tools for using the PQ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al work on Patient Safety Indic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ssment of new coding and P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al work on Neonatal Indicators/Pediatric Indic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ssment of coding validity for B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k adjustment development and vali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r Progress Depends on Collabo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ous feedback loop from validation work and user feedback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reates better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ns all types of research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er reviewed to individual hospital investig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s potential feedback on coding, guidance on indicator use, and in some cases indicator reass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additional validation stu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earch and Use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190600" y="1951200"/>
            <a:ext cx="4764600" cy="4125960"/>
            <a:chOff x="2190600" y="1951200"/>
            <a:chExt cx="4764600" cy="4125960"/>
          </a:xfrm>
        </p:grpSpPr>
        <p:sp>
          <p:nvSpPr>
            <p:cNvPr id="51" name="_s14345"/>
            <p:cNvSpPr/>
            <p:nvPr/>
          </p:nvSpPr>
          <p:spPr>
            <a:xfrm>
              <a:off x="3119400" y="1951200"/>
              <a:ext cx="2906640" cy="2906640"/>
            </a:xfrm>
            <a:custGeom>
              <a:avLst/>
              <a:gdLst>
                <a:gd name="textAreaLeft" fmla="*/ 0 w 2906640"/>
                <a:gd name="textAreaRight" fmla="*/ 2907000 w 2906640"/>
                <a:gd name="textAreaTop" fmla="*/ 0 h 2906640"/>
                <a:gd name="textAreaBottom" fmla="*/ 2907000 h 290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14346"/>
            <p:cNvSpPr/>
            <p:nvPr/>
          </p:nvSpPr>
          <p:spPr>
            <a:xfrm rot="7200000">
              <a:off x="3516480" y="2638080"/>
              <a:ext cx="2906640" cy="2906640"/>
            </a:xfrm>
            <a:custGeom>
              <a:avLst/>
              <a:gdLst>
                <a:gd name="textAreaLeft" fmla="*/ 0 w 2906640"/>
                <a:gd name="textAreaRight" fmla="*/ 2907000 w 2906640"/>
                <a:gd name="textAreaTop" fmla="*/ 0 h 2906640"/>
                <a:gd name="textAreaBottom" fmla="*/ 2907000 h 290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14348"/>
            <p:cNvSpPr/>
            <p:nvPr/>
          </p:nvSpPr>
          <p:spPr>
            <a:xfrm rot="14400000">
              <a:off x="2722320" y="2638440"/>
              <a:ext cx="2906640" cy="2906640"/>
            </a:xfrm>
            <a:custGeom>
              <a:avLst/>
              <a:gdLst>
                <a:gd name="textAreaLeft" fmla="*/ 0 w 2906640"/>
                <a:gd name="textAreaRight" fmla="*/ 2907000 w 2906640"/>
                <a:gd name="textAreaTop" fmla="*/ 0 h 2906640"/>
                <a:gd name="textAreaBottom" fmla="*/ 2907000 h 290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14343"/>
            <p:cNvSpPr/>
            <p:nvPr/>
          </p:nvSpPr>
          <p:spPr>
            <a:xfrm>
              <a:off x="5367240" y="2482920"/>
              <a:ext cx="1165320" cy="11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ssess th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eneralizability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f the Experienc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r Finding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14344"/>
            <p:cNvSpPr/>
            <p:nvPr/>
          </p:nvSpPr>
          <p:spPr>
            <a:xfrm>
              <a:off x="3989520" y="4870440"/>
              <a:ext cx="1164960" cy="11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sig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nd Te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dicator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mprovem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14347"/>
            <p:cNvSpPr/>
            <p:nvPr/>
          </p:nvSpPr>
          <p:spPr>
            <a:xfrm>
              <a:off x="2611440" y="2484360"/>
              <a:ext cx="1165320" cy="11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I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ser Feedback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nd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alidity Research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 of Cycle Benefit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Indicator Reassig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ications of Anesthe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user reports noted that minor reactions such as pruritis were co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stigation of coding guidelines found that E-codes used in this indicator allowed for coding of these minor re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way to “fix” indicator f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ator will be reassigned as an “experimental indica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 of Cycle Benefit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Modifying Guid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 on Admission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recent studies have highlighted POA rates in the Patient Safety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aled indicators for which POA is an important data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idance to use these indicators only with POA, software modified to require POA in some cases, and NQF endorsement conditional on P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 of Cycle Benefit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Modifying Coding 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usion Re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icacies in coding aren’t always obvious in ICD-9-CM cod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CHRI supported research of the PDIs identified cases of transfusion reaction from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inor antige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stead of AB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or antigens indexed to ABO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 to separate transfusion reactions due to ABO from those due to minor antigens to improve the specificity of this ind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 of Cycle Benefit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Improving the Indica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iratory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definition relied on diagnosis code for identifying numerator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 based study found low sensitivity for dx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rther investigation by VA team identified procedure codes for delayed extubation and post-operative re-intubation improved sensitivity without significantly decreasing specif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HRQ team investigated generalizability of these findings using the HCUP data an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the new procedure codes to the 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he story doesn’t end ther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9T17:41:29Z</dcterms:created>
  <dc:creator>davies</dc:creator>
  <dc:description/>
  <dc:language>en-US</dc:language>
  <cp:lastModifiedBy>davies</cp:lastModifiedBy>
  <dcterms:modified xsi:type="dcterms:W3CDTF">2008-09-03T01:52:50Z</dcterms:modified>
  <cp:revision>15</cp:revision>
  <dc:subject/>
  <dc:title>Slide 1</dc:title>
</cp:coreProperties>
</file>