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12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2904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3938400" y="-360"/>
            <a:ext cx="302868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1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58840" y="684360"/>
            <a:ext cx="464976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07920" y="4397400"/>
            <a:ext cx="5151600" cy="41752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2"/>
          </p:nvPr>
        </p:nvSpPr>
        <p:spPr>
          <a:xfrm>
            <a:off x="0" y="8799120"/>
            <a:ext cx="302904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1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3"/>
          </p:nvPr>
        </p:nvSpPr>
        <p:spPr>
          <a:xfrm>
            <a:off x="3938400" y="8799120"/>
            <a:ext cx="302868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1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684846-15CC-407B-873D-EDD80807E966}" type="slidenum"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938400" y="8799120"/>
            <a:ext cx="302868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8E7343-E15D-4CFF-BF08-C98C51E23600}" type="slidenum">
              <a:rPr b="1" lang="en-US" sz="12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8799120"/>
            <a:ext cx="302904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-360"/>
            <a:ext cx="302904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38400" y="-360"/>
            <a:ext cx="302868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20960" cy="3465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938400" y="8799120"/>
            <a:ext cx="302868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BAC203-8E98-4152-BCA9-C3AEBF90AC1D}" type="slidenum">
              <a:rPr b="1" lang="en-US" sz="12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8799120"/>
            <a:ext cx="302904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-360"/>
            <a:ext cx="302904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38400" y="-360"/>
            <a:ext cx="302868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8840" y="6843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7920" y="4397400"/>
            <a:ext cx="5151600" cy="41752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it into workflow of typical visit (byproduct prompting for answers – remind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ct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 both to CMS and back to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8840" y="6843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397400"/>
            <a:ext cx="5151600" cy="41752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% of physicians reporting in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79027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00000" y="4089600"/>
            <a:ext cx="79027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00000" y="408960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9640" y="408960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1920" y="177012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4200" y="177012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00000" y="408960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71920" y="408960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4200" y="408960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00000" y="1770120"/>
            <a:ext cx="79027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79027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03200" y="266400"/>
            <a:ext cx="724536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408960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00000" y="1770120"/>
            <a:ext cx="79027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49640" y="408960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00000" y="4089600"/>
            <a:ext cx="79027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79027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00000" y="4089600"/>
            <a:ext cx="79027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00000" y="408960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49640" y="408960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71920" y="177012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44200" y="177012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900000" y="408960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71920" y="408960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244200" y="408960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79027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3200" y="266400"/>
            <a:ext cx="724536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00000" y="408960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9640" y="408960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00000" y="4089600"/>
            <a:ext cx="79027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00000" y="1770120"/>
            <a:ext cx="79027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6858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3" marL="16002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4" marL="2055960" indent="-22716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2" name=""/>
          <p:cNvSpPr/>
          <p:nvPr/>
        </p:nvSpPr>
        <p:spPr>
          <a:xfrm>
            <a:off x="4214880" y="65214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EF92-0189-40B7-A3E3-3223AECE4538}" type="slidenum">
              <a:rPr b="1" lang="en-US" sz="16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615000" y="5792760"/>
            <a:ext cx="2187720" cy="83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14400"/>
            <a:ext cx="9147240" cy="68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95160" y="6248520"/>
            <a:ext cx="1935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2240" y="6248520"/>
            <a:ext cx="29368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30840" y="6248520"/>
            <a:ext cx="1935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305240"/>
            <a:ext cx="9147240" cy="40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35600" y="6480"/>
            <a:ext cx="24116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89600" y="149400"/>
            <a:ext cx="21052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94640" y="812880"/>
            <a:ext cx="2100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5640" y="2638440"/>
            <a:ext cx="5410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640" y="3772080"/>
            <a:ext cx="85964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99520" y="4267080"/>
            <a:ext cx="60876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EY Tagline"/>
              </a:rPr>
              <a:t>!@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2560" y="851040"/>
            <a:ext cx="128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March - April 200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27200" y="5222880"/>
            <a:ext cx="1101600" cy="1101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21520" y="5548320"/>
            <a:ext cx="253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0462"/>
                </a:solidFill>
                <a:latin typeface="Times New Roman"/>
              </a:rPr>
              <a:t>Boston Children’s Hos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5160" y="6248520"/>
            <a:ext cx="1935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30840" y="6248520"/>
            <a:ext cx="1935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657680"/>
            <a:ext cx="9144000" cy="22003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59520" y="4290840"/>
            <a:ext cx="15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EY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276800"/>
            <a:ext cx="9147240" cy="404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90800" y="1797120"/>
            <a:ext cx="510408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462"/>
                </a:solidFill>
                <a:latin typeface="Arial Narrow"/>
              </a:rPr>
              <a:t>Standardization and Automatic Extraction of Quality Measures in an Ambulatory EMR</a:t>
            </a:r>
            <a:r>
              <a:rPr b="0" lang="en-US" sz="1200" spc="-1" strike="noStrike">
                <a:solidFill>
                  <a:srgbClr val="0b0462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b0462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66760" y="149400"/>
            <a:ext cx="2124000" cy="1028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-3240" y="1638360"/>
            <a:ext cx="3530520" cy="2638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457960" y="144360"/>
            <a:ext cx="3436920" cy="1311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914400" algn="ctr">
              <a:spcBef>
                <a:spcPts val="451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Reference Sans Serif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MS Reference Sans Serif"/>
            </a:endParaRPr>
          </a:p>
          <a:p>
            <a:pPr lvl="3" marL="1371600" algn="ctr">
              <a:spcBef>
                <a:spcPts val="400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Reference Sans Serif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  <a:p>
            <a:pPr lvl="4" marL="1828800" algn="ctr">
              <a:spcBef>
                <a:spcPts val="400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Reference Sans Serif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Reference Sans Serif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Reference Sans Serif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71560" y="5286240"/>
            <a:ext cx="78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nni McColm, CIO, Citizens Memorial Health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00000" y="1460160"/>
            <a:ext cx="790272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Sans Serif"/>
              </a:rPr>
              <a:t>The Institute for Health Metrics (IHM) is:</a:t>
            </a:r>
            <a:endParaRPr b="0" lang="en-US" sz="24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68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6858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A non-profit that helps hospitals leverage electronic systems for quality improvement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6858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Assists hospitals in extracting data from the MEDITECH system for use in: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Reference Sans Serif"/>
              </a:rPr>
              <a:t>Physician &amp; Departmental Profiling</a:t>
            </a: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Reference Sans Serif"/>
              </a:rPr>
              <a:t>Quality of Care Reporting: JCAHO Core Measures, IHI, AHRQ, etc.</a:t>
            </a: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Reference Sans Serif"/>
              </a:rPr>
              <a:t>Performance Improvement</a:t>
            </a: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Reference Sans Serif"/>
              </a:rPr>
              <a:t>Benchmarking</a:t>
            </a: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00000" y="266760"/>
            <a:ext cx="1978200" cy="79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0000" y="266760"/>
            <a:ext cx="1978200" cy="795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2" descr="j0424770[1]"/>
          <p:cNvPicPr/>
          <p:nvPr/>
        </p:nvPicPr>
        <p:blipFill>
          <a:blip r:embed="rId2"/>
          <a:stretch/>
        </p:blipFill>
        <p:spPr>
          <a:xfrm>
            <a:off x="2987640" y="2600280"/>
            <a:ext cx="1569960" cy="202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0" descr="j0424786[1]"/>
          <p:cNvPicPr/>
          <p:nvPr/>
        </p:nvPicPr>
        <p:blipFill>
          <a:blip r:embed="rId3"/>
          <a:stretch/>
        </p:blipFill>
        <p:spPr>
          <a:xfrm>
            <a:off x="6087960" y="2344680"/>
            <a:ext cx="2860920" cy="3140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2390760" y="266760"/>
            <a:ext cx="675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Data Extract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908600" y="548496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383760" y="8050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087960" y="52959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299200" y="5103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299200" y="4908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5299200" y="5068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9"/>
          <p:cNvGrpSpPr/>
          <p:nvPr/>
        </p:nvGrpSpPr>
        <p:grpSpPr>
          <a:xfrm>
            <a:off x="77760" y="4078440"/>
            <a:ext cx="1704600" cy="1101240"/>
            <a:chOff x="77760" y="4078440"/>
            <a:chExt cx="1704600" cy="1101240"/>
          </a:xfrm>
        </p:grpSpPr>
        <p:sp>
          <p:nvSpPr>
            <p:cNvPr id="140" name="Rectangle 10"/>
            <p:cNvSpPr/>
            <p:nvPr/>
          </p:nvSpPr>
          <p:spPr>
            <a:xfrm>
              <a:off x="77760" y="4078440"/>
              <a:ext cx="1704600" cy="549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b0462"/>
                  </a:solidFill>
                  <a:latin typeface="Gill Sans MT"/>
                </a:rPr>
                <a:t>Hospital HC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324720" y="4628160"/>
              <a:ext cx="1217160" cy="5515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ill Sans MT"/>
                </a:rPr>
                <a:t>IH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ill Sans MT"/>
                </a:rPr>
                <a:t>VP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Rectangle 12"/>
          <p:cNvSpPr/>
          <p:nvPr/>
        </p:nvSpPr>
        <p:spPr>
          <a:xfrm>
            <a:off x="7997760" y="50529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5952960" y="2023920"/>
            <a:ext cx="34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Web Based 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" descr=""/>
          <p:cNvPicPr/>
          <p:nvPr/>
        </p:nvPicPr>
        <p:blipFill>
          <a:blip r:embed="rId4"/>
          <a:stretch/>
        </p:blipFill>
        <p:spPr>
          <a:xfrm>
            <a:off x="6786720" y="2649600"/>
            <a:ext cx="1677960" cy="1258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MCj03910800000[1]"/>
          <p:cNvPicPr/>
          <p:nvPr/>
        </p:nvPicPr>
        <p:blipFill>
          <a:blip r:embed="rId5"/>
          <a:stretch/>
        </p:blipFill>
        <p:spPr>
          <a:xfrm>
            <a:off x="77760" y="2649600"/>
            <a:ext cx="1638360" cy="1522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0"/>
          <p:cNvSpPr/>
          <p:nvPr/>
        </p:nvSpPr>
        <p:spPr>
          <a:xfrm>
            <a:off x="3357720" y="462744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0462"/>
                </a:solidFill>
                <a:latin typeface="Gill Sans MT"/>
              </a:rPr>
              <a:t>I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3773520" y="3263760"/>
            <a:ext cx="1601280" cy="718560"/>
            <a:chOff x="3773520" y="3263760"/>
            <a:chExt cx="1601280" cy="718560"/>
          </a:xfrm>
        </p:grpSpPr>
        <p:sp>
          <p:nvSpPr>
            <p:cNvPr id="148" name="Rectangle 22"/>
            <p:cNvSpPr/>
            <p:nvPr/>
          </p:nvSpPr>
          <p:spPr>
            <a:xfrm>
              <a:off x="3773520" y="3263760"/>
              <a:ext cx="1839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AutoShape 23"/>
            <p:cNvSpPr/>
            <p:nvPr/>
          </p:nvSpPr>
          <p:spPr>
            <a:xfrm>
              <a:off x="4711680" y="3277080"/>
              <a:ext cx="663120" cy="7052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Text Box 24"/>
          <p:cNvSpPr/>
          <p:nvPr/>
        </p:nvSpPr>
        <p:spPr>
          <a:xfrm>
            <a:off x="2560680" y="5035680"/>
            <a:ext cx="62388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70000"/>
              </a:lnSpc>
              <a:spcBef>
                <a:spcPts val="876"/>
              </a:spcBef>
              <a:buClr>
                <a:srgbClr val="008080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NO Software to Install and maint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70000"/>
              </a:lnSpc>
              <a:spcBef>
                <a:spcPts val="876"/>
              </a:spcBef>
              <a:buClr>
                <a:srgbClr val="008080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No IT resources outside initial VPN set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70000"/>
              </a:lnSpc>
              <a:spcBef>
                <a:spcPts val="876"/>
              </a:spcBef>
              <a:buClr>
                <a:srgbClr val="008080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All CMS, JCAHO requirement updates performed by I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70000"/>
              </a:lnSpc>
              <a:spcBef>
                <a:spcPts val="876"/>
              </a:spcBef>
              <a:buClr>
                <a:srgbClr val="008080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All new indicators added by I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77760" y="1401840"/>
            <a:ext cx="42782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8080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Nightly data extr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8080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Monthly reports delivered within hours of discharge codes comple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21"/>
          <p:cNvGrpSpPr/>
          <p:nvPr/>
        </p:nvGrpSpPr>
        <p:grpSpPr>
          <a:xfrm>
            <a:off x="1057320" y="3263760"/>
            <a:ext cx="1601280" cy="718560"/>
            <a:chOff x="1057320" y="3263760"/>
            <a:chExt cx="1601280" cy="718560"/>
          </a:xfrm>
        </p:grpSpPr>
        <p:sp>
          <p:nvSpPr>
            <p:cNvPr id="153" name="Rectangle 22"/>
            <p:cNvSpPr/>
            <p:nvPr/>
          </p:nvSpPr>
          <p:spPr>
            <a:xfrm>
              <a:off x="1057320" y="3263760"/>
              <a:ext cx="1839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23"/>
            <p:cNvSpPr/>
            <p:nvPr/>
          </p:nvSpPr>
          <p:spPr>
            <a:xfrm>
              <a:off x="1995480" y="3277080"/>
              <a:ext cx="663120" cy="7052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Rectangle 31"/>
          <p:cNvSpPr/>
          <p:nvPr/>
        </p:nvSpPr>
        <p:spPr>
          <a:xfrm>
            <a:off x="3144960" y="3057480"/>
            <a:ext cx="121104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Normal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Re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72040" y="266760"/>
            <a:ext cx="3483000" cy="14000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09520" y="1266840"/>
            <a:ext cx="772488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MS Reference Sans Serif"/>
              </a:rPr>
              <a:t>AIES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 (Automated Indicated Extraction System) Automatically delivers quality performance indicators for over 300 quality measures to expedite hospital reporting and improve care. 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MS Reference Sans Serif"/>
              </a:rPr>
              <a:t>PQMS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 (Physician Quality Management System) Provides hospital management with on-going department and physician information for reviews and credentialing across 102 procedures and 26 diagnoses.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MS Reference Sans Serif"/>
              </a:rPr>
              <a:t>CPMV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 (Core Measures Patient View) Preps data for submission to core measures vendor. 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MS Reference Sans Serif"/>
              </a:rPr>
              <a:t>Daily Infection Alert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:  This new daily report alerts the hospital staff to identify patients at risk for hospital acquired infections and to proactively intervene.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90400" y="714240"/>
            <a:ext cx="7367760" cy="50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Challenges</a:t>
            </a: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79027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Designing to be time neutral for provider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Speech recognition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Medication reconciliation / updating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Nurse support training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MUSE 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1257480" indent="-343080">
              <a:spcBef>
                <a:spcPts val="451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Reference Sans Serif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MS Reference Sans Serif"/>
              </a:rPr>
              <a:t>ake a personal connection</a:t>
            </a:r>
            <a:endParaRPr b="0" lang="en-US" sz="18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1257480" indent="-343080">
              <a:spcBef>
                <a:spcPts val="451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Reference Sans Serif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MS Reference Sans Serif"/>
              </a:rPr>
              <a:t>nderstand the patient’s concerns and priorities</a:t>
            </a:r>
            <a:endParaRPr b="0" lang="en-US" sz="18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1257480" indent="-343080">
              <a:spcBef>
                <a:spcPts val="451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Reference Sans Serif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MS Reference Sans Serif"/>
              </a:rPr>
              <a:t>it, see, and show the screen</a:t>
            </a:r>
            <a:endParaRPr b="0" lang="en-US" sz="18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1257480" indent="-343080">
              <a:spcBef>
                <a:spcPts val="451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Reference Sans Serif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MS Reference Sans Serif"/>
              </a:rPr>
              <a:t>ngage the patient as a partner in healthcare</a:t>
            </a:r>
            <a:endParaRPr b="0" lang="en-US" sz="18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Patient Portal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380880" indent="-38088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Hospital based providers &amp; measure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380880" indent="-38088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Sharing template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24280" y="2809800"/>
            <a:ext cx="3886200" cy="2428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809800"/>
            <a:ext cx="403848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74 acute care bed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Emergency Service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Home Health, Hospice, Home Medical Equipment, Health Transit Service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Long Term Care Facilities (5)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Residential Care Facility (1)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Physician Clinics (16 locations, 60 providers)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Outpatient Service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629400" y="5791320"/>
            <a:ext cx="2133720" cy="814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400480" y="306360"/>
            <a:ext cx="477504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35053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EMR that crosses continuum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100% use of CPOE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No paper chart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352680" y="457200"/>
            <a:ext cx="548640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83995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Reference Sans Serif"/>
              </a:rPr>
              <a:t>Ambulatory Quality and Safety Project</a:t>
            </a:r>
            <a:endParaRPr b="0" lang="en-US" sz="32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79027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Sans Serif"/>
              </a:rPr>
              <a:t>Standardize and integrate data capture for quality measurement into the normal documentation of care within the ambulatory EMR</a:t>
            </a:r>
            <a:endParaRPr b="0" lang="en-US" sz="24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601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Sans Serif"/>
              </a:rPr>
              <a:t>Implementation of an automated system for data extraction including valid, reliable reports that provide actionable insight for the measurement, analysis and improvement of care</a:t>
            </a:r>
            <a:endParaRPr b="0" lang="en-US" sz="24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2840" y="266400"/>
            <a:ext cx="812484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Broad Approach</a:t>
            </a:r>
            <a:r>
              <a:rPr b="0" lang="en-US" sz="3200" spc="-1" strike="noStrike">
                <a:solidFill>
                  <a:srgbClr val="000000"/>
                </a:solidFill>
                <a:latin typeface="MS Reference Sans Serif"/>
              </a:rPr>
              <a:t>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S Reference Sans Serif"/>
              </a:rPr>
              <a:t>All PQRI measures applicable</a:t>
            </a:r>
            <a:endParaRPr b="0" lang="en-US" sz="32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79027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First period, July 1, 2007 – December 31, 2007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Renewed for 2008, January 1 – December 31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1 ½% bonus for Medicare fee schedule services for reporting at least 80% of the time on 3 or more measures during the period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47 measures proposed initially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74 measures actually used in 2007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119 measures in use for 2008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175 proposed for 2009 (bonus 2% plus ePrescribing bonus 2%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04920" y="192240"/>
            <a:ext cx="7684920" cy="66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Where are the answers?</a:t>
            </a: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79027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Demographic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Billing Data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Test Result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Order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Health Maintenance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Vital Sign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Medication List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Querie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29531" r="41938" b="0"/>
          <a:stretch/>
        </p:blipFill>
        <p:spPr>
          <a:xfrm>
            <a:off x="4340160" y="1062000"/>
            <a:ext cx="446256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Template Redesign</a:t>
            </a: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76240" y="1062000"/>
            <a:ext cx="677232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PQRI Exclusions &amp; Exceptions</a:t>
            </a: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14480" y="1101600"/>
            <a:ext cx="6634080" cy="464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12:29:36Z</dcterms:created>
  <dc:creator>E&amp;Y AABS Boston</dc:creator>
  <dc:description/>
  <cp:keywords/>
  <dc:language>en-US</dc:language>
  <cp:lastModifiedBy>dmccol</cp:lastModifiedBy>
  <cp:lastPrinted>2005-05-04T14:10:10Z</cp:lastPrinted>
  <dcterms:modified xsi:type="dcterms:W3CDTF">2008-09-07T18:02:12Z</dcterms:modified>
  <cp:revision>1505</cp:revision>
  <dc:subject/>
  <dc:title>PowerPoint Presentation  -  IHM Presentation</dc:title>
</cp:coreProperties>
</file>